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F896-55AD-4638-97DB-3E3B8B0825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52E9-4A61-4040-8260-DB7D1558B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50DC-6AE1-4DB8-909A-406219342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99CA-F513-4034-BF4E-09AA8548B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EA29-8C44-43C4-AAAE-1FF4295B5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BDDD-91B8-48C0-83D3-8F8348B60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60AC-9BB6-43F1-8F3F-A108811E0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3D36-01AA-46B5-A987-9E4A39C87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985-5142-455D-8690-3B0050D7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5CE-5072-4BFA-B59B-5F319B08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50F-24B3-440B-82AB-8C47AF56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1EB-DCB9-4B5D-9AD0-B7B1482B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FC76-55C2-4AF7-BA14-9B5CF1D9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38AD-D4DC-4A5E-8A5E-9F0D64B0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0621-1ECC-48E2-A78E-F398034C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42AF-E702-49D4-A286-84FEA7E1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7CF8-B09D-49C4-B623-75BDD1DC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A6BB-C988-4D75-B5D6-99485DF3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2CDF-1CD2-42DC-9AF5-CBF04630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4BF-45F4-4B87-8667-00C2B076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C8B8-072C-4EA9-92BF-B60D599E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3684-E15B-4678-A4E1-76250328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653C-845C-497E-AF55-F60F884D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18B1-CEEA-4902-B5F7-C6C11A59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5943-E9D8-490F-9521-905C124A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01DE2-563E-47E9-9707-9810D0E1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9C50-9C7E-4435-B4D2-0C75622D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7A75-EAB6-41D6-AA58-C7C3A33D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8D85-7E65-4862-A8F0-9B830F4E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96B3-5161-4532-935A-5233B7D2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026-CE24-41B9-B0DC-7CAC9DAA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21C2-404A-4228-A94D-9B926724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7B72D-4B01-4546-9727-0E7D41F6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C8D8A-8957-43E5-9D0F-4D648A2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DEBC-F028-4922-8736-C209A539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6887-51A0-488F-A086-8D77538C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217A4-ACF9-4C0B-A816-35F06A0A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7D16-ACA8-4219-A046-E60088F2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0A43-DA42-4A29-8D4E-5493D97F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F7CF-6F71-4620-BA51-D9F65CF7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08C2-67B3-4D37-8E72-9DA6F9B5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D16-F1D1-40F9-8DD9-E0A09170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4E3F-5DBB-4354-9264-24CC73E4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0BADE-6BCD-4567-AF08-808265A6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9E35E-155E-42A7-94F8-1C58AAE4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C3EE-F070-4BC8-8957-F94C809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BC0F-1FD2-4817-87D5-0429C9C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8721-9F02-4B75-9AC5-EEA6102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30BA-82D3-42E3-8F09-456E1D7D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1AC1-AB41-4311-AB5F-E2DDBDD4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6C24-8616-4EF4-B36E-718012B7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C3155-9EAC-459A-AA69-DA49068C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D1C-87C7-46F0-B950-4C42AC69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4ACA8-79F8-40DF-8C41-2B39FC37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E2FC2-9003-4605-B6CE-69B7ADC9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F4014-B35A-4205-AB04-C4EF1C06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C19C5-C146-4263-A3E0-EE778C86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4BE2A-0763-4F66-B1F4-7154D264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5FEFE-3EC9-44E7-8642-84BE703B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D1E01-565E-4DB4-AC44-E3F4C6E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F644E-05AE-4AAC-92C3-0D47E269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45461-E124-4E97-92AD-6EF23DB7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F8B04-5B58-4D69-B0F5-16F997AD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DF3-1065-485C-BBF8-1545E3DF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C6F97-5E93-4DBF-82FC-3F32E740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918C9-D063-4DF2-82A7-88BA3653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9B9D0-717C-409C-88B9-45F62E49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A35FF-DACB-40F8-A787-B98BAF18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53872-3E4F-4467-87DD-B7C911C4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1AD8A-8D24-4AD8-8EF5-434ADCAB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95D29-CDE3-4EAC-BD90-4C122D3C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253F1-DC84-4BA2-8D92-4900DE0F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A260A-5708-4829-9E36-1C8C5CE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907C9-2560-4CC8-A308-EB4698B0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276-A74B-4363-9BF5-4C8AF469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A6F11-0308-45A4-9668-A239B868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D5076-1344-4273-8789-8840EAE7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FDAF5-1628-4EC0-9A3A-73B89FDD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BB2-9859-419B-B249-F94AE5D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CC6-0C74-4857-8211-0E238235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8A79-41F0-4697-AAC1-DAEE4DC31A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6A3D-D1D8-40B6-8D15-896695F50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C37A-CF57-4F43-91F8-31FF41F7DBCD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F27B-2E2E-4778-A6C6-E5348E9A20DC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3B28-314D-4388-B883-EB7E358F8B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251D-0F6C-4962-BEB6-500CAA144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2C31-4F9D-453B-A6CE-2EB2E41BFA64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CB8B-82A1-4A38-9032-24E6603B7495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6C64-A6AE-4CC8-9079-F2C0AE409630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1674-BE4C-434D-9515-2266A187C37B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F431-0352-4D7A-B178-583FC3A21A48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0F1D-961F-4FD2-9A14-43B610366E12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http://www.forestwander.com/wp-content/original/2009_08/Elakala_Waterfalls_pub6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2.3: Multiplying and Dividing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28600" y="5906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o divinely is the world organized that every one of us, in our place and time, is in balance with everything el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ying Ratio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533520" y="1339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)  4(-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533520" y="2514600"/>
            <a:ext cx="281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2)  -10(-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533520" y="362592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3)  -7(-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4"/>
          <p:cNvGrpSpPr/>
          <p:nvPr/>
        </p:nvGrpSpPr>
        <p:grpSpPr>
          <a:xfrm>
            <a:off x="533520" y="4572000"/>
            <a:ext cx="1981080" cy="974880"/>
            <a:chOff x="533520" y="4572000"/>
            <a:chExt cx="1981080" cy="974880"/>
          </a:xfrm>
        </p:grpSpPr>
        <p:sp>
          <p:nvSpPr>
            <p:cNvPr id="284" name="Text Box 11"/>
            <p:cNvSpPr/>
            <p:nvPr/>
          </p:nvSpPr>
          <p:spPr>
            <a:xfrm>
              <a:off x="533520" y="47689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4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5" name="Object 13"/>
                <p:cNvSpPr txBox="1"/>
                <p:nvPr/>
              </p:nvSpPr>
              <p:spPr>
                <a:xfrm>
                  <a:off x="1339920" y="4572000"/>
                  <a:ext cx="1174680" cy="97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6" name="Group 13329"/>
          <p:cNvGrpSpPr/>
          <p:nvPr/>
        </p:nvGrpSpPr>
        <p:grpSpPr>
          <a:xfrm>
            <a:off x="2362320" y="1295280"/>
            <a:ext cx="4579920" cy="4030920"/>
            <a:chOff x="2362320" y="1295280"/>
            <a:chExt cx="4579920" cy="4030920"/>
          </a:xfrm>
        </p:grpSpPr>
        <p:sp>
          <p:nvSpPr>
            <p:cNvPr id="287" name="SMARTInkAnnotation329"/>
            <p:cNvSpPr/>
            <p:nvPr/>
          </p:nvSpPr>
          <p:spPr>
            <a:xfrm>
              <a:off x="2362320" y="155412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0"/>
                  </a:moveTo>
                  <a:lnTo>
                    <a:pt x="48428" y="0"/>
                  </a:lnTo>
                  <a:lnTo>
                    <a:pt x="54299" y="847"/>
                  </a:lnTo>
                  <a:lnTo>
                    <a:pt x="59906" y="2258"/>
                  </a:lnTo>
                  <a:lnTo>
                    <a:pt x="65337" y="4045"/>
                  </a:lnTo>
                  <a:lnTo>
                    <a:pt x="72345" y="5237"/>
                  </a:lnTo>
                  <a:lnTo>
                    <a:pt x="80403" y="6031"/>
                  </a:lnTo>
                  <a:lnTo>
                    <a:pt x="89162" y="6561"/>
                  </a:lnTo>
                  <a:lnTo>
                    <a:pt x="105668" y="7149"/>
                  </a:lnTo>
                  <a:lnTo>
                    <a:pt x="136960" y="7527"/>
                  </a:lnTo>
                  <a:lnTo>
                    <a:pt x="205735" y="7618"/>
                  </a:lnTo>
                  <a:lnTo>
                    <a:pt x="213357" y="8465"/>
                  </a:lnTo>
                  <a:lnTo>
                    <a:pt x="220978" y="9877"/>
                  </a:lnTo>
                  <a:lnTo>
                    <a:pt x="228598" y="11665"/>
                  </a:lnTo>
                  <a:lnTo>
                    <a:pt x="234526" y="12856"/>
                  </a:lnTo>
                  <a:lnTo>
                    <a:pt x="239324" y="13651"/>
                  </a:lnTo>
                  <a:lnTo>
                    <a:pt x="25146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SMARTInkAnnotation330"/>
            <p:cNvSpPr/>
            <p:nvPr/>
          </p:nvSpPr>
          <p:spPr>
            <a:xfrm>
              <a:off x="2400120" y="165312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1">
                  <a:moveTo>
                    <a:pt x="0" y="15240"/>
                  </a:moveTo>
                  <a:lnTo>
                    <a:pt x="32065" y="15240"/>
                  </a:lnTo>
                  <a:lnTo>
                    <a:pt x="36617" y="14393"/>
                  </a:lnTo>
                  <a:lnTo>
                    <a:pt x="42192" y="12982"/>
                  </a:lnTo>
                  <a:lnTo>
                    <a:pt x="48448" y="11195"/>
                  </a:lnTo>
                  <a:lnTo>
                    <a:pt x="55158" y="10003"/>
                  </a:lnTo>
                  <a:lnTo>
                    <a:pt x="62172" y="9209"/>
                  </a:lnTo>
                  <a:lnTo>
                    <a:pt x="69389" y="8679"/>
                  </a:lnTo>
                  <a:lnTo>
                    <a:pt x="75892" y="7480"/>
                  </a:lnTo>
                  <a:lnTo>
                    <a:pt x="81922" y="5833"/>
                  </a:lnTo>
                  <a:lnTo>
                    <a:pt x="87634" y="3889"/>
                  </a:lnTo>
                  <a:lnTo>
                    <a:pt x="93983" y="2592"/>
                  </a:lnTo>
                  <a:lnTo>
                    <a:pt x="100755" y="1729"/>
                  </a:lnTo>
                  <a:lnTo>
                    <a:pt x="107810" y="1152"/>
                  </a:lnTo>
                  <a:lnTo>
                    <a:pt x="115053" y="768"/>
                  </a:lnTo>
                  <a:lnTo>
                    <a:pt x="129875" y="341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SMARTInkAnnotation331"/>
            <p:cNvSpPr/>
            <p:nvPr/>
          </p:nvSpPr>
          <p:spPr>
            <a:xfrm>
              <a:off x="2773800" y="1508400"/>
              <a:ext cx="75960" cy="7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6201" h="7621">
                  <a:moveTo>
                    <a:pt x="0" y="7620"/>
                  </a:moveTo>
                  <a:lnTo>
                    <a:pt x="32784" y="7620"/>
                  </a:lnTo>
                  <a:lnTo>
                    <a:pt x="39636" y="6773"/>
                  </a:lnTo>
                  <a:lnTo>
                    <a:pt x="46744" y="5362"/>
                  </a:lnTo>
                  <a:lnTo>
                    <a:pt x="54023" y="3575"/>
                  </a:lnTo>
                  <a:lnTo>
                    <a:pt x="59721" y="2383"/>
                  </a:lnTo>
                  <a:lnTo>
                    <a:pt x="64368" y="1589"/>
                  </a:lnTo>
                  <a:lnTo>
                    <a:pt x="762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MARTInkAnnotation332"/>
            <p:cNvSpPr/>
            <p:nvPr/>
          </p:nvSpPr>
          <p:spPr>
            <a:xfrm>
              <a:off x="2915280" y="1440000"/>
              <a:ext cx="128520" cy="2052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8518" h="205274">
                  <a:moveTo>
                    <a:pt x="25931" y="15231"/>
                  </a:moveTo>
                  <a:lnTo>
                    <a:pt x="29976" y="15231"/>
                  </a:lnTo>
                  <a:lnTo>
                    <a:pt x="32015" y="14384"/>
                  </a:lnTo>
                  <a:lnTo>
                    <a:pt x="34220" y="12973"/>
                  </a:lnTo>
                  <a:lnTo>
                    <a:pt x="36537" y="11186"/>
                  </a:lnTo>
                  <a:lnTo>
                    <a:pt x="38929" y="9994"/>
                  </a:lnTo>
                  <a:lnTo>
                    <a:pt x="41369" y="9200"/>
                  </a:lnTo>
                  <a:lnTo>
                    <a:pt x="43843" y="8670"/>
                  </a:lnTo>
                  <a:lnTo>
                    <a:pt x="47186" y="7471"/>
                  </a:lnTo>
                  <a:lnTo>
                    <a:pt x="51107" y="5824"/>
                  </a:lnTo>
                  <a:lnTo>
                    <a:pt x="55416" y="3880"/>
                  </a:lnTo>
                  <a:lnTo>
                    <a:pt x="59981" y="2583"/>
                  </a:lnTo>
                  <a:lnTo>
                    <a:pt x="64717" y="1719"/>
                  </a:lnTo>
                  <a:lnTo>
                    <a:pt x="69569" y="1143"/>
                  </a:lnTo>
                  <a:lnTo>
                    <a:pt x="74496" y="759"/>
                  </a:lnTo>
                  <a:lnTo>
                    <a:pt x="79475" y="503"/>
                  </a:lnTo>
                  <a:lnTo>
                    <a:pt x="92314" y="143"/>
                  </a:lnTo>
                  <a:lnTo>
                    <a:pt x="114678" y="0"/>
                  </a:lnTo>
                  <a:lnTo>
                    <a:pt x="116422" y="844"/>
                  </a:lnTo>
                  <a:lnTo>
                    <a:pt x="118432" y="2253"/>
                  </a:lnTo>
                  <a:lnTo>
                    <a:pt x="120618" y="4039"/>
                  </a:lnTo>
                  <a:lnTo>
                    <a:pt x="122922" y="6076"/>
                  </a:lnTo>
                  <a:lnTo>
                    <a:pt x="127741" y="10598"/>
                  </a:lnTo>
                  <a:lnTo>
                    <a:pt x="128517" y="12989"/>
                  </a:lnTo>
                  <a:lnTo>
                    <a:pt x="128189" y="15430"/>
                  </a:lnTo>
                  <a:lnTo>
                    <a:pt x="127123" y="17903"/>
                  </a:lnTo>
                  <a:lnTo>
                    <a:pt x="123681" y="22910"/>
                  </a:lnTo>
                  <a:lnTo>
                    <a:pt x="121578" y="25430"/>
                  </a:lnTo>
                  <a:lnTo>
                    <a:pt x="119328" y="28804"/>
                  </a:lnTo>
                  <a:lnTo>
                    <a:pt x="116983" y="32746"/>
                  </a:lnTo>
                  <a:lnTo>
                    <a:pt x="114572" y="37068"/>
                  </a:lnTo>
                  <a:lnTo>
                    <a:pt x="111272" y="41642"/>
                  </a:lnTo>
                  <a:lnTo>
                    <a:pt x="107378" y="46385"/>
                  </a:lnTo>
                  <a:lnTo>
                    <a:pt x="103089" y="51240"/>
                  </a:lnTo>
                  <a:lnTo>
                    <a:pt x="93808" y="61151"/>
                  </a:lnTo>
                  <a:lnTo>
                    <a:pt x="74052" y="81311"/>
                  </a:lnTo>
                  <a:lnTo>
                    <a:pt x="37138" y="118315"/>
                  </a:lnTo>
                  <a:lnTo>
                    <a:pt x="31709" y="124594"/>
                  </a:lnTo>
                  <a:lnTo>
                    <a:pt x="26397" y="131320"/>
                  </a:lnTo>
                  <a:lnTo>
                    <a:pt x="21161" y="138343"/>
                  </a:lnTo>
                  <a:lnTo>
                    <a:pt x="16825" y="144719"/>
                  </a:lnTo>
                  <a:lnTo>
                    <a:pt x="13087" y="150663"/>
                  </a:lnTo>
                  <a:lnTo>
                    <a:pt x="9748" y="156319"/>
                  </a:lnTo>
                  <a:lnTo>
                    <a:pt x="6676" y="161783"/>
                  </a:lnTo>
                  <a:lnTo>
                    <a:pt x="1004" y="172370"/>
                  </a:lnTo>
                  <a:lnTo>
                    <a:pt x="0" y="176717"/>
                  </a:lnTo>
                  <a:lnTo>
                    <a:pt x="177" y="180462"/>
                  </a:lnTo>
                  <a:lnTo>
                    <a:pt x="1142" y="183805"/>
                  </a:lnTo>
                  <a:lnTo>
                    <a:pt x="2214" y="189777"/>
                  </a:lnTo>
                  <a:lnTo>
                    <a:pt x="2499" y="192555"/>
                  </a:lnTo>
                  <a:lnTo>
                    <a:pt x="4383" y="195254"/>
                  </a:lnTo>
                  <a:lnTo>
                    <a:pt x="7332" y="197899"/>
                  </a:lnTo>
                  <a:lnTo>
                    <a:pt x="10992" y="200510"/>
                  </a:lnTo>
                  <a:lnTo>
                    <a:pt x="15972" y="202250"/>
                  </a:lnTo>
                  <a:lnTo>
                    <a:pt x="21832" y="203411"/>
                  </a:lnTo>
                  <a:lnTo>
                    <a:pt x="28278" y="204184"/>
                  </a:lnTo>
                  <a:lnTo>
                    <a:pt x="34269" y="204700"/>
                  </a:lnTo>
                  <a:lnTo>
                    <a:pt x="39957" y="205044"/>
                  </a:lnTo>
                  <a:lnTo>
                    <a:pt x="45441" y="205273"/>
                  </a:lnTo>
                  <a:lnTo>
                    <a:pt x="52484" y="204579"/>
                  </a:lnTo>
                  <a:lnTo>
                    <a:pt x="60567" y="203270"/>
                  </a:lnTo>
                  <a:lnTo>
                    <a:pt x="69342" y="201550"/>
                  </a:lnTo>
                  <a:lnTo>
                    <a:pt x="76885" y="200404"/>
                  </a:lnTo>
                  <a:lnTo>
                    <a:pt x="83607" y="199640"/>
                  </a:lnTo>
                  <a:lnTo>
                    <a:pt x="89781" y="199130"/>
                  </a:lnTo>
                  <a:lnTo>
                    <a:pt x="95591" y="197944"/>
                  </a:lnTo>
                  <a:lnTo>
                    <a:pt x="101158" y="196306"/>
                  </a:lnTo>
                  <a:lnTo>
                    <a:pt x="117371" y="1904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SMARTInkAnnotation333"/>
            <p:cNvSpPr/>
            <p:nvPr/>
          </p:nvSpPr>
          <p:spPr>
            <a:xfrm>
              <a:off x="3128040" y="1440000"/>
              <a:ext cx="110520" cy="910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10706" h="91410">
                  <a:moveTo>
                    <a:pt x="72605" y="0"/>
                  </a:moveTo>
                  <a:lnTo>
                    <a:pt x="66044" y="6561"/>
                  </a:lnTo>
                  <a:lnTo>
                    <a:pt x="64845" y="8607"/>
                  </a:lnTo>
                  <a:lnTo>
                    <a:pt x="61254" y="15397"/>
                  </a:lnTo>
                  <a:lnTo>
                    <a:pt x="59111" y="18731"/>
                  </a:lnTo>
                  <a:lnTo>
                    <a:pt x="56836" y="21801"/>
                  </a:lnTo>
                  <a:lnTo>
                    <a:pt x="54473" y="24694"/>
                  </a:lnTo>
                  <a:lnTo>
                    <a:pt x="51203" y="27469"/>
                  </a:lnTo>
                  <a:lnTo>
                    <a:pt x="47331" y="30166"/>
                  </a:lnTo>
                  <a:lnTo>
                    <a:pt x="43056" y="32811"/>
                  </a:lnTo>
                  <a:lnTo>
                    <a:pt x="39359" y="35421"/>
                  </a:lnTo>
                  <a:lnTo>
                    <a:pt x="36048" y="38007"/>
                  </a:lnTo>
                  <a:lnTo>
                    <a:pt x="32994" y="40578"/>
                  </a:lnTo>
                  <a:lnTo>
                    <a:pt x="29265" y="43985"/>
                  </a:lnTo>
                  <a:lnTo>
                    <a:pt x="16772" y="56025"/>
                  </a:lnTo>
                  <a:lnTo>
                    <a:pt x="10255" y="62435"/>
                  </a:lnTo>
                  <a:lnTo>
                    <a:pt x="8179" y="65330"/>
                  </a:lnTo>
                  <a:lnTo>
                    <a:pt x="6794" y="68107"/>
                  </a:lnTo>
                  <a:lnTo>
                    <a:pt x="5872" y="70805"/>
                  </a:lnTo>
                  <a:lnTo>
                    <a:pt x="4409" y="73450"/>
                  </a:lnTo>
                  <a:lnTo>
                    <a:pt x="2588" y="76060"/>
                  </a:lnTo>
                  <a:lnTo>
                    <a:pt x="527" y="78647"/>
                  </a:lnTo>
                  <a:lnTo>
                    <a:pt x="0" y="80371"/>
                  </a:lnTo>
                  <a:lnTo>
                    <a:pt x="495" y="81521"/>
                  </a:lnTo>
                  <a:lnTo>
                    <a:pt x="1672" y="82287"/>
                  </a:lnTo>
                  <a:lnTo>
                    <a:pt x="2456" y="83645"/>
                  </a:lnTo>
                  <a:lnTo>
                    <a:pt x="2979" y="85397"/>
                  </a:lnTo>
                  <a:lnTo>
                    <a:pt x="3328" y="87411"/>
                  </a:lnTo>
                  <a:lnTo>
                    <a:pt x="4407" y="88754"/>
                  </a:lnTo>
                  <a:lnTo>
                    <a:pt x="5973" y="89649"/>
                  </a:lnTo>
                  <a:lnTo>
                    <a:pt x="7865" y="90246"/>
                  </a:lnTo>
                  <a:lnTo>
                    <a:pt x="11665" y="90644"/>
                  </a:lnTo>
                  <a:lnTo>
                    <a:pt x="16738" y="90909"/>
                  </a:lnTo>
                  <a:lnTo>
                    <a:pt x="29149" y="91204"/>
                  </a:lnTo>
                  <a:lnTo>
                    <a:pt x="69329" y="91409"/>
                  </a:lnTo>
                  <a:lnTo>
                    <a:pt x="77194" y="90573"/>
                  </a:lnTo>
                  <a:lnTo>
                    <a:pt x="84131" y="89168"/>
                  </a:lnTo>
                  <a:lnTo>
                    <a:pt x="90449" y="87386"/>
                  </a:lnTo>
                  <a:lnTo>
                    <a:pt x="95508" y="86197"/>
                  </a:lnTo>
                  <a:lnTo>
                    <a:pt x="99727" y="85405"/>
                  </a:lnTo>
                  <a:lnTo>
                    <a:pt x="110705" y="838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SMARTInkAnnotation334"/>
            <p:cNvSpPr/>
            <p:nvPr/>
          </p:nvSpPr>
          <p:spPr>
            <a:xfrm>
              <a:off x="3231000" y="1424520"/>
              <a:ext cx="45360" cy="2437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45616" h="243841">
                  <a:moveTo>
                    <a:pt x="45615" y="0"/>
                  </a:moveTo>
                  <a:lnTo>
                    <a:pt x="45615" y="13867"/>
                  </a:lnTo>
                  <a:lnTo>
                    <a:pt x="44769" y="15172"/>
                  </a:lnTo>
                  <a:lnTo>
                    <a:pt x="43358" y="16888"/>
                  </a:lnTo>
                  <a:lnTo>
                    <a:pt x="41571" y="18879"/>
                  </a:lnTo>
                  <a:lnTo>
                    <a:pt x="40378" y="21899"/>
                  </a:lnTo>
                  <a:lnTo>
                    <a:pt x="39584" y="25606"/>
                  </a:lnTo>
                  <a:lnTo>
                    <a:pt x="39055" y="29771"/>
                  </a:lnTo>
                  <a:lnTo>
                    <a:pt x="37855" y="35087"/>
                  </a:lnTo>
                  <a:lnTo>
                    <a:pt x="36208" y="41172"/>
                  </a:lnTo>
                  <a:lnTo>
                    <a:pt x="34264" y="47768"/>
                  </a:lnTo>
                  <a:lnTo>
                    <a:pt x="32968" y="53859"/>
                  </a:lnTo>
                  <a:lnTo>
                    <a:pt x="32104" y="59613"/>
                  </a:lnTo>
                  <a:lnTo>
                    <a:pt x="31527" y="65142"/>
                  </a:lnTo>
                  <a:lnTo>
                    <a:pt x="30297" y="71368"/>
                  </a:lnTo>
                  <a:lnTo>
                    <a:pt x="28630" y="78059"/>
                  </a:lnTo>
                  <a:lnTo>
                    <a:pt x="26672" y="85059"/>
                  </a:lnTo>
                  <a:lnTo>
                    <a:pt x="22238" y="99611"/>
                  </a:lnTo>
                  <a:lnTo>
                    <a:pt x="19870" y="107047"/>
                  </a:lnTo>
                  <a:lnTo>
                    <a:pt x="17445" y="113698"/>
                  </a:lnTo>
                  <a:lnTo>
                    <a:pt x="14982" y="119826"/>
                  </a:lnTo>
                  <a:lnTo>
                    <a:pt x="12493" y="125604"/>
                  </a:lnTo>
                  <a:lnTo>
                    <a:pt x="10834" y="131996"/>
                  </a:lnTo>
                  <a:lnTo>
                    <a:pt x="9727" y="138797"/>
                  </a:lnTo>
                  <a:lnTo>
                    <a:pt x="8990" y="145871"/>
                  </a:lnTo>
                  <a:lnTo>
                    <a:pt x="7652" y="153128"/>
                  </a:lnTo>
                  <a:lnTo>
                    <a:pt x="5913" y="160505"/>
                  </a:lnTo>
                  <a:lnTo>
                    <a:pt x="3907" y="167963"/>
                  </a:lnTo>
                  <a:lnTo>
                    <a:pt x="2570" y="174629"/>
                  </a:lnTo>
                  <a:lnTo>
                    <a:pt x="1679" y="180766"/>
                  </a:lnTo>
                  <a:lnTo>
                    <a:pt x="1084" y="186551"/>
                  </a:lnTo>
                  <a:lnTo>
                    <a:pt x="688" y="192101"/>
                  </a:lnTo>
                  <a:lnTo>
                    <a:pt x="424" y="197494"/>
                  </a:lnTo>
                  <a:lnTo>
                    <a:pt x="130" y="208002"/>
                  </a:lnTo>
                  <a:lnTo>
                    <a:pt x="0" y="218316"/>
                  </a:lnTo>
                  <a:lnTo>
                    <a:pt x="812" y="222591"/>
                  </a:lnTo>
                  <a:lnTo>
                    <a:pt x="2200" y="226287"/>
                  </a:lnTo>
                  <a:lnTo>
                    <a:pt x="3971" y="229598"/>
                  </a:lnTo>
                  <a:lnTo>
                    <a:pt x="5153" y="232652"/>
                  </a:lnTo>
                  <a:lnTo>
                    <a:pt x="5940" y="235535"/>
                  </a:lnTo>
                  <a:lnTo>
                    <a:pt x="7515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SMARTInkAnnotation335"/>
            <p:cNvSpPr/>
            <p:nvPr/>
          </p:nvSpPr>
          <p:spPr>
            <a:xfrm>
              <a:off x="3429000" y="1531440"/>
              <a:ext cx="91440" cy="3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1441" h="1">
                  <a:moveTo>
                    <a:pt x="0" y="0"/>
                  </a:moveTo>
                  <a:lnTo>
                    <a:pt x="914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MARTInkAnnotation336"/>
            <p:cNvSpPr/>
            <p:nvPr/>
          </p:nvSpPr>
          <p:spPr>
            <a:xfrm>
              <a:off x="3482640" y="159984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6" y="6031"/>
                  </a:lnTo>
                  <a:lnTo>
                    <a:pt x="14651" y="6561"/>
                  </a:lnTo>
                  <a:lnTo>
                    <a:pt x="19081" y="7761"/>
                  </a:lnTo>
                  <a:lnTo>
                    <a:pt x="23727" y="9407"/>
                  </a:lnTo>
                  <a:lnTo>
                    <a:pt x="28518" y="11351"/>
                  </a:lnTo>
                  <a:lnTo>
                    <a:pt x="34252" y="12648"/>
                  </a:lnTo>
                  <a:lnTo>
                    <a:pt x="40615" y="13512"/>
                  </a:lnTo>
                  <a:lnTo>
                    <a:pt x="47397" y="14088"/>
                  </a:lnTo>
                  <a:lnTo>
                    <a:pt x="55305" y="13625"/>
                  </a:lnTo>
                  <a:lnTo>
                    <a:pt x="63963" y="12470"/>
                  </a:lnTo>
                  <a:lnTo>
                    <a:pt x="73122" y="10854"/>
                  </a:lnTo>
                  <a:lnTo>
                    <a:pt x="81768" y="9776"/>
                  </a:lnTo>
                  <a:lnTo>
                    <a:pt x="90072" y="9057"/>
                  </a:lnTo>
                  <a:lnTo>
                    <a:pt x="98148" y="8578"/>
                  </a:lnTo>
                  <a:lnTo>
                    <a:pt x="113895" y="8046"/>
                  </a:lnTo>
                  <a:lnTo>
                    <a:pt x="136610" y="7704"/>
                  </a:lnTo>
                  <a:lnTo>
                    <a:pt x="141026" y="8523"/>
                  </a:lnTo>
                  <a:lnTo>
                    <a:pt x="145664" y="9915"/>
                  </a:lnTo>
                  <a:lnTo>
                    <a:pt x="16002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MARTInkAnnotation337"/>
            <p:cNvSpPr/>
            <p:nvPr/>
          </p:nvSpPr>
          <p:spPr>
            <a:xfrm>
              <a:off x="3886560" y="1500840"/>
              <a:ext cx="159840" cy="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0021" h="1">
                  <a:moveTo>
                    <a:pt x="0" y="0"/>
                  </a:move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MARTInkAnnotation338"/>
            <p:cNvSpPr/>
            <p:nvPr/>
          </p:nvSpPr>
          <p:spPr>
            <a:xfrm>
              <a:off x="4109040" y="1378800"/>
              <a:ext cx="173520" cy="18288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73729" h="182881">
                  <a:moveTo>
                    <a:pt x="67048" y="0"/>
                  </a:moveTo>
                  <a:lnTo>
                    <a:pt x="63003" y="4045"/>
                  </a:lnTo>
                  <a:lnTo>
                    <a:pt x="61811" y="6083"/>
                  </a:lnTo>
                  <a:lnTo>
                    <a:pt x="60486" y="10606"/>
                  </a:lnTo>
                  <a:lnTo>
                    <a:pt x="59898" y="15438"/>
                  </a:lnTo>
                  <a:lnTo>
                    <a:pt x="59741" y="17912"/>
                  </a:lnTo>
                  <a:lnTo>
                    <a:pt x="58790" y="20408"/>
                  </a:lnTo>
                  <a:lnTo>
                    <a:pt x="55475" y="25439"/>
                  </a:lnTo>
                  <a:lnTo>
                    <a:pt x="53406" y="28813"/>
                  </a:lnTo>
                  <a:lnTo>
                    <a:pt x="51180" y="32755"/>
                  </a:lnTo>
                  <a:lnTo>
                    <a:pt x="46449" y="41651"/>
                  </a:lnTo>
                  <a:lnTo>
                    <a:pt x="41524" y="51249"/>
                  </a:lnTo>
                  <a:lnTo>
                    <a:pt x="38178" y="57026"/>
                  </a:lnTo>
                  <a:lnTo>
                    <a:pt x="34254" y="63418"/>
                  </a:lnTo>
                  <a:lnTo>
                    <a:pt x="29946" y="70218"/>
                  </a:lnTo>
                  <a:lnTo>
                    <a:pt x="26226" y="76446"/>
                  </a:lnTo>
                  <a:lnTo>
                    <a:pt x="22900" y="82290"/>
                  </a:lnTo>
                  <a:lnTo>
                    <a:pt x="16946" y="93300"/>
                  </a:lnTo>
                  <a:lnTo>
                    <a:pt x="6225" y="114166"/>
                  </a:lnTo>
                  <a:lnTo>
                    <a:pt x="3639" y="119291"/>
                  </a:lnTo>
                  <a:lnTo>
                    <a:pt x="1915" y="124400"/>
                  </a:lnTo>
                  <a:lnTo>
                    <a:pt x="766" y="129500"/>
                  </a:lnTo>
                  <a:lnTo>
                    <a:pt x="0" y="134594"/>
                  </a:lnTo>
                  <a:lnTo>
                    <a:pt x="335" y="138836"/>
                  </a:lnTo>
                  <a:lnTo>
                    <a:pt x="1406" y="142511"/>
                  </a:lnTo>
                  <a:lnTo>
                    <a:pt x="2966" y="145807"/>
                  </a:lnTo>
                  <a:lnTo>
                    <a:pt x="4853" y="148851"/>
                  </a:lnTo>
                  <a:lnTo>
                    <a:pt x="9208" y="154492"/>
                  </a:lnTo>
                  <a:lnTo>
                    <a:pt x="12401" y="157181"/>
                  </a:lnTo>
                  <a:lnTo>
                    <a:pt x="16223" y="159821"/>
                  </a:lnTo>
                  <a:lnTo>
                    <a:pt x="20464" y="162427"/>
                  </a:lnTo>
                  <a:lnTo>
                    <a:pt x="24985" y="164165"/>
                  </a:lnTo>
                  <a:lnTo>
                    <a:pt x="29693" y="165323"/>
                  </a:lnTo>
                  <a:lnTo>
                    <a:pt x="34524" y="166096"/>
                  </a:lnTo>
                  <a:lnTo>
                    <a:pt x="39438" y="166610"/>
                  </a:lnTo>
                  <a:lnTo>
                    <a:pt x="44408" y="166954"/>
                  </a:lnTo>
                  <a:lnTo>
                    <a:pt x="49415" y="167182"/>
                  </a:lnTo>
                  <a:lnTo>
                    <a:pt x="55292" y="166488"/>
                  </a:lnTo>
                  <a:lnTo>
                    <a:pt x="61751" y="165179"/>
                  </a:lnTo>
                  <a:lnTo>
                    <a:pt x="68596" y="163459"/>
                  </a:lnTo>
                  <a:lnTo>
                    <a:pt x="74854" y="161466"/>
                  </a:lnTo>
                  <a:lnTo>
                    <a:pt x="80718" y="159291"/>
                  </a:lnTo>
                  <a:lnTo>
                    <a:pt x="86321" y="156994"/>
                  </a:lnTo>
                  <a:lnTo>
                    <a:pt x="92597" y="154616"/>
                  </a:lnTo>
                  <a:lnTo>
                    <a:pt x="106343" y="149716"/>
                  </a:lnTo>
                  <a:lnTo>
                    <a:pt x="111871" y="147224"/>
                  </a:lnTo>
                  <a:lnTo>
                    <a:pt x="116403" y="144716"/>
                  </a:lnTo>
                  <a:lnTo>
                    <a:pt x="120271" y="142197"/>
                  </a:lnTo>
                  <a:lnTo>
                    <a:pt x="123696" y="138825"/>
                  </a:lnTo>
                  <a:lnTo>
                    <a:pt x="126827" y="134883"/>
                  </a:lnTo>
                  <a:lnTo>
                    <a:pt x="129760" y="130562"/>
                  </a:lnTo>
                  <a:lnTo>
                    <a:pt x="131716" y="126835"/>
                  </a:lnTo>
                  <a:lnTo>
                    <a:pt x="133020" y="123503"/>
                  </a:lnTo>
                  <a:lnTo>
                    <a:pt x="133889" y="120436"/>
                  </a:lnTo>
                  <a:lnTo>
                    <a:pt x="134855" y="114769"/>
                  </a:lnTo>
                  <a:lnTo>
                    <a:pt x="135474" y="108278"/>
                  </a:lnTo>
                  <a:lnTo>
                    <a:pt x="134679" y="107745"/>
                  </a:lnTo>
                  <a:lnTo>
                    <a:pt x="131537" y="107153"/>
                  </a:lnTo>
                  <a:lnTo>
                    <a:pt x="127318" y="106891"/>
                  </a:lnTo>
                  <a:lnTo>
                    <a:pt x="122621" y="106774"/>
                  </a:lnTo>
                  <a:lnTo>
                    <a:pt x="117712" y="106722"/>
                  </a:lnTo>
                  <a:lnTo>
                    <a:pt x="115217" y="107554"/>
                  </a:lnTo>
                  <a:lnTo>
                    <a:pt x="110187" y="110738"/>
                  </a:lnTo>
                  <a:lnTo>
                    <a:pt x="105130" y="114975"/>
                  </a:lnTo>
                  <a:lnTo>
                    <a:pt x="102595" y="117290"/>
                  </a:lnTo>
                  <a:lnTo>
                    <a:pt x="100060" y="120527"/>
                  </a:lnTo>
                  <a:lnTo>
                    <a:pt x="97522" y="124378"/>
                  </a:lnTo>
                  <a:lnTo>
                    <a:pt x="94984" y="128639"/>
                  </a:lnTo>
                  <a:lnTo>
                    <a:pt x="93292" y="132326"/>
                  </a:lnTo>
                  <a:lnTo>
                    <a:pt x="92164" y="135630"/>
                  </a:lnTo>
                  <a:lnTo>
                    <a:pt x="91412" y="138680"/>
                  </a:lnTo>
                  <a:lnTo>
                    <a:pt x="91756" y="141560"/>
                  </a:lnTo>
                  <a:lnTo>
                    <a:pt x="92834" y="144327"/>
                  </a:lnTo>
                  <a:lnTo>
                    <a:pt x="94398" y="147018"/>
                  </a:lnTo>
                  <a:lnTo>
                    <a:pt x="97134" y="150505"/>
                  </a:lnTo>
                  <a:lnTo>
                    <a:pt x="100652" y="154523"/>
                  </a:lnTo>
                  <a:lnTo>
                    <a:pt x="104690" y="158896"/>
                  </a:lnTo>
                  <a:lnTo>
                    <a:pt x="109076" y="161811"/>
                  </a:lnTo>
                  <a:lnTo>
                    <a:pt x="113693" y="163754"/>
                  </a:lnTo>
                  <a:lnTo>
                    <a:pt x="118465" y="165049"/>
                  </a:lnTo>
                  <a:lnTo>
                    <a:pt x="123339" y="166759"/>
                  </a:lnTo>
                  <a:lnTo>
                    <a:pt x="128282" y="168746"/>
                  </a:lnTo>
                  <a:lnTo>
                    <a:pt x="133270" y="170917"/>
                  </a:lnTo>
                  <a:lnTo>
                    <a:pt x="138290" y="172365"/>
                  </a:lnTo>
                  <a:lnTo>
                    <a:pt x="143329" y="173330"/>
                  </a:lnTo>
                  <a:lnTo>
                    <a:pt x="148381" y="173973"/>
                  </a:lnTo>
                  <a:lnTo>
                    <a:pt x="153444" y="175249"/>
                  </a:lnTo>
                  <a:lnTo>
                    <a:pt x="158512" y="176946"/>
                  </a:lnTo>
                  <a:lnTo>
                    <a:pt x="173728" y="182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MARTInkAnnotation339"/>
            <p:cNvSpPr/>
            <p:nvPr/>
          </p:nvSpPr>
          <p:spPr>
            <a:xfrm>
              <a:off x="4557240" y="1394280"/>
              <a:ext cx="15120" cy="1749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5241" h="175261">
                  <a:moveTo>
                    <a:pt x="15240" y="0"/>
                  </a:moveTo>
                  <a:lnTo>
                    <a:pt x="15240" y="11351"/>
                  </a:lnTo>
                  <a:lnTo>
                    <a:pt x="14394" y="13494"/>
                  </a:lnTo>
                  <a:lnTo>
                    <a:pt x="12982" y="15770"/>
                  </a:lnTo>
                  <a:lnTo>
                    <a:pt x="11195" y="18133"/>
                  </a:lnTo>
                  <a:lnTo>
                    <a:pt x="10003" y="20555"/>
                  </a:lnTo>
                  <a:lnTo>
                    <a:pt x="9209" y="23017"/>
                  </a:lnTo>
                  <a:lnTo>
                    <a:pt x="8679" y="25505"/>
                  </a:lnTo>
                  <a:lnTo>
                    <a:pt x="8326" y="28857"/>
                  </a:lnTo>
                  <a:lnTo>
                    <a:pt x="8090" y="32784"/>
                  </a:lnTo>
                  <a:lnTo>
                    <a:pt x="7934" y="37096"/>
                  </a:lnTo>
                  <a:lnTo>
                    <a:pt x="6983" y="41664"/>
                  </a:lnTo>
                  <a:lnTo>
                    <a:pt x="5501" y="46403"/>
                  </a:lnTo>
                  <a:lnTo>
                    <a:pt x="3667" y="51255"/>
                  </a:lnTo>
                  <a:lnTo>
                    <a:pt x="2445" y="56184"/>
                  </a:lnTo>
                  <a:lnTo>
                    <a:pt x="1630" y="61162"/>
                  </a:lnTo>
                  <a:lnTo>
                    <a:pt x="1087" y="66175"/>
                  </a:lnTo>
                  <a:lnTo>
                    <a:pt x="725" y="71210"/>
                  </a:lnTo>
                  <a:lnTo>
                    <a:pt x="483" y="76260"/>
                  </a:lnTo>
                  <a:lnTo>
                    <a:pt x="215" y="87233"/>
                  </a:lnTo>
                  <a:lnTo>
                    <a:pt x="0" y="1752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MARTInkAnnotation340"/>
            <p:cNvSpPr/>
            <p:nvPr/>
          </p:nvSpPr>
          <p:spPr>
            <a:xfrm>
              <a:off x="4465800" y="1493280"/>
              <a:ext cx="236160" cy="2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36222" h="22861">
                  <a:moveTo>
                    <a:pt x="0" y="0"/>
                  </a:moveTo>
                  <a:lnTo>
                    <a:pt x="61550" y="0"/>
                  </a:lnTo>
                  <a:lnTo>
                    <a:pt x="69820" y="847"/>
                  </a:lnTo>
                  <a:lnTo>
                    <a:pt x="78720" y="2258"/>
                  </a:lnTo>
                  <a:lnTo>
                    <a:pt x="88040" y="4045"/>
                  </a:lnTo>
                  <a:lnTo>
                    <a:pt x="96794" y="5237"/>
                  </a:lnTo>
                  <a:lnTo>
                    <a:pt x="105169" y="6031"/>
                  </a:lnTo>
                  <a:lnTo>
                    <a:pt x="113293" y="6561"/>
                  </a:lnTo>
                  <a:lnTo>
                    <a:pt x="122095" y="7761"/>
                  </a:lnTo>
                  <a:lnTo>
                    <a:pt x="131351" y="9407"/>
                  </a:lnTo>
                  <a:lnTo>
                    <a:pt x="140907" y="11351"/>
                  </a:lnTo>
                  <a:lnTo>
                    <a:pt x="149818" y="12648"/>
                  </a:lnTo>
                  <a:lnTo>
                    <a:pt x="158299" y="13512"/>
                  </a:lnTo>
                  <a:lnTo>
                    <a:pt x="166493" y="14088"/>
                  </a:lnTo>
                  <a:lnTo>
                    <a:pt x="175342" y="14472"/>
                  </a:lnTo>
                  <a:lnTo>
                    <a:pt x="194206" y="14899"/>
                  </a:lnTo>
                  <a:lnTo>
                    <a:pt x="201437" y="15859"/>
                  </a:lnTo>
                  <a:lnTo>
                    <a:pt x="207105" y="17346"/>
                  </a:lnTo>
                  <a:lnTo>
                    <a:pt x="211730" y="19184"/>
                  </a:lnTo>
                  <a:lnTo>
                    <a:pt x="216507" y="20409"/>
                  </a:lnTo>
                  <a:lnTo>
                    <a:pt x="221385" y="21226"/>
                  </a:lnTo>
                  <a:lnTo>
                    <a:pt x="236221" y="22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MARTInkAnnotation341"/>
            <p:cNvSpPr/>
            <p:nvPr/>
          </p:nvSpPr>
          <p:spPr>
            <a:xfrm>
              <a:off x="4816440" y="1432440"/>
              <a:ext cx="182880" cy="15120"/>
            </a:xfrm>
            <a:custGeom>
              <a:avLst/>
              <a:gdLst>
                <a:gd name="textAreaLeft" fmla="*/ 0 w 182880"/>
                <a:gd name="textAreaRight" fmla="*/ 182880 w 182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82880" h="15241">
                  <a:moveTo>
                    <a:pt x="0" y="0"/>
                  </a:moveTo>
                  <a:lnTo>
                    <a:pt x="18133" y="0"/>
                  </a:lnTo>
                  <a:lnTo>
                    <a:pt x="22249" y="847"/>
                  </a:lnTo>
                  <a:lnTo>
                    <a:pt x="27532" y="2258"/>
                  </a:lnTo>
                  <a:lnTo>
                    <a:pt x="33594" y="4045"/>
                  </a:lnTo>
                  <a:lnTo>
                    <a:pt x="39329" y="5237"/>
                  </a:lnTo>
                  <a:lnTo>
                    <a:pt x="44846" y="6031"/>
                  </a:lnTo>
                  <a:lnTo>
                    <a:pt x="50217" y="6561"/>
                  </a:lnTo>
                  <a:lnTo>
                    <a:pt x="56338" y="6914"/>
                  </a:lnTo>
                  <a:lnTo>
                    <a:pt x="69912" y="7306"/>
                  </a:lnTo>
                  <a:lnTo>
                    <a:pt x="77088" y="8257"/>
                  </a:lnTo>
                  <a:lnTo>
                    <a:pt x="84412" y="9738"/>
                  </a:lnTo>
                  <a:lnTo>
                    <a:pt x="91834" y="11572"/>
                  </a:lnTo>
                  <a:lnTo>
                    <a:pt x="99322" y="12795"/>
                  </a:lnTo>
                  <a:lnTo>
                    <a:pt x="106855" y="13610"/>
                  </a:lnTo>
                  <a:lnTo>
                    <a:pt x="114416" y="14153"/>
                  </a:lnTo>
                  <a:lnTo>
                    <a:pt x="121997" y="14516"/>
                  </a:lnTo>
                  <a:lnTo>
                    <a:pt x="137194" y="14918"/>
                  </a:lnTo>
                  <a:lnTo>
                    <a:pt x="182879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MARTInkAnnotation342"/>
            <p:cNvSpPr/>
            <p:nvPr/>
          </p:nvSpPr>
          <p:spPr>
            <a:xfrm>
              <a:off x="5041440" y="1348560"/>
              <a:ext cx="208800" cy="1980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09060" h="198121">
                  <a:moveTo>
                    <a:pt x="87139" y="0"/>
                  </a:moveTo>
                  <a:lnTo>
                    <a:pt x="83094" y="4045"/>
                  </a:lnTo>
                  <a:lnTo>
                    <a:pt x="81902" y="6084"/>
                  </a:lnTo>
                  <a:lnTo>
                    <a:pt x="80578" y="10606"/>
                  </a:lnTo>
                  <a:lnTo>
                    <a:pt x="78532" y="13844"/>
                  </a:lnTo>
                  <a:lnTo>
                    <a:pt x="75474" y="17696"/>
                  </a:lnTo>
                  <a:lnTo>
                    <a:pt x="71742" y="21957"/>
                  </a:lnTo>
                  <a:lnTo>
                    <a:pt x="65338" y="28950"/>
                  </a:lnTo>
                  <a:lnTo>
                    <a:pt x="58823" y="35727"/>
                  </a:lnTo>
                  <a:lnTo>
                    <a:pt x="50283" y="44383"/>
                  </a:lnTo>
                  <a:lnTo>
                    <a:pt x="46482" y="49062"/>
                  </a:lnTo>
                  <a:lnTo>
                    <a:pt x="43100" y="53875"/>
                  </a:lnTo>
                  <a:lnTo>
                    <a:pt x="40000" y="58777"/>
                  </a:lnTo>
                  <a:lnTo>
                    <a:pt x="36240" y="63738"/>
                  </a:lnTo>
                  <a:lnTo>
                    <a:pt x="32039" y="68739"/>
                  </a:lnTo>
                  <a:lnTo>
                    <a:pt x="27546" y="73766"/>
                  </a:lnTo>
                  <a:lnTo>
                    <a:pt x="23704" y="78811"/>
                  </a:lnTo>
                  <a:lnTo>
                    <a:pt x="20295" y="83867"/>
                  </a:lnTo>
                  <a:lnTo>
                    <a:pt x="17176" y="88931"/>
                  </a:lnTo>
                  <a:lnTo>
                    <a:pt x="14251" y="93154"/>
                  </a:lnTo>
                  <a:lnTo>
                    <a:pt x="11453" y="96816"/>
                  </a:lnTo>
                  <a:lnTo>
                    <a:pt x="8742" y="100104"/>
                  </a:lnTo>
                  <a:lnTo>
                    <a:pt x="6087" y="103989"/>
                  </a:lnTo>
                  <a:lnTo>
                    <a:pt x="3471" y="108273"/>
                  </a:lnTo>
                  <a:lnTo>
                    <a:pt x="881" y="112822"/>
                  </a:lnTo>
                  <a:lnTo>
                    <a:pt x="0" y="117548"/>
                  </a:lnTo>
                  <a:lnTo>
                    <a:pt x="260" y="122392"/>
                  </a:lnTo>
                  <a:lnTo>
                    <a:pt x="1280" y="127315"/>
                  </a:lnTo>
                  <a:lnTo>
                    <a:pt x="2806" y="131443"/>
                  </a:lnTo>
                  <a:lnTo>
                    <a:pt x="4670" y="135042"/>
                  </a:lnTo>
                  <a:lnTo>
                    <a:pt x="6760" y="138288"/>
                  </a:lnTo>
                  <a:lnTo>
                    <a:pt x="9847" y="142145"/>
                  </a:lnTo>
                  <a:lnTo>
                    <a:pt x="13597" y="146410"/>
                  </a:lnTo>
                  <a:lnTo>
                    <a:pt x="17791" y="150947"/>
                  </a:lnTo>
                  <a:lnTo>
                    <a:pt x="23127" y="154818"/>
                  </a:lnTo>
                  <a:lnTo>
                    <a:pt x="29224" y="158245"/>
                  </a:lnTo>
                  <a:lnTo>
                    <a:pt x="35830" y="161377"/>
                  </a:lnTo>
                  <a:lnTo>
                    <a:pt x="42772" y="163465"/>
                  </a:lnTo>
                  <a:lnTo>
                    <a:pt x="49941" y="164857"/>
                  </a:lnTo>
                  <a:lnTo>
                    <a:pt x="57261" y="165784"/>
                  </a:lnTo>
                  <a:lnTo>
                    <a:pt x="65527" y="166403"/>
                  </a:lnTo>
                  <a:lnTo>
                    <a:pt x="74424" y="166815"/>
                  </a:lnTo>
                  <a:lnTo>
                    <a:pt x="92495" y="167273"/>
                  </a:lnTo>
                  <a:lnTo>
                    <a:pt x="132561" y="167592"/>
                  </a:lnTo>
                  <a:lnTo>
                    <a:pt x="140281" y="166761"/>
                  </a:lnTo>
                  <a:lnTo>
                    <a:pt x="147967" y="165361"/>
                  </a:lnTo>
                  <a:lnTo>
                    <a:pt x="155630" y="163581"/>
                  </a:lnTo>
                  <a:lnTo>
                    <a:pt x="162433" y="161547"/>
                  </a:lnTo>
                  <a:lnTo>
                    <a:pt x="168662" y="159345"/>
                  </a:lnTo>
                  <a:lnTo>
                    <a:pt x="174508" y="157030"/>
                  </a:lnTo>
                  <a:lnTo>
                    <a:pt x="180098" y="155487"/>
                  </a:lnTo>
                  <a:lnTo>
                    <a:pt x="185518" y="154458"/>
                  </a:lnTo>
                  <a:lnTo>
                    <a:pt x="190825" y="153772"/>
                  </a:lnTo>
                  <a:lnTo>
                    <a:pt x="195210" y="151621"/>
                  </a:lnTo>
                  <a:lnTo>
                    <a:pt x="198980" y="148494"/>
                  </a:lnTo>
                  <a:lnTo>
                    <a:pt x="202339" y="144716"/>
                  </a:lnTo>
                  <a:lnTo>
                    <a:pt x="204580" y="141351"/>
                  </a:lnTo>
                  <a:lnTo>
                    <a:pt x="207068" y="135354"/>
                  </a:lnTo>
                  <a:lnTo>
                    <a:pt x="208175" y="129866"/>
                  </a:lnTo>
                  <a:lnTo>
                    <a:pt x="208469" y="127217"/>
                  </a:lnTo>
                  <a:lnTo>
                    <a:pt x="207819" y="125452"/>
                  </a:lnTo>
                  <a:lnTo>
                    <a:pt x="206539" y="124274"/>
                  </a:lnTo>
                  <a:lnTo>
                    <a:pt x="204839" y="123490"/>
                  </a:lnTo>
                  <a:lnTo>
                    <a:pt x="198401" y="118340"/>
                  </a:lnTo>
                  <a:lnTo>
                    <a:pt x="196027" y="116993"/>
                  </a:lnTo>
                  <a:lnTo>
                    <a:pt x="191132" y="115497"/>
                  </a:lnTo>
                  <a:lnTo>
                    <a:pt x="186134" y="114832"/>
                  </a:lnTo>
                  <a:lnTo>
                    <a:pt x="183615" y="114655"/>
                  </a:lnTo>
                  <a:lnTo>
                    <a:pt x="180243" y="115383"/>
                  </a:lnTo>
                  <a:lnTo>
                    <a:pt x="176302" y="116715"/>
                  </a:lnTo>
                  <a:lnTo>
                    <a:pt x="171981" y="118450"/>
                  </a:lnTo>
                  <a:lnTo>
                    <a:pt x="167407" y="119607"/>
                  </a:lnTo>
                  <a:lnTo>
                    <a:pt x="162664" y="120378"/>
                  </a:lnTo>
                  <a:lnTo>
                    <a:pt x="157809" y="120892"/>
                  </a:lnTo>
                  <a:lnTo>
                    <a:pt x="153725" y="122928"/>
                  </a:lnTo>
                  <a:lnTo>
                    <a:pt x="150157" y="125979"/>
                  </a:lnTo>
                  <a:lnTo>
                    <a:pt x="146931" y="129706"/>
                  </a:lnTo>
                  <a:lnTo>
                    <a:pt x="144780" y="133037"/>
                  </a:lnTo>
                  <a:lnTo>
                    <a:pt x="142391" y="138997"/>
                  </a:lnTo>
                  <a:lnTo>
                    <a:pt x="139071" y="144467"/>
                  </a:lnTo>
                  <a:lnTo>
                    <a:pt x="137000" y="147112"/>
                  </a:lnTo>
                  <a:lnTo>
                    <a:pt x="136467" y="150568"/>
                  </a:lnTo>
                  <a:lnTo>
                    <a:pt x="136957" y="154565"/>
                  </a:lnTo>
                  <a:lnTo>
                    <a:pt x="138131" y="158923"/>
                  </a:lnTo>
                  <a:lnTo>
                    <a:pt x="139760" y="162676"/>
                  </a:lnTo>
                  <a:lnTo>
                    <a:pt x="141693" y="166024"/>
                  </a:lnTo>
                  <a:lnTo>
                    <a:pt x="143828" y="169103"/>
                  </a:lnTo>
                  <a:lnTo>
                    <a:pt x="146945" y="172002"/>
                  </a:lnTo>
                  <a:lnTo>
                    <a:pt x="150716" y="174781"/>
                  </a:lnTo>
                  <a:lnTo>
                    <a:pt x="154924" y="177481"/>
                  </a:lnTo>
                  <a:lnTo>
                    <a:pt x="160268" y="180127"/>
                  </a:lnTo>
                  <a:lnTo>
                    <a:pt x="166373" y="182738"/>
                  </a:lnTo>
                  <a:lnTo>
                    <a:pt x="172982" y="185326"/>
                  </a:lnTo>
                  <a:lnTo>
                    <a:pt x="178234" y="187897"/>
                  </a:lnTo>
                  <a:lnTo>
                    <a:pt x="182582" y="190458"/>
                  </a:lnTo>
                  <a:lnTo>
                    <a:pt x="186327" y="193012"/>
                  </a:lnTo>
                  <a:lnTo>
                    <a:pt x="190518" y="194715"/>
                  </a:lnTo>
                  <a:lnTo>
                    <a:pt x="195005" y="195850"/>
                  </a:lnTo>
                  <a:lnTo>
                    <a:pt x="209059" y="198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MARTInkAnnotation343"/>
            <p:cNvSpPr/>
            <p:nvPr/>
          </p:nvSpPr>
          <p:spPr>
            <a:xfrm>
              <a:off x="5448960" y="1394280"/>
              <a:ext cx="159840" cy="302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0021" h="3048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8" y="6031"/>
                  </a:lnTo>
                  <a:lnTo>
                    <a:pt x="6561" y="7306"/>
                  </a:lnTo>
                  <a:lnTo>
                    <a:pt x="11352" y="7527"/>
                  </a:lnTo>
                  <a:lnTo>
                    <a:pt x="14341" y="8405"/>
                  </a:lnTo>
                  <a:lnTo>
                    <a:pt x="18028" y="9837"/>
                  </a:lnTo>
                  <a:lnTo>
                    <a:pt x="22178" y="11638"/>
                  </a:lnTo>
                  <a:lnTo>
                    <a:pt x="25792" y="12838"/>
                  </a:lnTo>
                  <a:lnTo>
                    <a:pt x="29048" y="13639"/>
                  </a:lnTo>
                  <a:lnTo>
                    <a:pt x="32066" y="14173"/>
                  </a:lnTo>
                  <a:lnTo>
                    <a:pt x="36617" y="15375"/>
                  </a:lnTo>
                  <a:lnTo>
                    <a:pt x="48448" y="18969"/>
                  </a:lnTo>
                  <a:lnTo>
                    <a:pt x="55159" y="20266"/>
                  </a:lnTo>
                  <a:lnTo>
                    <a:pt x="62173" y="21131"/>
                  </a:lnTo>
                  <a:lnTo>
                    <a:pt x="69388" y="21707"/>
                  </a:lnTo>
                  <a:lnTo>
                    <a:pt x="76739" y="22091"/>
                  </a:lnTo>
                  <a:lnTo>
                    <a:pt x="91680" y="22519"/>
                  </a:lnTo>
                  <a:lnTo>
                    <a:pt x="114371" y="22759"/>
                  </a:lnTo>
                  <a:lnTo>
                    <a:pt x="121967" y="23639"/>
                  </a:lnTo>
                  <a:lnTo>
                    <a:pt x="129572" y="25073"/>
                  </a:lnTo>
                  <a:lnTo>
                    <a:pt x="137181" y="26875"/>
                  </a:lnTo>
                  <a:lnTo>
                    <a:pt x="143101" y="28077"/>
                  </a:lnTo>
                  <a:lnTo>
                    <a:pt x="147894" y="28878"/>
                  </a:lnTo>
                  <a:lnTo>
                    <a:pt x="160020" y="30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MARTInkAnnotation344"/>
            <p:cNvSpPr/>
            <p:nvPr/>
          </p:nvSpPr>
          <p:spPr>
            <a:xfrm>
              <a:off x="5487120" y="1310400"/>
              <a:ext cx="34560" cy="1674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4853" h="167641">
                  <a:moveTo>
                    <a:pt x="22860" y="0"/>
                  </a:moveTo>
                  <a:lnTo>
                    <a:pt x="26905" y="0"/>
                  </a:lnTo>
                  <a:lnTo>
                    <a:pt x="28097" y="847"/>
                  </a:lnTo>
                  <a:lnTo>
                    <a:pt x="28891" y="2258"/>
                  </a:lnTo>
                  <a:lnTo>
                    <a:pt x="29774" y="6084"/>
                  </a:lnTo>
                  <a:lnTo>
                    <a:pt x="30166" y="10606"/>
                  </a:lnTo>
                  <a:lnTo>
                    <a:pt x="30340" y="15438"/>
                  </a:lnTo>
                  <a:lnTo>
                    <a:pt x="30387" y="17912"/>
                  </a:lnTo>
                  <a:lnTo>
                    <a:pt x="31265" y="20408"/>
                  </a:lnTo>
                  <a:lnTo>
                    <a:pt x="32696" y="22919"/>
                  </a:lnTo>
                  <a:lnTo>
                    <a:pt x="34498" y="25439"/>
                  </a:lnTo>
                  <a:lnTo>
                    <a:pt x="34852" y="27966"/>
                  </a:lnTo>
                  <a:lnTo>
                    <a:pt x="34241" y="30497"/>
                  </a:lnTo>
                  <a:lnTo>
                    <a:pt x="32988" y="33032"/>
                  </a:lnTo>
                  <a:lnTo>
                    <a:pt x="32152" y="36415"/>
                  </a:lnTo>
                  <a:lnTo>
                    <a:pt x="31594" y="40363"/>
                  </a:lnTo>
                  <a:lnTo>
                    <a:pt x="31224" y="44689"/>
                  </a:lnTo>
                  <a:lnTo>
                    <a:pt x="30129" y="49266"/>
                  </a:lnTo>
                  <a:lnTo>
                    <a:pt x="28553" y="54011"/>
                  </a:lnTo>
                  <a:lnTo>
                    <a:pt x="26655" y="58867"/>
                  </a:lnTo>
                  <a:lnTo>
                    <a:pt x="25390" y="63798"/>
                  </a:lnTo>
                  <a:lnTo>
                    <a:pt x="24547" y="68779"/>
                  </a:lnTo>
                  <a:lnTo>
                    <a:pt x="23985" y="73793"/>
                  </a:lnTo>
                  <a:lnTo>
                    <a:pt x="22763" y="78828"/>
                  </a:lnTo>
                  <a:lnTo>
                    <a:pt x="21102" y="83879"/>
                  </a:lnTo>
                  <a:lnTo>
                    <a:pt x="19148" y="88939"/>
                  </a:lnTo>
                  <a:lnTo>
                    <a:pt x="16999" y="94006"/>
                  </a:lnTo>
                  <a:lnTo>
                    <a:pt x="12353" y="104152"/>
                  </a:lnTo>
                  <a:lnTo>
                    <a:pt x="10776" y="109228"/>
                  </a:lnTo>
                  <a:lnTo>
                    <a:pt x="9724" y="114305"/>
                  </a:lnTo>
                  <a:lnTo>
                    <a:pt x="9022" y="119384"/>
                  </a:lnTo>
                  <a:lnTo>
                    <a:pt x="7709" y="124462"/>
                  </a:lnTo>
                  <a:lnTo>
                    <a:pt x="5985" y="129542"/>
                  </a:lnTo>
                  <a:lnTo>
                    <a:pt x="3990" y="134621"/>
                  </a:lnTo>
                  <a:lnTo>
                    <a:pt x="2660" y="138854"/>
                  </a:lnTo>
                  <a:lnTo>
                    <a:pt x="1774" y="142523"/>
                  </a:lnTo>
                  <a:lnTo>
                    <a:pt x="1182" y="145815"/>
                  </a:lnTo>
                  <a:lnTo>
                    <a:pt x="788" y="149704"/>
                  </a:lnTo>
                  <a:lnTo>
                    <a:pt x="526" y="153989"/>
                  </a:lnTo>
                  <a:lnTo>
                    <a:pt x="0" y="1676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MARTInkAnnotation345"/>
            <p:cNvSpPr/>
            <p:nvPr/>
          </p:nvSpPr>
          <p:spPr>
            <a:xfrm>
              <a:off x="5715720" y="137880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41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2" y="2258"/>
                  </a:lnTo>
                  <a:lnTo>
                    <a:pt x="6561" y="4045"/>
                  </a:lnTo>
                  <a:lnTo>
                    <a:pt x="7760" y="5237"/>
                  </a:lnTo>
                  <a:lnTo>
                    <a:pt x="9408" y="6031"/>
                  </a:lnTo>
                  <a:lnTo>
                    <a:pt x="11352" y="6561"/>
                  </a:lnTo>
                  <a:lnTo>
                    <a:pt x="14341" y="6914"/>
                  </a:lnTo>
                  <a:lnTo>
                    <a:pt x="18028" y="7149"/>
                  </a:lnTo>
                  <a:lnTo>
                    <a:pt x="22178" y="7306"/>
                  </a:lnTo>
                  <a:lnTo>
                    <a:pt x="36111" y="7527"/>
                  </a:lnTo>
                  <a:lnTo>
                    <a:pt x="41008" y="8405"/>
                  </a:lnTo>
                  <a:lnTo>
                    <a:pt x="45965" y="9836"/>
                  </a:lnTo>
                  <a:lnTo>
                    <a:pt x="50963" y="11638"/>
                  </a:lnTo>
                  <a:lnTo>
                    <a:pt x="55989" y="12839"/>
                  </a:lnTo>
                  <a:lnTo>
                    <a:pt x="61033" y="13639"/>
                  </a:lnTo>
                  <a:lnTo>
                    <a:pt x="66089" y="14173"/>
                  </a:lnTo>
                  <a:lnTo>
                    <a:pt x="71152" y="14529"/>
                  </a:lnTo>
                  <a:lnTo>
                    <a:pt x="76221" y="14766"/>
                  </a:lnTo>
                  <a:lnTo>
                    <a:pt x="86370" y="15029"/>
                  </a:lnTo>
                  <a:lnTo>
                    <a:pt x="14478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MARTInkAnnotation346"/>
            <p:cNvSpPr/>
            <p:nvPr/>
          </p:nvSpPr>
          <p:spPr>
            <a:xfrm>
              <a:off x="5924160" y="1295280"/>
              <a:ext cx="195120" cy="2206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95351" h="220981">
                  <a:moveTo>
                    <a:pt x="73430" y="0"/>
                  </a:moveTo>
                  <a:lnTo>
                    <a:pt x="73430" y="6561"/>
                  </a:lnTo>
                  <a:lnTo>
                    <a:pt x="68915" y="11665"/>
                  </a:lnTo>
                  <a:lnTo>
                    <a:pt x="65339" y="15397"/>
                  </a:lnTo>
                  <a:lnTo>
                    <a:pt x="61367" y="21801"/>
                  </a:lnTo>
                  <a:lnTo>
                    <a:pt x="60308" y="24694"/>
                  </a:lnTo>
                  <a:lnTo>
                    <a:pt x="57909" y="28316"/>
                  </a:lnTo>
                  <a:lnTo>
                    <a:pt x="54616" y="32424"/>
                  </a:lnTo>
                  <a:lnTo>
                    <a:pt x="50728" y="36856"/>
                  </a:lnTo>
                  <a:lnTo>
                    <a:pt x="47289" y="41504"/>
                  </a:lnTo>
                  <a:lnTo>
                    <a:pt x="44149" y="46296"/>
                  </a:lnTo>
                  <a:lnTo>
                    <a:pt x="41209" y="51184"/>
                  </a:lnTo>
                  <a:lnTo>
                    <a:pt x="38403" y="56983"/>
                  </a:lnTo>
                  <a:lnTo>
                    <a:pt x="35685" y="63389"/>
                  </a:lnTo>
                  <a:lnTo>
                    <a:pt x="33027" y="70199"/>
                  </a:lnTo>
                  <a:lnTo>
                    <a:pt x="29562" y="76433"/>
                  </a:lnTo>
                  <a:lnTo>
                    <a:pt x="25557" y="82282"/>
                  </a:lnTo>
                  <a:lnTo>
                    <a:pt x="21195" y="87875"/>
                  </a:lnTo>
                  <a:lnTo>
                    <a:pt x="16593" y="94143"/>
                  </a:lnTo>
                  <a:lnTo>
                    <a:pt x="6965" y="107881"/>
                  </a:lnTo>
                  <a:lnTo>
                    <a:pt x="3720" y="114254"/>
                  </a:lnTo>
                  <a:lnTo>
                    <a:pt x="1557" y="120196"/>
                  </a:lnTo>
                  <a:lnTo>
                    <a:pt x="114" y="125851"/>
                  </a:lnTo>
                  <a:lnTo>
                    <a:pt x="0" y="131314"/>
                  </a:lnTo>
                  <a:lnTo>
                    <a:pt x="770" y="136649"/>
                  </a:lnTo>
                  <a:lnTo>
                    <a:pt x="2130" y="141900"/>
                  </a:lnTo>
                  <a:lnTo>
                    <a:pt x="3883" y="147093"/>
                  </a:lnTo>
                  <a:lnTo>
                    <a:pt x="5899" y="152249"/>
                  </a:lnTo>
                  <a:lnTo>
                    <a:pt x="8090" y="157379"/>
                  </a:lnTo>
                  <a:lnTo>
                    <a:pt x="11243" y="161646"/>
                  </a:lnTo>
                  <a:lnTo>
                    <a:pt x="15039" y="165337"/>
                  </a:lnTo>
                  <a:lnTo>
                    <a:pt x="19263" y="168645"/>
                  </a:lnTo>
                  <a:lnTo>
                    <a:pt x="23772" y="171697"/>
                  </a:lnTo>
                  <a:lnTo>
                    <a:pt x="28471" y="174578"/>
                  </a:lnTo>
                  <a:lnTo>
                    <a:pt x="33297" y="177345"/>
                  </a:lnTo>
                  <a:lnTo>
                    <a:pt x="39902" y="180037"/>
                  </a:lnTo>
                  <a:lnTo>
                    <a:pt x="47691" y="182678"/>
                  </a:lnTo>
                  <a:lnTo>
                    <a:pt x="56271" y="185285"/>
                  </a:lnTo>
                  <a:lnTo>
                    <a:pt x="64531" y="187024"/>
                  </a:lnTo>
                  <a:lnTo>
                    <a:pt x="72577" y="188182"/>
                  </a:lnTo>
                  <a:lnTo>
                    <a:pt x="80481" y="188955"/>
                  </a:lnTo>
                  <a:lnTo>
                    <a:pt x="88291" y="189470"/>
                  </a:lnTo>
                  <a:lnTo>
                    <a:pt x="96038" y="189813"/>
                  </a:lnTo>
                  <a:lnTo>
                    <a:pt x="103741" y="190042"/>
                  </a:lnTo>
                  <a:lnTo>
                    <a:pt x="111418" y="189348"/>
                  </a:lnTo>
                  <a:lnTo>
                    <a:pt x="119075" y="188039"/>
                  </a:lnTo>
                  <a:lnTo>
                    <a:pt x="126720" y="186319"/>
                  </a:lnTo>
                  <a:lnTo>
                    <a:pt x="133510" y="184326"/>
                  </a:lnTo>
                  <a:lnTo>
                    <a:pt x="139730" y="182151"/>
                  </a:lnTo>
                  <a:lnTo>
                    <a:pt x="145570" y="179854"/>
                  </a:lnTo>
                  <a:lnTo>
                    <a:pt x="151157" y="177476"/>
                  </a:lnTo>
                  <a:lnTo>
                    <a:pt x="161879" y="172576"/>
                  </a:lnTo>
                  <a:lnTo>
                    <a:pt x="165416" y="170084"/>
                  </a:lnTo>
                  <a:lnTo>
                    <a:pt x="167774" y="167576"/>
                  </a:lnTo>
                  <a:lnTo>
                    <a:pt x="171240" y="162531"/>
                  </a:lnTo>
                  <a:lnTo>
                    <a:pt x="175604" y="157468"/>
                  </a:lnTo>
                  <a:lnTo>
                    <a:pt x="176259" y="154932"/>
                  </a:lnTo>
                  <a:lnTo>
                    <a:pt x="175849" y="152394"/>
                  </a:lnTo>
                  <a:lnTo>
                    <a:pt x="173154" y="146284"/>
                  </a:lnTo>
                  <a:lnTo>
                    <a:pt x="168641" y="141180"/>
                  </a:lnTo>
                  <a:lnTo>
                    <a:pt x="165691" y="139840"/>
                  </a:lnTo>
                  <a:lnTo>
                    <a:pt x="162031" y="138947"/>
                  </a:lnTo>
                  <a:lnTo>
                    <a:pt x="157897" y="138351"/>
                  </a:lnTo>
                  <a:lnTo>
                    <a:pt x="153448" y="138801"/>
                  </a:lnTo>
                  <a:lnTo>
                    <a:pt x="148790" y="139947"/>
                  </a:lnTo>
                  <a:lnTo>
                    <a:pt x="143990" y="141558"/>
                  </a:lnTo>
                  <a:lnTo>
                    <a:pt x="139944" y="142632"/>
                  </a:lnTo>
                  <a:lnTo>
                    <a:pt x="136398" y="143348"/>
                  </a:lnTo>
                  <a:lnTo>
                    <a:pt x="133189" y="143826"/>
                  </a:lnTo>
                  <a:lnTo>
                    <a:pt x="130203" y="144990"/>
                  </a:lnTo>
                  <a:lnTo>
                    <a:pt x="124627" y="148542"/>
                  </a:lnTo>
                  <a:lnTo>
                    <a:pt x="121108" y="151522"/>
                  </a:lnTo>
                  <a:lnTo>
                    <a:pt x="117069" y="155201"/>
                  </a:lnTo>
                  <a:lnTo>
                    <a:pt x="112682" y="159347"/>
                  </a:lnTo>
                  <a:lnTo>
                    <a:pt x="107809" y="166212"/>
                  </a:lnTo>
                  <a:lnTo>
                    <a:pt x="105643" y="172086"/>
                  </a:lnTo>
                  <a:lnTo>
                    <a:pt x="104681" y="177518"/>
                  </a:lnTo>
                  <a:lnTo>
                    <a:pt x="105270" y="180999"/>
                  </a:lnTo>
                  <a:lnTo>
                    <a:pt x="106510" y="185013"/>
                  </a:lnTo>
                  <a:lnTo>
                    <a:pt x="108184" y="189382"/>
                  </a:lnTo>
                  <a:lnTo>
                    <a:pt x="110992" y="193141"/>
                  </a:lnTo>
                  <a:lnTo>
                    <a:pt x="114559" y="196494"/>
                  </a:lnTo>
                  <a:lnTo>
                    <a:pt x="118629" y="199576"/>
                  </a:lnTo>
                  <a:lnTo>
                    <a:pt x="123883" y="202478"/>
                  </a:lnTo>
                  <a:lnTo>
                    <a:pt x="129926" y="205258"/>
                  </a:lnTo>
                  <a:lnTo>
                    <a:pt x="136494" y="207959"/>
                  </a:lnTo>
                  <a:lnTo>
                    <a:pt x="143412" y="210606"/>
                  </a:lnTo>
                  <a:lnTo>
                    <a:pt x="157873" y="215805"/>
                  </a:lnTo>
                  <a:lnTo>
                    <a:pt x="164439" y="217530"/>
                  </a:lnTo>
                  <a:lnTo>
                    <a:pt x="170509" y="218680"/>
                  </a:lnTo>
                  <a:lnTo>
                    <a:pt x="176249" y="219447"/>
                  </a:lnTo>
                  <a:lnTo>
                    <a:pt x="180923" y="219958"/>
                  </a:lnTo>
                  <a:lnTo>
                    <a:pt x="184885" y="220299"/>
                  </a:lnTo>
                  <a:lnTo>
                    <a:pt x="195350" y="2209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MARTInkAnnotation347"/>
            <p:cNvSpPr/>
            <p:nvPr/>
          </p:nvSpPr>
          <p:spPr>
            <a:xfrm>
              <a:off x="6370920" y="1325520"/>
              <a:ext cx="22680" cy="15984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2861" h="160021">
                  <a:moveTo>
                    <a:pt x="22860" y="0"/>
                  </a:moveTo>
                  <a:lnTo>
                    <a:pt x="22860" y="10606"/>
                  </a:lnTo>
                  <a:lnTo>
                    <a:pt x="22013" y="12151"/>
                  </a:lnTo>
                  <a:lnTo>
                    <a:pt x="20602" y="13181"/>
                  </a:lnTo>
                  <a:lnTo>
                    <a:pt x="18815" y="13867"/>
                  </a:lnTo>
                  <a:lnTo>
                    <a:pt x="17623" y="16018"/>
                  </a:lnTo>
                  <a:lnTo>
                    <a:pt x="16829" y="19145"/>
                  </a:lnTo>
                  <a:lnTo>
                    <a:pt x="16299" y="22924"/>
                  </a:lnTo>
                  <a:lnTo>
                    <a:pt x="15946" y="27136"/>
                  </a:lnTo>
                  <a:lnTo>
                    <a:pt x="15711" y="31637"/>
                  </a:lnTo>
                  <a:lnTo>
                    <a:pt x="15553" y="36331"/>
                  </a:lnTo>
                  <a:lnTo>
                    <a:pt x="14603" y="41154"/>
                  </a:lnTo>
                  <a:lnTo>
                    <a:pt x="13122" y="46063"/>
                  </a:lnTo>
                  <a:lnTo>
                    <a:pt x="11288" y="51028"/>
                  </a:lnTo>
                  <a:lnTo>
                    <a:pt x="9219" y="56032"/>
                  </a:lnTo>
                  <a:lnTo>
                    <a:pt x="6993" y="61062"/>
                  </a:lnTo>
                  <a:lnTo>
                    <a:pt x="4662" y="66108"/>
                  </a:lnTo>
                  <a:lnTo>
                    <a:pt x="3108" y="71165"/>
                  </a:lnTo>
                  <a:lnTo>
                    <a:pt x="2072" y="76230"/>
                  </a:lnTo>
                  <a:lnTo>
                    <a:pt x="1382" y="81300"/>
                  </a:lnTo>
                  <a:lnTo>
                    <a:pt x="921" y="86373"/>
                  </a:lnTo>
                  <a:lnTo>
                    <a:pt x="615" y="91449"/>
                  </a:lnTo>
                  <a:lnTo>
                    <a:pt x="273" y="101604"/>
                  </a:lnTo>
                  <a:lnTo>
                    <a:pt x="54" y="121921"/>
                  </a:lnTo>
                  <a:lnTo>
                    <a:pt x="0" y="1600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MARTInkAnnotation348"/>
            <p:cNvSpPr/>
            <p:nvPr/>
          </p:nvSpPr>
          <p:spPr>
            <a:xfrm>
              <a:off x="6302520" y="143244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0" h="7621">
                  <a:moveTo>
                    <a:pt x="0" y="7620"/>
                  </a:moveTo>
                  <a:lnTo>
                    <a:pt x="6560" y="7620"/>
                  </a:lnTo>
                  <a:lnTo>
                    <a:pt x="7760" y="6773"/>
                  </a:lnTo>
                  <a:lnTo>
                    <a:pt x="9406" y="5362"/>
                  </a:lnTo>
                  <a:lnTo>
                    <a:pt x="11351" y="3575"/>
                  </a:lnTo>
                  <a:lnTo>
                    <a:pt x="15187" y="2383"/>
                  </a:lnTo>
                  <a:lnTo>
                    <a:pt x="20285" y="1589"/>
                  </a:lnTo>
                  <a:lnTo>
                    <a:pt x="26223" y="1059"/>
                  </a:lnTo>
                  <a:lnTo>
                    <a:pt x="31875" y="706"/>
                  </a:lnTo>
                  <a:lnTo>
                    <a:pt x="42671" y="314"/>
                  </a:lnTo>
                  <a:lnTo>
                    <a:pt x="58269" y="93"/>
                  </a:lnTo>
                  <a:lnTo>
                    <a:pt x="12953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MARTInkAnnotation349"/>
            <p:cNvSpPr/>
            <p:nvPr/>
          </p:nvSpPr>
          <p:spPr>
            <a:xfrm>
              <a:off x="6607440" y="1363680"/>
              <a:ext cx="129240" cy="15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9541" h="15241">
                  <a:moveTo>
                    <a:pt x="0" y="0"/>
                  </a:moveTo>
                  <a:lnTo>
                    <a:pt x="32287" y="0"/>
                  </a:lnTo>
                  <a:lnTo>
                    <a:pt x="35918" y="847"/>
                  </a:lnTo>
                  <a:lnTo>
                    <a:pt x="40032" y="2258"/>
                  </a:lnTo>
                  <a:lnTo>
                    <a:pt x="44467" y="4045"/>
                  </a:lnTo>
                  <a:lnTo>
                    <a:pt x="49965" y="5237"/>
                  </a:lnTo>
                  <a:lnTo>
                    <a:pt x="56170" y="6031"/>
                  </a:lnTo>
                  <a:lnTo>
                    <a:pt x="62847" y="6561"/>
                  </a:lnTo>
                  <a:lnTo>
                    <a:pt x="69838" y="7760"/>
                  </a:lnTo>
                  <a:lnTo>
                    <a:pt x="77039" y="9407"/>
                  </a:lnTo>
                  <a:lnTo>
                    <a:pt x="84380" y="11351"/>
                  </a:lnTo>
                  <a:lnTo>
                    <a:pt x="91813" y="12648"/>
                  </a:lnTo>
                  <a:lnTo>
                    <a:pt x="99308" y="13512"/>
                  </a:lnTo>
                  <a:lnTo>
                    <a:pt x="112717" y="14472"/>
                  </a:lnTo>
                  <a:lnTo>
                    <a:pt x="12954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MARTInkAnnotation350"/>
            <p:cNvSpPr/>
            <p:nvPr/>
          </p:nvSpPr>
          <p:spPr>
            <a:xfrm>
              <a:off x="6806520" y="1310400"/>
              <a:ext cx="135720" cy="1674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35747" h="167641">
                  <a:moveTo>
                    <a:pt x="21705" y="0"/>
                  </a:moveTo>
                  <a:lnTo>
                    <a:pt x="17660" y="4045"/>
                  </a:lnTo>
                  <a:lnTo>
                    <a:pt x="16468" y="6084"/>
                  </a:lnTo>
                  <a:lnTo>
                    <a:pt x="15144" y="10606"/>
                  </a:lnTo>
                  <a:lnTo>
                    <a:pt x="14556" y="15438"/>
                  </a:lnTo>
                  <a:lnTo>
                    <a:pt x="14398" y="17912"/>
                  </a:lnTo>
                  <a:lnTo>
                    <a:pt x="13447" y="21255"/>
                  </a:lnTo>
                  <a:lnTo>
                    <a:pt x="11967" y="25177"/>
                  </a:lnTo>
                  <a:lnTo>
                    <a:pt x="10133" y="29484"/>
                  </a:lnTo>
                  <a:lnTo>
                    <a:pt x="8910" y="34050"/>
                  </a:lnTo>
                  <a:lnTo>
                    <a:pt x="8095" y="38786"/>
                  </a:lnTo>
                  <a:lnTo>
                    <a:pt x="7552" y="43638"/>
                  </a:lnTo>
                  <a:lnTo>
                    <a:pt x="6343" y="48565"/>
                  </a:lnTo>
                  <a:lnTo>
                    <a:pt x="4690" y="53543"/>
                  </a:lnTo>
                  <a:lnTo>
                    <a:pt x="2742" y="58556"/>
                  </a:lnTo>
                  <a:lnTo>
                    <a:pt x="1443" y="64437"/>
                  </a:lnTo>
                  <a:lnTo>
                    <a:pt x="577" y="70898"/>
                  </a:lnTo>
                  <a:lnTo>
                    <a:pt x="0" y="77746"/>
                  </a:lnTo>
                  <a:lnTo>
                    <a:pt x="462" y="84004"/>
                  </a:lnTo>
                  <a:lnTo>
                    <a:pt x="1615" y="89869"/>
                  </a:lnTo>
                  <a:lnTo>
                    <a:pt x="3232" y="95473"/>
                  </a:lnTo>
                  <a:lnTo>
                    <a:pt x="4310" y="100902"/>
                  </a:lnTo>
                  <a:lnTo>
                    <a:pt x="5028" y="106215"/>
                  </a:lnTo>
                  <a:lnTo>
                    <a:pt x="5507" y="111450"/>
                  </a:lnTo>
                  <a:lnTo>
                    <a:pt x="7520" y="115787"/>
                  </a:lnTo>
                  <a:lnTo>
                    <a:pt x="10554" y="119524"/>
                  </a:lnTo>
                  <a:lnTo>
                    <a:pt x="14271" y="122863"/>
                  </a:lnTo>
                  <a:lnTo>
                    <a:pt x="22916" y="131088"/>
                  </a:lnTo>
                  <a:lnTo>
                    <a:pt x="27593" y="135652"/>
                  </a:lnTo>
                  <a:lnTo>
                    <a:pt x="32403" y="139541"/>
                  </a:lnTo>
                  <a:lnTo>
                    <a:pt x="37304" y="142981"/>
                  </a:lnTo>
                  <a:lnTo>
                    <a:pt x="42264" y="146121"/>
                  </a:lnTo>
                  <a:lnTo>
                    <a:pt x="48111" y="148214"/>
                  </a:lnTo>
                  <a:lnTo>
                    <a:pt x="54549" y="149609"/>
                  </a:lnTo>
                  <a:lnTo>
                    <a:pt x="61381" y="150540"/>
                  </a:lnTo>
                  <a:lnTo>
                    <a:pt x="68476" y="151160"/>
                  </a:lnTo>
                  <a:lnTo>
                    <a:pt x="75746" y="151573"/>
                  </a:lnTo>
                  <a:lnTo>
                    <a:pt x="93597" y="152155"/>
                  </a:lnTo>
                  <a:lnTo>
                    <a:pt x="97573" y="152237"/>
                  </a:lnTo>
                  <a:lnTo>
                    <a:pt x="101917" y="151445"/>
                  </a:lnTo>
                  <a:lnTo>
                    <a:pt x="106506" y="150070"/>
                  </a:lnTo>
                  <a:lnTo>
                    <a:pt x="111260" y="148307"/>
                  </a:lnTo>
                  <a:lnTo>
                    <a:pt x="116121" y="146284"/>
                  </a:lnTo>
                  <a:lnTo>
                    <a:pt x="121056" y="144090"/>
                  </a:lnTo>
                  <a:lnTo>
                    <a:pt x="126039" y="141780"/>
                  </a:lnTo>
                  <a:lnTo>
                    <a:pt x="129361" y="139393"/>
                  </a:lnTo>
                  <a:lnTo>
                    <a:pt x="131576" y="136955"/>
                  </a:lnTo>
                  <a:lnTo>
                    <a:pt x="133052" y="134484"/>
                  </a:lnTo>
                  <a:lnTo>
                    <a:pt x="134037" y="131142"/>
                  </a:lnTo>
                  <a:lnTo>
                    <a:pt x="134692" y="127222"/>
                  </a:lnTo>
                  <a:lnTo>
                    <a:pt x="135131" y="122914"/>
                  </a:lnTo>
                  <a:lnTo>
                    <a:pt x="135422" y="119196"/>
                  </a:lnTo>
                  <a:lnTo>
                    <a:pt x="135616" y="115871"/>
                  </a:lnTo>
                  <a:lnTo>
                    <a:pt x="135746" y="112807"/>
                  </a:lnTo>
                  <a:lnTo>
                    <a:pt x="134985" y="109918"/>
                  </a:lnTo>
                  <a:lnTo>
                    <a:pt x="133632" y="107146"/>
                  </a:lnTo>
                  <a:lnTo>
                    <a:pt x="131883" y="104450"/>
                  </a:lnTo>
                  <a:lnTo>
                    <a:pt x="129871" y="101807"/>
                  </a:lnTo>
                  <a:lnTo>
                    <a:pt x="127682" y="99198"/>
                  </a:lnTo>
                  <a:lnTo>
                    <a:pt x="125377" y="96612"/>
                  </a:lnTo>
                  <a:lnTo>
                    <a:pt x="122147" y="94041"/>
                  </a:lnTo>
                  <a:lnTo>
                    <a:pt x="118298" y="91481"/>
                  </a:lnTo>
                  <a:lnTo>
                    <a:pt x="114041" y="88927"/>
                  </a:lnTo>
                  <a:lnTo>
                    <a:pt x="110356" y="87225"/>
                  </a:lnTo>
                  <a:lnTo>
                    <a:pt x="107052" y="86090"/>
                  </a:lnTo>
                  <a:lnTo>
                    <a:pt x="104004" y="85333"/>
                  </a:lnTo>
                  <a:lnTo>
                    <a:pt x="100277" y="85676"/>
                  </a:lnTo>
                  <a:lnTo>
                    <a:pt x="96101" y="86750"/>
                  </a:lnTo>
                  <a:lnTo>
                    <a:pt x="91622" y="88314"/>
                  </a:lnTo>
                  <a:lnTo>
                    <a:pt x="87790" y="89356"/>
                  </a:lnTo>
                  <a:lnTo>
                    <a:pt x="84388" y="90051"/>
                  </a:lnTo>
                  <a:lnTo>
                    <a:pt x="81274" y="90514"/>
                  </a:lnTo>
                  <a:lnTo>
                    <a:pt x="79197" y="91669"/>
                  </a:lnTo>
                  <a:lnTo>
                    <a:pt x="77813" y="93286"/>
                  </a:lnTo>
                  <a:lnTo>
                    <a:pt x="76890" y="95211"/>
                  </a:lnTo>
                  <a:lnTo>
                    <a:pt x="76276" y="98187"/>
                  </a:lnTo>
                  <a:lnTo>
                    <a:pt x="75866" y="101865"/>
                  </a:lnTo>
                  <a:lnTo>
                    <a:pt x="75592" y="106010"/>
                  </a:lnTo>
                  <a:lnTo>
                    <a:pt x="75288" y="112873"/>
                  </a:lnTo>
                  <a:lnTo>
                    <a:pt x="75207" y="115889"/>
                  </a:lnTo>
                  <a:lnTo>
                    <a:pt x="76000" y="119593"/>
                  </a:lnTo>
                  <a:lnTo>
                    <a:pt x="77375" y="123755"/>
                  </a:lnTo>
                  <a:lnTo>
                    <a:pt x="79138" y="128223"/>
                  </a:lnTo>
                  <a:lnTo>
                    <a:pt x="82007" y="132049"/>
                  </a:lnTo>
                  <a:lnTo>
                    <a:pt x="85614" y="135446"/>
                  </a:lnTo>
                  <a:lnTo>
                    <a:pt x="89711" y="138557"/>
                  </a:lnTo>
                  <a:lnTo>
                    <a:pt x="93289" y="141478"/>
                  </a:lnTo>
                  <a:lnTo>
                    <a:pt x="96521" y="144272"/>
                  </a:lnTo>
                  <a:lnTo>
                    <a:pt x="99522" y="146982"/>
                  </a:lnTo>
                  <a:lnTo>
                    <a:pt x="103217" y="149634"/>
                  </a:lnTo>
                  <a:lnTo>
                    <a:pt x="107373" y="152250"/>
                  </a:lnTo>
                  <a:lnTo>
                    <a:pt x="111837" y="154840"/>
                  </a:lnTo>
                  <a:lnTo>
                    <a:pt x="115659" y="157413"/>
                  </a:lnTo>
                  <a:lnTo>
                    <a:pt x="119055" y="159976"/>
                  </a:lnTo>
                  <a:lnTo>
                    <a:pt x="128385" y="1676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MARTInkAnnotation351"/>
            <p:cNvSpPr/>
            <p:nvPr/>
          </p:nvSpPr>
          <p:spPr>
            <a:xfrm>
              <a:off x="2598480" y="2742840"/>
              <a:ext cx="60840" cy="75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0961" h="7621">
                  <a:moveTo>
                    <a:pt x="0" y="0"/>
                  </a:moveTo>
                  <a:lnTo>
                    <a:pt x="17912" y="0"/>
                  </a:lnTo>
                  <a:lnTo>
                    <a:pt x="21255" y="847"/>
                  </a:lnTo>
                  <a:lnTo>
                    <a:pt x="25176" y="2258"/>
                  </a:lnTo>
                  <a:lnTo>
                    <a:pt x="29485" y="4045"/>
                  </a:lnTo>
                  <a:lnTo>
                    <a:pt x="-32333" y="5237"/>
                  </a:lnTo>
                  <a:lnTo>
                    <a:pt x="-29007" y="6031"/>
                  </a:lnTo>
                  <a:lnTo>
                    <a:pt x="-25944" y="6561"/>
                  </a:lnTo>
                  <a:lnTo>
                    <a:pt x="-22208" y="6914"/>
                  </a:lnTo>
                  <a:lnTo>
                    <a:pt x="-18024" y="7149"/>
                  </a:lnTo>
                  <a:lnTo>
                    <a:pt x="-4576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MARTInkAnnotation352"/>
            <p:cNvSpPr/>
            <p:nvPr/>
          </p:nvSpPr>
          <p:spPr>
            <a:xfrm>
              <a:off x="2499480" y="279648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1" h="7621">
                  <a:moveTo>
                    <a:pt x="0" y="0"/>
                  </a:moveTo>
                  <a:lnTo>
                    <a:pt x="17167" y="0"/>
                  </a:lnTo>
                  <a:lnTo>
                    <a:pt x="20758" y="847"/>
                  </a:lnTo>
                  <a:lnTo>
                    <a:pt x="24845" y="2258"/>
                  </a:lnTo>
                  <a:lnTo>
                    <a:pt x="29264" y="4045"/>
                  </a:lnTo>
                  <a:lnTo>
                    <a:pt x="35596" y="5237"/>
                  </a:lnTo>
                  <a:lnTo>
                    <a:pt x="43204" y="6032"/>
                  </a:lnTo>
                  <a:lnTo>
                    <a:pt x="51662" y="6561"/>
                  </a:lnTo>
                  <a:lnTo>
                    <a:pt x="67835" y="7149"/>
                  </a:lnTo>
                  <a:lnTo>
                    <a:pt x="98913" y="7527"/>
                  </a:lnTo>
                  <a:lnTo>
                    <a:pt x="13716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MARTInkAnnotation353"/>
            <p:cNvSpPr/>
            <p:nvPr/>
          </p:nvSpPr>
          <p:spPr>
            <a:xfrm>
              <a:off x="2872800" y="2651400"/>
              <a:ext cx="264960" cy="2116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264973" h="211822">
                  <a:moveTo>
                    <a:pt x="99012" y="0"/>
                  </a:moveTo>
                  <a:lnTo>
                    <a:pt x="94967" y="0"/>
                  </a:lnTo>
                  <a:lnTo>
                    <a:pt x="93775" y="847"/>
                  </a:lnTo>
                  <a:lnTo>
                    <a:pt x="92981" y="2258"/>
                  </a:lnTo>
                  <a:lnTo>
                    <a:pt x="92451" y="4045"/>
                  </a:lnTo>
                  <a:lnTo>
                    <a:pt x="89605" y="8289"/>
                  </a:lnTo>
                  <a:lnTo>
                    <a:pt x="87661" y="10606"/>
                  </a:lnTo>
                  <a:lnTo>
                    <a:pt x="85518" y="12151"/>
                  </a:lnTo>
                  <a:lnTo>
                    <a:pt x="80879" y="13867"/>
                  </a:lnTo>
                  <a:lnTo>
                    <a:pt x="78457" y="16018"/>
                  </a:lnTo>
                  <a:lnTo>
                    <a:pt x="75995" y="19146"/>
                  </a:lnTo>
                  <a:lnTo>
                    <a:pt x="73507" y="22924"/>
                  </a:lnTo>
                  <a:lnTo>
                    <a:pt x="68485" y="29379"/>
                  </a:lnTo>
                  <a:lnTo>
                    <a:pt x="65961" y="32286"/>
                  </a:lnTo>
                  <a:lnTo>
                    <a:pt x="58640" y="37774"/>
                  </a:lnTo>
                  <a:lnTo>
                    <a:pt x="54317" y="40423"/>
                  </a:lnTo>
                  <a:lnTo>
                    <a:pt x="49742" y="43035"/>
                  </a:lnTo>
                  <a:lnTo>
                    <a:pt x="40143" y="48196"/>
                  </a:lnTo>
                  <a:lnTo>
                    <a:pt x="32491" y="53311"/>
                  </a:lnTo>
                  <a:lnTo>
                    <a:pt x="25420" y="58407"/>
                  </a:lnTo>
                  <a:lnTo>
                    <a:pt x="21164" y="60952"/>
                  </a:lnTo>
                  <a:lnTo>
                    <a:pt x="16634" y="63494"/>
                  </a:lnTo>
                  <a:lnTo>
                    <a:pt x="9342" y="68577"/>
                  </a:lnTo>
                  <a:lnTo>
                    <a:pt x="0" y="76161"/>
                  </a:lnTo>
                  <a:lnTo>
                    <a:pt x="6891" y="76192"/>
                  </a:lnTo>
                  <a:lnTo>
                    <a:pt x="14607" y="76197"/>
                  </a:lnTo>
                  <a:lnTo>
                    <a:pt x="19882" y="75351"/>
                  </a:lnTo>
                  <a:lnTo>
                    <a:pt x="25939" y="73941"/>
                  </a:lnTo>
                  <a:lnTo>
                    <a:pt x="32517" y="72154"/>
                  </a:lnTo>
                  <a:lnTo>
                    <a:pt x="46598" y="67911"/>
                  </a:lnTo>
                  <a:lnTo>
                    <a:pt x="53910" y="65594"/>
                  </a:lnTo>
                  <a:lnTo>
                    <a:pt x="62170" y="64049"/>
                  </a:lnTo>
                  <a:lnTo>
                    <a:pt x="71064" y="63020"/>
                  </a:lnTo>
                  <a:lnTo>
                    <a:pt x="80380" y="62333"/>
                  </a:lnTo>
                  <a:lnTo>
                    <a:pt x="89977" y="61876"/>
                  </a:lnTo>
                  <a:lnTo>
                    <a:pt x="109672" y="61367"/>
                  </a:lnTo>
                  <a:lnTo>
                    <a:pt x="139800" y="61081"/>
                  </a:lnTo>
                  <a:lnTo>
                    <a:pt x="149911" y="61887"/>
                  </a:lnTo>
                  <a:lnTo>
                    <a:pt x="160038" y="63272"/>
                  </a:lnTo>
                  <a:lnTo>
                    <a:pt x="170176" y="65041"/>
                  </a:lnTo>
                  <a:lnTo>
                    <a:pt x="179475" y="67067"/>
                  </a:lnTo>
                  <a:lnTo>
                    <a:pt x="188214" y="69265"/>
                  </a:lnTo>
                  <a:lnTo>
                    <a:pt x="196580" y="71577"/>
                  </a:lnTo>
                  <a:lnTo>
                    <a:pt x="212649" y="76403"/>
                  </a:lnTo>
                  <a:lnTo>
                    <a:pt x="220490" y="78876"/>
                  </a:lnTo>
                  <a:lnTo>
                    <a:pt x="227411" y="82217"/>
                  </a:lnTo>
                  <a:lnTo>
                    <a:pt x="233718" y="86138"/>
                  </a:lnTo>
                  <a:lnTo>
                    <a:pt x="239615" y="90445"/>
                  </a:lnTo>
                  <a:lnTo>
                    <a:pt x="244394" y="95010"/>
                  </a:lnTo>
                  <a:lnTo>
                    <a:pt x="248427" y="99747"/>
                  </a:lnTo>
                  <a:lnTo>
                    <a:pt x="251962" y="104598"/>
                  </a:lnTo>
                  <a:lnTo>
                    <a:pt x="255165" y="109525"/>
                  </a:lnTo>
                  <a:lnTo>
                    <a:pt x="258148" y="114504"/>
                  </a:lnTo>
                  <a:lnTo>
                    <a:pt x="260983" y="119516"/>
                  </a:lnTo>
                  <a:lnTo>
                    <a:pt x="262872" y="124551"/>
                  </a:lnTo>
                  <a:lnTo>
                    <a:pt x="264132" y="129600"/>
                  </a:lnTo>
                  <a:lnTo>
                    <a:pt x="264972" y="134660"/>
                  </a:lnTo>
                  <a:lnTo>
                    <a:pt x="264686" y="140574"/>
                  </a:lnTo>
                  <a:lnTo>
                    <a:pt x="263647" y="147056"/>
                  </a:lnTo>
                  <a:lnTo>
                    <a:pt x="262109" y="153917"/>
                  </a:lnTo>
                  <a:lnTo>
                    <a:pt x="260236" y="159338"/>
                  </a:lnTo>
                  <a:lnTo>
                    <a:pt x="258142" y="163799"/>
                  </a:lnTo>
                  <a:lnTo>
                    <a:pt x="255899" y="167619"/>
                  </a:lnTo>
                  <a:lnTo>
                    <a:pt x="252710" y="171860"/>
                  </a:lnTo>
                  <a:lnTo>
                    <a:pt x="248891" y="176380"/>
                  </a:lnTo>
                  <a:lnTo>
                    <a:pt x="244651" y="181086"/>
                  </a:lnTo>
                  <a:lnTo>
                    <a:pt x="240131" y="185071"/>
                  </a:lnTo>
                  <a:lnTo>
                    <a:pt x="235425" y="188574"/>
                  </a:lnTo>
                  <a:lnTo>
                    <a:pt x="230594" y="191756"/>
                  </a:lnTo>
                  <a:lnTo>
                    <a:pt x="224833" y="194724"/>
                  </a:lnTo>
                  <a:lnTo>
                    <a:pt x="218453" y="197549"/>
                  </a:lnTo>
                  <a:lnTo>
                    <a:pt x="211659" y="200280"/>
                  </a:lnTo>
                  <a:lnTo>
                    <a:pt x="197337" y="205571"/>
                  </a:lnTo>
                  <a:lnTo>
                    <a:pt x="189962" y="208167"/>
                  </a:lnTo>
                  <a:lnTo>
                    <a:pt x="181659" y="209898"/>
                  </a:lnTo>
                  <a:lnTo>
                    <a:pt x="172737" y="211052"/>
                  </a:lnTo>
                  <a:lnTo>
                    <a:pt x="163401" y="211821"/>
                  </a:lnTo>
                  <a:lnTo>
                    <a:pt x="154638" y="211488"/>
                  </a:lnTo>
                  <a:lnTo>
                    <a:pt x="146256" y="210418"/>
                  </a:lnTo>
                  <a:lnTo>
                    <a:pt x="138128" y="208859"/>
                  </a:lnTo>
                  <a:lnTo>
                    <a:pt x="130170" y="207819"/>
                  </a:lnTo>
                  <a:lnTo>
                    <a:pt x="122324" y="207126"/>
                  </a:lnTo>
                  <a:lnTo>
                    <a:pt x="114553" y="206664"/>
                  </a:lnTo>
                  <a:lnTo>
                    <a:pt x="105986" y="204663"/>
                  </a:lnTo>
                  <a:lnTo>
                    <a:pt x="96888" y="201635"/>
                  </a:lnTo>
                  <a:lnTo>
                    <a:pt x="87436" y="197924"/>
                  </a:lnTo>
                  <a:lnTo>
                    <a:pt x="79441" y="193755"/>
                  </a:lnTo>
                  <a:lnTo>
                    <a:pt x="72418" y="189284"/>
                  </a:lnTo>
                  <a:lnTo>
                    <a:pt x="66043" y="184609"/>
                  </a:lnTo>
                  <a:lnTo>
                    <a:pt x="60099" y="180646"/>
                  </a:lnTo>
                  <a:lnTo>
                    <a:pt x="54443" y="177157"/>
                  </a:lnTo>
                  <a:lnTo>
                    <a:pt x="48980" y="173985"/>
                  </a:lnTo>
                  <a:lnTo>
                    <a:pt x="44491" y="171023"/>
                  </a:lnTo>
                  <a:lnTo>
                    <a:pt x="40651" y="168202"/>
                  </a:lnTo>
                  <a:lnTo>
                    <a:pt x="30432" y="1600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MARTInkAnnotation354"/>
            <p:cNvSpPr/>
            <p:nvPr/>
          </p:nvSpPr>
          <p:spPr>
            <a:xfrm>
              <a:off x="2949120" y="260568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30">
                  <a:moveTo>
                    <a:pt x="0" y="15229"/>
                  </a:moveTo>
                  <a:lnTo>
                    <a:pt x="4045" y="15229"/>
                  </a:lnTo>
                  <a:lnTo>
                    <a:pt x="6084" y="14382"/>
                  </a:lnTo>
                  <a:lnTo>
                    <a:pt x="8289" y="12971"/>
                  </a:lnTo>
                  <a:lnTo>
                    <a:pt x="10606" y="11184"/>
                  </a:lnTo>
                  <a:lnTo>
                    <a:pt x="13844" y="9146"/>
                  </a:lnTo>
                  <a:lnTo>
                    <a:pt x="17697" y="6940"/>
                  </a:lnTo>
                  <a:lnTo>
                    <a:pt x="21958" y="4623"/>
                  </a:lnTo>
                  <a:lnTo>
                    <a:pt x="27339" y="3079"/>
                  </a:lnTo>
                  <a:lnTo>
                    <a:pt x="33466" y="2049"/>
                  </a:lnTo>
                  <a:lnTo>
                    <a:pt x="40091" y="1362"/>
                  </a:lnTo>
                  <a:lnTo>
                    <a:pt x="47047" y="904"/>
                  </a:lnTo>
                  <a:lnTo>
                    <a:pt x="54225" y="599"/>
                  </a:lnTo>
                  <a:lnTo>
                    <a:pt x="69820" y="260"/>
                  </a:lnTo>
                  <a:lnTo>
                    <a:pt x="140907" y="0"/>
                  </a:lnTo>
                  <a:lnTo>
                    <a:pt x="149818" y="843"/>
                  </a:lnTo>
                  <a:lnTo>
                    <a:pt x="158299" y="2251"/>
                  </a:lnTo>
                  <a:lnTo>
                    <a:pt x="166493" y="4037"/>
                  </a:lnTo>
                  <a:lnTo>
                    <a:pt x="173649" y="5228"/>
                  </a:lnTo>
                  <a:lnTo>
                    <a:pt x="180112" y="6022"/>
                  </a:lnTo>
                  <a:lnTo>
                    <a:pt x="198120" y="760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355"/>
            <p:cNvSpPr/>
            <p:nvPr/>
          </p:nvSpPr>
          <p:spPr>
            <a:xfrm>
              <a:off x="3277440" y="2605680"/>
              <a:ext cx="204480" cy="1940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204499" h="194290">
                  <a:moveTo>
                    <a:pt x="83224" y="0"/>
                  </a:moveTo>
                  <a:lnTo>
                    <a:pt x="76663" y="6561"/>
                  </a:lnTo>
                  <a:lnTo>
                    <a:pt x="73817" y="11665"/>
                  </a:lnTo>
                  <a:lnTo>
                    <a:pt x="71873" y="15397"/>
                  </a:lnTo>
                  <a:lnTo>
                    <a:pt x="68883" y="18731"/>
                  </a:lnTo>
                  <a:lnTo>
                    <a:pt x="65197" y="21801"/>
                  </a:lnTo>
                  <a:lnTo>
                    <a:pt x="61046" y="24694"/>
                  </a:lnTo>
                  <a:lnTo>
                    <a:pt x="57432" y="28316"/>
                  </a:lnTo>
                  <a:lnTo>
                    <a:pt x="54176" y="32424"/>
                  </a:lnTo>
                  <a:lnTo>
                    <a:pt x="51159" y="36856"/>
                  </a:lnTo>
                  <a:lnTo>
                    <a:pt x="46607" y="41504"/>
                  </a:lnTo>
                  <a:lnTo>
                    <a:pt x="41033" y="46296"/>
                  </a:lnTo>
                  <a:lnTo>
                    <a:pt x="34777" y="51184"/>
                  </a:lnTo>
                  <a:lnTo>
                    <a:pt x="28913" y="56983"/>
                  </a:lnTo>
                  <a:lnTo>
                    <a:pt x="23310" y="63389"/>
                  </a:lnTo>
                  <a:lnTo>
                    <a:pt x="17881" y="70199"/>
                  </a:lnTo>
                  <a:lnTo>
                    <a:pt x="13416" y="77279"/>
                  </a:lnTo>
                  <a:lnTo>
                    <a:pt x="9592" y="84540"/>
                  </a:lnTo>
                  <a:lnTo>
                    <a:pt x="6196" y="91920"/>
                  </a:lnTo>
                  <a:lnTo>
                    <a:pt x="3932" y="98533"/>
                  </a:lnTo>
                  <a:lnTo>
                    <a:pt x="2423" y="104635"/>
                  </a:lnTo>
                  <a:lnTo>
                    <a:pt x="1417" y="110397"/>
                  </a:lnTo>
                  <a:lnTo>
                    <a:pt x="746" y="116778"/>
                  </a:lnTo>
                  <a:lnTo>
                    <a:pt x="299" y="123572"/>
                  </a:lnTo>
                  <a:lnTo>
                    <a:pt x="0" y="130641"/>
                  </a:lnTo>
                  <a:lnTo>
                    <a:pt x="648" y="137047"/>
                  </a:lnTo>
                  <a:lnTo>
                    <a:pt x="1927" y="143012"/>
                  </a:lnTo>
                  <a:lnTo>
                    <a:pt x="3626" y="148681"/>
                  </a:lnTo>
                  <a:lnTo>
                    <a:pt x="7299" y="154154"/>
                  </a:lnTo>
                  <a:lnTo>
                    <a:pt x="12287" y="159496"/>
                  </a:lnTo>
                  <a:lnTo>
                    <a:pt x="18153" y="164751"/>
                  </a:lnTo>
                  <a:lnTo>
                    <a:pt x="24604" y="169947"/>
                  </a:lnTo>
                  <a:lnTo>
                    <a:pt x="31444" y="175105"/>
                  </a:lnTo>
                  <a:lnTo>
                    <a:pt x="38543" y="180236"/>
                  </a:lnTo>
                  <a:lnTo>
                    <a:pt x="45817" y="183658"/>
                  </a:lnTo>
                  <a:lnTo>
                    <a:pt x="53207" y="185938"/>
                  </a:lnTo>
                  <a:lnTo>
                    <a:pt x="60672" y="187459"/>
                  </a:lnTo>
                  <a:lnTo>
                    <a:pt x="77999" y="191406"/>
                  </a:lnTo>
                  <a:lnTo>
                    <a:pt x="87361" y="193644"/>
                  </a:lnTo>
                  <a:lnTo>
                    <a:pt x="96142" y="194289"/>
                  </a:lnTo>
                  <a:lnTo>
                    <a:pt x="104536" y="193873"/>
                  </a:lnTo>
                  <a:lnTo>
                    <a:pt x="112672" y="192749"/>
                  </a:lnTo>
                  <a:lnTo>
                    <a:pt x="120636" y="191999"/>
                  </a:lnTo>
                  <a:lnTo>
                    <a:pt x="128485" y="191499"/>
                  </a:lnTo>
                  <a:lnTo>
                    <a:pt x="136258" y="191166"/>
                  </a:lnTo>
                  <a:lnTo>
                    <a:pt x="144827" y="189251"/>
                  </a:lnTo>
                  <a:lnTo>
                    <a:pt x="153926" y="186280"/>
                  </a:lnTo>
                  <a:lnTo>
                    <a:pt x="163379" y="182607"/>
                  </a:lnTo>
                  <a:lnTo>
                    <a:pt x="171374" y="178465"/>
                  </a:lnTo>
                  <a:lnTo>
                    <a:pt x="178397" y="174010"/>
                  </a:lnTo>
                  <a:lnTo>
                    <a:pt x="184773" y="169347"/>
                  </a:lnTo>
                  <a:lnTo>
                    <a:pt x="189870" y="164544"/>
                  </a:lnTo>
                  <a:lnTo>
                    <a:pt x="194115" y="159650"/>
                  </a:lnTo>
                  <a:lnTo>
                    <a:pt x="197791" y="154693"/>
                  </a:lnTo>
                  <a:lnTo>
                    <a:pt x="200242" y="148849"/>
                  </a:lnTo>
                  <a:lnTo>
                    <a:pt x="201876" y="142412"/>
                  </a:lnTo>
                  <a:lnTo>
                    <a:pt x="202966" y="135581"/>
                  </a:lnTo>
                  <a:lnTo>
                    <a:pt x="203692" y="128488"/>
                  </a:lnTo>
                  <a:lnTo>
                    <a:pt x="204176" y="121218"/>
                  </a:lnTo>
                  <a:lnTo>
                    <a:pt x="204498" y="113832"/>
                  </a:lnTo>
                  <a:lnTo>
                    <a:pt x="203867" y="106368"/>
                  </a:lnTo>
                  <a:lnTo>
                    <a:pt x="202600" y="98852"/>
                  </a:lnTo>
                  <a:lnTo>
                    <a:pt x="200908" y="91301"/>
                  </a:lnTo>
                  <a:lnTo>
                    <a:pt x="198086" y="84574"/>
                  </a:lnTo>
                  <a:lnTo>
                    <a:pt x="194512" y="78396"/>
                  </a:lnTo>
                  <a:lnTo>
                    <a:pt x="190436" y="72584"/>
                  </a:lnTo>
                  <a:lnTo>
                    <a:pt x="184332" y="67016"/>
                  </a:lnTo>
                  <a:lnTo>
                    <a:pt x="176876" y="61611"/>
                  </a:lnTo>
                  <a:lnTo>
                    <a:pt x="152459" y="45913"/>
                  </a:lnTo>
                  <a:lnTo>
                    <a:pt x="144621" y="40769"/>
                  </a:lnTo>
                  <a:lnTo>
                    <a:pt x="136855" y="36493"/>
                  </a:lnTo>
                  <a:lnTo>
                    <a:pt x="129138" y="32795"/>
                  </a:lnTo>
                  <a:lnTo>
                    <a:pt x="121454" y="29483"/>
                  </a:lnTo>
                  <a:lnTo>
                    <a:pt x="108400" y="23546"/>
                  </a:lnTo>
                  <a:lnTo>
                    <a:pt x="102548" y="20777"/>
                  </a:lnTo>
                  <a:lnTo>
                    <a:pt x="96953" y="18931"/>
                  </a:lnTo>
                  <a:lnTo>
                    <a:pt x="91531" y="17701"/>
                  </a:lnTo>
                  <a:lnTo>
                    <a:pt x="86222" y="16881"/>
                  </a:lnTo>
                  <a:lnTo>
                    <a:pt x="81836" y="15487"/>
                  </a:lnTo>
                  <a:lnTo>
                    <a:pt x="78065" y="13712"/>
                  </a:lnTo>
                  <a:lnTo>
                    <a:pt x="67984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356"/>
            <p:cNvSpPr/>
            <p:nvPr/>
          </p:nvSpPr>
          <p:spPr>
            <a:xfrm>
              <a:off x="2392560" y="3825000"/>
              <a:ext cx="152280" cy="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52401" h="1">
                  <a:moveTo>
                    <a:pt x="0" y="0"/>
                  </a:move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357"/>
            <p:cNvSpPr/>
            <p:nvPr/>
          </p:nvSpPr>
          <p:spPr>
            <a:xfrm>
              <a:off x="2385000" y="391644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7620"/>
                  </a:moveTo>
                  <a:lnTo>
                    <a:pt x="72901" y="7620"/>
                  </a:lnTo>
                  <a:lnTo>
                    <a:pt x="81621" y="6774"/>
                  </a:lnTo>
                  <a:lnTo>
                    <a:pt x="89974" y="5363"/>
                  </a:lnTo>
                  <a:lnTo>
                    <a:pt x="98083" y="3575"/>
                  </a:lnTo>
                  <a:lnTo>
                    <a:pt x="105182" y="2383"/>
                  </a:lnTo>
                  <a:lnTo>
                    <a:pt x="111608" y="1589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358"/>
            <p:cNvSpPr/>
            <p:nvPr/>
          </p:nvSpPr>
          <p:spPr>
            <a:xfrm>
              <a:off x="2712960" y="3787200"/>
              <a:ext cx="242280" cy="2041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242548" h="204112">
                  <a:moveTo>
                    <a:pt x="52980" y="0"/>
                  </a:moveTo>
                  <a:lnTo>
                    <a:pt x="52980" y="18199"/>
                  </a:lnTo>
                  <a:lnTo>
                    <a:pt x="51287" y="20599"/>
                  </a:lnTo>
                  <a:lnTo>
                    <a:pt x="44890" y="25524"/>
                  </a:lnTo>
                  <a:lnTo>
                    <a:pt x="42506" y="28869"/>
                  </a:lnTo>
                  <a:lnTo>
                    <a:pt x="40917" y="32793"/>
                  </a:lnTo>
                  <a:lnTo>
                    <a:pt x="39858" y="37102"/>
                  </a:lnTo>
                  <a:lnTo>
                    <a:pt x="38305" y="40821"/>
                  </a:lnTo>
                  <a:lnTo>
                    <a:pt x="36424" y="44147"/>
                  </a:lnTo>
                  <a:lnTo>
                    <a:pt x="34322" y="47212"/>
                  </a:lnTo>
                  <a:lnTo>
                    <a:pt x="27472" y="52874"/>
                  </a:lnTo>
                  <a:lnTo>
                    <a:pt x="23275" y="55569"/>
                  </a:lnTo>
                  <a:lnTo>
                    <a:pt x="16353" y="60822"/>
                  </a:lnTo>
                  <a:lnTo>
                    <a:pt x="13322" y="63408"/>
                  </a:lnTo>
                  <a:lnTo>
                    <a:pt x="11302" y="65978"/>
                  </a:lnTo>
                  <a:lnTo>
                    <a:pt x="9056" y="71093"/>
                  </a:lnTo>
                  <a:lnTo>
                    <a:pt x="7611" y="72795"/>
                  </a:lnTo>
                  <a:lnTo>
                    <a:pt x="5800" y="73930"/>
                  </a:lnTo>
                  <a:lnTo>
                    <a:pt x="3747" y="74687"/>
                  </a:lnTo>
                  <a:lnTo>
                    <a:pt x="2378" y="76038"/>
                  </a:lnTo>
                  <a:lnTo>
                    <a:pt x="1465" y="77785"/>
                  </a:lnTo>
                  <a:lnTo>
                    <a:pt x="0" y="82628"/>
                  </a:lnTo>
                  <a:lnTo>
                    <a:pt x="727" y="83026"/>
                  </a:lnTo>
                  <a:lnTo>
                    <a:pt x="3792" y="83467"/>
                  </a:lnTo>
                  <a:lnTo>
                    <a:pt x="4948" y="82738"/>
                  </a:lnTo>
                  <a:lnTo>
                    <a:pt x="5719" y="81405"/>
                  </a:lnTo>
                  <a:lnTo>
                    <a:pt x="6233" y="79670"/>
                  </a:lnTo>
                  <a:lnTo>
                    <a:pt x="8268" y="78514"/>
                  </a:lnTo>
                  <a:lnTo>
                    <a:pt x="15046" y="77228"/>
                  </a:lnTo>
                  <a:lnTo>
                    <a:pt x="19224" y="76886"/>
                  </a:lnTo>
                  <a:lnTo>
                    <a:pt x="23703" y="76657"/>
                  </a:lnTo>
                  <a:lnTo>
                    <a:pt x="28382" y="76505"/>
                  </a:lnTo>
                  <a:lnTo>
                    <a:pt x="34888" y="75556"/>
                  </a:lnTo>
                  <a:lnTo>
                    <a:pt x="42612" y="74077"/>
                  </a:lnTo>
                  <a:lnTo>
                    <a:pt x="51148" y="72245"/>
                  </a:lnTo>
                  <a:lnTo>
                    <a:pt x="59379" y="71023"/>
                  </a:lnTo>
                  <a:lnTo>
                    <a:pt x="67406" y="70209"/>
                  </a:lnTo>
                  <a:lnTo>
                    <a:pt x="75297" y="69666"/>
                  </a:lnTo>
                  <a:lnTo>
                    <a:pt x="83098" y="69304"/>
                  </a:lnTo>
                  <a:lnTo>
                    <a:pt x="98539" y="68902"/>
                  </a:lnTo>
                  <a:lnTo>
                    <a:pt x="106213" y="69641"/>
                  </a:lnTo>
                  <a:lnTo>
                    <a:pt x="113868" y="70981"/>
                  </a:lnTo>
                  <a:lnTo>
                    <a:pt x="139037" y="76912"/>
                  </a:lnTo>
                  <a:lnTo>
                    <a:pt x="148451" y="79214"/>
                  </a:lnTo>
                  <a:lnTo>
                    <a:pt x="157267" y="80749"/>
                  </a:lnTo>
                  <a:lnTo>
                    <a:pt x="165685" y="81773"/>
                  </a:lnTo>
                  <a:lnTo>
                    <a:pt x="173837" y="82456"/>
                  </a:lnTo>
                  <a:lnTo>
                    <a:pt x="181811" y="84604"/>
                  </a:lnTo>
                  <a:lnTo>
                    <a:pt x="189667" y="87729"/>
                  </a:lnTo>
                  <a:lnTo>
                    <a:pt x="216481" y="100867"/>
                  </a:lnTo>
                  <a:lnTo>
                    <a:pt x="222095" y="104498"/>
                  </a:lnTo>
                  <a:lnTo>
                    <a:pt x="227529" y="108612"/>
                  </a:lnTo>
                  <a:lnTo>
                    <a:pt x="232846" y="113048"/>
                  </a:lnTo>
                  <a:lnTo>
                    <a:pt x="236391" y="117698"/>
                  </a:lnTo>
                  <a:lnTo>
                    <a:pt x="238754" y="122493"/>
                  </a:lnTo>
                  <a:lnTo>
                    <a:pt x="240329" y="127382"/>
                  </a:lnTo>
                  <a:lnTo>
                    <a:pt x="241380" y="132334"/>
                  </a:lnTo>
                  <a:lnTo>
                    <a:pt x="242080" y="137329"/>
                  </a:lnTo>
                  <a:lnTo>
                    <a:pt x="242547" y="142353"/>
                  </a:lnTo>
                  <a:lnTo>
                    <a:pt x="242011" y="146549"/>
                  </a:lnTo>
                  <a:lnTo>
                    <a:pt x="240808" y="150192"/>
                  </a:lnTo>
                  <a:lnTo>
                    <a:pt x="239158" y="153468"/>
                  </a:lnTo>
                  <a:lnTo>
                    <a:pt x="236366" y="157345"/>
                  </a:lnTo>
                  <a:lnTo>
                    <a:pt x="232810" y="161624"/>
                  </a:lnTo>
                  <a:lnTo>
                    <a:pt x="228747" y="166169"/>
                  </a:lnTo>
                  <a:lnTo>
                    <a:pt x="219717" y="175735"/>
                  </a:lnTo>
                  <a:lnTo>
                    <a:pt x="214938" y="180657"/>
                  </a:lnTo>
                  <a:lnTo>
                    <a:pt x="209212" y="184785"/>
                  </a:lnTo>
                  <a:lnTo>
                    <a:pt x="202855" y="188383"/>
                  </a:lnTo>
                  <a:lnTo>
                    <a:pt x="178446" y="200242"/>
                  </a:lnTo>
                  <a:lnTo>
                    <a:pt x="171337" y="202075"/>
                  </a:lnTo>
                  <a:lnTo>
                    <a:pt x="163212" y="203297"/>
                  </a:lnTo>
                  <a:lnTo>
                    <a:pt x="154408" y="204111"/>
                  </a:lnTo>
                  <a:lnTo>
                    <a:pt x="145998" y="203807"/>
                  </a:lnTo>
                  <a:lnTo>
                    <a:pt x="137852" y="202758"/>
                  </a:lnTo>
                  <a:lnTo>
                    <a:pt x="129881" y="201212"/>
                  </a:lnTo>
                  <a:lnTo>
                    <a:pt x="122874" y="198488"/>
                  </a:lnTo>
                  <a:lnTo>
                    <a:pt x="116509" y="194979"/>
                  </a:lnTo>
                  <a:lnTo>
                    <a:pt x="110573" y="190945"/>
                  </a:lnTo>
                  <a:lnTo>
                    <a:pt x="104922" y="187410"/>
                  </a:lnTo>
                  <a:lnTo>
                    <a:pt x="99461" y="184207"/>
                  </a:lnTo>
                  <a:lnTo>
                    <a:pt x="94128" y="181225"/>
                  </a:lnTo>
                  <a:lnTo>
                    <a:pt x="89725" y="178390"/>
                  </a:lnTo>
                  <a:lnTo>
                    <a:pt x="85943" y="175653"/>
                  </a:lnTo>
                  <a:lnTo>
                    <a:pt x="75840" y="1676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359"/>
            <p:cNvSpPr/>
            <p:nvPr/>
          </p:nvSpPr>
          <p:spPr>
            <a:xfrm>
              <a:off x="2766240" y="3741480"/>
              <a:ext cx="243720" cy="302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3841" h="30481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9928" y="6914"/>
                  </a:lnTo>
                  <a:lnTo>
                    <a:pt x="25985" y="7149"/>
                  </a:lnTo>
                  <a:lnTo>
                    <a:pt x="32564" y="7307"/>
                  </a:lnTo>
                  <a:lnTo>
                    <a:pt x="40336" y="8258"/>
                  </a:lnTo>
                  <a:lnTo>
                    <a:pt x="48904" y="9739"/>
                  </a:lnTo>
                  <a:lnTo>
                    <a:pt x="58003" y="11573"/>
                  </a:lnTo>
                  <a:lnTo>
                    <a:pt x="67455" y="12795"/>
                  </a:lnTo>
                  <a:lnTo>
                    <a:pt x="77144" y="13610"/>
                  </a:lnTo>
                  <a:lnTo>
                    <a:pt x="86989" y="14153"/>
                  </a:lnTo>
                  <a:lnTo>
                    <a:pt x="97786" y="15362"/>
                  </a:lnTo>
                  <a:lnTo>
                    <a:pt x="109217" y="17015"/>
                  </a:lnTo>
                  <a:lnTo>
                    <a:pt x="121072" y="18964"/>
                  </a:lnTo>
                  <a:lnTo>
                    <a:pt x="132361" y="21109"/>
                  </a:lnTo>
                  <a:lnTo>
                    <a:pt x="153936" y="25750"/>
                  </a:lnTo>
                  <a:lnTo>
                    <a:pt x="164431" y="27327"/>
                  </a:lnTo>
                  <a:lnTo>
                    <a:pt x="174814" y="28378"/>
                  </a:lnTo>
                  <a:lnTo>
                    <a:pt x="193689" y="29546"/>
                  </a:lnTo>
                  <a:lnTo>
                    <a:pt x="207722" y="30065"/>
                  </a:lnTo>
                  <a:lnTo>
                    <a:pt x="243840" y="30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360"/>
            <p:cNvSpPr/>
            <p:nvPr/>
          </p:nvSpPr>
          <p:spPr>
            <a:xfrm>
              <a:off x="3102840" y="3695400"/>
              <a:ext cx="191160" cy="2466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191181" h="246842">
                  <a:moveTo>
                    <a:pt x="59447" y="0"/>
                  </a:moveTo>
                  <a:lnTo>
                    <a:pt x="59447" y="4045"/>
                  </a:lnTo>
                  <a:lnTo>
                    <a:pt x="57190" y="10547"/>
                  </a:lnTo>
                  <a:lnTo>
                    <a:pt x="55402" y="14651"/>
                  </a:lnTo>
                  <a:lnTo>
                    <a:pt x="51159" y="23727"/>
                  </a:lnTo>
                  <a:lnTo>
                    <a:pt x="48841" y="28518"/>
                  </a:lnTo>
                  <a:lnTo>
                    <a:pt x="45603" y="33405"/>
                  </a:lnTo>
                  <a:lnTo>
                    <a:pt x="41751" y="38357"/>
                  </a:lnTo>
                  <a:lnTo>
                    <a:pt x="37490" y="43351"/>
                  </a:lnTo>
                  <a:lnTo>
                    <a:pt x="33802" y="49221"/>
                  </a:lnTo>
                  <a:lnTo>
                    <a:pt x="30497" y="55674"/>
                  </a:lnTo>
                  <a:lnTo>
                    <a:pt x="27447" y="62516"/>
                  </a:lnTo>
                  <a:lnTo>
                    <a:pt x="24567" y="69617"/>
                  </a:lnTo>
                  <a:lnTo>
                    <a:pt x="21801" y="76892"/>
                  </a:lnTo>
                  <a:lnTo>
                    <a:pt x="19110" y="84281"/>
                  </a:lnTo>
                  <a:lnTo>
                    <a:pt x="16469" y="92594"/>
                  </a:lnTo>
                  <a:lnTo>
                    <a:pt x="6147" y="128012"/>
                  </a:lnTo>
                  <a:lnTo>
                    <a:pt x="3594" y="136142"/>
                  </a:lnTo>
                  <a:lnTo>
                    <a:pt x="1892" y="144101"/>
                  </a:lnTo>
                  <a:lnTo>
                    <a:pt x="757" y="151947"/>
                  </a:lnTo>
                  <a:lnTo>
                    <a:pt x="0" y="159718"/>
                  </a:lnTo>
                  <a:lnTo>
                    <a:pt x="342" y="167439"/>
                  </a:lnTo>
                  <a:lnTo>
                    <a:pt x="1417" y="175126"/>
                  </a:lnTo>
                  <a:lnTo>
                    <a:pt x="2981" y="182791"/>
                  </a:lnTo>
                  <a:lnTo>
                    <a:pt x="5716" y="190441"/>
                  </a:lnTo>
                  <a:lnTo>
                    <a:pt x="9233" y="198081"/>
                  </a:lnTo>
                  <a:lnTo>
                    <a:pt x="13271" y="205713"/>
                  </a:lnTo>
                  <a:lnTo>
                    <a:pt x="18503" y="212496"/>
                  </a:lnTo>
                  <a:lnTo>
                    <a:pt x="24531" y="218710"/>
                  </a:lnTo>
                  <a:lnTo>
                    <a:pt x="31090" y="224547"/>
                  </a:lnTo>
                  <a:lnTo>
                    <a:pt x="38003" y="229285"/>
                  </a:lnTo>
                  <a:lnTo>
                    <a:pt x="45150" y="233290"/>
                  </a:lnTo>
                  <a:lnTo>
                    <a:pt x="52456" y="236806"/>
                  </a:lnTo>
                  <a:lnTo>
                    <a:pt x="60713" y="239997"/>
                  </a:lnTo>
                  <a:lnTo>
                    <a:pt x="69604" y="242972"/>
                  </a:lnTo>
                  <a:lnTo>
                    <a:pt x="78919" y="245801"/>
                  </a:lnTo>
                  <a:lnTo>
                    <a:pt x="87668" y="246841"/>
                  </a:lnTo>
                  <a:lnTo>
                    <a:pt x="96041" y="246687"/>
                  </a:lnTo>
                  <a:lnTo>
                    <a:pt x="104163" y="245738"/>
                  </a:lnTo>
                  <a:lnTo>
                    <a:pt x="112964" y="244259"/>
                  </a:lnTo>
                  <a:lnTo>
                    <a:pt x="122219" y="242426"/>
                  </a:lnTo>
                  <a:lnTo>
                    <a:pt x="131775" y="240357"/>
                  </a:lnTo>
                  <a:lnTo>
                    <a:pt x="140685" y="238132"/>
                  </a:lnTo>
                  <a:lnTo>
                    <a:pt x="149167" y="235801"/>
                  </a:lnTo>
                  <a:lnTo>
                    <a:pt x="157360" y="233401"/>
                  </a:lnTo>
                  <a:lnTo>
                    <a:pt x="164516" y="229260"/>
                  </a:lnTo>
                  <a:lnTo>
                    <a:pt x="170979" y="223960"/>
                  </a:lnTo>
                  <a:lnTo>
                    <a:pt x="176982" y="217887"/>
                  </a:lnTo>
                  <a:lnTo>
                    <a:pt x="181830" y="212145"/>
                  </a:lnTo>
                  <a:lnTo>
                    <a:pt x="185909" y="206623"/>
                  </a:lnTo>
                  <a:lnTo>
                    <a:pt x="189475" y="201249"/>
                  </a:lnTo>
                  <a:lnTo>
                    <a:pt x="191006" y="195973"/>
                  </a:lnTo>
                  <a:lnTo>
                    <a:pt x="191180" y="190762"/>
                  </a:lnTo>
                  <a:lnTo>
                    <a:pt x="190449" y="185595"/>
                  </a:lnTo>
                  <a:lnTo>
                    <a:pt x="189115" y="181303"/>
                  </a:lnTo>
                  <a:lnTo>
                    <a:pt x="185375" y="174277"/>
                  </a:lnTo>
                  <a:lnTo>
                    <a:pt x="183193" y="170371"/>
                  </a:lnTo>
                  <a:lnTo>
                    <a:pt x="178509" y="161516"/>
                  </a:lnTo>
                  <a:lnTo>
                    <a:pt x="175228" y="157631"/>
                  </a:lnTo>
                  <a:lnTo>
                    <a:pt x="171348" y="154194"/>
                  </a:lnTo>
                  <a:lnTo>
                    <a:pt x="167068" y="151056"/>
                  </a:lnTo>
                  <a:lnTo>
                    <a:pt x="162521" y="148964"/>
                  </a:lnTo>
                  <a:lnTo>
                    <a:pt x="157796" y="147570"/>
                  </a:lnTo>
                  <a:lnTo>
                    <a:pt x="152954" y="146639"/>
                  </a:lnTo>
                  <a:lnTo>
                    <a:pt x="148878" y="146020"/>
                  </a:lnTo>
                  <a:lnTo>
                    <a:pt x="145315" y="145607"/>
                  </a:lnTo>
                  <a:lnTo>
                    <a:pt x="142092" y="145331"/>
                  </a:lnTo>
                  <a:lnTo>
                    <a:pt x="139097" y="146841"/>
                  </a:lnTo>
                  <a:lnTo>
                    <a:pt x="133512" y="153034"/>
                  </a:lnTo>
                  <a:lnTo>
                    <a:pt x="128207" y="159173"/>
                  </a:lnTo>
                  <a:lnTo>
                    <a:pt x="125607" y="161995"/>
                  </a:lnTo>
                  <a:lnTo>
                    <a:pt x="123874" y="165570"/>
                  </a:lnTo>
                  <a:lnTo>
                    <a:pt x="122718" y="169647"/>
                  </a:lnTo>
                  <a:lnTo>
                    <a:pt x="121948" y="174058"/>
                  </a:lnTo>
                  <a:lnTo>
                    <a:pt x="121434" y="178692"/>
                  </a:lnTo>
                  <a:lnTo>
                    <a:pt x="121092" y="183474"/>
                  </a:lnTo>
                  <a:lnTo>
                    <a:pt x="120864" y="188356"/>
                  </a:lnTo>
                  <a:lnTo>
                    <a:pt x="122405" y="193304"/>
                  </a:lnTo>
                  <a:lnTo>
                    <a:pt x="125126" y="198296"/>
                  </a:lnTo>
                  <a:lnTo>
                    <a:pt x="128633" y="203317"/>
                  </a:lnTo>
                  <a:lnTo>
                    <a:pt x="133511" y="209205"/>
                  </a:lnTo>
                  <a:lnTo>
                    <a:pt x="139303" y="215670"/>
                  </a:lnTo>
                  <a:lnTo>
                    <a:pt x="155075" y="232389"/>
                  </a:lnTo>
                  <a:lnTo>
                    <a:pt x="166127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361"/>
            <p:cNvSpPr/>
            <p:nvPr/>
          </p:nvSpPr>
          <p:spPr>
            <a:xfrm>
              <a:off x="3327840" y="4655880"/>
              <a:ext cx="188280" cy="2894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8254" h="289561">
                  <a:moveTo>
                    <a:pt x="139539" y="0"/>
                  </a:moveTo>
                  <a:lnTo>
                    <a:pt x="110055" y="29485"/>
                  </a:lnTo>
                  <a:lnTo>
                    <a:pt x="104643" y="34050"/>
                  </a:lnTo>
                  <a:lnTo>
                    <a:pt x="98495" y="38786"/>
                  </a:lnTo>
                  <a:lnTo>
                    <a:pt x="91856" y="43637"/>
                  </a:lnTo>
                  <a:lnTo>
                    <a:pt x="84891" y="49412"/>
                  </a:lnTo>
                  <a:lnTo>
                    <a:pt x="77707" y="55802"/>
                  </a:lnTo>
                  <a:lnTo>
                    <a:pt x="62951" y="69674"/>
                  </a:lnTo>
                  <a:lnTo>
                    <a:pt x="29233" y="102779"/>
                  </a:lnTo>
                  <a:lnTo>
                    <a:pt x="23669" y="109160"/>
                  </a:lnTo>
                  <a:lnTo>
                    <a:pt x="18265" y="115953"/>
                  </a:lnTo>
                  <a:lnTo>
                    <a:pt x="12970" y="123022"/>
                  </a:lnTo>
                  <a:lnTo>
                    <a:pt x="8593" y="130274"/>
                  </a:lnTo>
                  <a:lnTo>
                    <a:pt x="4828" y="137650"/>
                  </a:lnTo>
                  <a:lnTo>
                    <a:pt x="1472" y="145107"/>
                  </a:lnTo>
                  <a:lnTo>
                    <a:pt x="81" y="152618"/>
                  </a:lnTo>
                  <a:lnTo>
                    <a:pt x="0" y="160165"/>
                  </a:lnTo>
                  <a:lnTo>
                    <a:pt x="793" y="167737"/>
                  </a:lnTo>
                  <a:lnTo>
                    <a:pt x="2168" y="174478"/>
                  </a:lnTo>
                  <a:lnTo>
                    <a:pt x="3932" y="180665"/>
                  </a:lnTo>
                  <a:lnTo>
                    <a:pt x="5954" y="186484"/>
                  </a:lnTo>
                  <a:lnTo>
                    <a:pt x="9842" y="192056"/>
                  </a:lnTo>
                  <a:lnTo>
                    <a:pt x="14975" y="197464"/>
                  </a:lnTo>
                  <a:lnTo>
                    <a:pt x="20936" y="202763"/>
                  </a:lnTo>
                  <a:lnTo>
                    <a:pt x="27450" y="207142"/>
                  </a:lnTo>
                  <a:lnTo>
                    <a:pt x="34333" y="210908"/>
                  </a:lnTo>
                  <a:lnTo>
                    <a:pt x="49601" y="218197"/>
                  </a:lnTo>
                  <a:lnTo>
                    <a:pt x="67676" y="227081"/>
                  </a:lnTo>
                  <a:lnTo>
                    <a:pt x="77237" y="230128"/>
                  </a:lnTo>
                  <a:lnTo>
                    <a:pt x="86997" y="232158"/>
                  </a:lnTo>
                  <a:lnTo>
                    <a:pt x="96892" y="233512"/>
                  </a:lnTo>
                  <a:lnTo>
                    <a:pt x="106027" y="234415"/>
                  </a:lnTo>
                  <a:lnTo>
                    <a:pt x="114658" y="235016"/>
                  </a:lnTo>
                  <a:lnTo>
                    <a:pt x="122952" y="235418"/>
                  </a:lnTo>
                  <a:lnTo>
                    <a:pt x="131021" y="233992"/>
                  </a:lnTo>
                  <a:lnTo>
                    <a:pt x="138940" y="231348"/>
                  </a:lnTo>
                  <a:lnTo>
                    <a:pt x="153666" y="224741"/>
                  </a:lnTo>
                  <a:lnTo>
                    <a:pt x="165856" y="218982"/>
                  </a:lnTo>
                  <a:lnTo>
                    <a:pt x="170630" y="215415"/>
                  </a:lnTo>
                  <a:lnTo>
                    <a:pt x="174660" y="211343"/>
                  </a:lnTo>
                  <a:lnTo>
                    <a:pt x="178193" y="206936"/>
                  </a:lnTo>
                  <a:lnTo>
                    <a:pt x="181395" y="202304"/>
                  </a:lnTo>
                  <a:lnTo>
                    <a:pt x="184377" y="197523"/>
                  </a:lnTo>
                  <a:lnTo>
                    <a:pt x="187211" y="192642"/>
                  </a:lnTo>
                  <a:lnTo>
                    <a:pt x="188253" y="188541"/>
                  </a:lnTo>
                  <a:lnTo>
                    <a:pt x="188102" y="184961"/>
                  </a:lnTo>
                  <a:lnTo>
                    <a:pt x="186523" y="177878"/>
                  </a:lnTo>
                  <a:lnTo>
                    <a:pt x="185821" y="169086"/>
                  </a:lnTo>
                  <a:lnTo>
                    <a:pt x="183940" y="165218"/>
                  </a:lnTo>
                  <a:lnTo>
                    <a:pt x="180993" y="161792"/>
                  </a:lnTo>
                  <a:lnTo>
                    <a:pt x="177335" y="158661"/>
                  </a:lnTo>
                  <a:lnTo>
                    <a:pt x="173203" y="156575"/>
                  </a:lnTo>
                  <a:lnTo>
                    <a:pt x="168755" y="155183"/>
                  </a:lnTo>
                  <a:lnTo>
                    <a:pt x="164097" y="154255"/>
                  </a:lnTo>
                  <a:lnTo>
                    <a:pt x="159297" y="152790"/>
                  </a:lnTo>
                  <a:lnTo>
                    <a:pt x="154405" y="150967"/>
                  </a:lnTo>
                  <a:lnTo>
                    <a:pt x="149449" y="148905"/>
                  </a:lnTo>
                  <a:lnTo>
                    <a:pt x="144453" y="148377"/>
                  </a:lnTo>
                  <a:lnTo>
                    <a:pt x="139429" y="148871"/>
                  </a:lnTo>
                  <a:lnTo>
                    <a:pt x="134385" y="150047"/>
                  </a:lnTo>
                  <a:lnTo>
                    <a:pt x="129330" y="151678"/>
                  </a:lnTo>
                  <a:lnTo>
                    <a:pt x="124267" y="153612"/>
                  </a:lnTo>
                  <a:lnTo>
                    <a:pt x="119198" y="155748"/>
                  </a:lnTo>
                  <a:lnTo>
                    <a:pt x="114971" y="158019"/>
                  </a:lnTo>
                  <a:lnTo>
                    <a:pt x="111307" y="160379"/>
                  </a:lnTo>
                  <a:lnTo>
                    <a:pt x="108018" y="162800"/>
                  </a:lnTo>
                  <a:lnTo>
                    <a:pt x="104978" y="166953"/>
                  </a:lnTo>
                  <a:lnTo>
                    <a:pt x="102105" y="172262"/>
                  </a:lnTo>
                  <a:lnTo>
                    <a:pt x="99343" y="178341"/>
                  </a:lnTo>
                  <a:lnTo>
                    <a:pt x="97502" y="184087"/>
                  </a:lnTo>
                  <a:lnTo>
                    <a:pt x="96274" y="189612"/>
                  </a:lnTo>
                  <a:lnTo>
                    <a:pt x="95456" y="194988"/>
                  </a:lnTo>
                  <a:lnTo>
                    <a:pt x="95757" y="200265"/>
                  </a:lnTo>
                  <a:lnTo>
                    <a:pt x="96804" y="205477"/>
                  </a:lnTo>
                  <a:lnTo>
                    <a:pt x="100226" y="216629"/>
                  </a:lnTo>
                  <a:lnTo>
                    <a:pt x="104569" y="230053"/>
                  </a:lnTo>
                  <a:lnTo>
                    <a:pt x="108606" y="237189"/>
                  </a:lnTo>
                  <a:lnTo>
                    <a:pt x="113837" y="244486"/>
                  </a:lnTo>
                  <a:lnTo>
                    <a:pt x="119865" y="251891"/>
                  </a:lnTo>
                  <a:lnTo>
                    <a:pt x="125576" y="257673"/>
                  </a:lnTo>
                  <a:lnTo>
                    <a:pt x="131077" y="262376"/>
                  </a:lnTo>
                  <a:lnTo>
                    <a:pt x="136438" y="266357"/>
                  </a:lnTo>
                  <a:lnTo>
                    <a:pt x="140858" y="269858"/>
                  </a:lnTo>
                  <a:lnTo>
                    <a:pt x="144652" y="273039"/>
                  </a:lnTo>
                  <a:lnTo>
                    <a:pt x="148028" y="276006"/>
                  </a:lnTo>
                  <a:lnTo>
                    <a:pt x="154037" y="281560"/>
                  </a:lnTo>
                  <a:lnTo>
                    <a:pt x="162399" y="2895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362"/>
            <p:cNvSpPr/>
            <p:nvPr/>
          </p:nvSpPr>
          <p:spPr>
            <a:xfrm>
              <a:off x="3291840" y="5097600"/>
              <a:ext cx="37800" cy="152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8101" h="152401">
                  <a:moveTo>
                    <a:pt x="38100" y="0"/>
                  </a:moveTo>
                  <a:lnTo>
                    <a:pt x="34055" y="0"/>
                  </a:lnTo>
                  <a:lnTo>
                    <a:pt x="32863" y="846"/>
                  </a:lnTo>
                  <a:lnTo>
                    <a:pt x="32069" y="2258"/>
                  </a:lnTo>
                  <a:lnTo>
                    <a:pt x="30794" y="6561"/>
                  </a:lnTo>
                  <a:lnTo>
                    <a:pt x="29843" y="7760"/>
                  </a:lnTo>
                  <a:lnTo>
                    <a:pt x="28362" y="9407"/>
                  </a:lnTo>
                  <a:lnTo>
                    <a:pt x="26528" y="11352"/>
                  </a:lnTo>
                  <a:lnTo>
                    <a:pt x="25305" y="13494"/>
                  </a:lnTo>
                  <a:lnTo>
                    <a:pt x="24490" y="15770"/>
                  </a:lnTo>
                  <a:lnTo>
                    <a:pt x="23947" y="18133"/>
                  </a:lnTo>
                  <a:lnTo>
                    <a:pt x="22738" y="21402"/>
                  </a:lnTo>
                  <a:lnTo>
                    <a:pt x="21085" y="25275"/>
                  </a:lnTo>
                  <a:lnTo>
                    <a:pt x="19137" y="29550"/>
                  </a:lnTo>
                  <a:lnTo>
                    <a:pt x="17838" y="33246"/>
                  </a:lnTo>
                  <a:lnTo>
                    <a:pt x="16972" y="36558"/>
                  </a:lnTo>
                  <a:lnTo>
                    <a:pt x="16395" y="39611"/>
                  </a:lnTo>
                  <a:lnTo>
                    <a:pt x="16010" y="43341"/>
                  </a:lnTo>
                  <a:lnTo>
                    <a:pt x="15753" y="47521"/>
                  </a:lnTo>
                  <a:lnTo>
                    <a:pt x="15468" y="56680"/>
                  </a:lnTo>
                  <a:lnTo>
                    <a:pt x="15253" y="85455"/>
                  </a:lnTo>
                  <a:lnTo>
                    <a:pt x="15249" y="89990"/>
                  </a:lnTo>
                  <a:lnTo>
                    <a:pt x="14399" y="94707"/>
                  </a:lnTo>
                  <a:lnTo>
                    <a:pt x="12986" y="99545"/>
                  </a:lnTo>
                  <a:lnTo>
                    <a:pt x="11198" y="104463"/>
                  </a:lnTo>
                  <a:lnTo>
                    <a:pt x="10005" y="108589"/>
                  </a:lnTo>
                  <a:lnTo>
                    <a:pt x="9210" y="112186"/>
                  </a:lnTo>
                  <a:lnTo>
                    <a:pt x="8680" y="115430"/>
                  </a:lnTo>
                  <a:lnTo>
                    <a:pt x="8326" y="119287"/>
                  </a:lnTo>
                  <a:lnTo>
                    <a:pt x="8091" y="123552"/>
                  </a:lnTo>
                  <a:lnTo>
                    <a:pt x="7935" y="128087"/>
                  </a:lnTo>
                  <a:lnTo>
                    <a:pt x="6983" y="131959"/>
                  </a:lnTo>
                  <a:lnTo>
                    <a:pt x="5502" y="135386"/>
                  </a:lnTo>
                  <a:lnTo>
                    <a:pt x="3668" y="138517"/>
                  </a:lnTo>
                  <a:lnTo>
                    <a:pt x="2445" y="141451"/>
                  </a:lnTo>
                  <a:lnTo>
                    <a:pt x="1630" y="144254"/>
                  </a:lnTo>
                  <a:lnTo>
                    <a:pt x="0" y="1524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363"/>
            <p:cNvSpPr/>
            <p:nvPr/>
          </p:nvSpPr>
          <p:spPr>
            <a:xfrm>
              <a:off x="3394800" y="5120640"/>
              <a:ext cx="194040" cy="2055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94276" h="205713">
                  <a:moveTo>
                    <a:pt x="57115" y="15212"/>
                  </a:moveTo>
                  <a:lnTo>
                    <a:pt x="57115" y="11167"/>
                  </a:lnTo>
                  <a:lnTo>
                    <a:pt x="57962" y="9975"/>
                  </a:lnTo>
                  <a:lnTo>
                    <a:pt x="59373" y="9181"/>
                  </a:lnTo>
                  <a:lnTo>
                    <a:pt x="63199" y="8298"/>
                  </a:lnTo>
                  <a:lnTo>
                    <a:pt x="67721" y="7906"/>
                  </a:lnTo>
                  <a:lnTo>
                    <a:pt x="70113" y="6955"/>
                  </a:lnTo>
                  <a:lnTo>
                    <a:pt x="75027" y="3640"/>
                  </a:lnTo>
                  <a:lnTo>
                    <a:pt x="78370" y="2417"/>
                  </a:lnTo>
                  <a:lnTo>
                    <a:pt x="82291" y="1602"/>
                  </a:lnTo>
                  <a:lnTo>
                    <a:pt x="86599" y="1059"/>
                  </a:lnTo>
                  <a:lnTo>
                    <a:pt x="91165" y="697"/>
                  </a:lnTo>
                  <a:lnTo>
                    <a:pt x="95902" y="455"/>
                  </a:lnTo>
                  <a:lnTo>
                    <a:pt x="105680" y="186"/>
                  </a:lnTo>
                  <a:lnTo>
                    <a:pt x="126770" y="0"/>
                  </a:lnTo>
                  <a:lnTo>
                    <a:pt x="130645" y="838"/>
                  </a:lnTo>
                  <a:lnTo>
                    <a:pt x="134922" y="2243"/>
                  </a:lnTo>
                  <a:lnTo>
                    <a:pt x="139466" y="4026"/>
                  </a:lnTo>
                  <a:lnTo>
                    <a:pt x="143343" y="5214"/>
                  </a:lnTo>
                  <a:lnTo>
                    <a:pt x="146773" y="6007"/>
                  </a:lnTo>
                  <a:lnTo>
                    <a:pt x="149907" y="6535"/>
                  </a:lnTo>
                  <a:lnTo>
                    <a:pt x="155647" y="9380"/>
                  </a:lnTo>
                  <a:lnTo>
                    <a:pt x="158363" y="11324"/>
                  </a:lnTo>
                  <a:lnTo>
                    <a:pt x="160174" y="13467"/>
                  </a:lnTo>
                  <a:lnTo>
                    <a:pt x="161381" y="15742"/>
                  </a:lnTo>
                  <a:lnTo>
                    <a:pt x="162186" y="18105"/>
                  </a:lnTo>
                  <a:lnTo>
                    <a:pt x="163569" y="19681"/>
                  </a:lnTo>
                  <a:lnTo>
                    <a:pt x="165337" y="20731"/>
                  </a:lnTo>
                  <a:lnTo>
                    <a:pt x="167363" y="21431"/>
                  </a:lnTo>
                  <a:lnTo>
                    <a:pt x="168714" y="22745"/>
                  </a:lnTo>
                  <a:lnTo>
                    <a:pt x="169614" y="24467"/>
                  </a:lnTo>
                  <a:lnTo>
                    <a:pt x="170215" y="26462"/>
                  </a:lnTo>
                  <a:lnTo>
                    <a:pt x="169768" y="27792"/>
                  </a:lnTo>
                  <a:lnTo>
                    <a:pt x="168624" y="28679"/>
                  </a:lnTo>
                  <a:lnTo>
                    <a:pt x="167014" y="29270"/>
                  </a:lnTo>
                  <a:lnTo>
                    <a:pt x="162968" y="34443"/>
                  </a:lnTo>
                  <a:lnTo>
                    <a:pt x="160704" y="38192"/>
                  </a:lnTo>
                  <a:lnTo>
                    <a:pt x="155930" y="44617"/>
                  </a:lnTo>
                  <a:lnTo>
                    <a:pt x="153472" y="47515"/>
                  </a:lnTo>
                  <a:lnTo>
                    <a:pt x="150140" y="50294"/>
                  </a:lnTo>
                  <a:lnTo>
                    <a:pt x="146225" y="52993"/>
                  </a:lnTo>
                  <a:lnTo>
                    <a:pt x="141922" y="55639"/>
                  </a:lnTo>
                  <a:lnTo>
                    <a:pt x="137360" y="59097"/>
                  </a:lnTo>
                  <a:lnTo>
                    <a:pt x="132625" y="63095"/>
                  </a:lnTo>
                  <a:lnTo>
                    <a:pt x="127775" y="67454"/>
                  </a:lnTo>
                  <a:lnTo>
                    <a:pt x="122002" y="72054"/>
                  </a:lnTo>
                  <a:lnTo>
                    <a:pt x="115613" y="76813"/>
                  </a:lnTo>
                  <a:lnTo>
                    <a:pt x="108814" y="81680"/>
                  </a:lnTo>
                  <a:lnTo>
                    <a:pt x="101741" y="85770"/>
                  </a:lnTo>
                  <a:lnTo>
                    <a:pt x="94485" y="89344"/>
                  </a:lnTo>
                  <a:lnTo>
                    <a:pt x="80498" y="95573"/>
                  </a:lnTo>
                  <a:lnTo>
                    <a:pt x="68636" y="101164"/>
                  </a:lnTo>
                  <a:lnTo>
                    <a:pt x="62256" y="104687"/>
                  </a:lnTo>
                  <a:lnTo>
                    <a:pt x="55462" y="108728"/>
                  </a:lnTo>
                  <a:lnTo>
                    <a:pt x="48393" y="113116"/>
                  </a:lnTo>
                  <a:lnTo>
                    <a:pt x="41987" y="116888"/>
                  </a:lnTo>
                  <a:lnTo>
                    <a:pt x="36023" y="120249"/>
                  </a:lnTo>
                  <a:lnTo>
                    <a:pt x="24881" y="126242"/>
                  </a:lnTo>
                  <a:lnTo>
                    <a:pt x="14284" y="131728"/>
                  </a:lnTo>
                  <a:lnTo>
                    <a:pt x="10781" y="134376"/>
                  </a:lnTo>
                  <a:lnTo>
                    <a:pt x="8446" y="136988"/>
                  </a:lnTo>
                  <a:lnTo>
                    <a:pt x="5004" y="142148"/>
                  </a:lnTo>
                  <a:lnTo>
                    <a:pt x="652" y="147264"/>
                  </a:lnTo>
                  <a:lnTo>
                    <a:pt x="0" y="149813"/>
                  </a:lnTo>
                  <a:lnTo>
                    <a:pt x="412" y="152359"/>
                  </a:lnTo>
                  <a:lnTo>
                    <a:pt x="2280" y="157446"/>
                  </a:lnTo>
                  <a:lnTo>
                    <a:pt x="3110" y="162530"/>
                  </a:lnTo>
                  <a:lnTo>
                    <a:pt x="5025" y="164224"/>
                  </a:lnTo>
                  <a:lnTo>
                    <a:pt x="7995" y="165353"/>
                  </a:lnTo>
                  <a:lnTo>
                    <a:pt x="11669" y="166106"/>
                  </a:lnTo>
                  <a:lnTo>
                    <a:pt x="15811" y="167455"/>
                  </a:lnTo>
                  <a:lnTo>
                    <a:pt x="20266" y="169200"/>
                  </a:lnTo>
                  <a:lnTo>
                    <a:pt x="24929" y="171211"/>
                  </a:lnTo>
                  <a:lnTo>
                    <a:pt x="29731" y="172551"/>
                  </a:lnTo>
                  <a:lnTo>
                    <a:pt x="34626" y="173445"/>
                  </a:lnTo>
                  <a:lnTo>
                    <a:pt x="39582" y="174041"/>
                  </a:lnTo>
                  <a:lnTo>
                    <a:pt x="45426" y="175285"/>
                  </a:lnTo>
                  <a:lnTo>
                    <a:pt x="51863" y="176960"/>
                  </a:lnTo>
                  <a:lnTo>
                    <a:pt x="58694" y="178924"/>
                  </a:lnTo>
                  <a:lnTo>
                    <a:pt x="64941" y="180234"/>
                  </a:lnTo>
                  <a:lnTo>
                    <a:pt x="70799" y="181106"/>
                  </a:lnTo>
                  <a:lnTo>
                    <a:pt x="76398" y="181688"/>
                  </a:lnTo>
                  <a:lnTo>
                    <a:pt x="82670" y="182076"/>
                  </a:lnTo>
                  <a:lnTo>
                    <a:pt x="96413" y="182508"/>
                  </a:lnTo>
                  <a:lnTo>
                    <a:pt x="102787" y="183469"/>
                  </a:lnTo>
                  <a:lnTo>
                    <a:pt x="108730" y="184957"/>
                  </a:lnTo>
                  <a:lnTo>
                    <a:pt x="114385" y="186795"/>
                  </a:lnTo>
                  <a:lnTo>
                    <a:pt x="120695" y="188020"/>
                  </a:lnTo>
                  <a:lnTo>
                    <a:pt x="127442" y="188838"/>
                  </a:lnTo>
                  <a:lnTo>
                    <a:pt x="134480" y="189382"/>
                  </a:lnTo>
                  <a:lnTo>
                    <a:pt x="140865" y="190592"/>
                  </a:lnTo>
                  <a:lnTo>
                    <a:pt x="146815" y="192245"/>
                  </a:lnTo>
                  <a:lnTo>
                    <a:pt x="152475" y="194194"/>
                  </a:lnTo>
                  <a:lnTo>
                    <a:pt x="157095" y="195494"/>
                  </a:lnTo>
                  <a:lnTo>
                    <a:pt x="161022" y="196360"/>
                  </a:lnTo>
                  <a:lnTo>
                    <a:pt x="164486" y="196937"/>
                  </a:lnTo>
                  <a:lnTo>
                    <a:pt x="167643" y="197322"/>
                  </a:lnTo>
                  <a:lnTo>
                    <a:pt x="173407" y="197750"/>
                  </a:lnTo>
                  <a:lnTo>
                    <a:pt x="178792" y="197940"/>
                  </a:lnTo>
                  <a:lnTo>
                    <a:pt x="185102" y="198062"/>
                  </a:lnTo>
                  <a:lnTo>
                    <a:pt x="188222" y="200337"/>
                  </a:lnTo>
                  <a:lnTo>
                    <a:pt x="194275" y="2057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364"/>
            <p:cNvSpPr/>
            <p:nvPr/>
          </p:nvSpPr>
          <p:spPr>
            <a:xfrm>
              <a:off x="4046400" y="4991040"/>
              <a:ext cx="198000" cy="3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98122" h="1">
                  <a:moveTo>
                    <a:pt x="0" y="0"/>
                  </a:moveTo>
                  <a:lnTo>
                    <a:pt x="19812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365"/>
            <p:cNvSpPr/>
            <p:nvPr/>
          </p:nvSpPr>
          <p:spPr>
            <a:xfrm>
              <a:off x="4031280" y="5029200"/>
              <a:ext cx="174960" cy="457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75262" h="45721">
                  <a:moveTo>
                    <a:pt x="0" y="45720"/>
                  </a:moveTo>
                  <a:lnTo>
                    <a:pt x="15397" y="45720"/>
                  </a:lnTo>
                  <a:lnTo>
                    <a:pt x="18731" y="44874"/>
                  </a:lnTo>
                  <a:lnTo>
                    <a:pt x="21801" y="43462"/>
                  </a:lnTo>
                  <a:lnTo>
                    <a:pt x="24694" y="41675"/>
                  </a:lnTo>
                  <a:lnTo>
                    <a:pt x="29162" y="40483"/>
                  </a:lnTo>
                  <a:lnTo>
                    <a:pt x="34682" y="39689"/>
                  </a:lnTo>
                  <a:lnTo>
                    <a:pt x="40901" y="39159"/>
                  </a:lnTo>
                  <a:lnTo>
                    <a:pt x="47587" y="37960"/>
                  </a:lnTo>
                  <a:lnTo>
                    <a:pt x="54585" y="36313"/>
                  </a:lnTo>
                  <a:lnTo>
                    <a:pt x="61790" y="34369"/>
                  </a:lnTo>
                  <a:lnTo>
                    <a:pt x="69133" y="33072"/>
                  </a:lnTo>
                  <a:lnTo>
                    <a:pt x="76569" y="32208"/>
                  </a:lnTo>
                  <a:lnTo>
                    <a:pt x="84066" y="31632"/>
                  </a:lnTo>
                  <a:lnTo>
                    <a:pt x="91604" y="30402"/>
                  </a:lnTo>
                  <a:lnTo>
                    <a:pt x="99169" y="28734"/>
                  </a:lnTo>
                  <a:lnTo>
                    <a:pt x="106753" y="26776"/>
                  </a:lnTo>
                  <a:lnTo>
                    <a:pt x="113502" y="25471"/>
                  </a:lnTo>
                  <a:lnTo>
                    <a:pt x="119695" y="24601"/>
                  </a:lnTo>
                  <a:lnTo>
                    <a:pt x="125517" y="24021"/>
                  </a:lnTo>
                  <a:lnTo>
                    <a:pt x="130245" y="22787"/>
                  </a:lnTo>
                  <a:lnTo>
                    <a:pt x="134243" y="21118"/>
                  </a:lnTo>
                  <a:lnTo>
                    <a:pt x="137756" y="19159"/>
                  </a:lnTo>
                  <a:lnTo>
                    <a:pt x="146174" y="14724"/>
                  </a:lnTo>
                  <a:lnTo>
                    <a:pt x="17526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366"/>
            <p:cNvSpPr/>
            <p:nvPr/>
          </p:nvSpPr>
          <p:spPr>
            <a:xfrm>
              <a:off x="4404600" y="4892040"/>
              <a:ext cx="167400" cy="226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67641" h="22861">
                  <a:moveTo>
                    <a:pt x="0" y="0"/>
                  </a:moveTo>
                  <a:lnTo>
                    <a:pt x="15397" y="0"/>
                  </a:lnTo>
                  <a:lnTo>
                    <a:pt x="19578" y="847"/>
                  </a:lnTo>
                  <a:lnTo>
                    <a:pt x="24058" y="2258"/>
                  </a:lnTo>
                  <a:lnTo>
                    <a:pt x="28739" y="4045"/>
                  </a:lnTo>
                  <a:lnTo>
                    <a:pt x="33553" y="5237"/>
                  </a:lnTo>
                  <a:lnTo>
                    <a:pt x="38455" y="6031"/>
                  </a:lnTo>
                  <a:lnTo>
                    <a:pt x="43417" y="6561"/>
                  </a:lnTo>
                  <a:lnTo>
                    <a:pt x="49265" y="7761"/>
                  </a:lnTo>
                  <a:lnTo>
                    <a:pt x="55703" y="9407"/>
                  </a:lnTo>
                  <a:lnTo>
                    <a:pt x="62535" y="11351"/>
                  </a:lnTo>
                  <a:lnTo>
                    <a:pt x="69630" y="12648"/>
                  </a:lnTo>
                  <a:lnTo>
                    <a:pt x="76900" y="13512"/>
                  </a:lnTo>
                  <a:lnTo>
                    <a:pt x="84287" y="14088"/>
                  </a:lnTo>
                  <a:lnTo>
                    <a:pt x="90905" y="15319"/>
                  </a:lnTo>
                  <a:lnTo>
                    <a:pt x="97010" y="16986"/>
                  </a:lnTo>
                  <a:lnTo>
                    <a:pt x="102773" y="18944"/>
                  </a:lnTo>
                  <a:lnTo>
                    <a:pt x="108309" y="20250"/>
                  </a:lnTo>
                  <a:lnTo>
                    <a:pt x="113693" y="21120"/>
                  </a:lnTo>
                  <a:lnTo>
                    <a:pt x="118976" y="21700"/>
                  </a:lnTo>
                  <a:lnTo>
                    <a:pt x="123344" y="22087"/>
                  </a:lnTo>
                  <a:lnTo>
                    <a:pt x="127102" y="22345"/>
                  </a:lnTo>
                  <a:lnTo>
                    <a:pt x="130455" y="22516"/>
                  </a:lnTo>
                  <a:lnTo>
                    <a:pt x="138695" y="22708"/>
                  </a:lnTo>
                  <a:lnTo>
                    <a:pt x="167640" y="22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367"/>
            <p:cNvSpPr/>
            <p:nvPr/>
          </p:nvSpPr>
          <p:spPr>
            <a:xfrm>
              <a:off x="4800960" y="4617720"/>
              <a:ext cx="91440" cy="22860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91441" h="228601">
                  <a:moveTo>
                    <a:pt x="91440" y="0"/>
                  </a:moveTo>
                  <a:lnTo>
                    <a:pt x="91440" y="6561"/>
                  </a:lnTo>
                  <a:lnTo>
                    <a:pt x="89182" y="9408"/>
                  </a:lnTo>
                  <a:lnTo>
                    <a:pt x="87395" y="11352"/>
                  </a:lnTo>
                  <a:lnTo>
                    <a:pt x="86203" y="13495"/>
                  </a:lnTo>
                  <a:lnTo>
                    <a:pt x="84879" y="18133"/>
                  </a:lnTo>
                  <a:lnTo>
                    <a:pt x="84291" y="25275"/>
                  </a:lnTo>
                  <a:lnTo>
                    <a:pt x="84134" y="29550"/>
                  </a:lnTo>
                  <a:lnTo>
                    <a:pt x="83183" y="34094"/>
                  </a:lnTo>
                  <a:lnTo>
                    <a:pt x="81702" y="38816"/>
                  </a:lnTo>
                  <a:lnTo>
                    <a:pt x="79868" y="43657"/>
                  </a:lnTo>
                  <a:lnTo>
                    <a:pt x="77799" y="48579"/>
                  </a:lnTo>
                  <a:lnTo>
                    <a:pt x="75572" y="53553"/>
                  </a:lnTo>
                  <a:lnTo>
                    <a:pt x="73242" y="58562"/>
                  </a:lnTo>
                  <a:lnTo>
                    <a:pt x="71687" y="64441"/>
                  </a:lnTo>
                  <a:lnTo>
                    <a:pt x="70652" y="70901"/>
                  </a:lnTo>
                  <a:lnTo>
                    <a:pt x="69961" y="77747"/>
                  </a:lnTo>
                  <a:lnTo>
                    <a:pt x="68654" y="84005"/>
                  </a:lnTo>
                  <a:lnTo>
                    <a:pt x="66936" y="89870"/>
                  </a:lnTo>
                  <a:lnTo>
                    <a:pt x="60473" y="108473"/>
                  </a:lnTo>
                  <a:lnTo>
                    <a:pt x="58096" y="115495"/>
                  </a:lnTo>
                  <a:lnTo>
                    <a:pt x="54818" y="122717"/>
                  </a:lnTo>
                  <a:lnTo>
                    <a:pt x="50939" y="130072"/>
                  </a:lnTo>
                  <a:lnTo>
                    <a:pt x="46658" y="137514"/>
                  </a:lnTo>
                  <a:lnTo>
                    <a:pt x="42959" y="145017"/>
                  </a:lnTo>
                  <a:lnTo>
                    <a:pt x="39646" y="152558"/>
                  </a:lnTo>
                  <a:lnTo>
                    <a:pt x="36591" y="160126"/>
                  </a:lnTo>
                  <a:lnTo>
                    <a:pt x="33707" y="166864"/>
                  </a:lnTo>
                  <a:lnTo>
                    <a:pt x="28246" y="178866"/>
                  </a:lnTo>
                  <a:lnTo>
                    <a:pt x="24757" y="184438"/>
                  </a:lnTo>
                  <a:lnTo>
                    <a:pt x="20738" y="189845"/>
                  </a:lnTo>
                  <a:lnTo>
                    <a:pt x="16366" y="195143"/>
                  </a:lnTo>
                  <a:lnTo>
                    <a:pt x="12603" y="200369"/>
                  </a:lnTo>
                  <a:lnTo>
                    <a:pt x="9249" y="205546"/>
                  </a:lnTo>
                  <a:lnTo>
                    <a:pt x="6166" y="210691"/>
                  </a:lnTo>
                  <a:lnTo>
                    <a:pt x="4111" y="214967"/>
                  </a:lnTo>
                  <a:lnTo>
                    <a:pt x="2740" y="218665"/>
                  </a:lnTo>
                  <a:lnTo>
                    <a:pt x="0" y="2286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368"/>
            <p:cNvSpPr/>
            <p:nvPr/>
          </p:nvSpPr>
          <p:spPr>
            <a:xfrm>
              <a:off x="4824000" y="4724280"/>
              <a:ext cx="289440" cy="33516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89561" h="335281">
                  <a:moveTo>
                    <a:pt x="289560" y="0"/>
                  </a:moveTo>
                  <a:lnTo>
                    <a:pt x="285515" y="0"/>
                  </a:lnTo>
                  <a:lnTo>
                    <a:pt x="283477" y="846"/>
                  </a:lnTo>
                  <a:lnTo>
                    <a:pt x="278954" y="4045"/>
                  </a:lnTo>
                  <a:lnTo>
                    <a:pt x="277410" y="6083"/>
                  </a:lnTo>
                  <a:lnTo>
                    <a:pt x="276380" y="8289"/>
                  </a:lnTo>
                  <a:lnTo>
                    <a:pt x="272673" y="17697"/>
                  </a:lnTo>
                  <a:lnTo>
                    <a:pt x="270682" y="21957"/>
                  </a:lnTo>
                  <a:lnTo>
                    <a:pt x="263955" y="31207"/>
                  </a:lnTo>
                  <a:lnTo>
                    <a:pt x="259789" y="36045"/>
                  </a:lnTo>
                  <a:lnTo>
                    <a:pt x="254473" y="40964"/>
                  </a:lnTo>
                  <a:lnTo>
                    <a:pt x="248389" y="45936"/>
                  </a:lnTo>
                  <a:lnTo>
                    <a:pt x="241793" y="50943"/>
                  </a:lnTo>
                  <a:lnTo>
                    <a:pt x="235703" y="56823"/>
                  </a:lnTo>
                  <a:lnTo>
                    <a:pt x="229948" y="63282"/>
                  </a:lnTo>
                  <a:lnTo>
                    <a:pt x="224419" y="70128"/>
                  </a:lnTo>
                  <a:lnTo>
                    <a:pt x="204501" y="95944"/>
                  </a:lnTo>
                  <a:lnTo>
                    <a:pt x="197294" y="104603"/>
                  </a:lnTo>
                  <a:lnTo>
                    <a:pt x="189950" y="112915"/>
                  </a:lnTo>
                  <a:lnTo>
                    <a:pt x="182513" y="120997"/>
                  </a:lnTo>
                  <a:lnTo>
                    <a:pt x="165220" y="139007"/>
                  </a:lnTo>
                  <a:lnTo>
                    <a:pt x="155866" y="148552"/>
                  </a:lnTo>
                  <a:lnTo>
                    <a:pt x="147090" y="158301"/>
                  </a:lnTo>
                  <a:lnTo>
                    <a:pt x="138700" y="168187"/>
                  </a:lnTo>
                  <a:lnTo>
                    <a:pt x="130567" y="178165"/>
                  </a:lnTo>
                  <a:lnTo>
                    <a:pt x="122605" y="187356"/>
                  </a:lnTo>
                  <a:lnTo>
                    <a:pt x="114756" y="196024"/>
                  </a:lnTo>
                  <a:lnTo>
                    <a:pt x="106984" y="204343"/>
                  </a:lnTo>
                  <a:lnTo>
                    <a:pt x="99263" y="213275"/>
                  </a:lnTo>
                  <a:lnTo>
                    <a:pt x="91576" y="222617"/>
                  </a:lnTo>
                  <a:lnTo>
                    <a:pt x="83910" y="232231"/>
                  </a:lnTo>
                  <a:lnTo>
                    <a:pt x="76260" y="241181"/>
                  </a:lnTo>
                  <a:lnTo>
                    <a:pt x="68620" y="249687"/>
                  </a:lnTo>
                  <a:lnTo>
                    <a:pt x="54205" y="265066"/>
                  </a:lnTo>
                  <a:lnTo>
                    <a:pt x="42153" y="277545"/>
                  </a:lnTo>
                  <a:lnTo>
                    <a:pt x="36569" y="284090"/>
                  </a:lnTo>
                  <a:lnTo>
                    <a:pt x="31152" y="290993"/>
                  </a:lnTo>
                  <a:lnTo>
                    <a:pt x="25848" y="298136"/>
                  </a:lnTo>
                  <a:lnTo>
                    <a:pt x="21466" y="304590"/>
                  </a:lnTo>
                  <a:lnTo>
                    <a:pt x="17697" y="310587"/>
                  </a:lnTo>
                  <a:lnTo>
                    <a:pt x="11252" y="320918"/>
                  </a:lnTo>
                  <a:lnTo>
                    <a:pt x="3710" y="330649"/>
                  </a:lnTo>
                  <a:lnTo>
                    <a:pt x="0" y="335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369"/>
            <p:cNvSpPr/>
            <p:nvPr/>
          </p:nvSpPr>
          <p:spPr>
            <a:xfrm>
              <a:off x="4968720" y="4975920"/>
              <a:ext cx="205560" cy="1904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05740" h="190493">
                  <a:moveTo>
                    <a:pt x="0" y="15232"/>
                  </a:moveTo>
                  <a:lnTo>
                    <a:pt x="0" y="8671"/>
                  </a:lnTo>
                  <a:lnTo>
                    <a:pt x="846" y="8318"/>
                  </a:lnTo>
                  <a:lnTo>
                    <a:pt x="4044" y="7926"/>
                  </a:lnTo>
                  <a:lnTo>
                    <a:pt x="6930" y="6975"/>
                  </a:lnTo>
                  <a:lnTo>
                    <a:pt x="10546" y="5493"/>
                  </a:lnTo>
                  <a:lnTo>
                    <a:pt x="14650" y="3660"/>
                  </a:lnTo>
                  <a:lnTo>
                    <a:pt x="19080" y="2437"/>
                  </a:lnTo>
                  <a:lnTo>
                    <a:pt x="23726" y="1622"/>
                  </a:lnTo>
                  <a:lnTo>
                    <a:pt x="28517" y="1079"/>
                  </a:lnTo>
                  <a:lnTo>
                    <a:pt x="34251" y="717"/>
                  </a:lnTo>
                  <a:lnTo>
                    <a:pt x="40614" y="475"/>
                  </a:lnTo>
                  <a:lnTo>
                    <a:pt x="61705" y="135"/>
                  </a:lnTo>
                  <a:lnTo>
                    <a:pt x="110298" y="0"/>
                  </a:lnTo>
                  <a:lnTo>
                    <a:pt x="117558" y="845"/>
                  </a:lnTo>
                  <a:lnTo>
                    <a:pt x="125785" y="2254"/>
                  </a:lnTo>
                  <a:lnTo>
                    <a:pt x="134656" y="4040"/>
                  </a:lnTo>
                  <a:lnTo>
                    <a:pt x="142264" y="6077"/>
                  </a:lnTo>
                  <a:lnTo>
                    <a:pt x="149029" y="8282"/>
                  </a:lnTo>
                  <a:lnTo>
                    <a:pt x="155232" y="10599"/>
                  </a:lnTo>
                  <a:lnTo>
                    <a:pt x="161061" y="12990"/>
                  </a:lnTo>
                  <a:lnTo>
                    <a:pt x="166641" y="15431"/>
                  </a:lnTo>
                  <a:lnTo>
                    <a:pt x="172054" y="17904"/>
                  </a:lnTo>
                  <a:lnTo>
                    <a:pt x="176509" y="19554"/>
                  </a:lnTo>
                  <a:lnTo>
                    <a:pt x="180325" y="20653"/>
                  </a:lnTo>
                  <a:lnTo>
                    <a:pt x="183717" y="21386"/>
                  </a:lnTo>
                  <a:lnTo>
                    <a:pt x="189743" y="24458"/>
                  </a:lnTo>
                  <a:lnTo>
                    <a:pt x="192535" y="26463"/>
                  </a:lnTo>
                  <a:lnTo>
                    <a:pt x="194396" y="28646"/>
                  </a:lnTo>
                  <a:lnTo>
                    <a:pt x="195637" y="30948"/>
                  </a:lnTo>
                  <a:lnTo>
                    <a:pt x="197016" y="35763"/>
                  </a:lnTo>
                  <a:lnTo>
                    <a:pt x="197629" y="40726"/>
                  </a:lnTo>
                  <a:lnTo>
                    <a:pt x="196946" y="43235"/>
                  </a:lnTo>
                  <a:lnTo>
                    <a:pt x="193928" y="48280"/>
                  </a:lnTo>
                  <a:lnTo>
                    <a:pt x="187507" y="53345"/>
                  </a:lnTo>
                  <a:lnTo>
                    <a:pt x="183425" y="55880"/>
                  </a:lnTo>
                  <a:lnTo>
                    <a:pt x="179010" y="58418"/>
                  </a:lnTo>
                  <a:lnTo>
                    <a:pt x="169588" y="63495"/>
                  </a:lnTo>
                  <a:lnTo>
                    <a:pt x="163859" y="66034"/>
                  </a:lnTo>
                  <a:lnTo>
                    <a:pt x="157498" y="68573"/>
                  </a:lnTo>
                  <a:lnTo>
                    <a:pt x="150719" y="71113"/>
                  </a:lnTo>
                  <a:lnTo>
                    <a:pt x="142812" y="73652"/>
                  </a:lnTo>
                  <a:lnTo>
                    <a:pt x="134155" y="76193"/>
                  </a:lnTo>
                  <a:lnTo>
                    <a:pt x="124997" y="78732"/>
                  </a:lnTo>
                  <a:lnTo>
                    <a:pt x="108047" y="83812"/>
                  </a:lnTo>
                  <a:lnTo>
                    <a:pt x="99971" y="86352"/>
                  </a:lnTo>
                  <a:lnTo>
                    <a:pt x="92047" y="89739"/>
                  </a:lnTo>
                  <a:lnTo>
                    <a:pt x="84224" y="93690"/>
                  </a:lnTo>
                  <a:lnTo>
                    <a:pt x="76469" y="98017"/>
                  </a:lnTo>
                  <a:lnTo>
                    <a:pt x="68759" y="101748"/>
                  </a:lnTo>
                  <a:lnTo>
                    <a:pt x="61080" y="105083"/>
                  </a:lnTo>
                  <a:lnTo>
                    <a:pt x="53420" y="108153"/>
                  </a:lnTo>
                  <a:lnTo>
                    <a:pt x="46619" y="111046"/>
                  </a:lnTo>
                  <a:lnTo>
                    <a:pt x="34548" y="116518"/>
                  </a:lnTo>
                  <a:lnTo>
                    <a:pt x="29805" y="119163"/>
                  </a:lnTo>
                  <a:lnTo>
                    <a:pt x="25797" y="121772"/>
                  </a:lnTo>
                  <a:lnTo>
                    <a:pt x="22278" y="124359"/>
                  </a:lnTo>
                  <a:lnTo>
                    <a:pt x="16109" y="129491"/>
                  </a:lnTo>
                  <a:lnTo>
                    <a:pt x="13280" y="132044"/>
                  </a:lnTo>
                  <a:lnTo>
                    <a:pt x="11393" y="134594"/>
                  </a:lnTo>
                  <a:lnTo>
                    <a:pt x="9297" y="139684"/>
                  </a:lnTo>
                  <a:lnTo>
                    <a:pt x="8365" y="144768"/>
                  </a:lnTo>
                  <a:lnTo>
                    <a:pt x="8116" y="147310"/>
                  </a:lnTo>
                  <a:lnTo>
                    <a:pt x="8797" y="149850"/>
                  </a:lnTo>
                  <a:lnTo>
                    <a:pt x="11812" y="154931"/>
                  </a:lnTo>
                  <a:lnTo>
                    <a:pt x="18231" y="160012"/>
                  </a:lnTo>
                  <a:lnTo>
                    <a:pt x="22314" y="162552"/>
                  </a:lnTo>
                  <a:lnTo>
                    <a:pt x="26729" y="164245"/>
                  </a:lnTo>
                  <a:lnTo>
                    <a:pt x="31366" y="165374"/>
                  </a:lnTo>
                  <a:lnTo>
                    <a:pt x="36151" y="166127"/>
                  </a:lnTo>
                  <a:lnTo>
                    <a:pt x="41880" y="167475"/>
                  </a:lnTo>
                  <a:lnTo>
                    <a:pt x="48240" y="169221"/>
                  </a:lnTo>
                  <a:lnTo>
                    <a:pt x="55020" y="171231"/>
                  </a:lnTo>
                  <a:lnTo>
                    <a:pt x="62926" y="172571"/>
                  </a:lnTo>
                  <a:lnTo>
                    <a:pt x="71584" y="173465"/>
                  </a:lnTo>
                  <a:lnTo>
                    <a:pt x="80742" y="174060"/>
                  </a:lnTo>
                  <a:lnTo>
                    <a:pt x="89388" y="175304"/>
                  </a:lnTo>
                  <a:lnTo>
                    <a:pt x="97692" y="176980"/>
                  </a:lnTo>
                  <a:lnTo>
                    <a:pt x="105768" y="178944"/>
                  </a:lnTo>
                  <a:lnTo>
                    <a:pt x="114538" y="180253"/>
                  </a:lnTo>
                  <a:lnTo>
                    <a:pt x="123772" y="181126"/>
                  </a:lnTo>
                  <a:lnTo>
                    <a:pt x="133314" y="181708"/>
                  </a:lnTo>
                  <a:lnTo>
                    <a:pt x="141369" y="182943"/>
                  </a:lnTo>
                  <a:lnTo>
                    <a:pt x="148432" y="184612"/>
                  </a:lnTo>
                  <a:lnTo>
                    <a:pt x="154835" y="186572"/>
                  </a:lnTo>
                  <a:lnTo>
                    <a:pt x="159949" y="187878"/>
                  </a:lnTo>
                  <a:lnTo>
                    <a:pt x="164206" y="188750"/>
                  </a:lnTo>
                  <a:lnTo>
                    <a:pt x="167890" y="189331"/>
                  </a:lnTo>
                  <a:lnTo>
                    <a:pt x="172040" y="189717"/>
                  </a:lnTo>
                  <a:lnTo>
                    <a:pt x="176500" y="189976"/>
                  </a:lnTo>
                  <a:lnTo>
                    <a:pt x="185124" y="190263"/>
                  </a:lnTo>
                  <a:lnTo>
                    <a:pt x="197559" y="190446"/>
                  </a:lnTo>
                  <a:lnTo>
                    <a:pt x="205739" y="1904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370"/>
            <p:cNvSpPr/>
            <p:nvPr/>
          </p:nvSpPr>
          <p:spPr>
            <a:xfrm>
              <a:off x="2666880" y="5036760"/>
              <a:ext cx="95760" cy="648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5880" h="6572">
                  <a:moveTo>
                    <a:pt x="0" y="0"/>
                  </a:moveTo>
                  <a:lnTo>
                    <a:pt x="46651" y="0"/>
                  </a:lnTo>
                  <a:lnTo>
                    <a:pt x="53961" y="847"/>
                  </a:lnTo>
                  <a:lnTo>
                    <a:pt x="61374" y="2258"/>
                  </a:lnTo>
                  <a:lnTo>
                    <a:pt x="68856" y="4045"/>
                  </a:lnTo>
                  <a:lnTo>
                    <a:pt x="77231" y="5237"/>
                  </a:lnTo>
                  <a:lnTo>
                    <a:pt x="86201" y="6031"/>
                  </a:lnTo>
                  <a:lnTo>
                    <a:pt x="95567" y="6561"/>
                  </a:lnTo>
                  <a:lnTo>
                    <a:pt x="95879" y="65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371"/>
            <p:cNvSpPr/>
            <p:nvPr/>
          </p:nvSpPr>
          <p:spPr>
            <a:xfrm>
              <a:off x="2651760" y="5128200"/>
              <a:ext cx="106560" cy="151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06681" h="15241">
                  <a:moveTo>
                    <a:pt x="0" y="0"/>
                  </a:moveTo>
                  <a:lnTo>
                    <a:pt x="4045" y="0"/>
                  </a:lnTo>
                  <a:lnTo>
                    <a:pt x="5237" y="846"/>
                  </a:lnTo>
                  <a:lnTo>
                    <a:pt x="6031" y="2257"/>
                  </a:lnTo>
                  <a:lnTo>
                    <a:pt x="6561" y="4045"/>
                  </a:lnTo>
                  <a:lnTo>
                    <a:pt x="7760" y="5237"/>
                  </a:lnTo>
                  <a:lnTo>
                    <a:pt x="9407" y="6031"/>
                  </a:lnTo>
                  <a:lnTo>
                    <a:pt x="11352" y="6561"/>
                  </a:lnTo>
                  <a:lnTo>
                    <a:pt x="14341" y="6914"/>
                  </a:lnTo>
                  <a:lnTo>
                    <a:pt x="18027" y="7149"/>
                  </a:lnTo>
                  <a:lnTo>
                    <a:pt x="25792" y="7411"/>
                  </a:lnTo>
                  <a:lnTo>
                    <a:pt x="35770" y="7558"/>
                  </a:lnTo>
                  <a:lnTo>
                    <a:pt x="84887" y="7619"/>
                  </a:lnTo>
                  <a:lnTo>
                    <a:pt x="88765" y="8466"/>
                  </a:lnTo>
                  <a:lnTo>
                    <a:pt x="93043" y="9877"/>
                  </a:lnTo>
                  <a:lnTo>
                    <a:pt x="10668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372"/>
            <p:cNvSpPr/>
            <p:nvPr/>
          </p:nvSpPr>
          <p:spPr>
            <a:xfrm>
              <a:off x="3292920" y="4998600"/>
              <a:ext cx="441000" cy="3060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40954" h="30610">
                  <a:moveTo>
                    <a:pt x="0" y="30609"/>
                  </a:moveTo>
                  <a:lnTo>
                    <a:pt x="300777" y="30480"/>
                  </a:lnTo>
                  <a:lnTo>
                    <a:pt x="312789" y="29634"/>
                  </a:lnTo>
                  <a:lnTo>
                    <a:pt x="324183" y="28222"/>
                  </a:lnTo>
                  <a:lnTo>
                    <a:pt x="335166" y="26435"/>
                  </a:lnTo>
                  <a:lnTo>
                    <a:pt x="345029" y="25243"/>
                  </a:lnTo>
                  <a:lnTo>
                    <a:pt x="354144" y="24449"/>
                  </a:lnTo>
                  <a:lnTo>
                    <a:pt x="362760" y="23919"/>
                  </a:lnTo>
                  <a:lnTo>
                    <a:pt x="371044" y="22720"/>
                  </a:lnTo>
                  <a:lnTo>
                    <a:pt x="379107" y="21073"/>
                  </a:lnTo>
                  <a:lnTo>
                    <a:pt x="387022" y="19129"/>
                  </a:lnTo>
                  <a:lnTo>
                    <a:pt x="393993" y="16985"/>
                  </a:lnTo>
                  <a:lnTo>
                    <a:pt x="400333" y="14710"/>
                  </a:lnTo>
                  <a:lnTo>
                    <a:pt x="406253" y="12347"/>
                  </a:lnTo>
                  <a:lnTo>
                    <a:pt x="411893" y="10772"/>
                  </a:lnTo>
                  <a:lnTo>
                    <a:pt x="417347" y="9721"/>
                  </a:lnTo>
                  <a:lnTo>
                    <a:pt x="422675" y="9021"/>
                  </a:lnTo>
                  <a:lnTo>
                    <a:pt x="427074" y="7707"/>
                  </a:lnTo>
                  <a:lnTo>
                    <a:pt x="430854" y="5985"/>
                  </a:lnTo>
                  <a:lnTo>
                    <a:pt x="440953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373"/>
            <p:cNvSpPr/>
            <p:nvPr/>
          </p:nvSpPr>
          <p:spPr>
            <a:xfrm>
              <a:off x="2964240" y="509004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7620"/>
                  </a:moveTo>
                  <a:lnTo>
                    <a:pt x="10606" y="7620"/>
                  </a:lnTo>
                  <a:lnTo>
                    <a:pt x="13844" y="6773"/>
                  </a:lnTo>
                  <a:lnTo>
                    <a:pt x="17696" y="5362"/>
                  </a:lnTo>
                  <a:lnTo>
                    <a:pt x="21957" y="3575"/>
                  </a:lnTo>
                  <a:lnTo>
                    <a:pt x="26491" y="2383"/>
                  </a:lnTo>
                  <a:lnTo>
                    <a:pt x="31207" y="1589"/>
                  </a:lnTo>
                  <a:lnTo>
                    <a:pt x="36045" y="1059"/>
                  </a:lnTo>
                  <a:lnTo>
                    <a:pt x="40117" y="706"/>
                  </a:lnTo>
                  <a:lnTo>
                    <a:pt x="43678" y="471"/>
                  </a:lnTo>
                  <a:lnTo>
                    <a:pt x="46898" y="314"/>
                  </a:lnTo>
                  <a:lnTo>
                    <a:pt x="54993" y="139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228600" y="121932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valuate each expression for x = -4 and y = -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533520" y="1752480"/>
            <a:ext cx="175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5) -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533520" y="278748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6)  -3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533520" y="3886200"/>
            <a:ext cx="259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7)  5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533520" y="5029200"/>
            <a:ext cx="259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8)  4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409"/>
          <p:cNvGrpSpPr/>
          <p:nvPr/>
        </p:nvGrpSpPr>
        <p:grpSpPr>
          <a:xfrm>
            <a:off x="1469880" y="1523880"/>
            <a:ext cx="7072560" cy="4023000"/>
            <a:chOff x="1469880" y="1523880"/>
            <a:chExt cx="7072560" cy="4023000"/>
          </a:xfrm>
        </p:grpSpPr>
        <p:sp>
          <p:nvSpPr>
            <p:cNvPr id="340" name="SMARTInkAnnotation200"/>
            <p:cNvSpPr/>
            <p:nvPr/>
          </p:nvSpPr>
          <p:spPr>
            <a:xfrm>
              <a:off x="1637280" y="1523880"/>
              <a:ext cx="3696120" cy="384480"/>
            </a:xfrm>
            <a:custGeom>
              <a:avLst/>
              <a:gdLst>
                <a:gd name="textAreaLeft" fmla="*/ 0 w 3696120"/>
                <a:gd name="textAreaRight" fmla="*/ 3696480 w 369612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3695608" h="384728">
                  <a:moveTo>
                    <a:pt x="3688080" y="0"/>
                  </a:moveTo>
                  <a:lnTo>
                    <a:pt x="3692125" y="4045"/>
                  </a:lnTo>
                  <a:lnTo>
                    <a:pt x="3693317" y="6084"/>
                  </a:lnTo>
                  <a:lnTo>
                    <a:pt x="3694641" y="10606"/>
                  </a:lnTo>
                  <a:lnTo>
                    <a:pt x="3695491" y="21255"/>
                  </a:lnTo>
                  <a:lnTo>
                    <a:pt x="3695607" y="29484"/>
                  </a:lnTo>
                  <a:lnTo>
                    <a:pt x="3693401" y="38786"/>
                  </a:lnTo>
                  <a:lnTo>
                    <a:pt x="3689598" y="48565"/>
                  </a:lnTo>
                  <a:lnTo>
                    <a:pt x="3685086" y="58556"/>
                  </a:lnTo>
                  <a:lnTo>
                    <a:pt x="3682516" y="68640"/>
                  </a:lnTo>
                  <a:lnTo>
                    <a:pt x="3680527" y="79613"/>
                  </a:lnTo>
                  <a:lnTo>
                    <a:pt x="3678811" y="86096"/>
                  </a:lnTo>
                  <a:lnTo>
                    <a:pt x="3676821" y="92957"/>
                  </a:lnTo>
                  <a:lnTo>
                    <a:pt x="3673801" y="98378"/>
                  </a:lnTo>
                  <a:lnTo>
                    <a:pt x="3665929" y="106659"/>
                  </a:lnTo>
                  <a:lnTo>
                    <a:pt x="3656787" y="117678"/>
                  </a:lnTo>
                  <a:lnTo>
                    <a:pt x="3651978" y="124172"/>
                  </a:lnTo>
                  <a:lnTo>
                    <a:pt x="3642120" y="135903"/>
                  </a:lnTo>
                  <a:lnTo>
                    <a:pt x="3632093" y="147608"/>
                  </a:lnTo>
                  <a:lnTo>
                    <a:pt x="3627048" y="154285"/>
                  </a:lnTo>
                  <a:lnTo>
                    <a:pt x="3621993" y="161277"/>
                  </a:lnTo>
                  <a:lnTo>
                    <a:pt x="3616082" y="167631"/>
                  </a:lnTo>
                  <a:lnTo>
                    <a:pt x="3602741" y="179207"/>
                  </a:lnTo>
                  <a:lnTo>
                    <a:pt x="3596473" y="185512"/>
                  </a:lnTo>
                  <a:lnTo>
                    <a:pt x="3590603" y="192254"/>
                  </a:lnTo>
                  <a:lnTo>
                    <a:pt x="3584995" y="199290"/>
                  </a:lnTo>
                  <a:lnTo>
                    <a:pt x="3577870" y="205673"/>
                  </a:lnTo>
                  <a:lnTo>
                    <a:pt x="3560922" y="217282"/>
                  </a:lnTo>
                  <a:lnTo>
                    <a:pt x="3542102" y="228085"/>
                  </a:lnTo>
                  <a:lnTo>
                    <a:pt x="3522448" y="239378"/>
                  </a:lnTo>
                  <a:lnTo>
                    <a:pt x="3512465" y="245945"/>
                  </a:lnTo>
                  <a:lnTo>
                    <a:pt x="3502423" y="252863"/>
                  </a:lnTo>
                  <a:lnTo>
                    <a:pt x="3491496" y="259169"/>
                  </a:lnTo>
                  <a:lnTo>
                    <a:pt x="3468065" y="270691"/>
                  </a:lnTo>
                  <a:lnTo>
                    <a:pt x="3443540" y="281456"/>
                  </a:lnTo>
                  <a:lnTo>
                    <a:pt x="3380648" y="307276"/>
                  </a:lnTo>
                  <a:lnTo>
                    <a:pt x="3355299" y="317472"/>
                  </a:lnTo>
                  <a:lnTo>
                    <a:pt x="3313183" y="328686"/>
                  </a:lnTo>
                  <a:lnTo>
                    <a:pt x="3283546" y="336865"/>
                  </a:lnTo>
                  <a:lnTo>
                    <a:pt x="3240558" y="348732"/>
                  </a:lnTo>
                  <a:lnTo>
                    <a:pt x="3180016" y="360327"/>
                  </a:lnTo>
                  <a:lnTo>
                    <a:pt x="3082272" y="371844"/>
                  </a:lnTo>
                  <a:lnTo>
                    <a:pt x="2976767" y="379806"/>
                  </a:lnTo>
                  <a:lnTo>
                    <a:pt x="2879677" y="383101"/>
                  </a:lnTo>
                  <a:lnTo>
                    <a:pt x="2819198" y="384727"/>
                  </a:lnTo>
                  <a:lnTo>
                    <a:pt x="2717773" y="381491"/>
                  </a:lnTo>
                  <a:lnTo>
                    <a:pt x="2612152" y="381065"/>
                  </a:lnTo>
                  <a:lnTo>
                    <a:pt x="2507450" y="372719"/>
                  </a:lnTo>
                  <a:lnTo>
                    <a:pt x="2400205" y="365830"/>
                  </a:lnTo>
                  <a:lnTo>
                    <a:pt x="2292437" y="355275"/>
                  </a:lnTo>
                  <a:lnTo>
                    <a:pt x="1683993" y="287020"/>
                  </a:lnTo>
                  <a:lnTo>
                    <a:pt x="1619477" y="275355"/>
                  </a:lnTo>
                  <a:lnTo>
                    <a:pt x="1557464" y="265219"/>
                  </a:lnTo>
                  <a:lnTo>
                    <a:pt x="1428578" y="249013"/>
                  </a:lnTo>
                  <a:lnTo>
                    <a:pt x="1299096" y="227127"/>
                  </a:lnTo>
                  <a:lnTo>
                    <a:pt x="1121651" y="203228"/>
                  </a:lnTo>
                  <a:lnTo>
                    <a:pt x="1065460" y="191543"/>
                  </a:lnTo>
                  <a:lnTo>
                    <a:pt x="1011275" y="181402"/>
                  </a:lnTo>
                  <a:lnTo>
                    <a:pt x="940717" y="169543"/>
                  </a:lnTo>
                  <a:lnTo>
                    <a:pt x="892565" y="157385"/>
                  </a:lnTo>
                  <a:lnTo>
                    <a:pt x="846124" y="148045"/>
                  </a:lnTo>
                  <a:lnTo>
                    <a:pt x="800190" y="139068"/>
                  </a:lnTo>
                  <a:lnTo>
                    <a:pt x="755253" y="126907"/>
                  </a:lnTo>
                  <a:lnTo>
                    <a:pt x="713905" y="117565"/>
                  </a:lnTo>
                  <a:lnTo>
                    <a:pt x="643812" y="104235"/>
                  </a:lnTo>
                  <a:lnTo>
                    <a:pt x="551266" y="93279"/>
                  </a:lnTo>
                  <a:lnTo>
                    <a:pt x="451312" y="80193"/>
                  </a:lnTo>
                  <a:lnTo>
                    <a:pt x="343618" y="76246"/>
                  </a:lnTo>
                  <a:lnTo>
                    <a:pt x="327979" y="77067"/>
                  </a:lnTo>
                  <a:lnTo>
                    <a:pt x="281121" y="88353"/>
                  </a:lnTo>
                  <a:lnTo>
                    <a:pt x="253852" y="92219"/>
                  </a:lnTo>
                  <a:lnTo>
                    <a:pt x="230156" y="102489"/>
                  </a:lnTo>
                  <a:lnTo>
                    <a:pt x="201199" y="116623"/>
                  </a:lnTo>
                  <a:lnTo>
                    <a:pt x="181535" y="128441"/>
                  </a:lnTo>
                  <a:lnTo>
                    <a:pt x="169300" y="137801"/>
                  </a:lnTo>
                  <a:lnTo>
                    <a:pt x="157371" y="147605"/>
                  </a:lnTo>
                  <a:lnTo>
                    <a:pt x="143603" y="157606"/>
                  </a:lnTo>
                  <a:lnTo>
                    <a:pt x="131274" y="167696"/>
                  </a:lnTo>
                  <a:lnTo>
                    <a:pt x="120151" y="178672"/>
                  </a:lnTo>
                  <a:lnTo>
                    <a:pt x="114814" y="185155"/>
                  </a:lnTo>
                  <a:lnTo>
                    <a:pt x="109563" y="192016"/>
                  </a:lnTo>
                  <a:lnTo>
                    <a:pt x="104368" y="198284"/>
                  </a:lnTo>
                  <a:lnTo>
                    <a:pt x="94081" y="209764"/>
                  </a:lnTo>
                  <a:lnTo>
                    <a:pt x="83865" y="220511"/>
                  </a:lnTo>
                  <a:lnTo>
                    <a:pt x="73680" y="231778"/>
                  </a:lnTo>
                  <a:lnTo>
                    <a:pt x="68593" y="238339"/>
                  </a:lnTo>
                  <a:lnTo>
                    <a:pt x="63509" y="245252"/>
                  </a:lnTo>
                  <a:lnTo>
                    <a:pt x="58426" y="251555"/>
                  </a:lnTo>
                  <a:lnTo>
                    <a:pt x="48263" y="263073"/>
                  </a:lnTo>
                  <a:lnTo>
                    <a:pt x="40359" y="273837"/>
                  </a:lnTo>
                  <a:lnTo>
                    <a:pt x="34024" y="285112"/>
                  </a:lnTo>
                  <a:lnTo>
                    <a:pt x="31149" y="291675"/>
                  </a:lnTo>
                  <a:lnTo>
                    <a:pt x="28386" y="298590"/>
                  </a:lnTo>
                  <a:lnTo>
                    <a:pt x="23058" y="308531"/>
                  </a:lnTo>
                  <a:lnTo>
                    <a:pt x="17868" y="316618"/>
                  </a:lnTo>
                  <a:lnTo>
                    <a:pt x="12739" y="325857"/>
                  </a:lnTo>
                  <a:lnTo>
                    <a:pt x="10186" y="328998"/>
                  </a:lnTo>
                  <a:lnTo>
                    <a:pt x="7638" y="331092"/>
                  </a:lnTo>
                  <a:lnTo>
                    <a:pt x="0" y="335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MARTInkAnnotation201"/>
            <p:cNvSpPr/>
            <p:nvPr/>
          </p:nvSpPr>
          <p:spPr>
            <a:xfrm>
              <a:off x="1469880" y="2400120"/>
              <a:ext cx="236160" cy="151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6221" h="15241">
                  <a:moveTo>
                    <a:pt x="0" y="15240"/>
                  </a:moveTo>
                  <a:lnTo>
                    <a:pt x="62626" y="15240"/>
                  </a:lnTo>
                  <a:lnTo>
                    <a:pt x="68844" y="14394"/>
                  </a:lnTo>
                  <a:lnTo>
                    <a:pt x="74683" y="12983"/>
                  </a:lnTo>
                  <a:lnTo>
                    <a:pt x="80269" y="11195"/>
                  </a:lnTo>
                  <a:lnTo>
                    <a:pt x="86532" y="10003"/>
                  </a:lnTo>
                  <a:lnTo>
                    <a:pt x="93249" y="9209"/>
                  </a:lnTo>
                  <a:lnTo>
                    <a:pt x="100266" y="8680"/>
                  </a:lnTo>
                  <a:lnTo>
                    <a:pt x="107484" y="8326"/>
                  </a:lnTo>
                  <a:lnTo>
                    <a:pt x="122277" y="7934"/>
                  </a:lnTo>
                  <a:lnTo>
                    <a:pt x="161111" y="7648"/>
                  </a:lnTo>
                  <a:lnTo>
                    <a:pt x="179158" y="7628"/>
                  </a:lnTo>
                  <a:lnTo>
                    <a:pt x="185479" y="6779"/>
                  </a:lnTo>
                  <a:lnTo>
                    <a:pt x="192232" y="5366"/>
                  </a:lnTo>
                  <a:lnTo>
                    <a:pt x="199275" y="3577"/>
                  </a:lnTo>
                  <a:lnTo>
                    <a:pt x="204817" y="2385"/>
                  </a:lnTo>
                  <a:lnTo>
                    <a:pt x="209358" y="1590"/>
                  </a:lnTo>
                  <a:lnTo>
                    <a:pt x="213232" y="1060"/>
                  </a:lnTo>
                  <a:lnTo>
                    <a:pt x="216661" y="707"/>
                  </a:lnTo>
                  <a:lnTo>
                    <a:pt x="222730" y="314"/>
                  </a:lnTo>
                  <a:lnTo>
                    <a:pt x="228249" y="140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SMARTInkAnnotation202"/>
            <p:cNvSpPr/>
            <p:nvPr/>
          </p:nvSpPr>
          <p:spPr>
            <a:xfrm>
              <a:off x="1771200" y="2255040"/>
              <a:ext cx="163440" cy="2894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63414" h="289561">
                  <a:moveTo>
                    <a:pt x="41493" y="0"/>
                  </a:moveTo>
                  <a:lnTo>
                    <a:pt x="41493" y="11352"/>
                  </a:lnTo>
                  <a:lnTo>
                    <a:pt x="39235" y="18027"/>
                  </a:lnTo>
                  <a:lnTo>
                    <a:pt x="36256" y="25792"/>
                  </a:lnTo>
                  <a:lnTo>
                    <a:pt x="34932" y="32066"/>
                  </a:lnTo>
                  <a:lnTo>
                    <a:pt x="33732" y="36617"/>
                  </a:lnTo>
                  <a:lnTo>
                    <a:pt x="32086" y="42192"/>
                  </a:lnTo>
                  <a:lnTo>
                    <a:pt x="30142" y="48448"/>
                  </a:lnTo>
                  <a:lnTo>
                    <a:pt x="27999" y="54312"/>
                  </a:lnTo>
                  <a:lnTo>
                    <a:pt x="25724" y="59915"/>
                  </a:lnTo>
                  <a:lnTo>
                    <a:pt x="23360" y="65343"/>
                  </a:lnTo>
                  <a:lnTo>
                    <a:pt x="20938" y="71502"/>
                  </a:lnTo>
                  <a:lnTo>
                    <a:pt x="15989" y="85119"/>
                  </a:lnTo>
                  <a:lnTo>
                    <a:pt x="8442" y="107065"/>
                  </a:lnTo>
                  <a:lnTo>
                    <a:pt x="5913" y="113710"/>
                  </a:lnTo>
                  <a:lnTo>
                    <a:pt x="3379" y="119834"/>
                  </a:lnTo>
                  <a:lnTo>
                    <a:pt x="844" y="125609"/>
                  </a:lnTo>
                  <a:lnTo>
                    <a:pt x="0" y="131999"/>
                  </a:lnTo>
                  <a:lnTo>
                    <a:pt x="284" y="138800"/>
                  </a:lnTo>
                  <a:lnTo>
                    <a:pt x="1321" y="145873"/>
                  </a:lnTo>
                  <a:lnTo>
                    <a:pt x="2858" y="153129"/>
                  </a:lnTo>
                  <a:lnTo>
                    <a:pt x="4730" y="160506"/>
                  </a:lnTo>
                  <a:lnTo>
                    <a:pt x="6824" y="167964"/>
                  </a:lnTo>
                  <a:lnTo>
                    <a:pt x="9067" y="174630"/>
                  </a:lnTo>
                  <a:lnTo>
                    <a:pt x="11409" y="180766"/>
                  </a:lnTo>
                  <a:lnTo>
                    <a:pt x="13817" y="186551"/>
                  </a:lnTo>
                  <a:lnTo>
                    <a:pt x="16269" y="192948"/>
                  </a:lnTo>
                  <a:lnTo>
                    <a:pt x="21251" y="206828"/>
                  </a:lnTo>
                  <a:lnTo>
                    <a:pt x="24612" y="212392"/>
                  </a:lnTo>
                  <a:lnTo>
                    <a:pt x="28546" y="216948"/>
                  </a:lnTo>
                  <a:lnTo>
                    <a:pt x="32861" y="220832"/>
                  </a:lnTo>
                  <a:lnTo>
                    <a:pt x="38279" y="225115"/>
                  </a:lnTo>
                  <a:lnTo>
                    <a:pt x="44430" y="229663"/>
                  </a:lnTo>
                  <a:lnTo>
                    <a:pt x="51071" y="234389"/>
                  </a:lnTo>
                  <a:lnTo>
                    <a:pt x="57192" y="239233"/>
                  </a:lnTo>
                  <a:lnTo>
                    <a:pt x="62966" y="244155"/>
                  </a:lnTo>
                  <a:lnTo>
                    <a:pt x="68508" y="249130"/>
                  </a:lnTo>
                  <a:lnTo>
                    <a:pt x="73896" y="253294"/>
                  </a:lnTo>
                  <a:lnTo>
                    <a:pt x="79182" y="256916"/>
                  </a:lnTo>
                  <a:lnTo>
                    <a:pt x="84399" y="260177"/>
                  </a:lnTo>
                  <a:lnTo>
                    <a:pt x="90417" y="263198"/>
                  </a:lnTo>
                  <a:lnTo>
                    <a:pt x="96969" y="266059"/>
                  </a:lnTo>
                  <a:lnTo>
                    <a:pt x="103877" y="268813"/>
                  </a:lnTo>
                  <a:lnTo>
                    <a:pt x="110176" y="271495"/>
                  </a:lnTo>
                  <a:lnTo>
                    <a:pt x="121690" y="276734"/>
                  </a:lnTo>
                  <a:lnTo>
                    <a:pt x="126284" y="278469"/>
                  </a:lnTo>
                  <a:lnTo>
                    <a:pt x="130194" y="279626"/>
                  </a:lnTo>
                  <a:lnTo>
                    <a:pt x="133647" y="280397"/>
                  </a:lnTo>
                  <a:lnTo>
                    <a:pt x="138489" y="281758"/>
                  </a:lnTo>
                  <a:lnTo>
                    <a:pt x="163413" y="2895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MARTInkAnnotation203"/>
            <p:cNvSpPr/>
            <p:nvPr/>
          </p:nvSpPr>
          <p:spPr>
            <a:xfrm>
              <a:off x="1935000" y="2232360"/>
              <a:ext cx="144360" cy="281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44459" h="281941">
                  <a:moveTo>
                    <a:pt x="22538" y="0"/>
                  </a:moveTo>
                  <a:lnTo>
                    <a:pt x="22538" y="18199"/>
                  </a:lnTo>
                  <a:lnTo>
                    <a:pt x="21692" y="20599"/>
                  </a:lnTo>
                  <a:lnTo>
                    <a:pt x="17301" y="28023"/>
                  </a:lnTo>
                  <a:lnTo>
                    <a:pt x="15977" y="33057"/>
                  </a:lnTo>
                  <a:lnTo>
                    <a:pt x="15389" y="40375"/>
                  </a:lnTo>
                  <a:lnTo>
                    <a:pt x="15128" y="49271"/>
                  </a:lnTo>
                  <a:lnTo>
                    <a:pt x="15011" y="58869"/>
                  </a:lnTo>
                  <a:lnTo>
                    <a:pt x="14133" y="62953"/>
                  </a:lnTo>
                  <a:lnTo>
                    <a:pt x="10900" y="69748"/>
                  </a:lnTo>
                  <a:lnTo>
                    <a:pt x="8899" y="77848"/>
                  </a:lnTo>
                  <a:lnTo>
                    <a:pt x="8365" y="82379"/>
                  </a:lnTo>
                  <a:lnTo>
                    <a:pt x="8010" y="87093"/>
                  </a:lnTo>
                  <a:lnTo>
                    <a:pt x="7772" y="91928"/>
                  </a:lnTo>
                  <a:lnTo>
                    <a:pt x="7614" y="96845"/>
                  </a:lnTo>
                  <a:lnTo>
                    <a:pt x="6662" y="101817"/>
                  </a:lnTo>
                  <a:lnTo>
                    <a:pt x="5181" y="106825"/>
                  </a:lnTo>
                  <a:lnTo>
                    <a:pt x="3346" y="111857"/>
                  </a:lnTo>
                  <a:lnTo>
                    <a:pt x="2124" y="116904"/>
                  </a:lnTo>
                  <a:lnTo>
                    <a:pt x="1309" y="121963"/>
                  </a:lnTo>
                  <a:lnTo>
                    <a:pt x="765" y="127029"/>
                  </a:lnTo>
                  <a:lnTo>
                    <a:pt x="403" y="132099"/>
                  </a:lnTo>
                  <a:lnTo>
                    <a:pt x="161" y="137173"/>
                  </a:lnTo>
                  <a:lnTo>
                    <a:pt x="0" y="142249"/>
                  </a:lnTo>
                  <a:lnTo>
                    <a:pt x="739" y="147326"/>
                  </a:lnTo>
                  <a:lnTo>
                    <a:pt x="2079" y="152404"/>
                  </a:lnTo>
                  <a:lnTo>
                    <a:pt x="3819" y="157482"/>
                  </a:lnTo>
                  <a:lnTo>
                    <a:pt x="4979" y="162562"/>
                  </a:lnTo>
                  <a:lnTo>
                    <a:pt x="5752" y="167641"/>
                  </a:lnTo>
                  <a:lnTo>
                    <a:pt x="6267" y="172721"/>
                  </a:lnTo>
                  <a:lnTo>
                    <a:pt x="7457" y="177801"/>
                  </a:lnTo>
                  <a:lnTo>
                    <a:pt x="9098" y="182880"/>
                  </a:lnTo>
                  <a:lnTo>
                    <a:pt x="11038" y="187960"/>
                  </a:lnTo>
                  <a:lnTo>
                    <a:pt x="13178" y="193040"/>
                  </a:lnTo>
                  <a:lnTo>
                    <a:pt x="15451" y="198120"/>
                  </a:lnTo>
                  <a:lnTo>
                    <a:pt x="20235" y="208280"/>
                  </a:lnTo>
                  <a:lnTo>
                    <a:pt x="25183" y="218440"/>
                  </a:lnTo>
                  <a:lnTo>
                    <a:pt x="28535" y="222673"/>
                  </a:lnTo>
                  <a:lnTo>
                    <a:pt x="32463" y="226342"/>
                  </a:lnTo>
                  <a:lnTo>
                    <a:pt x="36774" y="229635"/>
                  </a:lnTo>
                  <a:lnTo>
                    <a:pt x="41342" y="233523"/>
                  </a:lnTo>
                  <a:lnTo>
                    <a:pt x="46081" y="237809"/>
                  </a:lnTo>
                  <a:lnTo>
                    <a:pt x="50933" y="242359"/>
                  </a:lnTo>
                  <a:lnTo>
                    <a:pt x="55862" y="246239"/>
                  </a:lnTo>
                  <a:lnTo>
                    <a:pt x="60840" y="249673"/>
                  </a:lnTo>
                  <a:lnTo>
                    <a:pt x="65853" y="252809"/>
                  </a:lnTo>
                  <a:lnTo>
                    <a:pt x="71735" y="255746"/>
                  </a:lnTo>
                  <a:lnTo>
                    <a:pt x="78196" y="258551"/>
                  </a:lnTo>
                  <a:lnTo>
                    <a:pt x="85043" y="261267"/>
                  </a:lnTo>
                  <a:lnTo>
                    <a:pt x="92148" y="263078"/>
                  </a:lnTo>
                  <a:lnTo>
                    <a:pt x="99425" y="264285"/>
                  </a:lnTo>
                  <a:lnTo>
                    <a:pt x="106816" y="265090"/>
                  </a:lnTo>
                  <a:lnTo>
                    <a:pt x="112590" y="266474"/>
                  </a:lnTo>
                  <a:lnTo>
                    <a:pt x="117286" y="268243"/>
                  </a:lnTo>
                  <a:lnTo>
                    <a:pt x="144458" y="2819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MARTInkAnnotation204"/>
            <p:cNvSpPr/>
            <p:nvPr/>
          </p:nvSpPr>
          <p:spPr>
            <a:xfrm>
              <a:off x="1995480" y="2354400"/>
              <a:ext cx="114120" cy="7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14301" h="7621">
                  <a:moveTo>
                    <a:pt x="0" y="0"/>
                  </a:moveTo>
                  <a:lnTo>
                    <a:pt x="7306" y="0"/>
                  </a:lnTo>
                  <a:lnTo>
                    <a:pt x="8258" y="847"/>
                  </a:lnTo>
                  <a:lnTo>
                    <a:pt x="11573" y="4045"/>
                  </a:lnTo>
                  <a:lnTo>
                    <a:pt x="13642" y="5237"/>
                  </a:lnTo>
                  <a:lnTo>
                    <a:pt x="15868" y="6031"/>
                  </a:lnTo>
                  <a:lnTo>
                    <a:pt x="18199" y="6561"/>
                  </a:lnTo>
                  <a:lnTo>
                    <a:pt x="21446" y="6914"/>
                  </a:lnTo>
                  <a:lnTo>
                    <a:pt x="25304" y="7149"/>
                  </a:lnTo>
                  <a:lnTo>
                    <a:pt x="33260" y="7411"/>
                  </a:lnTo>
                  <a:lnTo>
                    <a:pt x="43345" y="7558"/>
                  </a:lnTo>
                  <a:lnTo>
                    <a:pt x="11430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205"/>
            <p:cNvSpPr/>
            <p:nvPr/>
          </p:nvSpPr>
          <p:spPr>
            <a:xfrm>
              <a:off x="2140560" y="2262960"/>
              <a:ext cx="60840" cy="68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60952" h="68578">
                  <a:moveTo>
                    <a:pt x="22851" y="0"/>
                  </a:moveTo>
                  <a:lnTo>
                    <a:pt x="22851" y="6561"/>
                  </a:lnTo>
                  <a:lnTo>
                    <a:pt x="22004" y="7761"/>
                  </a:lnTo>
                  <a:lnTo>
                    <a:pt x="20593" y="9407"/>
                  </a:lnTo>
                  <a:lnTo>
                    <a:pt x="16290" y="14088"/>
                  </a:lnTo>
                  <a:lnTo>
                    <a:pt x="11500" y="18944"/>
                  </a:lnTo>
                  <a:lnTo>
                    <a:pt x="10204" y="21096"/>
                  </a:lnTo>
                  <a:lnTo>
                    <a:pt x="9340" y="23377"/>
                  </a:lnTo>
                  <a:lnTo>
                    <a:pt x="8763" y="25745"/>
                  </a:lnTo>
                  <a:lnTo>
                    <a:pt x="7533" y="28170"/>
                  </a:lnTo>
                  <a:lnTo>
                    <a:pt x="5865" y="30633"/>
                  </a:lnTo>
                  <a:lnTo>
                    <a:pt x="3907" y="33122"/>
                  </a:lnTo>
                  <a:lnTo>
                    <a:pt x="2602" y="35628"/>
                  </a:lnTo>
                  <a:lnTo>
                    <a:pt x="1731" y="38146"/>
                  </a:lnTo>
                  <a:lnTo>
                    <a:pt x="1152" y="40670"/>
                  </a:lnTo>
                  <a:lnTo>
                    <a:pt x="765" y="43200"/>
                  </a:lnTo>
                  <a:lnTo>
                    <a:pt x="507" y="45733"/>
                  </a:lnTo>
                  <a:lnTo>
                    <a:pt x="335" y="48269"/>
                  </a:lnTo>
                  <a:lnTo>
                    <a:pt x="221" y="50806"/>
                  </a:lnTo>
                  <a:lnTo>
                    <a:pt x="22" y="59456"/>
                  </a:lnTo>
                  <a:lnTo>
                    <a:pt x="0" y="64560"/>
                  </a:lnTo>
                  <a:lnTo>
                    <a:pt x="844" y="65900"/>
                  </a:lnTo>
                  <a:lnTo>
                    <a:pt x="2253" y="66793"/>
                  </a:lnTo>
                  <a:lnTo>
                    <a:pt x="4039" y="67389"/>
                  </a:lnTo>
                  <a:lnTo>
                    <a:pt x="6076" y="67786"/>
                  </a:lnTo>
                  <a:lnTo>
                    <a:pt x="8281" y="68051"/>
                  </a:lnTo>
                  <a:lnTo>
                    <a:pt x="10598" y="68227"/>
                  </a:lnTo>
                  <a:lnTo>
                    <a:pt x="12989" y="68345"/>
                  </a:lnTo>
                  <a:lnTo>
                    <a:pt x="17903" y="68475"/>
                  </a:lnTo>
                  <a:lnTo>
                    <a:pt x="40634" y="68577"/>
                  </a:lnTo>
                  <a:lnTo>
                    <a:pt x="43173" y="67731"/>
                  </a:lnTo>
                  <a:lnTo>
                    <a:pt x="45712" y="66321"/>
                  </a:lnTo>
                  <a:lnTo>
                    <a:pt x="48252" y="64534"/>
                  </a:lnTo>
                  <a:lnTo>
                    <a:pt x="50791" y="63343"/>
                  </a:lnTo>
                  <a:lnTo>
                    <a:pt x="53331" y="62548"/>
                  </a:lnTo>
                  <a:lnTo>
                    <a:pt x="55871" y="62019"/>
                  </a:lnTo>
                  <a:lnTo>
                    <a:pt x="57565" y="60819"/>
                  </a:lnTo>
                  <a:lnTo>
                    <a:pt x="58693" y="59173"/>
                  </a:lnTo>
                  <a:lnTo>
                    <a:pt x="60951" y="533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206"/>
            <p:cNvSpPr/>
            <p:nvPr/>
          </p:nvSpPr>
          <p:spPr>
            <a:xfrm>
              <a:off x="2216880" y="2262960"/>
              <a:ext cx="22680" cy="1598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2768" h="160021">
                  <a:moveTo>
                    <a:pt x="7527" y="0"/>
                  </a:moveTo>
                  <a:lnTo>
                    <a:pt x="7527" y="18198"/>
                  </a:lnTo>
                  <a:lnTo>
                    <a:pt x="6681" y="20599"/>
                  </a:lnTo>
                  <a:lnTo>
                    <a:pt x="5269" y="23046"/>
                  </a:lnTo>
                  <a:lnTo>
                    <a:pt x="3482" y="25524"/>
                  </a:lnTo>
                  <a:lnTo>
                    <a:pt x="2290" y="28870"/>
                  </a:lnTo>
                  <a:lnTo>
                    <a:pt x="1496" y="32793"/>
                  </a:lnTo>
                  <a:lnTo>
                    <a:pt x="966" y="37102"/>
                  </a:lnTo>
                  <a:lnTo>
                    <a:pt x="613" y="40821"/>
                  </a:lnTo>
                  <a:lnTo>
                    <a:pt x="378" y="44148"/>
                  </a:lnTo>
                  <a:lnTo>
                    <a:pt x="221" y="47212"/>
                  </a:lnTo>
                  <a:lnTo>
                    <a:pt x="47" y="55132"/>
                  </a:lnTo>
                  <a:lnTo>
                    <a:pt x="0" y="59615"/>
                  </a:lnTo>
                  <a:lnTo>
                    <a:pt x="816" y="64296"/>
                  </a:lnTo>
                  <a:lnTo>
                    <a:pt x="2206" y="69111"/>
                  </a:lnTo>
                  <a:lnTo>
                    <a:pt x="3980" y="74014"/>
                  </a:lnTo>
                  <a:lnTo>
                    <a:pt x="5162" y="78976"/>
                  </a:lnTo>
                  <a:lnTo>
                    <a:pt x="5950" y="83977"/>
                  </a:lnTo>
                  <a:lnTo>
                    <a:pt x="6476" y="89005"/>
                  </a:lnTo>
                  <a:lnTo>
                    <a:pt x="6826" y="94050"/>
                  </a:lnTo>
                  <a:lnTo>
                    <a:pt x="7060" y="99107"/>
                  </a:lnTo>
                  <a:lnTo>
                    <a:pt x="7319" y="109241"/>
                  </a:lnTo>
                  <a:lnTo>
                    <a:pt x="7435" y="119389"/>
                  </a:lnTo>
                  <a:lnTo>
                    <a:pt x="8312" y="123620"/>
                  </a:lnTo>
                  <a:lnTo>
                    <a:pt x="9744" y="127286"/>
                  </a:lnTo>
                  <a:lnTo>
                    <a:pt x="11545" y="130578"/>
                  </a:lnTo>
                  <a:lnTo>
                    <a:pt x="12746" y="134465"/>
                  </a:lnTo>
                  <a:lnTo>
                    <a:pt x="13546" y="138750"/>
                  </a:lnTo>
                  <a:lnTo>
                    <a:pt x="14080" y="143300"/>
                  </a:lnTo>
                  <a:lnTo>
                    <a:pt x="15282" y="147180"/>
                  </a:lnTo>
                  <a:lnTo>
                    <a:pt x="16930" y="150613"/>
                  </a:lnTo>
                  <a:lnTo>
                    <a:pt x="22767" y="1600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207"/>
            <p:cNvSpPr/>
            <p:nvPr/>
          </p:nvSpPr>
          <p:spPr>
            <a:xfrm>
              <a:off x="2254680" y="2209320"/>
              <a:ext cx="98280" cy="32760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98605" h="327661">
                  <a:moveTo>
                    <a:pt x="0" y="0"/>
                  </a:moveTo>
                  <a:lnTo>
                    <a:pt x="13867" y="0"/>
                  </a:lnTo>
                  <a:lnTo>
                    <a:pt x="16888" y="2258"/>
                  </a:lnTo>
                  <a:lnTo>
                    <a:pt x="18878" y="4045"/>
                  </a:lnTo>
                  <a:lnTo>
                    <a:pt x="21052" y="6930"/>
                  </a:lnTo>
                  <a:lnTo>
                    <a:pt x="23348" y="10547"/>
                  </a:lnTo>
                  <a:lnTo>
                    <a:pt x="25726" y="14651"/>
                  </a:lnTo>
                  <a:lnTo>
                    <a:pt x="28157" y="18234"/>
                  </a:lnTo>
                  <a:lnTo>
                    <a:pt x="30625" y="21470"/>
                  </a:lnTo>
                  <a:lnTo>
                    <a:pt x="33116" y="24473"/>
                  </a:lnTo>
                  <a:lnTo>
                    <a:pt x="35625" y="29016"/>
                  </a:lnTo>
                  <a:lnTo>
                    <a:pt x="38143" y="34584"/>
                  </a:lnTo>
                  <a:lnTo>
                    <a:pt x="40669" y="40836"/>
                  </a:lnTo>
                  <a:lnTo>
                    <a:pt x="44046" y="46697"/>
                  </a:lnTo>
                  <a:lnTo>
                    <a:pt x="47991" y="52298"/>
                  </a:lnTo>
                  <a:lnTo>
                    <a:pt x="52314" y="57726"/>
                  </a:lnTo>
                  <a:lnTo>
                    <a:pt x="56889" y="63884"/>
                  </a:lnTo>
                  <a:lnTo>
                    <a:pt x="66488" y="77500"/>
                  </a:lnTo>
                  <a:lnTo>
                    <a:pt x="70573" y="84686"/>
                  </a:lnTo>
                  <a:lnTo>
                    <a:pt x="74141" y="92018"/>
                  </a:lnTo>
                  <a:lnTo>
                    <a:pt x="77368" y="99445"/>
                  </a:lnTo>
                  <a:lnTo>
                    <a:pt x="80365" y="106937"/>
                  </a:lnTo>
                  <a:lnTo>
                    <a:pt x="85953" y="122034"/>
                  </a:lnTo>
                  <a:lnTo>
                    <a:pt x="88629" y="130463"/>
                  </a:lnTo>
                  <a:lnTo>
                    <a:pt x="93860" y="148859"/>
                  </a:lnTo>
                  <a:lnTo>
                    <a:pt x="95593" y="157660"/>
                  </a:lnTo>
                  <a:lnTo>
                    <a:pt x="96748" y="166066"/>
                  </a:lnTo>
                  <a:lnTo>
                    <a:pt x="97519" y="174211"/>
                  </a:lnTo>
                  <a:lnTo>
                    <a:pt x="98033" y="183027"/>
                  </a:lnTo>
                  <a:lnTo>
                    <a:pt x="98604" y="201855"/>
                  </a:lnTo>
                  <a:lnTo>
                    <a:pt x="97909" y="210770"/>
                  </a:lnTo>
                  <a:lnTo>
                    <a:pt x="96599" y="219253"/>
                  </a:lnTo>
                  <a:lnTo>
                    <a:pt x="94880" y="227449"/>
                  </a:lnTo>
                  <a:lnTo>
                    <a:pt x="92887" y="235453"/>
                  </a:lnTo>
                  <a:lnTo>
                    <a:pt x="90711" y="243328"/>
                  </a:lnTo>
                  <a:lnTo>
                    <a:pt x="88414" y="251119"/>
                  </a:lnTo>
                  <a:lnTo>
                    <a:pt x="86036" y="258006"/>
                  </a:lnTo>
                  <a:lnTo>
                    <a:pt x="83604" y="264291"/>
                  </a:lnTo>
                  <a:lnTo>
                    <a:pt x="81136" y="270174"/>
                  </a:lnTo>
                  <a:lnTo>
                    <a:pt x="76951" y="275790"/>
                  </a:lnTo>
                  <a:lnTo>
                    <a:pt x="71621" y="281226"/>
                  </a:lnTo>
                  <a:lnTo>
                    <a:pt x="60618" y="290936"/>
                  </a:lnTo>
                  <a:lnTo>
                    <a:pt x="52906" y="298074"/>
                  </a:lnTo>
                  <a:lnTo>
                    <a:pt x="39759" y="310897"/>
                  </a:lnTo>
                  <a:lnTo>
                    <a:pt x="35819" y="313945"/>
                  </a:lnTo>
                  <a:lnTo>
                    <a:pt x="32346" y="315977"/>
                  </a:lnTo>
                  <a:lnTo>
                    <a:pt x="29184" y="317331"/>
                  </a:lnTo>
                  <a:lnTo>
                    <a:pt x="26229" y="319081"/>
                  </a:lnTo>
                  <a:lnTo>
                    <a:pt x="23413" y="321094"/>
                  </a:lnTo>
                  <a:lnTo>
                    <a:pt x="15240" y="3276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208"/>
            <p:cNvSpPr/>
            <p:nvPr/>
          </p:nvSpPr>
          <p:spPr>
            <a:xfrm>
              <a:off x="2399760" y="2224800"/>
              <a:ext cx="152280" cy="297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52364" h="297181">
                  <a:moveTo>
                    <a:pt x="22823" y="0"/>
                  </a:moveTo>
                  <a:lnTo>
                    <a:pt x="22823" y="8090"/>
                  </a:lnTo>
                  <a:lnTo>
                    <a:pt x="21977" y="11320"/>
                  </a:lnTo>
                  <a:lnTo>
                    <a:pt x="18778" y="17167"/>
                  </a:lnTo>
                  <a:lnTo>
                    <a:pt x="16792" y="24845"/>
                  </a:lnTo>
                  <a:lnTo>
                    <a:pt x="15063" y="33902"/>
                  </a:lnTo>
                  <a:lnTo>
                    <a:pt x="13416" y="38688"/>
                  </a:lnTo>
                  <a:lnTo>
                    <a:pt x="11472" y="43572"/>
                  </a:lnTo>
                  <a:lnTo>
                    <a:pt x="7054" y="55772"/>
                  </a:lnTo>
                  <a:lnTo>
                    <a:pt x="4690" y="62581"/>
                  </a:lnTo>
                  <a:lnTo>
                    <a:pt x="3115" y="69661"/>
                  </a:lnTo>
                  <a:lnTo>
                    <a:pt x="2064" y="76921"/>
                  </a:lnTo>
                  <a:lnTo>
                    <a:pt x="1364" y="84300"/>
                  </a:lnTo>
                  <a:lnTo>
                    <a:pt x="897" y="91760"/>
                  </a:lnTo>
                  <a:lnTo>
                    <a:pt x="378" y="106822"/>
                  </a:lnTo>
                  <a:lnTo>
                    <a:pt x="45" y="137188"/>
                  </a:lnTo>
                  <a:lnTo>
                    <a:pt x="0" y="152413"/>
                  </a:lnTo>
                  <a:lnTo>
                    <a:pt x="834" y="160028"/>
                  </a:lnTo>
                  <a:lnTo>
                    <a:pt x="2237" y="167646"/>
                  </a:lnTo>
                  <a:lnTo>
                    <a:pt x="4019" y="175264"/>
                  </a:lnTo>
                  <a:lnTo>
                    <a:pt x="6054" y="182883"/>
                  </a:lnTo>
                  <a:lnTo>
                    <a:pt x="10573" y="198121"/>
                  </a:lnTo>
                  <a:lnTo>
                    <a:pt x="13809" y="205741"/>
                  </a:lnTo>
                  <a:lnTo>
                    <a:pt x="17661" y="213361"/>
                  </a:lnTo>
                  <a:lnTo>
                    <a:pt x="21922" y="220980"/>
                  </a:lnTo>
                  <a:lnTo>
                    <a:pt x="26456" y="227754"/>
                  </a:lnTo>
                  <a:lnTo>
                    <a:pt x="31172" y="233963"/>
                  </a:lnTo>
                  <a:lnTo>
                    <a:pt x="36009" y="239795"/>
                  </a:lnTo>
                  <a:lnTo>
                    <a:pt x="41773" y="245377"/>
                  </a:lnTo>
                  <a:lnTo>
                    <a:pt x="48157" y="250791"/>
                  </a:lnTo>
                  <a:lnTo>
                    <a:pt x="54952" y="256094"/>
                  </a:lnTo>
                  <a:lnTo>
                    <a:pt x="62023" y="260476"/>
                  </a:lnTo>
                  <a:lnTo>
                    <a:pt x="69276" y="264244"/>
                  </a:lnTo>
                  <a:lnTo>
                    <a:pt x="76652" y="267603"/>
                  </a:lnTo>
                  <a:lnTo>
                    <a:pt x="103213" y="280420"/>
                  </a:lnTo>
                  <a:lnTo>
                    <a:pt x="111977" y="283467"/>
                  </a:lnTo>
                  <a:lnTo>
                    <a:pt x="120359" y="285498"/>
                  </a:lnTo>
                  <a:lnTo>
                    <a:pt x="128487" y="286852"/>
                  </a:lnTo>
                  <a:lnTo>
                    <a:pt x="134752" y="288602"/>
                  </a:lnTo>
                  <a:lnTo>
                    <a:pt x="139776" y="290614"/>
                  </a:lnTo>
                  <a:lnTo>
                    <a:pt x="152363" y="297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209"/>
            <p:cNvSpPr/>
            <p:nvPr/>
          </p:nvSpPr>
          <p:spPr>
            <a:xfrm>
              <a:off x="2498760" y="233892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1" h="1">
                  <a:moveTo>
                    <a:pt x="0" y="0"/>
                  </a:move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210"/>
            <p:cNvSpPr/>
            <p:nvPr/>
          </p:nvSpPr>
          <p:spPr>
            <a:xfrm>
              <a:off x="2651040" y="2232360"/>
              <a:ext cx="114120" cy="182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14289" h="182880">
                  <a:moveTo>
                    <a:pt x="0" y="7619"/>
                  </a:moveTo>
                  <a:lnTo>
                    <a:pt x="51249" y="7619"/>
                  </a:lnTo>
                  <a:lnTo>
                    <a:pt x="56180" y="6772"/>
                  </a:lnTo>
                  <a:lnTo>
                    <a:pt x="61160" y="5361"/>
                  </a:lnTo>
                  <a:lnTo>
                    <a:pt x="66173" y="3574"/>
                  </a:lnTo>
                  <a:lnTo>
                    <a:pt x="71209" y="2382"/>
                  </a:lnTo>
                  <a:lnTo>
                    <a:pt x="76259" y="1588"/>
                  </a:lnTo>
                  <a:lnTo>
                    <a:pt x="81319" y="1058"/>
                  </a:lnTo>
                  <a:lnTo>
                    <a:pt x="85540" y="705"/>
                  </a:lnTo>
                  <a:lnTo>
                    <a:pt x="89200" y="470"/>
                  </a:lnTo>
                  <a:lnTo>
                    <a:pt x="95525" y="209"/>
                  </a:lnTo>
                  <a:lnTo>
                    <a:pt x="103845" y="61"/>
                  </a:lnTo>
                  <a:lnTo>
                    <a:pt x="114165" y="0"/>
                  </a:lnTo>
                  <a:lnTo>
                    <a:pt x="114260" y="4044"/>
                  </a:lnTo>
                  <a:lnTo>
                    <a:pt x="114288" y="10605"/>
                  </a:lnTo>
                  <a:lnTo>
                    <a:pt x="112599" y="13843"/>
                  </a:lnTo>
                  <a:lnTo>
                    <a:pt x="109780" y="17695"/>
                  </a:lnTo>
                  <a:lnTo>
                    <a:pt x="106206" y="21957"/>
                  </a:lnTo>
                  <a:lnTo>
                    <a:pt x="102978" y="25644"/>
                  </a:lnTo>
                  <a:lnTo>
                    <a:pt x="97132" y="31999"/>
                  </a:lnTo>
                  <a:lnTo>
                    <a:pt x="94388" y="35726"/>
                  </a:lnTo>
                  <a:lnTo>
                    <a:pt x="91712" y="39903"/>
                  </a:lnTo>
                  <a:lnTo>
                    <a:pt x="89081" y="44382"/>
                  </a:lnTo>
                  <a:lnTo>
                    <a:pt x="85635" y="49061"/>
                  </a:lnTo>
                  <a:lnTo>
                    <a:pt x="81643" y="53874"/>
                  </a:lnTo>
                  <a:lnTo>
                    <a:pt x="77289" y="58776"/>
                  </a:lnTo>
                  <a:lnTo>
                    <a:pt x="73539" y="63737"/>
                  </a:lnTo>
                  <a:lnTo>
                    <a:pt x="70193" y="68737"/>
                  </a:lnTo>
                  <a:lnTo>
                    <a:pt x="67115" y="73764"/>
                  </a:lnTo>
                  <a:lnTo>
                    <a:pt x="63370" y="78810"/>
                  </a:lnTo>
                  <a:lnTo>
                    <a:pt x="59181" y="83866"/>
                  </a:lnTo>
                  <a:lnTo>
                    <a:pt x="54693" y="88930"/>
                  </a:lnTo>
                  <a:lnTo>
                    <a:pt x="51703" y="94847"/>
                  </a:lnTo>
                  <a:lnTo>
                    <a:pt x="49708" y="101331"/>
                  </a:lnTo>
                  <a:lnTo>
                    <a:pt x="48379" y="108194"/>
                  </a:lnTo>
                  <a:lnTo>
                    <a:pt x="46646" y="113616"/>
                  </a:lnTo>
                  <a:lnTo>
                    <a:pt x="44644" y="118077"/>
                  </a:lnTo>
                  <a:lnTo>
                    <a:pt x="42463" y="121898"/>
                  </a:lnTo>
                  <a:lnTo>
                    <a:pt x="41009" y="126138"/>
                  </a:lnTo>
                  <a:lnTo>
                    <a:pt x="40039" y="130659"/>
                  </a:lnTo>
                  <a:lnTo>
                    <a:pt x="39393" y="135365"/>
                  </a:lnTo>
                  <a:lnTo>
                    <a:pt x="38962" y="140196"/>
                  </a:lnTo>
                  <a:lnTo>
                    <a:pt x="38675" y="145111"/>
                  </a:lnTo>
                  <a:lnTo>
                    <a:pt x="38356" y="154240"/>
                  </a:lnTo>
                  <a:lnTo>
                    <a:pt x="38176" y="164139"/>
                  </a:lnTo>
                  <a:lnTo>
                    <a:pt x="38110" y="177673"/>
                  </a:lnTo>
                  <a:lnTo>
                    <a:pt x="37260" y="179408"/>
                  </a:lnTo>
                  <a:lnTo>
                    <a:pt x="35846" y="180565"/>
                  </a:lnTo>
                  <a:lnTo>
                    <a:pt x="30480" y="1828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211"/>
            <p:cNvSpPr/>
            <p:nvPr/>
          </p:nvSpPr>
          <p:spPr>
            <a:xfrm>
              <a:off x="2643480" y="2338920"/>
              <a:ext cx="137160" cy="3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7161" h="1">
                  <a:moveTo>
                    <a:pt x="0" y="0"/>
                  </a:move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212"/>
            <p:cNvSpPr/>
            <p:nvPr/>
          </p:nvSpPr>
          <p:spPr>
            <a:xfrm>
              <a:off x="2765520" y="2171520"/>
              <a:ext cx="113760" cy="335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13816" h="335281">
                  <a:moveTo>
                    <a:pt x="0" y="0"/>
                  </a:moveTo>
                  <a:lnTo>
                    <a:pt x="11352" y="11352"/>
                  </a:lnTo>
                  <a:lnTo>
                    <a:pt x="14341" y="13495"/>
                  </a:lnTo>
                  <a:lnTo>
                    <a:pt x="18027" y="15770"/>
                  </a:lnTo>
                  <a:lnTo>
                    <a:pt x="22179" y="18133"/>
                  </a:lnTo>
                  <a:lnTo>
                    <a:pt x="27486" y="22249"/>
                  </a:lnTo>
                  <a:lnTo>
                    <a:pt x="33564" y="27532"/>
                  </a:lnTo>
                  <a:lnTo>
                    <a:pt x="46244" y="39330"/>
                  </a:lnTo>
                  <a:lnTo>
                    <a:pt x="57524" y="50218"/>
                  </a:lnTo>
                  <a:lnTo>
                    <a:pt x="62903" y="56339"/>
                  </a:lnTo>
                  <a:lnTo>
                    <a:pt x="68182" y="62959"/>
                  </a:lnTo>
                  <a:lnTo>
                    <a:pt x="73395" y="69913"/>
                  </a:lnTo>
                  <a:lnTo>
                    <a:pt x="78563" y="77936"/>
                  </a:lnTo>
                  <a:lnTo>
                    <a:pt x="83702" y="86670"/>
                  </a:lnTo>
                  <a:lnTo>
                    <a:pt x="88822" y="95880"/>
                  </a:lnTo>
                  <a:lnTo>
                    <a:pt x="93082" y="104560"/>
                  </a:lnTo>
                  <a:lnTo>
                    <a:pt x="96767" y="112887"/>
                  </a:lnTo>
                  <a:lnTo>
                    <a:pt x="100072" y="120978"/>
                  </a:lnTo>
                  <a:lnTo>
                    <a:pt x="103121" y="129759"/>
                  </a:lnTo>
                  <a:lnTo>
                    <a:pt x="106001" y="138999"/>
                  </a:lnTo>
                  <a:lnTo>
                    <a:pt x="108767" y="148546"/>
                  </a:lnTo>
                  <a:lnTo>
                    <a:pt x="110612" y="158298"/>
                  </a:lnTo>
                  <a:lnTo>
                    <a:pt x="111841" y="168185"/>
                  </a:lnTo>
                  <a:lnTo>
                    <a:pt x="112661" y="178164"/>
                  </a:lnTo>
                  <a:lnTo>
                    <a:pt x="113207" y="188202"/>
                  </a:lnTo>
                  <a:lnTo>
                    <a:pt x="113815" y="208388"/>
                  </a:lnTo>
                  <a:lnTo>
                    <a:pt x="112283" y="217665"/>
                  </a:lnTo>
                  <a:lnTo>
                    <a:pt x="109569" y="226390"/>
                  </a:lnTo>
                  <a:lnTo>
                    <a:pt x="106066" y="234747"/>
                  </a:lnTo>
                  <a:lnTo>
                    <a:pt x="102037" y="242858"/>
                  </a:lnTo>
                  <a:lnTo>
                    <a:pt x="97659" y="250805"/>
                  </a:lnTo>
                  <a:lnTo>
                    <a:pt x="93046" y="258644"/>
                  </a:lnTo>
                  <a:lnTo>
                    <a:pt x="83405" y="274126"/>
                  </a:lnTo>
                  <a:lnTo>
                    <a:pt x="78463" y="281811"/>
                  </a:lnTo>
                  <a:lnTo>
                    <a:pt x="73475" y="288627"/>
                  </a:lnTo>
                  <a:lnTo>
                    <a:pt x="68457" y="294865"/>
                  </a:lnTo>
                  <a:lnTo>
                    <a:pt x="63418" y="300717"/>
                  </a:lnTo>
                  <a:lnTo>
                    <a:pt x="58366" y="306311"/>
                  </a:lnTo>
                  <a:lnTo>
                    <a:pt x="48236" y="317043"/>
                  </a:lnTo>
                  <a:lnTo>
                    <a:pt x="44011" y="320582"/>
                  </a:lnTo>
                  <a:lnTo>
                    <a:pt x="40347" y="322942"/>
                  </a:lnTo>
                  <a:lnTo>
                    <a:pt x="37058" y="324514"/>
                  </a:lnTo>
                  <a:lnTo>
                    <a:pt x="34019" y="326410"/>
                  </a:lnTo>
                  <a:lnTo>
                    <a:pt x="31146" y="328520"/>
                  </a:lnTo>
                  <a:lnTo>
                    <a:pt x="22860" y="335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213"/>
            <p:cNvSpPr/>
            <p:nvPr/>
          </p:nvSpPr>
          <p:spPr>
            <a:xfrm>
              <a:off x="2895120" y="2087640"/>
              <a:ext cx="147600" cy="4798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47908" h="480061">
                  <a:moveTo>
                    <a:pt x="0" y="0"/>
                  </a:moveTo>
                  <a:lnTo>
                    <a:pt x="0" y="4045"/>
                  </a:lnTo>
                  <a:lnTo>
                    <a:pt x="847" y="6084"/>
                  </a:lnTo>
                  <a:lnTo>
                    <a:pt x="4045" y="10606"/>
                  </a:lnTo>
                  <a:lnTo>
                    <a:pt x="6084" y="12151"/>
                  </a:lnTo>
                  <a:lnTo>
                    <a:pt x="8289" y="13181"/>
                  </a:lnTo>
                  <a:lnTo>
                    <a:pt x="10606" y="13867"/>
                  </a:lnTo>
                  <a:lnTo>
                    <a:pt x="12997" y="16865"/>
                  </a:lnTo>
                  <a:lnTo>
                    <a:pt x="15438" y="21403"/>
                  </a:lnTo>
                  <a:lnTo>
                    <a:pt x="17912" y="26969"/>
                  </a:lnTo>
                  <a:lnTo>
                    <a:pt x="22919" y="37669"/>
                  </a:lnTo>
                  <a:lnTo>
                    <a:pt x="25439" y="42892"/>
                  </a:lnTo>
                  <a:lnTo>
                    <a:pt x="29659" y="48915"/>
                  </a:lnTo>
                  <a:lnTo>
                    <a:pt x="35013" y="55470"/>
                  </a:lnTo>
                  <a:lnTo>
                    <a:pt x="41122" y="62380"/>
                  </a:lnTo>
                  <a:lnTo>
                    <a:pt x="46888" y="70373"/>
                  </a:lnTo>
                  <a:lnTo>
                    <a:pt x="52426" y="79089"/>
                  </a:lnTo>
                  <a:lnTo>
                    <a:pt x="57811" y="88286"/>
                  </a:lnTo>
                  <a:lnTo>
                    <a:pt x="63940" y="96958"/>
                  </a:lnTo>
                  <a:lnTo>
                    <a:pt x="70567" y="105278"/>
                  </a:lnTo>
                  <a:lnTo>
                    <a:pt x="77525" y="113365"/>
                  </a:lnTo>
                  <a:lnTo>
                    <a:pt x="84703" y="122990"/>
                  </a:lnTo>
                  <a:lnTo>
                    <a:pt x="92029" y="133640"/>
                  </a:lnTo>
                  <a:lnTo>
                    <a:pt x="99452" y="144973"/>
                  </a:lnTo>
                  <a:lnTo>
                    <a:pt x="105248" y="155916"/>
                  </a:lnTo>
                  <a:lnTo>
                    <a:pt x="109959" y="166598"/>
                  </a:lnTo>
                  <a:lnTo>
                    <a:pt x="113946" y="177105"/>
                  </a:lnTo>
                  <a:lnTo>
                    <a:pt x="122892" y="202327"/>
                  </a:lnTo>
                  <a:lnTo>
                    <a:pt x="127648" y="216164"/>
                  </a:lnTo>
                  <a:lnTo>
                    <a:pt x="131665" y="229623"/>
                  </a:lnTo>
                  <a:lnTo>
                    <a:pt x="135190" y="242829"/>
                  </a:lnTo>
                  <a:lnTo>
                    <a:pt x="141365" y="268791"/>
                  </a:lnTo>
                  <a:lnTo>
                    <a:pt x="146931" y="294440"/>
                  </a:lnTo>
                  <a:lnTo>
                    <a:pt x="147907" y="307207"/>
                  </a:lnTo>
                  <a:lnTo>
                    <a:pt x="147712" y="319951"/>
                  </a:lnTo>
                  <a:lnTo>
                    <a:pt x="146734" y="332681"/>
                  </a:lnTo>
                  <a:lnTo>
                    <a:pt x="145236" y="345401"/>
                  </a:lnTo>
                  <a:lnTo>
                    <a:pt x="143391" y="358114"/>
                  </a:lnTo>
                  <a:lnTo>
                    <a:pt x="141314" y="370822"/>
                  </a:lnTo>
                  <a:lnTo>
                    <a:pt x="138236" y="382682"/>
                  </a:lnTo>
                  <a:lnTo>
                    <a:pt x="134491" y="393975"/>
                  </a:lnTo>
                  <a:lnTo>
                    <a:pt x="130300" y="404890"/>
                  </a:lnTo>
                  <a:lnTo>
                    <a:pt x="126660" y="415553"/>
                  </a:lnTo>
                  <a:lnTo>
                    <a:pt x="123387" y="426049"/>
                  </a:lnTo>
                  <a:lnTo>
                    <a:pt x="120358" y="436433"/>
                  </a:lnTo>
                  <a:lnTo>
                    <a:pt x="116645" y="444202"/>
                  </a:lnTo>
                  <a:lnTo>
                    <a:pt x="112477" y="450228"/>
                  </a:lnTo>
                  <a:lnTo>
                    <a:pt x="108005" y="455092"/>
                  </a:lnTo>
                  <a:lnTo>
                    <a:pt x="104176" y="460028"/>
                  </a:lnTo>
                  <a:lnTo>
                    <a:pt x="100778" y="465012"/>
                  </a:lnTo>
                  <a:lnTo>
                    <a:pt x="91440" y="4800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214"/>
            <p:cNvSpPr/>
            <p:nvPr/>
          </p:nvSpPr>
          <p:spPr>
            <a:xfrm>
              <a:off x="6759360" y="1531440"/>
              <a:ext cx="190080" cy="3963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90185" h="396435">
                  <a:moveTo>
                    <a:pt x="190184" y="0"/>
                  </a:moveTo>
                  <a:lnTo>
                    <a:pt x="190184" y="4045"/>
                  </a:lnTo>
                  <a:lnTo>
                    <a:pt x="183623" y="24473"/>
                  </a:lnTo>
                  <a:lnTo>
                    <a:pt x="181927" y="41460"/>
                  </a:lnTo>
                  <a:lnTo>
                    <a:pt x="176575" y="61122"/>
                  </a:lnTo>
                  <a:lnTo>
                    <a:pt x="175427" y="78506"/>
                  </a:lnTo>
                  <a:lnTo>
                    <a:pt x="174311" y="91618"/>
                  </a:lnTo>
                  <a:lnTo>
                    <a:pt x="168924" y="109367"/>
                  </a:lnTo>
                  <a:lnTo>
                    <a:pt x="149508" y="167745"/>
                  </a:lnTo>
                  <a:lnTo>
                    <a:pt x="144447" y="185184"/>
                  </a:lnTo>
                  <a:lnTo>
                    <a:pt x="138531" y="203377"/>
                  </a:lnTo>
                  <a:lnTo>
                    <a:pt x="130256" y="219930"/>
                  </a:lnTo>
                  <a:lnTo>
                    <a:pt x="120933" y="235753"/>
                  </a:lnTo>
                  <a:lnTo>
                    <a:pt x="111146" y="252099"/>
                  </a:lnTo>
                  <a:lnTo>
                    <a:pt x="101152" y="270653"/>
                  </a:lnTo>
                  <a:lnTo>
                    <a:pt x="91065" y="287930"/>
                  </a:lnTo>
                  <a:lnTo>
                    <a:pt x="80092" y="304922"/>
                  </a:lnTo>
                  <a:lnTo>
                    <a:pt x="49000" y="349366"/>
                  </a:lnTo>
                  <a:lnTo>
                    <a:pt x="33738" y="365247"/>
                  </a:lnTo>
                  <a:lnTo>
                    <a:pt x="16513" y="380772"/>
                  </a:lnTo>
                  <a:lnTo>
                    <a:pt x="390" y="396139"/>
                  </a:lnTo>
                  <a:lnTo>
                    <a:pt x="0" y="3964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215"/>
            <p:cNvSpPr/>
            <p:nvPr/>
          </p:nvSpPr>
          <p:spPr>
            <a:xfrm>
              <a:off x="1858320" y="1737360"/>
              <a:ext cx="1552680" cy="305640"/>
            </a:xfrm>
            <a:custGeom>
              <a:avLst/>
              <a:gdLst>
                <a:gd name="textAreaLeft" fmla="*/ 0 w 1552680"/>
                <a:gd name="textAreaRight" fmla="*/ 1553040 w 155268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1552440" h="305829">
                  <a:moveTo>
                    <a:pt x="1552439" y="305828"/>
                  </a:moveTo>
                  <a:lnTo>
                    <a:pt x="1526569" y="299461"/>
                  </a:lnTo>
                  <a:lnTo>
                    <a:pt x="1392062" y="271688"/>
                  </a:lnTo>
                  <a:lnTo>
                    <a:pt x="1259046" y="249128"/>
                  </a:lnTo>
                  <a:lnTo>
                    <a:pt x="1148516" y="228854"/>
                  </a:lnTo>
                  <a:lnTo>
                    <a:pt x="1039062" y="207140"/>
                  </a:lnTo>
                  <a:lnTo>
                    <a:pt x="955245" y="187787"/>
                  </a:lnTo>
                  <a:lnTo>
                    <a:pt x="839950" y="167561"/>
                  </a:lnTo>
                  <a:lnTo>
                    <a:pt x="752945" y="146151"/>
                  </a:lnTo>
                  <a:lnTo>
                    <a:pt x="678838" y="126823"/>
                  </a:lnTo>
                  <a:lnTo>
                    <a:pt x="586927" y="104343"/>
                  </a:lnTo>
                  <a:lnTo>
                    <a:pt x="518845" y="81815"/>
                  </a:lnTo>
                  <a:lnTo>
                    <a:pt x="485625" y="70081"/>
                  </a:lnTo>
                  <a:lnTo>
                    <a:pt x="355315" y="35338"/>
                  </a:lnTo>
                  <a:lnTo>
                    <a:pt x="313052" y="18857"/>
                  </a:lnTo>
                  <a:lnTo>
                    <a:pt x="176169" y="0"/>
                  </a:lnTo>
                  <a:lnTo>
                    <a:pt x="157655" y="684"/>
                  </a:lnTo>
                  <a:lnTo>
                    <a:pt x="105528" y="11123"/>
                  </a:lnTo>
                  <a:lnTo>
                    <a:pt x="93186" y="17797"/>
                  </a:lnTo>
                  <a:lnTo>
                    <a:pt x="61113" y="37445"/>
                  </a:lnTo>
                  <a:lnTo>
                    <a:pt x="50868" y="43607"/>
                  </a:lnTo>
                  <a:lnTo>
                    <a:pt x="40670" y="51990"/>
                  </a:lnTo>
                  <a:lnTo>
                    <a:pt x="32751" y="61361"/>
                  </a:lnTo>
                  <a:lnTo>
                    <a:pt x="29454" y="66230"/>
                  </a:lnTo>
                  <a:lnTo>
                    <a:pt x="21275" y="73898"/>
                  </a:lnTo>
                  <a:lnTo>
                    <a:pt x="16723" y="77129"/>
                  </a:lnTo>
                  <a:lnTo>
                    <a:pt x="13689" y="80976"/>
                  </a:lnTo>
                  <a:lnTo>
                    <a:pt x="11666" y="85233"/>
                  </a:lnTo>
                  <a:lnTo>
                    <a:pt x="4374" y="104234"/>
                  </a:lnTo>
                  <a:lnTo>
                    <a:pt x="1296" y="115200"/>
                  </a:lnTo>
                  <a:lnTo>
                    <a:pt x="0" y="1293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MARTInkAnnotation216"/>
            <p:cNvSpPr/>
            <p:nvPr/>
          </p:nvSpPr>
          <p:spPr>
            <a:xfrm>
              <a:off x="3260880" y="232380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1" h="7619">
                  <a:moveTo>
                    <a:pt x="0" y="7618"/>
                  </a:moveTo>
                  <a:lnTo>
                    <a:pt x="4045" y="7618"/>
                  </a:lnTo>
                  <a:lnTo>
                    <a:pt x="6084" y="6771"/>
                  </a:lnTo>
                  <a:lnTo>
                    <a:pt x="8289" y="5360"/>
                  </a:lnTo>
                  <a:lnTo>
                    <a:pt x="10606" y="3573"/>
                  </a:lnTo>
                  <a:lnTo>
                    <a:pt x="12998" y="2381"/>
                  </a:lnTo>
                  <a:lnTo>
                    <a:pt x="15438" y="1587"/>
                  </a:lnTo>
                  <a:lnTo>
                    <a:pt x="17912" y="1057"/>
                  </a:lnTo>
                  <a:lnTo>
                    <a:pt x="22102" y="704"/>
                  </a:lnTo>
                  <a:lnTo>
                    <a:pt x="27435" y="469"/>
                  </a:lnTo>
                  <a:lnTo>
                    <a:pt x="40133" y="207"/>
                  </a:lnTo>
                  <a:lnTo>
                    <a:pt x="129250" y="0"/>
                  </a:lnTo>
                  <a:lnTo>
                    <a:pt x="136967" y="846"/>
                  </a:lnTo>
                  <a:lnTo>
                    <a:pt x="144651" y="2257"/>
                  </a:lnTo>
                  <a:lnTo>
                    <a:pt x="152314" y="4044"/>
                  </a:lnTo>
                  <a:lnTo>
                    <a:pt x="159963" y="5235"/>
                  </a:lnTo>
                  <a:lnTo>
                    <a:pt x="167602" y="6030"/>
                  </a:lnTo>
                  <a:lnTo>
                    <a:pt x="175234" y="6559"/>
                  </a:lnTo>
                  <a:lnTo>
                    <a:pt x="182016" y="6912"/>
                  </a:lnTo>
                  <a:lnTo>
                    <a:pt x="205740" y="76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MARTInkAnnotation217"/>
            <p:cNvSpPr/>
            <p:nvPr/>
          </p:nvSpPr>
          <p:spPr>
            <a:xfrm>
              <a:off x="3321720" y="239220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593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2997" y="5237"/>
                  </a:lnTo>
                  <a:lnTo>
                    <a:pt x="15439" y="6031"/>
                  </a:lnTo>
                  <a:lnTo>
                    <a:pt x="17912" y="6561"/>
                  </a:lnTo>
                  <a:lnTo>
                    <a:pt x="22101" y="6914"/>
                  </a:lnTo>
                  <a:lnTo>
                    <a:pt x="27435" y="7149"/>
                  </a:lnTo>
                  <a:lnTo>
                    <a:pt x="40133" y="7411"/>
                  </a:lnTo>
                  <a:lnTo>
                    <a:pt x="80513" y="7592"/>
                  </a:lnTo>
                  <a:lnTo>
                    <a:pt x="90929" y="6755"/>
                  </a:lnTo>
                  <a:lnTo>
                    <a:pt x="102105" y="5350"/>
                  </a:lnTo>
                  <a:lnTo>
                    <a:pt x="113791" y="3567"/>
                  </a:lnTo>
                  <a:lnTo>
                    <a:pt x="124967" y="2378"/>
                  </a:lnTo>
                  <a:lnTo>
                    <a:pt x="135805" y="1585"/>
                  </a:lnTo>
                  <a:lnTo>
                    <a:pt x="156031" y="705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MARTInkAnnotation218"/>
            <p:cNvSpPr/>
            <p:nvPr/>
          </p:nvSpPr>
          <p:spPr>
            <a:xfrm>
              <a:off x="3855240" y="233136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1" h="7621">
                  <a:moveTo>
                    <a:pt x="0" y="7620"/>
                  </a:moveTo>
                  <a:lnTo>
                    <a:pt x="94601" y="7620"/>
                  </a:lnTo>
                  <a:lnTo>
                    <a:pt x="104554" y="6774"/>
                  </a:lnTo>
                  <a:lnTo>
                    <a:pt x="114576" y="5362"/>
                  </a:lnTo>
                  <a:lnTo>
                    <a:pt x="124644" y="3575"/>
                  </a:lnTo>
                  <a:lnTo>
                    <a:pt x="134742" y="2383"/>
                  </a:lnTo>
                  <a:lnTo>
                    <a:pt x="144862" y="1589"/>
                  </a:lnTo>
                  <a:lnTo>
                    <a:pt x="163443" y="706"/>
                  </a:lnTo>
                  <a:lnTo>
                    <a:pt x="177345" y="314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MARTInkAnnotation219"/>
            <p:cNvSpPr/>
            <p:nvPr/>
          </p:nvSpPr>
          <p:spPr>
            <a:xfrm>
              <a:off x="4177080" y="2117880"/>
              <a:ext cx="204120" cy="4035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04105" h="403861">
                  <a:moveTo>
                    <a:pt x="97424" y="0"/>
                  </a:moveTo>
                  <a:lnTo>
                    <a:pt x="90863" y="0"/>
                  </a:lnTo>
                  <a:lnTo>
                    <a:pt x="90275" y="4516"/>
                  </a:lnTo>
                  <a:lnTo>
                    <a:pt x="90118" y="8090"/>
                  </a:lnTo>
                  <a:lnTo>
                    <a:pt x="89167" y="11320"/>
                  </a:lnTo>
                  <a:lnTo>
                    <a:pt x="83783" y="21605"/>
                  </a:lnTo>
                  <a:lnTo>
                    <a:pt x="79226" y="33309"/>
                  </a:lnTo>
                  <a:lnTo>
                    <a:pt x="75978" y="39986"/>
                  </a:lnTo>
                  <a:lnTo>
                    <a:pt x="72121" y="46977"/>
                  </a:lnTo>
                  <a:lnTo>
                    <a:pt x="67855" y="54178"/>
                  </a:lnTo>
                  <a:lnTo>
                    <a:pt x="63318" y="62366"/>
                  </a:lnTo>
                  <a:lnTo>
                    <a:pt x="53762" y="80494"/>
                  </a:lnTo>
                  <a:lnTo>
                    <a:pt x="23722" y="139854"/>
                  </a:lnTo>
                  <a:lnTo>
                    <a:pt x="19502" y="150810"/>
                  </a:lnTo>
                  <a:lnTo>
                    <a:pt x="15843" y="162347"/>
                  </a:lnTo>
                  <a:lnTo>
                    <a:pt x="12557" y="174271"/>
                  </a:lnTo>
                  <a:lnTo>
                    <a:pt x="9519" y="186454"/>
                  </a:lnTo>
                  <a:lnTo>
                    <a:pt x="3886" y="211280"/>
                  </a:lnTo>
                  <a:lnTo>
                    <a:pt x="2046" y="222980"/>
                  </a:lnTo>
                  <a:lnTo>
                    <a:pt x="818" y="234167"/>
                  </a:lnTo>
                  <a:lnTo>
                    <a:pt x="0" y="245011"/>
                  </a:lnTo>
                  <a:lnTo>
                    <a:pt x="302" y="255627"/>
                  </a:lnTo>
                  <a:lnTo>
                    <a:pt x="1349" y="266092"/>
                  </a:lnTo>
                  <a:lnTo>
                    <a:pt x="2894" y="276454"/>
                  </a:lnTo>
                  <a:lnTo>
                    <a:pt x="5617" y="286750"/>
                  </a:lnTo>
                  <a:lnTo>
                    <a:pt x="9126" y="297000"/>
                  </a:lnTo>
                  <a:lnTo>
                    <a:pt x="13159" y="307220"/>
                  </a:lnTo>
                  <a:lnTo>
                    <a:pt x="17541" y="316574"/>
                  </a:lnTo>
                  <a:lnTo>
                    <a:pt x="22155" y="325349"/>
                  </a:lnTo>
                  <a:lnTo>
                    <a:pt x="26925" y="333739"/>
                  </a:lnTo>
                  <a:lnTo>
                    <a:pt x="33491" y="341873"/>
                  </a:lnTo>
                  <a:lnTo>
                    <a:pt x="41256" y="349835"/>
                  </a:lnTo>
                  <a:lnTo>
                    <a:pt x="49818" y="357684"/>
                  </a:lnTo>
                  <a:lnTo>
                    <a:pt x="59760" y="364609"/>
                  </a:lnTo>
                  <a:lnTo>
                    <a:pt x="70621" y="370920"/>
                  </a:lnTo>
                  <a:lnTo>
                    <a:pt x="82096" y="376820"/>
                  </a:lnTo>
                  <a:lnTo>
                    <a:pt x="93132" y="381600"/>
                  </a:lnTo>
                  <a:lnTo>
                    <a:pt x="103876" y="385633"/>
                  </a:lnTo>
                  <a:lnTo>
                    <a:pt x="114425" y="389169"/>
                  </a:lnTo>
                  <a:lnTo>
                    <a:pt x="126538" y="392373"/>
                  </a:lnTo>
                  <a:lnTo>
                    <a:pt x="139694" y="395355"/>
                  </a:lnTo>
                  <a:lnTo>
                    <a:pt x="153544" y="398190"/>
                  </a:lnTo>
                  <a:lnTo>
                    <a:pt x="165317" y="400080"/>
                  </a:lnTo>
                  <a:lnTo>
                    <a:pt x="175706" y="401340"/>
                  </a:lnTo>
                  <a:lnTo>
                    <a:pt x="204104" y="403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MARTInkAnnotation220"/>
            <p:cNvSpPr/>
            <p:nvPr/>
          </p:nvSpPr>
          <p:spPr>
            <a:xfrm>
              <a:off x="4336200" y="2197800"/>
              <a:ext cx="159120" cy="18540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59405" h="185539">
                  <a:moveTo>
                    <a:pt x="29864" y="27035"/>
                  </a:moveTo>
                  <a:lnTo>
                    <a:pt x="29864" y="15397"/>
                  </a:lnTo>
                  <a:lnTo>
                    <a:pt x="30710" y="14197"/>
                  </a:lnTo>
                  <a:lnTo>
                    <a:pt x="32121" y="13396"/>
                  </a:lnTo>
                  <a:lnTo>
                    <a:pt x="35947" y="12507"/>
                  </a:lnTo>
                  <a:lnTo>
                    <a:pt x="40470" y="12111"/>
                  </a:lnTo>
                  <a:lnTo>
                    <a:pt x="43708" y="11159"/>
                  </a:lnTo>
                  <a:lnTo>
                    <a:pt x="47560" y="9678"/>
                  </a:lnTo>
                  <a:lnTo>
                    <a:pt x="51821" y="7843"/>
                  </a:lnTo>
                  <a:lnTo>
                    <a:pt x="56355" y="6621"/>
                  </a:lnTo>
                  <a:lnTo>
                    <a:pt x="61071" y="5806"/>
                  </a:lnTo>
                  <a:lnTo>
                    <a:pt x="65909" y="5262"/>
                  </a:lnTo>
                  <a:lnTo>
                    <a:pt x="70828" y="4053"/>
                  </a:lnTo>
                  <a:lnTo>
                    <a:pt x="75799" y="2401"/>
                  </a:lnTo>
                  <a:lnTo>
                    <a:pt x="80808" y="452"/>
                  </a:lnTo>
                  <a:lnTo>
                    <a:pt x="85840" y="0"/>
                  </a:lnTo>
                  <a:lnTo>
                    <a:pt x="90887" y="545"/>
                  </a:lnTo>
                  <a:lnTo>
                    <a:pt x="95946" y="1755"/>
                  </a:lnTo>
                  <a:lnTo>
                    <a:pt x="101012" y="2562"/>
                  </a:lnTo>
                  <a:lnTo>
                    <a:pt x="106083" y="3099"/>
                  </a:lnTo>
                  <a:lnTo>
                    <a:pt x="111157" y="3458"/>
                  </a:lnTo>
                  <a:lnTo>
                    <a:pt x="115386" y="4544"/>
                  </a:lnTo>
                  <a:lnTo>
                    <a:pt x="119052" y="6114"/>
                  </a:lnTo>
                  <a:lnTo>
                    <a:pt x="126974" y="10673"/>
                  </a:lnTo>
                  <a:lnTo>
                    <a:pt x="130315" y="13554"/>
                  </a:lnTo>
                  <a:lnTo>
                    <a:pt x="132391" y="15508"/>
                  </a:lnTo>
                  <a:lnTo>
                    <a:pt x="132929" y="17657"/>
                  </a:lnTo>
                  <a:lnTo>
                    <a:pt x="132441" y="19936"/>
                  </a:lnTo>
                  <a:lnTo>
                    <a:pt x="129641" y="24727"/>
                  </a:lnTo>
                  <a:lnTo>
                    <a:pt x="125574" y="29678"/>
                  </a:lnTo>
                  <a:lnTo>
                    <a:pt x="122457" y="33030"/>
                  </a:lnTo>
                  <a:lnTo>
                    <a:pt x="114479" y="41271"/>
                  </a:lnTo>
                  <a:lnTo>
                    <a:pt x="109981" y="46686"/>
                  </a:lnTo>
                  <a:lnTo>
                    <a:pt x="105289" y="52836"/>
                  </a:lnTo>
                  <a:lnTo>
                    <a:pt x="100467" y="59475"/>
                  </a:lnTo>
                  <a:lnTo>
                    <a:pt x="94713" y="65595"/>
                  </a:lnTo>
                  <a:lnTo>
                    <a:pt x="88337" y="71368"/>
                  </a:lnTo>
                  <a:lnTo>
                    <a:pt x="81545" y="76911"/>
                  </a:lnTo>
                  <a:lnTo>
                    <a:pt x="74479" y="83145"/>
                  </a:lnTo>
                  <a:lnTo>
                    <a:pt x="59852" y="96846"/>
                  </a:lnTo>
                  <a:lnTo>
                    <a:pt x="52397" y="103209"/>
                  </a:lnTo>
                  <a:lnTo>
                    <a:pt x="44885" y="109144"/>
                  </a:lnTo>
                  <a:lnTo>
                    <a:pt x="37339" y="114795"/>
                  </a:lnTo>
                  <a:lnTo>
                    <a:pt x="30613" y="120255"/>
                  </a:lnTo>
                  <a:lnTo>
                    <a:pt x="24437" y="125588"/>
                  </a:lnTo>
                  <a:lnTo>
                    <a:pt x="18626" y="130837"/>
                  </a:lnTo>
                  <a:lnTo>
                    <a:pt x="13906" y="136030"/>
                  </a:lnTo>
                  <a:lnTo>
                    <a:pt x="9912" y="141185"/>
                  </a:lnTo>
                  <a:lnTo>
                    <a:pt x="6402" y="146315"/>
                  </a:lnTo>
                  <a:lnTo>
                    <a:pt x="4063" y="150582"/>
                  </a:lnTo>
                  <a:lnTo>
                    <a:pt x="2503" y="154273"/>
                  </a:lnTo>
                  <a:lnTo>
                    <a:pt x="1463" y="157580"/>
                  </a:lnTo>
                  <a:lnTo>
                    <a:pt x="770" y="160632"/>
                  </a:lnTo>
                  <a:lnTo>
                    <a:pt x="0" y="166280"/>
                  </a:lnTo>
                  <a:lnTo>
                    <a:pt x="1488" y="168972"/>
                  </a:lnTo>
                  <a:lnTo>
                    <a:pt x="4173" y="171613"/>
                  </a:lnTo>
                  <a:lnTo>
                    <a:pt x="7657" y="174220"/>
                  </a:lnTo>
                  <a:lnTo>
                    <a:pt x="11672" y="176805"/>
                  </a:lnTo>
                  <a:lnTo>
                    <a:pt x="16043" y="179375"/>
                  </a:lnTo>
                  <a:lnTo>
                    <a:pt x="20650" y="181935"/>
                  </a:lnTo>
                  <a:lnTo>
                    <a:pt x="27108" y="183642"/>
                  </a:lnTo>
                  <a:lnTo>
                    <a:pt x="34800" y="184779"/>
                  </a:lnTo>
                  <a:lnTo>
                    <a:pt x="43315" y="185538"/>
                  </a:lnTo>
                  <a:lnTo>
                    <a:pt x="52378" y="185197"/>
                  </a:lnTo>
                  <a:lnTo>
                    <a:pt x="61807" y="184123"/>
                  </a:lnTo>
                  <a:lnTo>
                    <a:pt x="71479" y="182560"/>
                  </a:lnTo>
                  <a:lnTo>
                    <a:pt x="81314" y="181519"/>
                  </a:lnTo>
                  <a:lnTo>
                    <a:pt x="91257" y="180824"/>
                  </a:lnTo>
                  <a:lnTo>
                    <a:pt x="101273" y="180361"/>
                  </a:lnTo>
                  <a:lnTo>
                    <a:pt x="109643" y="179206"/>
                  </a:lnTo>
                  <a:lnTo>
                    <a:pt x="116917" y="177589"/>
                  </a:lnTo>
                  <a:lnTo>
                    <a:pt x="123460" y="175664"/>
                  </a:lnTo>
                  <a:lnTo>
                    <a:pt x="130361" y="174381"/>
                  </a:lnTo>
                  <a:lnTo>
                    <a:pt x="137503" y="173526"/>
                  </a:lnTo>
                  <a:lnTo>
                    <a:pt x="159404" y="17181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MARTInkAnnotation221"/>
            <p:cNvSpPr/>
            <p:nvPr/>
          </p:nvSpPr>
          <p:spPr>
            <a:xfrm>
              <a:off x="4558320" y="2163960"/>
              <a:ext cx="142560" cy="142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2530" h="143115">
                  <a:moveTo>
                    <a:pt x="97303" y="7592"/>
                  </a:moveTo>
                  <a:lnTo>
                    <a:pt x="97303" y="0"/>
                  </a:lnTo>
                  <a:lnTo>
                    <a:pt x="93258" y="4026"/>
                  </a:lnTo>
                  <a:lnTo>
                    <a:pt x="90373" y="6061"/>
                  </a:lnTo>
                  <a:lnTo>
                    <a:pt x="86757" y="8265"/>
                  </a:lnTo>
                  <a:lnTo>
                    <a:pt x="82652" y="10581"/>
                  </a:lnTo>
                  <a:lnTo>
                    <a:pt x="78223" y="13818"/>
                  </a:lnTo>
                  <a:lnTo>
                    <a:pt x="73577" y="17669"/>
                  </a:lnTo>
                  <a:lnTo>
                    <a:pt x="68785" y="21930"/>
                  </a:lnTo>
                  <a:lnTo>
                    <a:pt x="63052" y="26464"/>
                  </a:lnTo>
                  <a:lnTo>
                    <a:pt x="56689" y="31180"/>
                  </a:lnTo>
                  <a:lnTo>
                    <a:pt x="49906" y="36017"/>
                  </a:lnTo>
                  <a:lnTo>
                    <a:pt x="42846" y="41783"/>
                  </a:lnTo>
                  <a:lnTo>
                    <a:pt x="35598" y="48165"/>
                  </a:lnTo>
                  <a:lnTo>
                    <a:pt x="28226" y="54961"/>
                  </a:lnTo>
                  <a:lnTo>
                    <a:pt x="22465" y="61185"/>
                  </a:lnTo>
                  <a:lnTo>
                    <a:pt x="17778" y="67028"/>
                  </a:lnTo>
                  <a:lnTo>
                    <a:pt x="13806" y="72616"/>
                  </a:lnTo>
                  <a:lnTo>
                    <a:pt x="10312" y="78034"/>
                  </a:lnTo>
                  <a:lnTo>
                    <a:pt x="7135" y="83340"/>
                  </a:lnTo>
                  <a:lnTo>
                    <a:pt x="4172" y="88571"/>
                  </a:lnTo>
                  <a:lnTo>
                    <a:pt x="2195" y="93751"/>
                  </a:lnTo>
                  <a:lnTo>
                    <a:pt x="878" y="98898"/>
                  </a:lnTo>
                  <a:lnTo>
                    <a:pt x="0" y="104023"/>
                  </a:lnTo>
                  <a:lnTo>
                    <a:pt x="1107" y="109133"/>
                  </a:lnTo>
                  <a:lnTo>
                    <a:pt x="3539" y="114232"/>
                  </a:lnTo>
                  <a:lnTo>
                    <a:pt x="6854" y="119326"/>
                  </a:lnTo>
                  <a:lnTo>
                    <a:pt x="10756" y="123568"/>
                  </a:lnTo>
                  <a:lnTo>
                    <a:pt x="15053" y="127243"/>
                  </a:lnTo>
                  <a:lnTo>
                    <a:pt x="19609" y="130539"/>
                  </a:lnTo>
                  <a:lnTo>
                    <a:pt x="25187" y="133584"/>
                  </a:lnTo>
                  <a:lnTo>
                    <a:pt x="31445" y="136460"/>
                  </a:lnTo>
                  <a:lnTo>
                    <a:pt x="38158" y="139224"/>
                  </a:lnTo>
                  <a:lnTo>
                    <a:pt x="45174" y="141067"/>
                  </a:lnTo>
                  <a:lnTo>
                    <a:pt x="52390" y="142295"/>
                  </a:lnTo>
                  <a:lnTo>
                    <a:pt x="59741" y="143114"/>
                  </a:lnTo>
                  <a:lnTo>
                    <a:pt x="66335" y="142814"/>
                  </a:lnTo>
                  <a:lnTo>
                    <a:pt x="72425" y="141766"/>
                  </a:lnTo>
                  <a:lnTo>
                    <a:pt x="78178" y="140222"/>
                  </a:lnTo>
                  <a:lnTo>
                    <a:pt x="84553" y="137498"/>
                  </a:lnTo>
                  <a:lnTo>
                    <a:pt x="91343" y="133990"/>
                  </a:lnTo>
                  <a:lnTo>
                    <a:pt x="98410" y="129957"/>
                  </a:lnTo>
                  <a:lnTo>
                    <a:pt x="104815" y="125575"/>
                  </a:lnTo>
                  <a:lnTo>
                    <a:pt x="110777" y="120961"/>
                  </a:lnTo>
                  <a:lnTo>
                    <a:pt x="116446" y="116191"/>
                  </a:lnTo>
                  <a:lnTo>
                    <a:pt x="121072" y="111318"/>
                  </a:lnTo>
                  <a:lnTo>
                    <a:pt x="125002" y="106376"/>
                  </a:lnTo>
                  <a:lnTo>
                    <a:pt x="128469" y="101388"/>
                  </a:lnTo>
                  <a:lnTo>
                    <a:pt x="131627" y="95523"/>
                  </a:lnTo>
                  <a:lnTo>
                    <a:pt x="134579" y="89073"/>
                  </a:lnTo>
                  <a:lnTo>
                    <a:pt x="137394" y="82233"/>
                  </a:lnTo>
                  <a:lnTo>
                    <a:pt x="139271" y="75979"/>
                  </a:lnTo>
                  <a:lnTo>
                    <a:pt x="140521" y="70117"/>
                  </a:lnTo>
                  <a:lnTo>
                    <a:pt x="141356" y="64515"/>
                  </a:lnTo>
                  <a:lnTo>
                    <a:pt x="141911" y="59088"/>
                  </a:lnTo>
                  <a:lnTo>
                    <a:pt x="142282" y="53776"/>
                  </a:lnTo>
                  <a:lnTo>
                    <a:pt x="142529" y="48541"/>
                  </a:lnTo>
                  <a:lnTo>
                    <a:pt x="141847" y="44205"/>
                  </a:lnTo>
                  <a:lnTo>
                    <a:pt x="140546" y="40468"/>
                  </a:lnTo>
                  <a:lnTo>
                    <a:pt x="138832" y="37129"/>
                  </a:lnTo>
                  <a:lnTo>
                    <a:pt x="136843" y="34057"/>
                  </a:lnTo>
                  <a:lnTo>
                    <a:pt x="134669" y="31162"/>
                  </a:lnTo>
                  <a:lnTo>
                    <a:pt x="132373" y="28385"/>
                  </a:lnTo>
                  <a:lnTo>
                    <a:pt x="129997" y="26534"/>
                  </a:lnTo>
                  <a:lnTo>
                    <a:pt x="127566" y="25300"/>
                  </a:lnTo>
                  <a:lnTo>
                    <a:pt x="120164" y="2283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SMARTInkAnnotation222"/>
            <p:cNvSpPr/>
            <p:nvPr/>
          </p:nvSpPr>
          <p:spPr>
            <a:xfrm>
              <a:off x="4572720" y="2255040"/>
              <a:ext cx="151200" cy="13536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51346" h="135525">
                  <a:moveTo>
                    <a:pt x="82932" y="45720"/>
                  </a:moveTo>
                  <a:lnTo>
                    <a:pt x="82932" y="39159"/>
                  </a:lnTo>
                  <a:lnTo>
                    <a:pt x="82085" y="38806"/>
                  </a:lnTo>
                  <a:lnTo>
                    <a:pt x="77695" y="38309"/>
                  </a:lnTo>
                  <a:lnTo>
                    <a:pt x="73525" y="38141"/>
                  </a:lnTo>
                  <a:lnTo>
                    <a:pt x="64799" y="38108"/>
                  </a:lnTo>
                  <a:lnTo>
                    <a:pt x="61530" y="38952"/>
                  </a:lnTo>
                  <a:lnTo>
                    <a:pt x="57657" y="40361"/>
                  </a:lnTo>
                  <a:lnTo>
                    <a:pt x="53382" y="42148"/>
                  </a:lnTo>
                  <a:lnTo>
                    <a:pt x="48839" y="44185"/>
                  </a:lnTo>
                  <a:lnTo>
                    <a:pt x="39275" y="48707"/>
                  </a:lnTo>
                  <a:lnTo>
                    <a:pt x="24371" y="56012"/>
                  </a:lnTo>
                  <a:lnTo>
                    <a:pt x="19338" y="59355"/>
                  </a:lnTo>
                  <a:lnTo>
                    <a:pt x="14289" y="63277"/>
                  </a:lnTo>
                  <a:lnTo>
                    <a:pt x="9230" y="67585"/>
                  </a:lnTo>
                  <a:lnTo>
                    <a:pt x="5858" y="72150"/>
                  </a:lnTo>
                  <a:lnTo>
                    <a:pt x="3609" y="76886"/>
                  </a:lnTo>
                  <a:lnTo>
                    <a:pt x="2110" y="81737"/>
                  </a:lnTo>
                  <a:lnTo>
                    <a:pt x="1111" y="86665"/>
                  </a:lnTo>
                  <a:lnTo>
                    <a:pt x="444" y="91644"/>
                  </a:lnTo>
                  <a:lnTo>
                    <a:pt x="0" y="96655"/>
                  </a:lnTo>
                  <a:lnTo>
                    <a:pt x="551" y="101690"/>
                  </a:lnTo>
                  <a:lnTo>
                    <a:pt x="1765" y="106740"/>
                  </a:lnTo>
                  <a:lnTo>
                    <a:pt x="3420" y="111800"/>
                  </a:lnTo>
                  <a:lnTo>
                    <a:pt x="6218" y="116020"/>
                  </a:lnTo>
                  <a:lnTo>
                    <a:pt x="9776" y="119680"/>
                  </a:lnTo>
                  <a:lnTo>
                    <a:pt x="13841" y="122966"/>
                  </a:lnTo>
                  <a:lnTo>
                    <a:pt x="19092" y="126004"/>
                  </a:lnTo>
                  <a:lnTo>
                    <a:pt x="25132" y="128876"/>
                  </a:lnTo>
                  <a:lnTo>
                    <a:pt x="31698" y="131637"/>
                  </a:lnTo>
                  <a:lnTo>
                    <a:pt x="39463" y="133478"/>
                  </a:lnTo>
                  <a:lnTo>
                    <a:pt x="48026" y="134705"/>
                  </a:lnTo>
                  <a:lnTo>
                    <a:pt x="57121" y="135524"/>
                  </a:lnTo>
                  <a:lnTo>
                    <a:pt x="65725" y="135222"/>
                  </a:lnTo>
                  <a:lnTo>
                    <a:pt x="74000" y="134175"/>
                  </a:lnTo>
                  <a:lnTo>
                    <a:pt x="82057" y="132630"/>
                  </a:lnTo>
                  <a:lnTo>
                    <a:pt x="89969" y="130753"/>
                  </a:lnTo>
                  <a:lnTo>
                    <a:pt x="97783" y="128655"/>
                  </a:lnTo>
                  <a:lnTo>
                    <a:pt x="105533" y="126410"/>
                  </a:lnTo>
                  <a:lnTo>
                    <a:pt x="111546" y="123220"/>
                  </a:lnTo>
                  <a:lnTo>
                    <a:pt x="116401" y="119400"/>
                  </a:lnTo>
                  <a:lnTo>
                    <a:pt x="134322" y="101102"/>
                  </a:lnTo>
                  <a:lnTo>
                    <a:pt x="138359" y="96188"/>
                  </a:lnTo>
                  <a:lnTo>
                    <a:pt x="141897" y="91219"/>
                  </a:lnTo>
                  <a:lnTo>
                    <a:pt x="145101" y="86213"/>
                  </a:lnTo>
                  <a:lnTo>
                    <a:pt x="147239" y="80335"/>
                  </a:lnTo>
                  <a:lnTo>
                    <a:pt x="148663" y="73877"/>
                  </a:lnTo>
                  <a:lnTo>
                    <a:pt x="149613" y="67031"/>
                  </a:lnTo>
                  <a:lnTo>
                    <a:pt x="150246" y="60774"/>
                  </a:lnTo>
                  <a:lnTo>
                    <a:pt x="150668" y="54909"/>
                  </a:lnTo>
                  <a:lnTo>
                    <a:pt x="150949" y="49306"/>
                  </a:lnTo>
                  <a:lnTo>
                    <a:pt x="151262" y="38565"/>
                  </a:lnTo>
                  <a:lnTo>
                    <a:pt x="151345" y="33330"/>
                  </a:lnTo>
                  <a:lnTo>
                    <a:pt x="149707" y="28147"/>
                  </a:lnTo>
                  <a:lnTo>
                    <a:pt x="146922" y="22998"/>
                  </a:lnTo>
                  <a:lnTo>
                    <a:pt x="143372" y="17872"/>
                  </a:lnTo>
                  <a:lnTo>
                    <a:pt x="140159" y="13608"/>
                  </a:lnTo>
                  <a:lnTo>
                    <a:pt x="137169" y="9918"/>
                  </a:lnTo>
                  <a:lnTo>
                    <a:pt x="1286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MARTInkAnnotation223"/>
            <p:cNvSpPr/>
            <p:nvPr/>
          </p:nvSpPr>
          <p:spPr>
            <a:xfrm>
              <a:off x="4785120" y="2026440"/>
              <a:ext cx="135000" cy="4114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5194" h="411481">
                  <a:moveTo>
                    <a:pt x="0" y="0"/>
                  </a:moveTo>
                  <a:lnTo>
                    <a:pt x="28739" y="28739"/>
                  </a:lnTo>
                  <a:lnTo>
                    <a:pt x="33553" y="34399"/>
                  </a:lnTo>
                  <a:lnTo>
                    <a:pt x="38455" y="40713"/>
                  </a:lnTo>
                  <a:lnTo>
                    <a:pt x="43417" y="47462"/>
                  </a:lnTo>
                  <a:lnTo>
                    <a:pt x="50111" y="55348"/>
                  </a:lnTo>
                  <a:lnTo>
                    <a:pt x="57961" y="63992"/>
                  </a:lnTo>
                  <a:lnTo>
                    <a:pt x="66581" y="73141"/>
                  </a:lnTo>
                  <a:lnTo>
                    <a:pt x="74020" y="83474"/>
                  </a:lnTo>
                  <a:lnTo>
                    <a:pt x="80674" y="94596"/>
                  </a:lnTo>
                  <a:lnTo>
                    <a:pt x="86803" y="106244"/>
                  </a:lnTo>
                  <a:lnTo>
                    <a:pt x="92582" y="118243"/>
                  </a:lnTo>
                  <a:lnTo>
                    <a:pt x="98128" y="130475"/>
                  </a:lnTo>
                  <a:lnTo>
                    <a:pt x="108806" y="155356"/>
                  </a:lnTo>
                  <a:lnTo>
                    <a:pt x="119196" y="180525"/>
                  </a:lnTo>
                  <a:lnTo>
                    <a:pt x="123491" y="193163"/>
                  </a:lnTo>
                  <a:lnTo>
                    <a:pt x="127201" y="205822"/>
                  </a:lnTo>
                  <a:lnTo>
                    <a:pt x="130521" y="218495"/>
                  </a:lnTo>
                  <a:lnTo>
                    <a:pt x="132734" y="231177"/>
                  </a:lnTo>
                  <a:lnTo>
                    <a:pt x="134209" y="243864"/>
                  </a:lnTo>
                  <a:lnTo>
                    <a:pt x="135193" y="256556"/>
                  </a:lnTo>
                  <a:lnTo>
                    <a:pt x="135002" y="268404"/>
                  </a:lnTo>
                  <a:lnTo>
                    <a:pt x="134028" y="279689"/>
                  </a:lnTo>
                  <a:lnTo>
                    <a:pt x="132532" y="290600"/>
                  </a:lnTo>
                  <a:lnTo>
                    <a:pt x="129842" y="301260"/>
                  </a:lnTo>
                  <a:lnTo>
                    <a:pt x="126354" y="311753"/>
                  </a:lnTo>
                  <a:lnTo>
                    <a:pt x="122337" y="322135"/>
                  </a:lnTo>
                  <a:lnTo>
                    <a:pt x="117964" y="331597"/>
                  </a:lnTo>
                  <a:lnTo>
                    <a:pt x="113356" y="340445"/>
                  </a:lnTo>
                  <a:lnTo>
                    <a:pt x="108591" y="348883"/>
                  </a:lnTo>
                  <a:lnTo>
                    <a:pt x="102028" y="356202"/>
                  </a:lnTo>
                  <a:lnTo>
                    <a:pt x="94265" y="362775"/>
                  </a:lnTo>
                  <a:lnTo>
                    <a:pt x="85703" y="368850"/>
                  </a:lnTo>
                  <a:lnTo>
                    <a:pt x="76609" y="374593"/>
                  </a:lnTo>
                  <a:lnTo>
                    <a:pt x="67159" y="380116"/>
                  </a:lnTo>
                  <a:lnTo>
                    <a:pt x="49322" y="389920"/>
                  </a:lnTo>
                  <a:lnTo>
                    <a:pt x="29760" y="400200"/>
                  </a:lnTo>
                  <a:lnTo>
                    <a:pt x="7620" y="411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MARTInkAnnotation224"/>
            <p:cNvSpPr/>
            <p:nvPr/>
          </p:nvSpPr>
          <p:spPr>
            <a:xfrm>
              <a:off x="5097600" y="2247480"/>
              <a:ext cx="213120" cy="3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13362" h="1">
                  <a:moveTo>
                    <a:pt x="0" y="0"/>
                  </a:moveTo>
                  <a:lnTo>
                    <a:pt x="21336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MARTInkAnnotation225"/>
            <p:cNvSpPr/>
            <p:nvPr/>
          </p:nvSpPr>
          <p:spPr>
            <a:xfrm>
              <a:off x="5112720" y="2304360"/>
              <a:ext cx="159840" cy="270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60022" h="27227">
                  <a:moveTo>
                    <a:pt x="0" y="27226"/>
                  </a:moveTo>
                  <a:lnTo>
                    <a:pt x="15397" y="27226"/>
                  </a:lnTo>
                  <a:lnTo>
                    <a:pt x="19578" y="26379"/>
                  </a:lnTo>
                  <a:lnTo>
                    <a:pt x="24059" y="24968"/>
                  </a:lnTo>
                  <a:lnTo>
                    <a:pt x="28739" y="23181"/>
                  </a:lnTo>
                  <a:lnTo>
                    <a:pt x="33553" y="21989"/>
                  </a:lnTo>
                  <a:lnTo>
                    <a:pt x="38456" y="21195"/>
                  </a:lnTo>
                  <a:lnTo>
                    <a:pt x="43417" y="20665"/>
                  </a:lnTo>
                  <a:lnTo>
                    <a:pt x="48418" y="19466"/>
                  </a:lnTo>
                  <a:lnTo>
                    <a:pt x="53446" y="17819"/>
                  </a:lnTo>
                  <a:lnTo>
                    <a:pt x="58490" y="15875"/>
                  </a:lnTo>
                  <a:lnTo>
                    <a:pt x="70870" y="11457"/>
                  </a:lnTo>
                  <a:lnTo>
                    <a:pt x="77726" y="9093"/>
                  </a:lnTo>
                  <a:lnTo>
                    <a:pt x="83991" y="7517"/>
                  </a:lnTo>
                  <a:lnTo>
                    <a:pt x="89861" y="6467"/>
                  </a:lnTo>
                  <a:lnTo>
                    <a:pt x="95467" y="5767"/>
                  </a:lnTo>
                  <a:lnTo>
                    <a:pt x="100899" y="5300"/>
                  </a:lnTo>
                  <a:lnTo>
                    <a:pt x="106213" y="4988"/>
                  </a:lnTo>
                  <a:lnTo>
                    <a:pt x="116632" y="4643"/>
                  </a:lnTo>
                  <a:lnTo>
                    <a:pt x="126908" y="4489"/>
                  </a:lnTo>
                  <a:lnTo>
                    <a:pt x="132019" y="3601"/>
                  </a:lnTo>
                  <a:lnTo>
                    <a:pt x="137120" y="2163"/>
                  </a:lnTo>
                  <a:lnTo>
                    <a:pt x="142213" y="357"/>
                  </a:lnTo>
                  <a:lnTo>
                    <a:pt x="146456" y="0"/>
                  </a:lnTo>
                  <a:lnTo>
                    <a:pt x="150130" y="609"/>
                  </a:lnTo>
                  <a:lnTo>
                    <a:pt x="160021" y="43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MARTInkAnnotation226"/>
            <p:cNvSpPr/>
            <p:nvPr/>
          </p:nvSpPr>
          <p:spPr>
            <a:xfrm>
              <a:off x="5570280" y="2217240"/>
              <a:ext cx="137160" cy="151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15240"/>
                  </a:moveTo>
                  <a:lnTo>
                    <a:pt x="0" y="7934"/>
                  </a:lnTo>
                  <a:lnTo>
                    <a:pt x="4045" y="7713"/>
                  </a:lnTo>
                  <a:lnTo>
                    <a:pt x="17912" y="7628"/>
                  </a:lnTo>
                  <a:lnTo>
                    <a:pt x="29484" y="7622"/>
                  </a:lnTo>
                  <a:lnTo>
                    <a:pt x="34050" y="6775"/>
                  </a:lnTo>
                  <a:lnTo>
                    <a:pt x="38786" y="5363"/>
                  </a:lnTo>
                  <a:lnTo>
                    <a:pt x="43637" y="3575"/>
                  </a:lnTo>
                  <a:lnTo>
                    <a:pt x="49412" y="2384"/>
                  </a:lnTo>
                  <a:lnTo>
                    <a:pt x="55802" y="1589"/>
                  </a:lnTo>
                  <a:lnTo>
                    <a:pt x="62601" y="1060"/>
                  </a:lnTo>
                  <a:lnTo>
                    <a:pt x="68827" y="706"/>
                  </a:lnTo>
                  <a:lnTo>
                    <a:pt x="80261" y="314"/>
                  </a:lnTo>
                  <a:lnTo>
                    <a:pt x="101399" y="62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MARTInkAnnotation227"/>
            <p:cNvSpPr/>
            <p:nvPr/>
          </p:nvSpPr>
          <p:spPr>
            <a:xfrm>
              <a:off x="5834160" y="2072520"/>
              <a:ext cx="231480" cy="25848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31456" h="258625">
                  <a:moveTo>
                    <a:pt x="33335" y="22832"/>
                  </a:moveTo>
                  <a:lnTo>
                    <a:pt x="33335" y="18787"/>
                  </a:lnTo>
                  <a:lnTo>
                    <a:pt x="35029" y="16748"/>
                  </a:lnTo>
                  <a:lnTo>
                    <a:pt x="41426" y="12226"/>
                  </a:lnTo>
                  <a:lnTo>
                    <a:pt x="46457" y="8965"/>
                  </a:lnTo>
                  <a:lnTo>
                    <a:pt x="52149" y="8202"/>
                  </a:lnTo>
                  <a:lnTo>
                    <a:pt x="56038" y="7999"/>
                  </a:lnTo>
                  <a:lnTo>
                    <a:pt x="60324" y="7016"/>
                  </a:lnTo>
                  <a:lnTo>
                    <a:pt x="64873" y="5515"/>
                  </a:lnTo>
                  <a:lnTo>
                    <a:pt x="69601" y="3667"/>
                  </a:lnTo>
                  <a:lnTo>
                    <a:pt x="74446" y="2435"/>
                  </a:lnTo>
                  <a:lnTo>
                    <a:pt x="79369" y="1614"/>
                  </a:lnTo>
                  <a:lnTo>
                    <a:pt x="84344" y="1067"/>
                  </a:lnTo>
                  <a:lnTo>
                    <a:pt x="90202" y="702"/>
                  </a:lnTo>
                  <a:lnTo>
                    <a:pt x="103482" y="296"/>
                  </a:lnTo>
                  <a:lnTo>
                    <a:pt x="121385" y="36"/>
                  </a:lnTo>
                  <a:lnTo>
                    <a:pt x="130606" y="0"/>
                  </a:lnTo>
                  <a:lnTo>
                    <a:pt x="134589" y="838"/>
                  </a:lnTo>
                  <a:lnTo>
                    <a:pt x="141272" y="4026"/>
                  </a:lnTo>
                  <a:lnTo>
                    <a:pt x="145087" y="5214"/>
                  </a:lnTo>
                  <a:lnTo>
                    <a:pt x="149323" y="6007"/>
                  </a:lnTo>
                  <a:lnTo>
                    <a:pt x="153840" y="6535"/>
                  </a:lnTo>
                  <a:lnTo>
                    <a:pt x="156852" y="8581"/>
                  </a:lnTo>
                  <a:lnTo>
                    <a:pt x="158860" y="11638"/>
                  </a:lnTo>
                  <a:lnTo>
                    <a:pt x="161091" y="18703"/>
                  </a:lnTo>
                  <a:lnTo>
                    <a:pt x="162082" y="24666"/>
                  </a:lnTo>
                  <a:lnTo>
                    <a:pt x="162523" y="30138"/>
                  </a:lnTo>
                  <a:lnTo>
                    <a:pt x="162719" y="36239"/>
                  </a:lnTo>
                  <a:lnTo>
                    <a:pt x="162806" y="44595"/>
                  </a:lnTo>
                  <a:lnTo>
                    <a:pt x="161135" y="49194"/>
                  </a:lnTo>
                  <a:lnTo>
                    <a:pt x="158328" y="53953"/>
                  </a:lnTo>
                  <a:lnTo>
                    <a:pt x="154764" y="58819"/>
                  </a:lnTo>
                  <a:lnTo>
                    <a:pt x="146288" y="71000"/>
                  </a:lnTo>
                  <a:lnTo>
                    <a:pt x="141657" y="77804"/>
                  </a:lnTo>
                  <a:lnTo>
                    <a:pt x="136876" y="84033"/>
                  </a:lnTo>
                  <a:lnTo>
                    <a:pt x="131996" y="89879"/>
                  </a:lnTo>
                  <a:lnTo>
                    <a:pt x="127049" y="95470"/>
                  </a:lnTo>
                  <a:lnTo>
                    <a:pt x="121211" y="100891"/>
                  </a:lnTo>
                  <a:lnTo>
                    <a:pt x="114779" y="106198"/>
                  </a:lnTo>
                  <a:lnTo>
                    <a:pt x="107951" y="111429"/>
                  </a:lnTo>
                  <a:lnTo>
                    <a:pt x="100859" y="117457"/>
                  </a:lnTo>
                  <a:lnTo>
                    <a:pt x="93591" y="124015"/>
                  </a:lnTo>
                  <a:lnTo>
                    <a:pt x="86206" y="130927"/>
                  </a:lnTo>
                  <a:lnTo>
                    <a:pt x="78742" y="137229"/>
                  </a:lnTo>
                  <a:lnTo>
                    <a:pt x="71226" y="143123"/>
                  </a:lnTo>
                  <a:lnTo>
                    <a:pt x="63676" y="148746"/>
                  </a:lnTo>
                  <a:lnTo>
                    <a:pt x="56949" y="154188"/>
                  </a:lnTo>
                  <a:lnTo>
                    <a:pt x="50772" y="159509"/>
                  </a:lnTo>
                  <a:lnTo>
                    <a:pt x="44959" y="164750"/>
                  </a:lnTo>
                  <a:lnTo>
                    <a:pt x="38545" y="169937"/>
                  </a:lnTo>
                  <a:lnTo>
                    <a:pt x="31728" y="175089"/>
                  </a:lnTo>
                  <a:lnTo>
                    <a:pt x="24644" y="180216"/>
                  </a:lnTo>
                  <a:lnTo>
                    <a:pt x="19074" y="185328"/>
                  </a:lnTo>
                  <a:lnTo>
                    <a:pt x="14514" y="190430"/>
                  </a:lnTo>
                  <a:lnTo>
                    <a:pt x="10628" y="195524"/>
                  </a:lnTo>
                  <a:lnTo>
                    <a:pt x="7190" y="200613"/>
                  </a:lnTo>
                  <a:lnTo>
                    <a:pt x="4052" y="205699"/>
                  </a:lnTo>
                  <a:lnTo>
                    <a:pt x="1113" y="210783"/>
                  </a:lnTo>
                  <a:lnTo>
                    <a:pt x="0" y="215020"/>
                  </a:lnTo>
                  <a:lnTo>
                    <a:pt x="105" y="218690"/>
                  </a:lnTo>
                  <a:lnTo>
                    <a:pt x="2479" y="225873"/>
                  </a:lnTo>
                  <a:lnTo>
                    <a:pt x="4298" y="230160"/>
                  </a:lnTo>
                  <a:lnTo>
                    <a:pt x="6357" y="234710"/>
                  </a:lnTo>
                  <a:lnTo>
                    <a:pt x="9423" y="237744"/>
                  </a:lnTo>
                  <a:lnTo>
                    <a:pt x="13160" y="239767"/>
                  </a:lnTo>
                  <a:lnTo>
                    <a:pt x="56798" y="254181"/>
                  </a:lnTo>
                  <a:lnTo>
                    <a:pt x="65064" y="255805"/>
                  </a:lnTo>
                  <a:lnTo>
                    <a:pt x="73961" y="256887"/>
                  </a:lnTo>
                  <a:lnTo>
                    <a:pt x="83279" y="257609"/>
                  </a:lnTo>
                  <a:lnTo>
                    <a:pt x="93724" y="258090"/>
                  </a:lnTo>
                  <a:lnTo>
                    <a:pt x="116619" y="258624"/>
                  </a:lnTo>
                  <a:lnTo>
                    <a:pt x="127804" y="257920"/>
                  </a:lnTo>
                  <a:lnTo>
                    <a:pt x="138648" y="256604"/>
                  </a:lnTo>
                  <a:lnTo>
                    <a:pt x="149264" y="254880"/>
                  </a:lnTo>
                  <a:lnTo>
                    <a:pt x="158881" y="253731"/>
                  </a:lnTo>
                  <a:lnTo>
                    <a:pt x="167833" y="252964"/>
                  </a:lnTo>
                  <a:lnTo>
                    <a:pt x="176340" y="252453"/>
                  </a:lnTo>
                  <a:lnTo>
                    <a:pt x="185398" y="251266"/>
                  </a:lnTo>
                  <a:lnTo>
                    <a:pt x="194824" y="249628"/>
                  </a:lnTo>
                  <a:lnTo>
                    <a:pt x="204494" y="247689"/>
                  </a:lnTo>
                  <a:lnTo>
                    <a:pt x="211788" y="245550"/>
                  </a:lnTo>
                  <a:lnTo>
                    <a:pt x="217497" y="243277"/>
                  </a:lnTo>
                  <a:lnTo>
                    <a:pt x="231455" y="2361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SMARTInkAnnotation228"/>
            <p:cNvSpPr/>
            <p:nvPr/>
          </p:nvSpPr>
          <p:spPr>
            <a:xfrm>
              <a:off x="6159240" y="2041920"/>
              <a:ext cx="125640" cy="1368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25850" h="136924">
                  <a:moveTo>
                    <a:pt x="104638" y="0"/>
                  </a:moveTo>
                  <a:lnTo>
                    <a:pt x="98076" y="0"/>
                  </a:lnTo>
                  <a:lnTo>
                    <a:pt x="95231" y="2258"/>
                  </a:lnTo>
                  <a:lnTo>
                    <a:pt x="93286" y="4045"/>
                  </a:lnTo>
                  <a:lnTo>
                    <a:pt x="90296" y="5237"/>
                  </a:lnTo>
                  <a:lnTo>
                    <a:pt x="86610" y="6031"/>
                  </a:lnTo>
                  <a:lnTo>
                    <a:pt x="82459" y="6561"/>
                  </a:lnTo>
                  <a:lnTo>
                    <a:pt x="77998" y="8607"/>
                  </a:lnTo>
                  <a:lnTo>
                    <a:pt x="73331" y="11665"/>
                  </a:lnTo>
                  <a:lnTo>
                    <a:pt x="68527" y="15397"/>
                  </a:lnTo>
                  <a:lnTo>
                    <a:pt x="63630" y="19578"/>
                  </a:lnTo>
                  <a:lnTo>
                    <a:pt x="58673" y="24059"/>
                  </a:lnTo>
                  <a:lnTo>
                    <a:pt x="53674" y="28739"/>
                  </a:lnTo>
                  <a:lnTo>
                    <a:pt x="47802" y="33553"/>
                  </a:lnTo>
                  <a:lnTo>
                    <a:pt x="41347" y="38455"/>
                  </a:lnTo>
                  <a:lnTo>
                    <a:pt x="34504" y="43417"/>
                  </a:lnTo>
                  <a:lnTo>
                    <a:pt x="28249" y="48418"/>
                  </a:lnTo>
                  <a:lnTo>
                    <a:pt x="22385" y="53445"/>
                  </a:lnTo>
                  <a:lnTo>
                    <a:pt x="16782" y="58490"/>
                  </a:lnTo>
                  <a:lnTo>
                    <a:pt x="12201" y="63547"/>
                  </a:lnTo>
                  <a:lnTo>
                    <a:pt x="8299" y="68611"/>
                  </a:lnTo>
                  <a:lnTo>
                    <a:pt x="4851" y="73681"/>
                  </a:lnTo>
                  <a:lnTo>
                    <a:pt x="2554" y="78754"/>
                  </a:lnTo>
                  <a:lnTo>
                    <a:pt x="1021" y="83829"/>
                  </a:lnTo>
                  <a:lnTo>
                    <a:pt x="0" y="88906"/>
                  </a:lnTo>
                  <a:lnTo>
                    <a:pt x="166" y="93984"/>
                  </a:lnTo>
                  <a:lnTo>
                    <a:pt x="1123" y="99063"/>
                  </a:lnTo>
                  <a:lnTo>
                    <a:pt x="2608" y="104142"/>
                  </a:lnTo>
                  <a:lnTo>
                    <a:pt x="5291" y="108375"/>
                  </a:lnTo>
                  <a:lnTo>
                    <a:pt x="8773" y="112043"/>
                  </a:lnTo>
                  <a:lnTo>
                    <a:pt x="12787" y="115335"/>
                  </a:lnTo>
                  <a:lnTo>
                    <a:pt x="17158" y="119224"/>
                  </a:lnTo>
                  <a:lnTo>
                    <a:pt x="26529" y="128059"/>
                  </a:lnTo>
                  <a:lnTo>
                    <a:pt x="32245" y="131093"/>
                  </a:lnTo>
                  <a:lnTo>
                    <a:pt x="38596" y="133115"/>
                  </a:lnTo>
                  <a:lnTo>
                    <a:pt x="45370" y="134464"/>
                  </a:lnTo>
                  <a:lnTo>
                    <a:pt x="52425" y="135362"/>
                  </a:lnTo>
                  <a:lnTo>
                    <a:pt x="59670" y="135962"/>
                  </a:lnTo>
                  <a:lnTo>
                    <a:pt x="73645" y="136627"/>
                  </a:lnTo>
                  <a:lnTo>
                    <a:pt x="85501" y="136923"/>
                  </a:lnTo>
                  <a:lnTo>
                    <a:pt x="91033" y="136155"/>
                  </a:lnTo>
                  <a:lnTo>
                    <a:pt x="96415" y="134797"/>
                  </a:lnTo>
                  <a:lnTo>
                    <a:pt x="101695" y="133045"/>
                  </a:lnTo>
                  <a:lnTo>
                    <a:pt x="106063" y="130183"/>
                  </a:lnTo>
                  <a:lnTo>
                    <a:pt x="109821" y="126582"/>
                  </a:lnTo>
                  <a:lnTo>
                    <a:pt x="113173" y="122488"/>
                  </a:lnTo>
                  <a:lnTo>
                    <a:pt x="116254" y="118065"/>
                  </a:lnTo>
                  <a:lnTo>
                    <a:pt x="119156" y="113424"/>
                  </a:lnTo>
                  <a:lnTo>
                    <a:pt x="121936" y="108636"/>
                  </a:lnTo>
                  <a:lnTo>
                    <a:pt x="123790" y="103750"/>
                  </a:lnTo>
                  <a:lnTo>
                    <a:pt x="125025" y="98801"/>
                  </a:lnTo>
                  <a:lnTo>
                    <a:pt x="125849" y="93807"/>
                  </a:lnTo>
                  <a:lnTo>
                    <a:pt x="125553" y="88785"/>
                  </a:lnTo>
                  <a:lnTo>
                    <a:pt x="124507" y="83743"/>
                  </a:lnTo>
                  <a:lnTo>
                    <a:pt x="122964" y="78689"/>
                  </a:lnTo>
                  <a:lnTo>
                    <a:pt x="121088" y="73626"/>
                  </a:lnTo>
                  <a:lnTo>
                    <a:pt x="118991" y="68557"/>
                  </a:lnTo>
                  <a:lnTo>
                    <a:pt x="116747" y="63485"/>
                  </a:lnTo>
                  <a:lnTo>
                    <a:pt x="113557" y="59257"/>
                  </a:lnTo>
                  <a:lnTo>
                    <a:pt x="109737" y="55591"/>
                  </a:lnTo>
                  <a:lnTo>
                    <a:pt x="105497" y="52301"/>
                  </a:lnTo>
                  <a:lnTo>
                    <a:pt x="100977" y="49261"/>
                  </a:lnTo>
                  <a:lnTo>
                    <a:pt x="96271" y="46387"/>
                  </a:lnTo>
                  <a:lnTo>
                    <a:pt x="91440" y="43625"/>
                  </a:lnTo>
                  <a:lnTo>
                    <a:pt x="86525" y="41783"/>
                  </a:lnTo>
                  <a:lnTo>
                    <a:pt x="81556" y="40556"/>
                  </a:lnTo>
                  <a:lnTo>
                    <a:pt x="76549" y="39737"/>
                  </a:lnTo>
                  <a:lnTo>
                    <a:pt x="71519" y="39191"/>
                  </a:lnTo>
                  <a:lnTo>
                    <a:pt x="66472" y="38828"/>
                  </a:lnTo>
                  <a:lnTo>
                    <a:pt x="51297" y="38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SMARTInkAnnotation229"/>
            <p:cNvSpPr/>
            <p:nvPr/>
          </p:nvSpPr>
          <p:spPr>
            <a:xfrm>
              <a:off x="6129360" y="2163600"/>
              <a:ext cx="132840" cy="13356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32908" h="133564">
                  <a:moveTo>
                    <a:pt x="96355" y="7620"/>
                  </a:moveTo>
                  <a:lnTo>
                    <a:pt x="92309" y="11665"/>
                  </a:lnTo>
                  <a:lnTo>
                    <a:pt x="89424" y="12857"/>
                  </a:lnTo>
                  <a:lnTo>
                    <a:pt x="85808" y="13651"/>
                  </a:lnTo>
                  <a:lnTo>
                    <a:pt x="81703" y="14181"/>
                  </a:lnTo>
                  <a:lnTo>
                    <a:pt x="77274" y="16227"/>
                  </a:lnTo>
                  <a:lnTo>
                    <a:pt x="72627" y="19285"/>
                  </a:lnTo>
                  <a:lnTo>
                    <a:pt x="67836" y="23017"/>
                  </a:lnTo>
                  <a:lnTo>
                    <a:pt x="62948" y="26351"/>
                  </a:lnTo>
                  <a:lnTo>
                    <a:pt x="57997" y="29421"/>
                  </a:lnTo>
                  <a:lnTo>
                    <a:pt x="53003" y="32314"/>
                  </a:lnTo>
                  <a:lnTo>
                    <a:pt x="40680" y="40044"/>
                  </a:lnTo>
                  <a:lnTo>
                    <a:pt x="33838" y="44476"/>
                  </a:lnTo>
                  <a:lnTo>
                    <a:pt x="28430" y="49124"/>
                  </a:lnTo>
                  <a:lnTo>
                    <a:pt x="23978" y="53916"/>
                  </a:lnTo>
                  <a:lnTo>
                    <a:pt x="20164" y="58804"/>
                  </a:lnTo>
                  <a:lnTo>
                    <a:pt x="15927" y="63756"/>
                  </a:lnTo>
                  <a:lnTo>
                    <a:pt x="11409" y="68750"/>
                  </a:lnTo>
                  <a:lnTo>
                    <a:pt x="6704" y="73774"/>
                  </a:lnTo>
                  <a:lnTo>
                    <a:pt x="3568" y="78816"/>
                  </a:lnTo>
                  <a:lnTo>
                    <a:pt x="1477" y="83870"/>
                  </a:lnTo>
                  <a:lnTo>
                    <a:pt x="83" y="88934"/>
                  </a:lnTo>
                  <a:lnTo>
                    <a:pt x="0" y="93155"/>
                  </a:lnTo>
                  <a:lnTo>
                    <a:pt x="791" y="96817"/>
                  </a:lnTo>
                  <a:lnTo>
                    <a:pt x="2165" y="100105"/>
                  </a:lnTo>
                  <a:lnTo>
                    <a:pt x="4775" y="103990"/>
                  </a:lnTo>
                  <a:lnTo>
                    <a:pt x="8208" y="108273"/>
                  </a:lnTo>
                  <a:lnTo>
                    <a:pt x="12190" y="112822"/>
                  </a:lnTo>
                  <a:lnTo>
                    <a:pt x="16538" y="116701"/>
                  </a:lnTo>
                  <a:lnTo>
                    <a:pt x="21130" y="120134"/>
                  </a:lnTo>
                  <a:lnTo>
                    <a:pt x="25884" y="123269"/>
                  </a:lnTo>
                  <a:lnTo>
                    <a:pt x="31594" y="125360"/>
                  </a:lnTo>
                  <a:lnTo>
                    <a:pt x="37941" y="126753"/>
                  </a:lnTo>
                  <a:lnTo>
                    <a:pt x="44712" y="127682"/>
                  </a:lnTo>
                  <a:lnTo>
                    <a:pt x="51767" y="129148"/>
                  </a:lnTo>
                  <a:lnTo>
                    <a:pt x="59009" y="130972"/>
                  </a:lnTo>
                  <a:lnTo>
                    <a:pt x="66378" y="133034"/>
                  </a:lnTo>
                  <a:lnTo>
                    <a:pt x="72983" y="133563"/>
                  </a:lnTo>
                  <a:lnTo>
                    <a:pt x="79080" y="133068"/>
                  </a:lnTo>
                  <a:lnTo>
                    <a:pt x="84838" y="131892"/>
                  </a:lnTo>
                  <a:lnTo>
                    <a:pt x="90371" y="131108"/>
                  </a:lnTo>
                  <a:lnTo>
                    <a:pt x="95752" y="130585"/>
                  </a:lnTo>
                  <a:lnTo>
                    <a:pt x="101033" y="130237"/>
                  </a:lnTo>
                  <a:lnTo>
                    <a:pt x="105400" y="128311"/>
                  </a:lnTo>
                  <a:lnTo>
                    <a:pt x="109158" y="125334"/>
                  </a:lnTo>
                  <a:lnTo>
                    <a:pt x="112510" y="121656"/>
                  </a:lnTo>
                  <a:lnTo>
                    <a:pt x="115591" y="117511"/>
                  </a:lnTo>
                  <a:lnTo>
                    <a:pt x="118493" y="113054"/>
                  </a:lnTo>
                  <a:lnTo>
                    <a:pt x="121273" y="108389"/>
                  </a:lnTo>
                  <a:lnTo>
                    <a:pt x="123973" y="102739"/>
                  </a:lnTo>
                  <a:lnTo>
                    <a:pt x="126621" y="96433"/>
                  </a:lnTo>
                  <a:lnTo>
                    <a:pt x="129232" y="89689"/>
                  </a:lnTo>
                  <a:lnTo>
                    <a:pt x="130973" y="82652"/>
                  </a:lnTo>
                  <a:lnTo>
                    <a:pt x="132134" y="75421"/>
                  </a:lnTo>
                  <a:lnTo>
                    <a:pt x="132907" y="68061"/>
                  </a:lnTo>
                  <a:lnTo>
                    <a:pt x="132576" y="61461"/>
                  </a:lnTo>
                  <a:lnTo>
                    <a:pt x="131510" y="55367"/>
                  </a:lnTo>
                  <a:lnTo>
                    <a:pt x="129951" y="49611"/>
                  </a:lnTo>
                  <a:lnTo>
                    <a:pt x="125962" y="36443"/>
                  </a:lnTo>
                  <a:lnTo>
                    <a:pt x="123713" y="29375"/>
                  </a:lnTo>
                  <a:lnTo>
                    <a:pt x="120520" y="23817"/>
                  </a:lnTo>
                  <a:lnTo>
                    <a:pt x="116698" y="19265"/>
                  </a:lnTo>
                  <a:lnTo>
                    <a:pt x="108783" y="11949"/>
                  </a:lnTo>
                  <a:lnTo>
                    <a:pt x="9635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MARTInkAnnotation230"/>
            <p:cNvSpPr/>
            <p:nvPr/>
          </p:nvSpPr>
          <p:spPr>
            <a:xfrm>
              <a:off x="2559600" y="3215160"/>
              <a:ext cx="174960" cy="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5261" h="1">
                  <a:moveTo>
                    <a:pt x="0" y="0"/>
                  </a:move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MARTInkAnnotation231"/>
            <p:cNvSpPr/>
            <p:nvPr/>
          </p:nvSpPr>
          <p:spPr>
            <a:xfrm>
              <a:off x="2872080" y="3062880"/>
              <a:ext cx="261000" cy="28152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61152" h="281707">
                  <a:moveTo>
                    <a:pt x="15240" y="22758"/>
                  </a:moveTo>
                  <a:lnTo>
                    <a:pt x="21801" y="16197"/>
                  </a:lnTo>
                  <a:lnTo>
                    <a:pt x="26905" y="13351"/>
                  </a:lnTo>
                  <a:lnTo>
                    <a:pt x="30637" y="11407"/>
                  </a:lnTo>
                  <a:lnTo>
                    <a:pt x="35665" y="10111"/>
                  </a:lnTo>
                  <a:lnTo>
                    <a:pt x="41556" y="9246"/>
                  </a:lnTo>
                  <a:lnTo>
                    <a:pt x="48024" y="8671"/>
                  </a:lnTo>
                  <a:lnTo>
                    <a:pt x="54876" y="7439"/>
                  </a:lnTo>
                  <a:lnTo>
                    <a:pt x="61985" y="5772"/>
                  </a:lnTo>
                  <a:lnTo>
                    <a:pt x="69263" y="3814"/>
                  </a:lnTo>
                  <a:lnTo>
                    <a:pt x="77502" y="2509"/>
                  </a:lnTo>
                  <a:lnTo>
                    <a:pt x="86382" y="1639"/>
                  </a:lnTo>
                  <a:lnTo>
                    <a:pt x="95688" y="1058"/>
                  </a:lnTo>
                  <a:lnTo>
                    <a:pt x="115059" y="414"/>
                  </a:lnTo>
                  <a:lnTo>
                    <a:pt x="155090" y="0"/>
                  </a:lnTo>
                  <a:lnTo>
                    <a:pt x="165201" y="813"/>
                  </a:lnTo>
                  <a:lnTo>
                    <a:pt x="175327" y="2201"/>
                  </a:lnTo>
                  <a:lnTo>
                    <a:pt x="185465" y="3973"/>
                  </a:lnTo>
                  <a:lnTo>
                    <a:pt x="194763" y="6002"/>
                  </a:lnTo>
                  <a:lnTo>
                    <a:pt x="203502" y="8201"/>
                  </a:lnTo>
                  <a:lnTo>
                    <a:pt x="211868" y="10513"/>
                  </a:lnTo>
                  <a:lnTo>
                    <a:pt x="219986" y="12055"/>
                  </a:lnTo>
                  <a:lnTo>
                    <a:pt x="227937" y="13083"/>
                  </a:lnTo>
                  <a:lnTo>
                    <a:pt x="235778" y="13768"/>
                  </a:lnTo>
                  <a:lnTo>
                    <a:pt x="241852" y="15071"/>
                  </a:lnTo>
                  <a:lnTo>
                    <a:pt x="246748" y="16787"/>
                  </a:lnTo>
                  <a:lnTo>
                    <a:pt x="250859" y="18777"/>
                  </a:lnTo>
                  <a:lnTo>
                    <a:pt x="253599" y="20951"/>
                  </a:lnTo>
                  <a:lnTo>
                    <a:pt x="255426" y="23247"/>
                  </a:lnTo>
                  <a:lnTo>
                    <a:pt x="256644" y="25624"/>
                  </a:lnTo>
                  <a:lnTo>
                    <a:pt x="255763" y="27209"/>
                  </a:lnTo>
                  <a:lnTo>
                    <a:pt x="253482" y="28265"/>
                  </a:lnTo>
                  <a:lnTo>
                    <a:pt x="250268" y="28969"/>
                  </a:lnTo>
                  <a:lnTo>
                    <a:pt x="245585" y="31132"/>
                  </a:lnTo>
                  <a:lnTo>
                    <a:pt x="239924" y="34267"/>
                  </a:lnTo>
                  <a:lnTo>
                    <a:pt x="233609" y="38051"/>
                  </a:lnTo>
                  <a:lnTo>
                    <a:pt x="219820" y="46771"/>
                  </a:lnTo>
                  <a:lnTo>
                    <a:pt x="212587" y="51466"/>
                  </a:lnTo>
                  <a:lnTo>
                    <a:pt x="204378" y="55443"/>
                  </a:lnTo>
                  <a:lnTo>
                    <a:pt x="195519" y="58942"/>
                  </a:lnTo>
                  <a:lnTo>
                    <a:pt x="186226" y="62121"/>
                  </a:lnTo>
                  <a:lnTo>
                    <a:pt x="176644" y="65086"/>
                  </a:lnTo>
                  <a:lnTo>
                    <a:pt x="156966" y="70640"/>
                  </a:lnTo>
                  <a:lnTo>
                    <a:pt x="146978" y="74152"/>
                  </a:lnTo>
                  <a:lnTo>
                    <a:pt x="136932" y="78188"/>
                  </a:lnTo>
                  <a:lnTo>
                    <a:pt x="126848" y="82571"/>
                  </a:lnTo>
                  <a:lnTo>
                    <a:pt x="117585" y="86340"/>
                  </a:lnTo>
                  <a:lnTo>
                    <a:pt x="100520" y="92786"/>
                  </a:lnTo>
                  <a:lnTo>
                    <a:pt x="94107" y="96537"/>
                  </a:lnTo>
                  <a:lnTo>
                    <a:pt x="88985" y="100730"/>
                  </a:lnTo>
                  <a:lnTo>
                    <a:pt x="81882" y="109059"/>
                  </a:lnTo>
                  <a:lnTo>
                    <a:pt x="78726" y="115583"/>
                  </a:lnTo>
                  <a:lnTo>
                    <a:pt x="78731" y="118508"/>
                  </a:lnTo>
                  <a:lnTo>
                    <a:pt x="79580" y="121305"/>
                  </a:lnTo>
                  <a:lnTo>
                    <a:pt x="80994" y="124016"/>
                  </a:lnTo>
                  <a:lnTo>
                    <a:pt x="87080" y="129286"/>
                  </a:lnTo>
                  <a:lnTo>
                    <a:pt x="108829" y="143613"/>
                  </a:lnTo>
                  <a:lnTo>
                    <a:pt x="116580" y="147355"/>
                  </a:lnTo>
                  <a:lnTo>
                    <a:pt x="125133" y="150696"/>
                  </a:lnTo>
                  <a:lnTo>
                    <a:pt x="134222" y="153770"/>
                  </a:lnTo>
                  <a:lnTo>
                    <a:pt x="155610" y="161701"/>
                  </a:lnTo>
                  <a:lnTo>
                    <a:pt x="177534" y="170024"/>
                  </a:lnTo>
                  <a:lnTo>
                    <a:pt x="195744" y="176545"/>
                  </a:lnTo>
                  <a:lnTo>
                    <a:pt x="205003" y="179470"/>
                  </a:lnTo>
                  <a:lnTo>
                    <a:pt x="224322" y="184977"/>
                  </a:lnTo>
                  <a:lnTo>
                    <a:pt x="232521" y="188477"/>
                  </a:lnTo>
                  <a:lnTo>
                    <a:pt x="239681" y="192504"/>
                  </a:lnTo>
                  <a:lnTo>
                    <a:pt x="246148" y="196882"/>
                  </a:lnTo>
                  <a:lnTo>
                    <a:pt x="251305" y="200648"/>
                  </a:lnTo>
                  <a:lnTo>
                    <a:pt x="259294" y="207089"/>
                  </a:lnTo>
                  <a:lnTo>
                    <a:pt x="260916" y="210839"/>
                  </a:lnTo>
                  <a:lnTo>
                    <a:pt x="261151" y="215032"/>
                  </a:lnTo>
                  <a:lnTo>
                    <a:pt x="260461" y="219520"/>
                  </a:lnTo>
                  <a:lnTo>
                    <a:pt x="257436" y="226766"/>
                  </a:lnTo>
                  <a:lnTo>
                    <a:pt x="255444" y="229883"/>
                  </a:lnTo>
                  <a:lnTo>
                    <a:pt x="248715" y="235605"/>
                  </a:lnTo>
                  <a:lnTo>
                    <a:pt x="244551" y="238316"/>
                  </a:lnTo>
                  <a:lnTo>
                    <a:pt x="240080" y="240970"/>
                  </a:lnTo>
                  <a:lnTo>
                    <a:pt x="235407" y="243586"/>
                  </a:lnTo>
                  <a:lnTo>
                    <a:pt x="230598" y="246177"/>
                  </a:lnTo>
                  <a:lnTo>
                    <a:pt x="224852" y="248751"/>
                  </a:lnTo>
                  <a:lnTo>
                    <a:pt x="218482" y="251313"/>
                  </a:lnTo>
                  <a:lnTo>
                    <a:pt x="211694" y="253868"/>
                  </a:lnTo>
                  <a:lnTo>
                    <a:pt x="203783" y="256418"/>
                  </a:lnTo>
                  <a:lnTo>
                    <a:pt x="195122" y="258965"/>
                  </a:lnTo>
                  <a:lnTo>
                    <a:pt x="176468" y="264052"/>
                  </a:lnTo>
                  <a:lnTo>
                    <a:pt x="156888" y="269136"/>
                  </a:lnTo>
                  <a:lnTo>
                    <a:pt x="147772" y="271677"/>
                  </a:lnTo>
                  <a:lnTo>
                    <a:pt x="130870" y="276757"/>
                  </a:lnTo>
                  <a:lnTo>
                    <a:pt x="121960" y="278451"/>
                  </a:lnTo>
                  <a:lnTo>
                    <a:pt x="112633" y="279580"/>
                  </a:lnTo>
                  <a:lnTo>
                    <a:pt x="103029" y="280333"/>
                  </a:lnTo>
                  <a:lnTo>
                    <a:pt x="94086" y="280834"/>
                  </a:lnTo>
                  <a:lnTo>
                    <a:pt x="77376" y="281392"/>
                  </a:lnTo>
                  <a:lnTo>
                    <a:pt x="53689" y="281706"/>
                  </a:lnTo>
                  <a:lnTo>
                    <a:pt x="45953" y="280903"/>
                  </a:lnTo>
                  <a:lnTo>
                    <a:pt x="38256" y="279521"/>
                  </a:lnTo>
                  <a:lnTo>
                    <a:pt x="30584" y="277754"/>
                  </a:lnTo>
                  <a:lnTo>
                    <a:pt x="24622" y="275729"/>
                  </a:lnTo>
                  <a:lnTo>
                    <a:pt x="19802" y="273532"/>
                  </a:lnTo>
                  <a:lnTo>
                    <a:pt x="12188" y="268833"/>
                  </a:lnTo>
                  <a:lnTo>
                    <a:pt x="5981" y="263922"/>
                  </a:lnTo>
                  <a:lnTo>
                    <a:pt x="3988" y="261428"/>
                  </a:lnTo>
                  <a:lnTo>
                    <a:pt x="2659" y="258918"/>
                  </a:lnTo>
                  <a:lnTo>
                    <a:pt x="0" y="25135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MARTInkAnnotation232"/>
            <p:cNvSpPr/>
            <p:nvPr/>
          </p:nvSpPr>
          <p:spPr>
            <a:xfrm>
              <a:off x="3253320" y="3032280"/>
              <a:ext cx="243720" cy="3808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43736" h="381001">
                  <a:moveTo>
                    <a:pt x="37995" y="0"/>
                  </a:moveTo>
                  <a:lnTo>
                    <a:pt x="37995" y="4046"/>
                  </a:lnTo>
                  <a:lnTo>
                    <a:pt x="37149" y="6084"/>
                  </a:lnTo>
                  <a:lnTo>
                    <a:pt x="32758" y="12997"/>
                  </a:lnTo>
                  <a:lnTo>
                    <a:pt x="30235" y="20408"/>
                  </a:lnTo>
                  <a:lnTo>
                    <a:pt x="24501" y="28813"/>
                  </a:lnTo>
                  <a:lnTo>
                    <a:pt x="19862" y="37077"/>
                  </a:lnTo>
                  <a:lnTo>
                    <a:pt x="14978" y="48652"/>
                  </a:lnTo>
                  <a:lnTo>
                    <a:pt x="12490" y="55295"/>
                  </a:lnTo>
                  <a:lnTo>
                    <a:pt x="10832" y="62263"/>
                  </a:lnTo>
                  <a:lnTo>
                    <a:pt x="9727" y="69449"/>
                  </a:lnTo>
                  <a:lnTo>
                    <a:pt x="8990" y="76779"/>
                  </a:lnTo>
                  <a:lnTo>
                    <a:pt x="7651" y="84206"/>
                  </a:lnTo>
                  <a:lnTo>
                    <a:pt x="5913" y="91698"/>
                  </a:lnTo>
                  <a:lnTo>
                    <a:pt x="3907" y="99232"/>
                  </a:lnTo>
                  <a:lnTo>
                    <a:pt x="2570" y="106795"/>
                  </a:lnTo>
                  <a:lnTo>
                    <a:pt x="1678" y="114377"/>
                  </a:lnTo>
                  <a:lnTo>
                    <a:pt x="1084" y="121971"/>
                  </a:lnTo>
                  <a:lnTo>
                    <a:pt x="688" y="129574"/>
                  </a:lnTo>
                  <a:lnTo>
                    <a:pt x="247" y="144795"/>
                  </a:lnTo>
                  <a:lnTo>
                    <a:pt x="0" y="171690"/>
                  </a:lnTo>
                  <a:lnTo>
                    <a:pt x="811" y="181347"/>
                  </a:lnTo>
                  <a:lnTo>
                    <a:pt x="2200" y="191171"/>
                  </a:lnTo>
                  <a:lnTo>
                    <a:pt x="3971" y="201108"/>
                  </a:lnTo>
                  <a:lnTo>
                    <a:pt x="6846" y="210272"/>
                  </a:lnTo>
                  <a:lnTo>
                    <a:pt x="10456" y="218921"/>
                  </a:lnTo>
                  <a:lnTo>
                    <a:pt x="28416" y="255099"/>
                  </a:lnTo>
                  <a:lnTo>
                    <a:pt x="34996" y="264045"/>
                  </a:lnTo>
                  <a:lnTo>
                    <a:pt x="42769" y="272551"/>
                  </a:lnTo>
                  <a:lnTo>
                    <a:pt x="51337" y="280761"/>
                  </a:lnTo>
                  <a:lnTo>
                    <a:pt x="60436" y="288774"/>
                  </a:lnTo>
                  <a:lnTo>
                    <a:pt x="69889" y="296656"/>
                  </a:lnTo>
                  <a:lnTo>
                    <a:pt x="79578" y="304451"/>
                  </a:lnTo>
                  <a:lnTo>
                    <a:pt x="91117" y="312187"/>
                  </a:lnTo>
                  <a:lnTo>
                    <a:pt x="103890" y="319885"/>
                  </a:lnTo>
                  <a:lnTo>
                    <a:pt x="129935" y="334364"/>
                  </a:lnTo>
                  <a:lnTo>
                    <a:pt x="152799" y="346445"/>
                  </a:lnTo>
                  <a:lnTo>
                    <a:pt x="165332" y="352036"/>
                  </a:lnTo>
                  <a:lnTo>
                    <a:pt x="178766" y="357458"/>
                  </a:lnTo>
                  <a:lnTo>
                    <a:pt x="204700" y="367150"/>
                  </a:lnTo>
                  <a:lnTo>
                    <a:pt x="243735" y="3810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MARTInkAnnotation233"/>
            <p:cNvSpPr/>
            <p:nvPr/>
          </p:nvSpPr>
          <p:spPr>
            <a:xfrm>
              <a:off x="3367440" y="316188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1" h="7621">
                  <a:moveTo>
                    <a:pt x="0" y="7620"/>
                  </a:moveTo>
                  <a:lnTo>
                    <a:pt x="54989" y="7620"/>
                  </a:lnTo>
                  <a:lnTo>
                    <a:pt x="62060" y="6773"/>
                  </a:lnTo>
                  <a:lnTo>
                    <a:pt x="69313" y="5362"/>
                  </a:lnTo>
                  <a:lnTo>
                    <a:pt x="76689" y="3575"/>
                  </a:lnTo>
                  <a:lnTo>
                    <a:pt x="84993" y="2383"/>
                  </a:lnTo>
                  <a:lnTo>
                    <a:pt x="93915" y="1589"/>
                  </a:lnTo>
                  <a:lnTo>
                    <a:pt x="110320" y="706"/>
                  </a:lnTo>
                  <a:lnTo>
                    <a:pt x="120434" y="314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MARTInkAnnotation234"/>
            <p:cNvSpPr/>
            <p:nvPr/>
          </p:nvSpPr>
          <p:spPr>
            <a:xfrm>
              <a:off x="3551040" y="3062880"/>
              <a:ext cx="128880" cy="118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29060" h="118394">
                  <a:moveTo>
                    <a:pt x="60479" y="0"/>
                  </a:moveTo>
                  <a:lnTo>
                    <a:pt x="60479" y="7306"/>
                  </a:lnTo>
                  <a:lnTo>
                    <a:pt x="62737" y="9738"/>
                  </a:lnTo>
                  <a:lnTo>
                    <a:pt x="64524" y="11573"/>
                  </a:lnTo>
                  <a:lnTo>
                    <a:pt x="64869" y="12795"/>
                  </a:lnTo>
                  <a:lnTo>
                    <a:pt x="64252" y="13610"/>
                  </a:lnTo>
                  <a:lnTo>
                    <a:pt x="62995" y="14153"/>
                  </a:lnTo>
                  <a:lnTo>
                    <a:pt x="62156" y="15362"/>
                  </a:lnTo>
                  <a:lnTo>
                    <a:pt x="61224" y="18963"/>
                  </a:lnTo>
                  <a:lnTo>
                    <a:pt x="60976" y="21109"/>
                  </a:lnTo>
                  <a:lnTo>
                    <a:pt x="60810" y="23386"/>
                  </a:lnTo>
                  <a:lnTo>
                    <a:pt x="60700" y="25751"/>
                  </a:lnTo>
                  <a:lnTo>
                    <a:pt x="59780" y="28174"/>
                  </a:lnTo>
                  <a:lnTo>
                    <a:pt x="58319" y="30636"/>
                  </a:lnTo>
                  <a:lnTo>
                    <a:pt x="56499" y="33124"/>
                  </a:lnTo>
                  <a:lnTo>
                    <a:pt x="54439" y="36476"/>
                  </a:lnTo>
                  <a:lnTo>
                    <a:pt x="52219" y="40404"/>
                  </a:lnTo>
                  <a:lnTo>
                    <a:pt x="49892" y="44716"/>
                  </a:lnTo>
                  <a:lnTo>
                    <a:pt x="46648" y="48437"/>
                  </a:lnTo>
                  <a:lnTo>
                    <a:pt x="42792" y="51765"/>
                  </a:lnTo>
                  <a:lnTo>
                    <a:pt x="38528" y="54830"/>
                  </a:lnTo>
                  <a:lnTo>
                    <a:pt x="33991" y="57720"/>
                  </a:lnTo>
                  <a:lnTo>
                    <a:pt x="29274" y="60493"/>
                  </a:lnTo>
                  <a:lnTo>
                    <a:pt x="24436" y="63189"/>
                  </a:lnTo>
                  <a:lnTo>
                    <a:pt x="20364" y="65833"/>
                  </a:lnTo>
                  <a:lnTo>
                    <a:pt x="16802" y="68442"/>
                  </a:lnTo>
                  <a:lnTo>
                    <a:pt x="13581" y="71028"/>
                  </a:lnTo>
                  <a:lnTo>
                    <a:pt x="10587" y="73599"/>
                  </a:lnTo>
                  <a:lnTo>
                    <a:pt x="7744" y="76159"/>
                  </a:lnTo>
                  <a:lnTo>
                    <a:pt x="5002" y="78713"/>
                  </a:lnTo>
                  <a:lnTo>
                    <a:pt x="3175" y="81262"/>
                  </a:lnTo>
                  <a:lnTo>
                    <a:pt x="1956" y="83808"/>
                  </a:lnTo>
                  <a:lnTo>
                    <a:pt x="1144" y="86352"/>
                  </a:lnTo>
                  <a:lnTo>
                    <a:pt x="603" y="88895"/>
                  </a:lnTo>
                  <a:lnTo>
                    <a:pt x="242" y="91437"/>
                  </a:lnTo>
                  <a:lnTo>
                    <a:pt x="0" y="93978"/>
                  </a:lnTo>
                  <a:lnTo>
                    <a:pt x="687" y="96519"/>
                  </a:lnTo>
                  <a:lnTo>
                    <a:pt x="1991" y="99059"/>
                  </a:lnTo>
                  <a:lnTo>
                    <a:pt x="3707" y="101600"/>
                  </a:lnTo>
                  <a:lnTo>
                    <a:pt x="7391" y="104140"/>
                  </a:lnTo>
                  <a:lnTo>
                    <a:pt x="12387" y="106680"/>
                  </a:lnTo>
                  <a:lnTo>
                    <a:pt x="18257" y="109220"/>
                  </a:lnTo>
                  <a:lnTo>
                    <a:pt x="23864" y="110913"/>
                  </a:lnTo>
                  <a:lnTo>
                    <a:pt x="29296" y="112042"/>
                  </a:lnTo>
                  <a:lnTo>
                    <a:pt x="34610" y="112795"/>
                  </a:lnTo>
                  <a:lnTo>
                    <a:pt x="41540" y="114143"/>
                  </a:lnTo>
                  <a:lnTo>
                    <a:pt x="58271" y="117899"/>
                  </a:lnTo>
                  <a:lnTo>
                    <a:pt x="66627" y="118393"/>
                  </a:lnTo>
                  <a:lnTo>
                    <a:pt x="74738" y="117875"/>
                  </a:lnTo>
                  <a:lnTo>
                    <a:pt x="82685" y="116683"/>
                  </a:lnTo>
                  <a:lnTo>
                    <a:pt x="89676" y="115889"/>
                  </a:lnTo>
                  <a:lnTo>
                    <a:pt x="96030" y="115359"/>
                  </a:lnTo>
                  <a:lnTo>
                    <a:pt x="101959" y="115006"/>
                  </a:lnTo>
                  <a:lnTo>
                    <a:pt x="113064" y="114614"/>
                  </a:lnTo>
                  <a:lnTo>
                    <a:pt x="129059" y="1143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MARTInkAnnotation235"/>
            <p:cNvSpPr/>
            <p:nvPr/>
          </p:nvSpPr>
          <p:spPr>
            <a:xfrm>
              <a:off x="3698640" y="3085920"/>
              <a:ext cx="26640" cy="220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6978" h="220981">
                  <a:moveTo>
                    <a:pt x="26977" y="0"/>
                  </a:moveTo>
                  <a:lnTo>
                    <a:pt x="26977" y="4045"/>
                  </a:lnTo>
                  <a:lnTo>
                    <a:pt x="26130" y="6930"/>
                  </a:lnTo>
                  <a:lnTo>
                    <a:pt x="24719" y="10547"/>
                  </a:lnTo>
                  <a:lnTo>
                    <a:pt x="20416" y="20428"/>
                  </a:lnTo>
                  <a:lnTo>
                    <a:pt x="19828" y="26295"/>
                  </a:lnTo>
                  <a:lnTo>
                    <a:pt x="19671" y="30230"/>
                  </a:lnTo>
                  <a:lnTo>
                    <a:pt x="18720" y="35393"/>
                  </a:lnTo>
                  <a:lnTo>
                    <a:pt x="17239" y="41375"/>
                  </a:lnTo>
                  <a:lnTo>
                    <a:pt x="15405" y="47904"/>
                  </a:lnTo>
                  <a:lnTo>
                    <a:pt x="11110" y="61931"/>
                  </a:lnTo>
                  <a:lnTo>
                    <a:pt x="8779" y="69227"/>
                  </a:lnTo>
                  <a:lnTo>
                    <a:pt x="7225" y="76631"/>
                  </a:lnTo>
                  <a:lnTo>
                    <a:pt x="6189" y="84108"/>
                  </a:lnTo>
                  <a:lnTo>
                    <a:pt x="5498" y="91632"/>
                  </a:lnTo>
                  <a:lnTo>
                    <a:pt x="4191" y="99188"/>
                  </a:lnTo>
                  <a:lnTo>
                    <a:pt x="2473" y="106765"/>
                  </a:lnTo>
                  <a:lnTo>
                    <a:pt x="482" y="114357"/>
                  </a:lnTo>
                  <a:lnTo>
                    <a:pt x="0" y="121958"/>
                  </a:lnTo>
                  <a:lnTo>
                    <a:pt x="526" y="129565"/>
                  </a:lnTo>
                  <a:lnTo>
                    <a:pt x="1723" y="137177"/>
                  </a:lnTo>
                  <a:lnTo>
                    <a:pt x="2521" y="144791"/>
                  </a:lnTo>
                  <a:lnTo>
                    <a:pt x="3053" y="152407"/>
                  </a:lnTo>
                  <a:lnTo>
                    <a:pt x="3408" y="160025"/>
                  </a:lnTo>
                  <a:lnTo>
                    <a:pt x="3802" y="175263"/>
                  </a:lnTo>
                  <a:lnTo>
                    <a:pt x="3907" y="182881"/>
                  </a:lnTo>
                  <a:lnTo>
                    <a:pt x="4824" y="189654"/>
                  </a:lnTo>
                  <a:lnTo>
                    <a:pt x="6281" y="195863"/>
                  </a:lnTo>
                  <a:lnTo>
                    <a:pt x="8101" y="201695"/>
                  </a:lnTo>
                  <a:lnTo>
                    <a:pt x="9312" y="206430"/>
                  </a:lnTo>
                  <a:lnTo>
                    <a:pt x="10121" y="210433"/>
                  </a:lnTo>
                  <a:lnTo>
                    <a:pt x="11738" y="2209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MARTInkAnnotation236"/>
            <p:cNvSpPr/>
            <p:nvPr/>
          </p:nvSpPr>
          <p:spPr>
            <a:xfrm>
              <a:off x="3794400" y="3002040"/>
              <a:ext cx="64440" cy="3884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64770" h="388621">
                  <a:moveTo>
                    <a:pt x="0" y="0"/>
                  </a:moveTo>
                  <a:lnTo>
                    <a:pt x="4045" y="8091"/>
                  </a:lnTo>
                  <a:lnTo>
                    <a:pt x="6083" y="13013"/>
                  </a:lnTo>
                  <a:lnTo>
                    <a:pt x="8288" y="18836"/>
                  </a:lnTo>
                  <a:lnTo>
                    <a:pt x="10606" y="25257"/>
                  </a:lnTo>
                  <a:lnTo>
                    <a:pt x="12151" y="31231"/>
                  </a:lnTo>
                  <a:lnTo>
                    <a:pt x="13867" y="42385"/>
                  </a:lnTo>
                  <a:lnTo>
                    <a:pt x="16018" y="49423"/>
                  </a:lnTo>
                  <a:lnTo>
                    <a:pt x="19146" y="57502"/>
                  </a:lnTo>
                  <a:lnTo>
                    <a:pt x="27136" y="76357"/>
                  </a:lnTo>
                  <a:lnTo>
                    <a:pt x="51029" y="135310"/>
                  </a:lnTo>
                  <a:lnTo>
                    <a:pt x="54340" y="147780"/>
                  </a:lnTo>
                  <a:lnTo>
                    <a:pt x="56546" y="160326"/>
                  </a:lnTo>
                  <a:lnTo>
                    <a:pt x="58018" y="172924"/>
                  </a:lnTo>
                  <a:lnTo>
                    <a:pt x="61910" y="200469"/>
                  </a:lnTo>
                  <a:lnTo>
                    <a:pt x="64134" y="214926"/>
                  </a:lnTo>
                  <a:lnTo>
                    <a:pt x="64769" y="228797"/>
                  </a:lnTo>
                  <a:lnTo>
                    <a:pt x="64346" y="242278"/>
                  </a:lnTo>
                  <a:lnTo>
                    <a:pt x="63217" y="255499"/>
                  </a:lnTo>
                  <a:lnTo>
                    <a:pt x="62465" y="267699"/>
                  </a:lnTo>
                  <a:lnTo>
                    <a:pt x="61629" y="290286"/>
                  </a:lnTo>
                  <a:lnTo>
                    <a:pt x="59713" y="301051"/>
                  </a:lnTo>
                  <a:lnTo>
                    <a:pt x="56742" y="311614"/>
                  </a:lnTo>
                  <a:lnTo>
                    <a:pt x="53068" y="322043"/>
                  </a:lnTo>
                  <a:lnTo>
                    <a:pt x="48925" y="331535"/>
                  </a:lnTo>
                  <a:lnTo>
                    <a:pt x="44470" y="340404"/>
                  </a:lnTo>
                  <a:lnTo>
                    <a:pt x="39807" y="348856"/>
                  </a:lnTo>
                  <a:lnTo>
                    <a:pt x="35004" y="356184"/>
                  </a:lnTo>
                  <a:lnTo>
                    <a:pt x="30110" y="362763"/>
                  </a:lnTo>
                  <a:lnTo>
                    <a:pt x="25153" y="368842"/>
                  </a:lnTo>
                  <a:lnTo>
                    <a:pt x="21002" y="373741"/>
                  </a:lnTo>
                  <a:lnTo>
                    <a:pt x="17388" y="377854"/>
                  </a:lnTo>
                  <a:lnTo>
                    <a:pt x="7620" y="388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MARTInkAnnotation237"/>
            <p:cNvSpPr/>
            <p:nvPr/>
          </p:nvSpPr>
          <p:spPr>
            <a:xfrm>
              <a:off x="3910320" y="2986560"/>
              <a:ext cx="120240" cy="403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20305" h="403861">
                  <a:moveTo>
                    <a:pt x="97444" y="0"/>
                  </a:moveTo>
                  <a:lnTo>
                    <a:pt x="97444" y="4045"/>
                  </a:lnTo>
                  <a:lnTo>
                    <a:pt x="96598" y="6084"/>
                  </a:lnTo>
                  <a:lnTo>
                    <a:pt x="93399" y="10606"/>
                  </a:lnTo>
                  <a:lnTo>
                    <a:pt x="90883" y="13867"/>
                  </a:lnTo>
                  <a:lnTo>
                    <a:pt x="90138" y="22924"/>
                  </a:lnTo>
                  <a:lnTo>
                    <a:pt x="87705" y="31637"/>
                  </a:lnTo>
                  <a:lnTo>
                    <a:pt x="85872" y="36332"/>
                  </a:lnTo>
                  <a:lnTo>
                    <a:pt x="82956" y="42001"/>
                  </a:lnTo>
                  <a:lnTo>
                    <a:pt x="79318" y="48321"/>
                  </a:lnTo>
                  <a:lnTo>
                    <a:pt x="75200" y="55074"/>
                  </a:lnTo>
                  <a:lnTo>
                    <a:pt x="71608" y="61269"/>
                  </a:lnTo>
                  <a:lnTo>
                    <a:pt x="65359" y="72669"/>
                  </a:lnTo>
                  <a:lnTo>
                    <a:pt x="60815" y="78926"/>
                  </a:lnTo>
                  <a:lnTo>
                    <a:pt x="55244" y="85637"/>
                  </a:lnTo>
                  <a:lnTo>
                    <a:pt x="48991" y="92651"/>
                  </a:lnTo>
                  <a:lnTo>
                    <a:pt x="43976" y="100715"/>
                  </a:lnTo>
                  <a:lnTo>
                    <a:pt x="39785" y="109476"/>
                  </a:lnTo>
                  <a:lnTo>
                    <a:pt x="36145" y="118704"/>
                  </a:lnTo>
                  <a:lnTo>
                    <a:pt x="32024" y="128243"/>
                  </a:lnTo>
                  <a:lnTo>
                    <a:pt x="22931" y="147872"/>
                  </a:lnTo>
                  <a:lnTo>
                    <a:pt x="18982" y="157848"/>
                  </a:lnTo>
                  <a:lnTo>
                    <a:pt x="15503" y="167885"/>
                  </a:lnTo>
                  <a:lnTo>
                    <a:pt x="3835" y="204284"/>
                  </a:lnTo>
                  <a:lnTo>
                    <a:pt x="2019" y="214082"/>
                  </a:lnTo>
                  <a:lnTo>
                    <a:pt x="807" y="224848"/>
                  </a:lnTo>
                  <a:lnTo>
                    <a:pt x="0" y="236259"/>
                  </a:lnTo>
                  <a:lnTo>
                    <a:pt x="1155" y="247253"/>
                  </a:lnTo>
                  <a:lnTo>
                    <a:pt x="3617" y="257969"/>
                  </a:lnTo>
                  <a:lnTo>
                    <a:pt x="6953" y="268499"/>
                  </a:lnTo>
                  <a:lnTo>
                    <a:pt x="10870" y="278906"/>
                  </a:lnTo>
                  <a:lnTo>
                    <a:pt x="15175" y="289231"/>
                  </a:lnTo>
                  <a:lnTo>
                    <a:pt x="19738" y="299501"/>
                  </a:lnTo>
                  <a:lnTo>
                    <a:pt x="26167" y="308887"/>
                  </a:lnTo>
                  <a:lnTo>
                    <a:pt x="33839" y="317685"/>
                  </a:lnTo>
                  <a:lnTo>
                    <a:pt x="120304" y="403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MARTInkAnnotation238"/>
            <p:cNvSpPr/>
            <p:nvPr/>
          </p:nvSpPr>
          <p:spPr>
            <a:xfrm>
              <a:off x="4045680" y="3177360"/>
              <a:ext cx="68400" cy="75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8581" h="7621">
                  <a:moveTo>
                    <a:pt x="0" y="7620"/>
                  </a:moveTo>
                  <a:lnTo>
                    <a:pt x="36045" y="7620"/>
                  </a:lnTo>
                  <a:lnTo>
                    <a:pt x="40964" y="6773"/>
                  </a:lnTo>
                  <a:lnTo>
                    <a:pt x="45936" y="5362"/>
                  </a:lnTo>
                  <a:lnTo>
                    <a:pt x="50943" y="3575"/>
                  </a:lnTo>
                  <a:lnTo>
                    <a:pt x="55129" y="2383"/>
                  </a:lnTo>
                  <a:lnTo>
                    <a:pt x="58766" y="1589"/>
                  </a:lnTo>
                  <a:lnTo>
                    <a:pt x="685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SMARTInkAnnotation239"/>
            <p:cNvSpPr/>
            <p:nvPr/>
          </p:nvSpPr>
          <p:spPr>
            <a:xfrm>
              <a:off x="4240080" y="3017160"/>
              <a:ext cx="201960" cy="3351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02126" h="335281">
                  <a:moveTo>
                    <a:pt x="125925" y="0"/>
                  </a:moveTo>
                  <a:lnTo>
                    <a:pt x="121880" y="0"/>
                  </a:lnTo>
                  <a:lnTo>
                    <a:pt x="120688" y="847"/>
                  </a:lnTo>
                  <a:lnTo>
                    <a:pt x="119893" y="2258"/>
                  </a:lnTo>
                  <a:lnTo>
                    <a:pt x="119364" y="4046"/>
                  </a:lnTo>
                  <a:lnTo>
                    <a:pt x="118164" y="5237"/>
                  </a:lnTo>
                  <a:lnTo>
                    <a:pt x="116518" y="6031"/>
                  </a:lnTo>
                  <a:lnTo>
                    <a:pt x="114574" y="6561"/>
                  </a:lnTo>
                  <a:lnTo>
                    <a:pt x="110155" y="9407"/>
                  </a:lnTo>
                  <a:lnTo>
                    <a:pt x="107792" y="11352"/>
                  </a:lnTo>
                  <a:lnTo>
                    <a:pt x="102908" y="18027"/>
                  </a:lnTo>
                  <a:lnTo>
                    <a:pt x="97069" y="26639"/>
                  </a:lnTo>
                  <a:lnTo>
                    <a:pt x="93140" y="31306"/>
                  </a:lnTo>
                  <a:lnTo>
                    <a:pt x="88829" y="36111"/>
                  </a:lnTo>
                  <a:lnTo>
                    <a:pt x="85108" y="41007"/>
                  </a:lnTo>
                  <a:lnTo>
                    <a:pt x="81780" y="45965"/>
                  </a:lnTo>
                  <a:lnTo>
                    <a:pt x="78715" y="50963"/>
                  </a:lnTo>
                  <a:lnTo>
                    <a:pt x="66311" y="70134"/>
                  </a:lnTo>
                  <a:lnTo>
                    <a:pt x="36920" y="114437"/>
                  </a:lnTo>
                  <a:lnTo>
                    <a:pt x="31876" y="122858"/>
                  </a:lnTo>
                  <a:lnTo>
                    <a:pt x="26818" y="131859"/>
                  </a:lnTo>
                  <a:lnTo>
                    <a:pt x="13869" y="156192"/>
                  </a:lnTo>
                  <a:lnTo>
                    <a:pt x="10581" y="162548"/>
                  </a:lnTo>
                  <a:lnTo>
                    <a:pt x="8389" y="169325"/>
                  </a:lnTo>
                  <a:lnTo>
                    <a:pt x="6927" y="176383"/>
                  </a:lnTo>
                  <a:lnTo>
                    <a:pt x="5953" y="183629"/>
                  </a:lnTo>
                  <a:lnTo>
                    <a:pt x="4457" y="190999"/>
                  </a:lnTo>
                  <a:lnTo>
                    <a:pt x="2613" y="198453"/>
                  </a:lnTo>
                  <a:lnTo>
                    <a:pt x="536" y="205962"/>
                  </a:lnTo>
                  <a:lnTo>
                    <a:pt x="0" y="213508"/>
                  </a:lnTo>
                  <a:lnTo>
                    <a:pt x="488" y="221079"/>
                  </a:lnTo>
                  <a:lnTo>
                    <a:pt x="1661" y="228666"/>
                  </a:lnTo>
                  <a:lnTo>
                    <a:pt x="3289" y="235417"/>
                  </a:lnTo>
                  <a:lnTo>
                    <a:pt x="5221" y="241612"/>
                  </a:lnTo>
                  <a:lnTo>
                    <a:pt x="7355" y="247435"/>
                  </a:lnTo>
                  <a:lnTo>
                    <a:pt x="11319" y="253856"/>
                  </a:lnTo>
                  <a:lnTo>
                    <a:pt x="16501" y="260677"/>
                  </a:lnTo>
                  <a:lnTo>
                    <a:pt x="22495" y="267765"/>
                  </a:lnTo>
                  <a:lnTo>
                    <a:pt x="29032" y="274183"/>
                  </a:lnTo>
                  <a:lnTo>
                    <a:pt x="35930" y="280155"/>
                  </a:lnTo>
                  <a:lnTo>
                    <a:pt x="43068" y="285830"/>
                  </a:lnTo>
                  <a:lnTo>
                    <a:pt x="51214" y="290460"/>
                  </a:lnTo>
                  <a:lnTo>
                    <a:pt x="60030" y="294394"/>
                  </a:lnTo>
                  <a:lnTo>
                    <a:pt x="69295" y="297863"/>
                  </a:lnTo>
                  <a:lnTo>
                    <a:pt x="78859" y="301022"/>
                  </a:lnTo>
                  <a:lnTo>
                    <a:pt x="88621" y="303975"/>
                  </a:lnTo>
                  <a:lnTo>
                    <a:pt x="98515" y="306790"/>
                  </a:lnTo>
                  <a:lnTo>
                    <a:pt x="108499" y="310360"/>
                  </a:lnTo>
                  <a:lnTo>
                    <a:pt x="118541" y="314433"/>
                  </a:lnTo>
                  <a:lnTo>
                    <a:pt x="128622" y="318842"/>
                  </a:lnTo>
                  <a:lnTo>
                    <a:pt x="139576" y="322628"/>
                  </a:lnTo>
                  <a:lnTo>
                    <a:pt x="151112" y="325999"/>
                  </a:lnTo>
                  <a:lnTo>
                    <a:pt x="163037" y="329092"/>
                  </a:lnTo>
                  <a:lnTo>
                    <a:pt x="172679" y="331155"/>
                  </a:lnTo>
                  <a:lnTo>
                    <a:pt x="180801" y="332530"/>
                  </a:lnTo>
                  <a:lnTo>
                    <a:pt x="202125" y="3352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MARTInkAnnotation240"/>
            <p:cNvSpPr/>
            <p:nvPr/>
          </p:nvSpPr>
          <p:spPr>
            <a:xfrm>
              <a:off x="4426920" y="3131640"/>
              <a:ext cx="114120" cy="15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14301" h="15241">
                  <a:moveTo>
                    <a:pt x="0" y="0"/>
                  </a:moveTo>
                  <a:lnTo>
                    <a:pt x="21958" y="0"/>
                  </a:lnTo>
                  <a:lnTo>
                    <a:pt x="27339" y="847"/>
                  </a:lnTo>
                  <a:lnTo>
                    <a:pt x="33466" y="2258"/>
                  </a:lnTo>
                  <a:lnTo>
                    <a:pt x="40091" y="4046"/>
                  </a:lnTo>
                  <a:lnTo>
                    <a:pt x="46201" y="5237"/>
                  </a:lnTo>
                  <a:lnTo>
                    <a:pt x="51967" y="6031"/>
                  </a:lnTo>
                  <a:lnTo>
                    <a:pt x="57505" y="6561"/>
                  </a:lnTo>
                  <a:lnTo>
                    <a:pt x="62890" y="6914"/>
                  </a:lnTo>
                  <a:lnTo>
                    <a:pt x="68173" y="7150"/>
                  </a:lnTo>
                  <a:lnTo>
                    <a:pt x="73389" y="7306"/>
                  </a:lnTo>
                  <a:lnTo>
                    <a:pt x="78560" y="8258"/>
                  </a:lnTo>
                  <a:lnTo>
                    <a:pt x="83700" y="9738"/>
                  </a:lnTo>
                  <a:lnTo>
                    <a:pt x="88820" y="11573"/>
                  </a:lnTo>
                  <a:lnTo>
                    <a:pt x="93927" y="12795"/>
                  </a:lnTo>
                  <a:lnTo>
                    <a:pt x="99025" y="13610"/>
                  </a:lnTo>
                  <a:lnTo>
                    <a:pt x="114300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MARTInkAnnotation241"/>
            <p:cNvSpPr/>
            <p:nvPr/>
          </p:nvSpPr>
          <p:spPr>
            <a:xfrm>
              <a:off x="4579200" y="3093480"/>
              <a:ext cx="135720" cy="2131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35967" h="213361">
                  <a:moveTo>
                    <a:pt x="15241" y="7620"/>
                  </a:moveTo>
                  <a:lnTo>
                    <a:pt x="15241" y="3575"/>
                  </a:lnTo>
                  <a:lnTo>
                    <a:pt x="16087" y="2383"/>
                  </a:lnTo>
                  <a:lnTo>
                    <a:pt x="17497" y="1589"/>
                  </a:lnTo>
                  <a:lnTo>
                    <a:pt x="21801" y="314"/>
                  </a:lnTo>
                  <a:lnTo>
                    <a:pt x="24648" y="140"/>
                  </a:lnTo>
                  <a:lnTo>
                    <a:pt x="28735" y="62"/>
                  </a:lnTo>
                  <a:lnTo>
                    <a:pt x="96939" y="0"/>
                  </a:lnTo>
                  <a:lnTo>
                    <a:pt x="101033" y="847"/>
                  </a:lnTo>
                  <a:lnTo>
                    <a:pt x="104609" y="2258"/>
                  </a:lnTo>
                  <a:lnTo>
                    <a:pt x="107840" y="4046"/>
                  </a:lnTo>
                  <a:lnTo>
                    <a:pt x="110839" y="5237"/>
                  </a:lnTo>
                  <a:lnTo>
                    <a:pt x="113687" y="6031"/>
                  </a:lnTo>
                  <a:lnTo>
                    <a:pt x="116431" y="6561"/>
                  </a:lnTo>
                  <a:lnTo>
                    <a:pt x="119107" y="6914"/>
                  </a:lnTo>
                  <a:lnTo>
                    <a:pt x="121738" y="7150"/>
                  </a:lnTo>
                  <a:lnTo>
                    <a:pt x="124339" y="7306"/>
                  </a:lnTo>
                  <a:lnTo>
                    <a:pt x="126073" y="8258"/>
                  </a:lnTo>
                  <a:lnTo>
                    <a:pt x="127228" y="9738"/>
                  </a:lnTo>
                  <a:lnTo>
                    <a:pt x="127999" y="11573"/>
                  </a:lnTo>
                  <a:lnTo>
                    <a:pt x="131113" y="15868"/>
                  </a:lnTo>
                  <a:lnTo>
                    <a:pt x="133129" y="18199"/>
                  </a:lnTo>
                  <a:lnTo>
                    <a:pt x="134472" y="20599"/>
                  </a:lnTo>
                  <a:lnTo>
                    <a:pt x="135966" y="25524"/>
                  </a:lnTo>
                  <a:lnTo>
                    <a:pt x="135517" y="28023"/>
                  </a:lnTo>
                  <a:lnTo>
                    <a:pt x="132762" y="33057"/>
                  </a:lnTo>
                  <a:lnTo>
                    <a:pt x="130972" y="38117"/>
                  </a:lnTo>
                  <a:lnTo>
                    <a:pt x="130495" y="40651"/>
                  </a:lnTo>
                  <a:lnTo>
                    <a:pt x="127707" y="45725"/>
                  </a:lnTo>
                  <a:lnTo>
                    <a:pt x="123645" y="51649"/>
                  </a:lnTo>
                  <a:lnTo>
                    <a:pt x="121377" y="55599"/>
                  </a:lnTo>
                  <a:lnTo>
                    <a:pt x="119018" y="59926"/>
                  </a:lnTo>
                  <a:lnTo>
                    <a:pt x="115753" y="64504"/>
                  </a:lnTo>
                  <a:lnTo>
                    <a:pt x="111881" y="69250"/>
                  </a:lnTo>
                  <a:lnTo>
                    <a:pt x="107608" y="74106"/>
                  </a:lnTo>
                  <a:lnTo>
                    <a:pt x="103065" y="79038"/>
                  </a:lnTo>
                  <a:lnTo>
                    <a:pt x="93503" y="89032"/>
                  </a:lnTo>
                  <a:lnTo>
                    <a:pt x="78599" y="104179"/>
                  </a:lnTo>
                  <a:lnTo>
                    <a:pt x="73566" y="110093"/>
                  </a:lnTo>
                  <a:lnTo>
                    <a:pt x="68518" y="116575"/>
                  </a:lnTo>
                  <a:lnTo>
                    <a:pt x="63458" y="123437"/>
                  </a:lnTo>
                  <a:lnTo>
                    <a:pt x="58393" y="129705"/>
                  </a:lnTo>
                  <a:lnTo>
                    <a:pt x="53322" y="135576"/>
                  </a:lnTo>
                  <a:lnTo>
                    <a:pt x="48248" y="141184"/>
                  </a:lnTo>
                  <a:lnTo>
                    <a:pt x="38095" y="151931"/>
                  </a:lnTo>
                  <a:lnTo>
                    <a:pt x="33017" y="157167"/>
                  </a:lnTo>
                  <a:lnTo>
                    <a:pt x="28785" y="162351"/>
                  </a:lnTo>
                  <a:lnTo>
                    <a:pt x="25116" y="167501"/>
                  </a:lnTo>
                  <a:lnTo>
                    <a:pt x="21824" y="172627"/>
                  </a:lnTo>
                  <a:lnTo>
                    <a:pt x="18783" y="177738"/>
                  </a:lnTo>
                  <a:lnTo>
                    <a:pt x="15909" y="182839"/>
                  </a:lnTo>
                  <a:lnTo>
                    <a:pt x="13146" y="187933"/>
                  </a:lnTo>
                  <a:lnTo>
                    <a:pt x="10458" y="192175"/>
                  </a:lnTo>
                  <a:lnTo>
                    <a:pt x="7819" y="195850"/>
                  </a:lnTo>
                  <a:lnTo>
                    <a:pt x="5213" y="199146"/>
                  </a:lnTo>
                  <a:lnTo>
                    <a:pt x="2317" y="205067"/>
                  </a:lnTo>
                  <a:lnTo>
                    <a:pt x="0" y="213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MARTInkAnnotation242"/>
            <p:cNvSpPr/>
            <p:nvPr/>
          </p:nvSpPr>
          <p:spPr>
            <a:xfrm>
              <a:off x="4556520" y="3207600"/>
              <a:ext cx="174960" cy="226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75261" h="22861">
                  <a:moveTo>
                    <a:pt x="0" y="22860"/>
                  </a:moveTo>
                  <a:lnTo>
                    <a:pt x="4045" y="22860"/>
                  </a:lnTo>
                  <a:lnTo>
                    <a:pt x="5237" y="22013"/>
                  </a:lnTo>
                  <a:lnTo>
                    <a:pt x="6031" y="20602"/>
                  </a:lnTo>
                  <a:lnTo>
                    <a:pt x="6561" y="18815"/>
                  </a:lnTo>
                  <a:lnTo>
                    <a:pt x="7760" y="17623"/>
                  </a:lnTo>
                  <a:lnTo>
                    <a:pt x="9407" y="16829"/>
                  </a:lnTo>
                  <a:lnTo>
                    <a:pt x="11351" y="16299"/>
                  </a:lnTo>
                  <a:lnTo>
                    <a:pt x="14341" y="15946"/>
                  </a:lnTo>
                  <a:lnTo>
                    <a:pt x="18027" y="15711"/>
                  </a:lnTo>
                  <a:lnTo>
                    <a:pt x="22178" y="15554"/>
                  </a:lnTo>
                  <a:lnTo>
                    <a:pt x="36111" y="15333"/>
                  </a:lnTo>
                  <a:lnTo>
                    <a:pt x="41854" y="14456"/>
                  </a:lnTo>
                  <a:lnTo>
                    <a:pt x="48222" y="13024"/>
                  </a:lnTo>
                  <a:lnTo>
                    <a:pt x="55009" y="11222"/>
                  </a:lnTo>
                  <a:lnTo>
                    <a:pt x="62919" y="10022"/>
                  </a:lnTo>
                  <a:lnTo>
                    <a:pt x="71580" y="9221"/>
                  </a:lnTo>
                  <a:lnTo>
                    <a:pt x="80740" y="8687"/>
                  </a:lnTo>
                  <a:lnTo>
                    <a:pt x="97691" y="8094"/>
                  </a:lnTo>
                  <a:lnTo>
                    <a:pt x="105767" y="7936"/>
                  </a:lnTo>
                  <a:lnTo>
                    <a:pt x="114539" y="6985"/>
                  </a:lnTo>
                  <a:lnTo>
                    <a:pt x="123773" y="5503"/>
                  </a:lnTo>
                  <a:lnTo>
                    <a:pt x="133315" y="3668"/>
                  </a:lnTo>
                  <a:lnTo>
                    <a:pt x="141370" y="2446"/>
                  </a:lnTo>
                  <a:lnTo>
                    <a:pt x="148433" y="1631"/>
                  </a:lnTo>
                  <a:lnTo>
                    <a:pt x="159950" y="725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MARTInkAnnotation243"/>
            <p:cNvSpPr/>
            <p:nvPr/>
          </p:nvSpPr>
          <p:spPr>
            <a:xfrm>
              <a:off x="4770000" y="2986560"/>
              <a:ext cx="98640" cy="3884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98898" h="388621">
                  <a:moveTo>
                    <a:pt x="0" y="0"/>
                  </a:moveTo>
                  <a:lnTo>
                    <a:pt x="18133" y="18133"/>
                  </a:lnTo>
                  <a:lnTo>
                    <a:pt x="21402" y="22249"/>
                  </a:lnTo>
                  <a:lnTo>
                    <a:pt x="25275" y="27532"/>
                  </a:lnTo>
                  <a:lnTo>
                    <a:pt x="29550" y="33595"/>
                  </a:lnTo>
                  <a:lnTo>
                    <a:pt x="34093" y="39330"/>
                  </a:lnTo>
                  <a:lnTo>
                    <a:pt x="38816" y="44846"/>
                  </a:lnTo>
                  <a:lnTo>
                    <a:pt x="43657" y="50218"/>
                  </a:lnTo>
                  <a:lnTo>
                    <a:pt x="48578" y="57185"/>
                  </a:lnTo>
                  <a:lnTo>
                    <a:pt x="53553" y="65217"/>
                  </a:lnTo>
                  <a:lnTo>
                    <a:pt x="58562" y="73958"/>
                  </a:lnTo>
                  <a:lnTo>
                    <a:pt x="62748" y="82325"/>
                  </a:lnTo>
                  <a:lnTo>
                    <a:pt x="66386" y="90444"/>
                  </a:lnTo>
                  <a:lnTo>
                    <a:pt x="69657" y="98396"/>
                  </a:lnTo>
                  <a:lnTo>
                    <a:pt x="73531" y="107084"/>
                  </a:lnTo>
                  <a:lnTo>
                    <a:pt x="82352" y="125768"/>
                  </a:lnTo>
                  <a:lnTo>
                    <a:pt x="86228" y="136339"/>
                  </a:lnTo>
                  <a:lnTo>
                    <a:pt x="89659" y="147620"/>
                  </a:lnTo>
                  <a:lnTo>
                    <a:pt x="92792" y="159373"/>
                  </a:lnTo>
                  <a:lnTo>
                    <a:pt x="94881" y="170595"/>
                  </a:lnTo>
                  <a:lnTo>
                    <a:pt x="96275" y="181463"/>
                  </a:lnTo>
                  <a:lnTo>
                    <a:pt x="97203" y="192096"/>
                  </a:lnTo>
                  <a:lnTo>
                    <a:pt x="97822" y="203417"/>
                  </a:lnTo>
                  <a:lnTo>
                    <a:pt x="98510" y="227286"/>
                  </a:lnTo>
                  <a:lnTo>
                    <a:pt x="98897" y="260478"/>
                  </a:lnTo>
                  <a:lnTo>
                    <a:pt x="97258" y="271019"/>
                  </a:lnTo>
                  <a:lnTo>
                    <a:pt x="94472" y="281432"/>
                  </a:lnTo>
                  <a:lnTo>
                    <a:pt x="81879" y="318435"/>
                  </a:lnTo>
                  <a:lnTo>
                    <a:pt x="78293" y="326590"/>
                  </a:lnTo>
                  <a:lnTo>
                    <a:pt x="74208" y="334567"/>
                  </a:lnTo>
                  <a:lnTo>
                    <a:pt x="69793" y="342424"/>
                  </a:lnTo>
                  <a:lnTo>
                    <a:pt x="65155" y="348510"/>
                  </a:lnTo>
                  <a:lnTo>
                    <a:pt x="60371" y="353413"/>
                  </a:lnTo>
                  <a:lnTo>
                    <a:pt x="55487" y="357529"/>
                  </a:lnTo>
                  <a:lnTo>
                    <a:pt x="50538" y="361966"/>
                  </a:lnTo>
                  <a:lnTo>
                    <a:pt x="40524" y="371412"/>
                  </a:lnTo>
                  <a:lnTo>
                    <a:pt x="35482" y="375454"/>
                  </a:lnTo>
                  <a:lnTo>
                    <a:pt x="30428" y="378996"/>
                  </a:lnTo>
                  <a:lnTo>
                    <a:pt x="25366" y="382204"/>
                  </a:lnTo>
                  <a:lnTo>
                    <a:pt x="21144" y="384343"/>
                  </a:lnTo>
                  <a:lnTo>
                    <a:pt x="17482" y="385769"/>
                  </a:lnTo>
                  <a:lnTo>
                    <a:pt x="7621" y="388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SMARTInkAnnotation244"/>
            <p:cNvSpPr/>
            <p:nvPr/>
          </p:nvSpPr>
          <p:spPr>
            <a:xfrm>
              <a:off x="4975560" y="2956320"/>
              <a:ext cx="112680" cy="403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12747" h="403861">
                  <a:moveTo>
                    <a:pt x="53340" y="0"/>
                  </a:moveTo>
                  <a:lnTo>
                    <a:pt x="53340" y="8091"/>
                  </a:lnTo>
                  <a:lnTo>
                    <a:pt x="55033" y="12167"/>
                  </a:lnTo>
                  <a:lnTo>
                    <a:pt x="57856" y="16578"/>
                  </a:lnTo>
                  <a:lnTo>
                    <a:pt x="61431" y="21212"/>
                  </a:lnTo>
                  <a:lnTo>
                    <a:pt x="63814" y="25995"/>
                  </a:lnTo>
                  <a:lnTo>
                    <a:pt x="66462" y="35825"/>
                  </a:lnTo>
                  <a:lnTo>
                    <a:pt x="69708" y="42509"/>
                  </a:lnTo>
                  <a:lnTo>
                    <a:pt x="74412" y="50353"/>
                  </a:lnTo>
                  <a:lnTo>
                    <a:pt x="80088" y="58969"/>
                  </a:lnTo>
                  <a:lnTo>
                    <a:pt x="84718" y="68946"/>
                  </a:lnTo>
                  <a:lnTo>
                    <a:pt x="88652" y="79830"/>
                  </a:lnTo>
                  <a:lnTo>
                    <a:pt x="92121" y="91320"/>
                  </a:lnTo>
                  <a:lnTo>
                    <a:pt x="95281" y="104060"/>
                  </a:lnTo>
                  <a:lnTo>
                    <a:pt x="98234" y="117634"/>
                  </a:lnTo>
                  <a:lnTo>
                    <a:pt x="109057" y="171873"/>
                  </a:lnTo>
                  <a:lnTo>
                    <a:pt x="110804" y="184856"/>
                  </a:lnTo>
                  <a:lnTo>
                    <a:pt x="111969" y="197744"/>
                  </a:lnTo>
                  <a:lnTo>
                    <a:pt x="112746" y="210569"/>
                  </a:lnTo>
                  <a:lnTo>
                    <a:pt x="112418" y="223353"/>
                  </a:lnTo>
                  <a:lnTo>
                    <a:pt x="111351" y="236109"/>
                  </a:lnTo>
                  <a:lnTo>
                    <a:pt x="109794" y="248846"/>
                  </a:lnTo>
                  <a:lnTo>
                    <a:pt x="107062" y="260724"/>
                  </a:lnTo>
                  <a:lnTo>
                    <a:pt x="103549" y="272029"/>
                  </a:lnTo>
                  <a:lnTo>
                    <a:pt x="99512" y="282953"/>
                  </a:lnTo>
                  <a:lnTo>
                    <a:pt x="95128" y="293622"/>
                  </a:lnTo>
                  <a:lnTo>
                    <a:pt x="90512" y="304122"/>
                  </a:lnTo>
                  <a:lnTo>
                    <a:pt x="85742" y="314508"/>
                  </a:lnTo>
                  <a:lnTo>
                    <a:pt x="80021" y="323972"/>
                  </a:lnTo>
                  <a:lnTo>
                    <a:pt x="73667" y="332821"/>
                  </a:lnTo>
                  <a:lnTo>
                    <a:pt x="66891" y="341261"/>
                  </a:lnTo>
                  <a:lnTo>
                    <a:pt x="60681" y="348581"/>
                  </a:lnTo>
                  <a:lnTo>
                    <a:pt x="54847" y="355154"/>
                  </a:lnTo>
                  <a:lnTo>
                    <a:pt x="49265" y="361229"/>
                  </a:lnTo>
                  <a:lnTo>
                    <a:pt x="36289" y="374753"/>
                  </a:lnTo>
                  <a:lnTo>
                    <a:pt x="29272" y="381915"/>
                  </a:lnTo>
                  <a:lnTo>
                    <a:pt x="22902" y="387537"/>
                  </a:lnTo>
                  <a:lnTo>
                    <a:pt x="16961" y="392132"/>
                  </a:lnTo>
                  <a:lnTo>
                    <a:pt x="0" y="403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SMARTInkAnnotation245"/>
            <p:cNvSpPr/>
            <p:nvPr/>
          </p:nvSpPr>
          <p:spPr>
            <a:xfrm>
              <a:off x="5272920" y="319248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0" h="7621">
                  <a:moveTo>
                    <a:pt x="0" y="0"/>
                  </a:moveTo>
                  <a:lnTo>
                    <a:pt x="81484" y="0"/>
                  </a:lnTo>
                  <a:lnTo>
                    <a:pt x="89882" y="847"/>
                  </a:lnTo>
                  <a:lnTo>
                    <a:pt x="98021" y="2258"/>
                  </a:lnTo>
                  <a:lnTo>
                    <a:pt x="105987" y="4045"/>
                  </a:lnTo>
                  <a:lnTo>
                    <a:pt x="112991" y="5237"/>
                  </a:lnTo>
                  <a:lnTo>
                    <a:pt x="119353" y="6032"/>
                  </a:lnTo>
                  <a:lnTo>
                    <a:pt x="137159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SMARTInkAnnotation246"/>
            <p:cNvSpPr/>
            <p:nvPr/>
          </p:nvSpPr>
          <p:spPr>
            <a:xfrm>
              <a:off x="5326200" y="3268800"/>
              <a:ext cx="91440" cy="226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91441" h="2286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6083" y="6914"/>
                  </a:lnTo>
                  <a:lnTo>
                    <a:pt x="8289" y="7149"/>
                  </a:lnTo>
                  <a:lnTo>
                    <a:pt x="10606" y="7306"/>
                  </a:lnTo>
                  <a:lnTo>
                    <a:pt x="14691" y="8257"/>
                  </a:lnTo>
                  <a:lnTo>
                    <a:pt x="19954" y="9738"/>
                  </a:lnTo>
                  <a:lnTo>
                    <a:pt x="26003" y="11572"/>
                  </a:lnTo>
                  <a:lnTo>
                    <a:pt x="31728" y="12795"/>
                  </a:lnTo>
                  <a:lnTo>
                    <a:pt x="37239" y="13610"/>
                  </a:lnTo>
                  <a:lnTo>
                    <a:pt x="42606" y="14153"/>
                  </a:lnTo>
                  <a:lnTo>
                    <a:pt x="48724" y="14516"/>
                  </a:lnTo>
                  <a:lnTo>
                    <a:pt x="62295" y="14918"/>
                  </a:lnTo>
                  <a:lnTo>
                    <a:pt x="68624" y="15872"/>
                  </a:lnTo>
                  <a:lnTo>
                    <a:pt x="74536" y="17354"/>
                  </a:lnTo>
                  <a:lnTo>
                    <a:pt x="91440" y="22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SMARTInkAnnotation247"/>
            <p:cNvSpPr/>
            <p:nvPr/>
          </p:nvSpPr>
          <p:spPr>
            <a:xfrm>
              <a:off x="5783400" y="3108600"/>
              <a:ext cx="22680" cy="1980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2861" h="198121">
                  <a:moveTo>
                    <a:pt x="22860" y="0"/>
                  </a:moveTo>
                  <a:lnTo>
                    <a:pt x="22860" y="70153"/>
                  </a:lnTo>
                  <a:lnTo>
                    <a:pt x="22013" y="76402"/>
                  </a:lnTo>
                  <a:lnTo>
                    <a:pt x="20602" y="82261"/>
                  </a:lnTo>
                  <a:lnTo>
                    <a:pt x="18815" y="87861"/>
                  </a:lnTo>
                  <a:lnTo>
                    <a:pt x="17623" y="94134"/>
                  </a:lnTo>
                  <a:lnTo>
                    <a:pt x="16829" y="100856"/>
                  </a:lnTo>
                  <a:lnTo>
                    <a:pt x="16299" y="107877"/>
                  </a:lnTo>
                  <a:lnTo>
                    <a:pt x="15099" y="115098"/>
                  </a:lnTo>
                  <a:lnTo>
                    <a:pt x="13453" y="122452"/>
                  </a:lnTo>
                  <a:lnTo>
                    <a:pt x="11509" y="129895"/>
                  </a:lnTo>
                  <a:lnTo>
                    <a:pt x="9366" y="137396"/>
                  </a:lnTo>
                  <a:lnTo>
                    <a:pt x="4728" y="152505"/>
                  </a:lnTo>
                  <a:lnTo>
                    <a:pt x="3151" y="159244"/>
                  </a:lnTo>
                  <a:lnTo>
                    <a:pt x="2101" y="165429"/>
                  </a:lnTo>
                  <a:lnTo>
                    <a:pt x="1401" y="171246"/>
                  </a:lnTo>
                  <a:lnTo>
                    <a:pt x="934" y="175970"/>
                  </a:lnTo>
                  <a:lnTo>
                    <a:pt x="623" y="179967"/>
                  </a:lnTo>
                  <a:lnTo>
                    <a:pt x="415" y="183478"/>
                  </a:lnTo>
                  <a:lnTo>
                    <a:pt x="184" y="189637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MARTInkAnnotation248"/>
            <p:cNvSpPr/>
            <p:nvPr/>
          </p:nvSpPr>
          <p:spPr>
            <a:xfrm>
              <a:off x="5970960" y="3078360"/>
              <a:ext cx="246600" cy="21312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46843" h="213188">
                  <a:moveTo>
                    <a:pt x="10622" y="38061"/>
                  </a:moveTo>
                  <a:lnTo>
                    <a:pt x="10622" y="34016"/>
                  </a:lnTo>
                  <a:lnTo>
                    <a:pt x="11469" y="31978"/>
                  </a:lnTo>
                  <a:lnTo>
                    <a:pt x="14667" y="27455"/>
                  </a:lnTo>
                  <a:lnTo>
                    <a:pt x="15859" y="25064"/>
                  </a:lnTo>
                  <a:lnTo>
                    <a:pt x="17183" y="20149"/>
                  </a:lnTo>
                  <a:lnTo>
                    <a:pt x="20030" y="15142"/>
                  </a:lnTo>
                  <a:lnTo>
                    <a:pt x="24117" y="10095"/>
                  </a:lnTo>
                  <a:lnTo>
                    <a:pt x="28755" y="5030"/>
                  </a:lnTo>
                  <a:lnTo>
                    <a:pt x="31178" y="3340"/>
                  </a:lnTo>
                  <a:lnTo>
                    <a:pt x="36128" y="1463"/>
                  </a:lnTo>
                  <a:lnTo>
                    <a:pt x="43407" y="628"/>
                  </a:lnTo>
                  <a:lnTo>
                    <a:pt x="47719" y="406"/>
                  </a:lnTo>
                  <a:lnTo>
                    <a:pt x="57025" y="159"/>
                  </a:lnTo>
                  <a:lnTo>
                    <a:pt x="76797" y="0"/>
                  </a:lnTo>
                  <a:lnTo>
                    <a:pt x="81832" y="834"/>
                  </a:lnTo>
                  <a:lnTo>
                    <a:pt x="86883" y="2236"/>
                  </a:lnTo>
                  <a:lnTo>
                    <a:pt x="91943" y="4018"/>
                  </a:lnTo>
                  <a:lnTo>
                    <a:pt x="97009" y="6052"/>
                  </a:lnTo>
                  <a:lnTo>
                    <a:pt x="102080" y="8255"/>
                  </a:lnTo>
                  <a:lnTo>
                    <a:pt x="112231" y="12961"/>
                  </a:lnTo>
                  <a:lnTo>
                    <a:pt x="122386" y="17874"/>
                  </a:lnTo>
                  <a:lnTo>
                    <a:pt x="126618" y="20370"/>
                  </a:lnTo>
                  <a:lnTo>
                    <a:pt x="133578" y="25401"/>
                  </a:lnTo>
                  <a:lnTo>
                    <a:pt x="136619" y="28774"/>
                  </a:lnTo>
                  <a:lnTo>
                    <a:pt x="139494" y="32716"/>
                  </a:lnTo>
                  <a:lnTo>
                    <a:pt x="142257" y="37038"/>
                  </a:lnTo>
                  <a:lnTo>
                    <a:pt x="144098" y="40765"/>
                  </a:lnTo>
                  <a:lnTo>
                    <a:pt x="146146" y="47165"/>
                  </a:lnTo>
                  <a:lnTo>
                    <a:pt x="145844" y="50904"/>
                  </a:lnTo>
                  <a:lnTo>
                    <a:pt x="144797" y="55090"/>
                  </a:lnTo>
                  <a:lnTo>
                    <a:pt x="143252" y="59574"/>
                  </a:lnTo>
                  <a:lnTo>
                    <a:pt x="141375" y="63409"/>
                  </a:lnTo>
                  <a:lnTo>
                    <a:pt x="137033" y="69929"/>
                  </a:lnTo>
                  <a:lnTo>
                    <a:pt x="133843" y="73700"/>
                  </a:lnTo>
                  <a:lnTo>
                    <a:pt x="130022" y="77907"/>
                  </a:lnTo>
                  <a:lnTo>
                    <a:pt x="125783" y="82405"/>
                  </a:lnTo>
                  <a:lnTo>
                    <a:pt x="120416" y="86250"/>
                  </a:lnTo>
                  <a:lnTo>
                    <a:pt x="114297" y="89661"/>
                  </a:lnTo>
                  <a:lnTo>
                    <a:pt x="107679" y="92781"/>
                  </a:lnTo>
                  <a:lnTo>
                    <a:pt x="100727" y="96554"/>
                  </a:lnTo>
                  <a:lnTo>
                    <a:pt x="93552" y="100763"/>
                  </a:lnTo>
                  <a:lnTo>
                    <a:pt x="86229" y="105262"/>
                  </a:lnTo>
                  <a:lnTo>
                    <a:pt x="78807" y="109109"/>
                  </a:lnTo>
                  <a:lnTo>
                    <a:pt x="71319" y="112520"/>
                  </a:lnTo>
                  <a:lnTo>
                    <a:pt x="63787" y="115640"/>
                  </a:lnTo>
                  <a:lnTo>
                    <a:pt x="56225" y="119414"/>
                  </a:lnTo>
                  <a:lnTo>
                    <a:pt x="48644" y="123623"/>
                  </a:lnTo>
                  <a:lnTo>
                    <a:pt x="41050" y="128122"/>
                  </a:lnTo>
                  <a:lnTo>
                    <a:pt x="34295" y="131969"/>
                  </a:lnTo>
                  <a:lnTo>
                    <a:pt x="22272" y="138500"/>
                  </a:lnTo>
                  <a:lnTo>
                    <a:pt x="17542" y="142274"/>
                  </a:lnTo>
                  <a:lnTo>
                    <a:pt x="13542" y="146483"/>
                  </a:lnTo>
                  <a:lnTo>
                    <a:pt x="10029" y="150982"/>
                  </a:lnTo>
                  <a:lnTo>
                    <a:pt x="6840" y="154829"/>
                  </a:lnTo>
                  <a:lnTo>
                    <a:pt x="1039" y="161360"/>
                  </a:lnTo>
                  <a:lnTo>
                    <a:pt x="0" y="164287"/>
                  </a:lnTo>
                  <a:lnTo>
                    <a:pt x="154" y="167085"/>
                  </a:lnTo>
                  <a:lnTo>
                    <a:pt x="2583" y="173298"/>
                  </a:lnTo>
                  <a:lnTo>
                    <a:pt x="4416" y="177326"/>
                  </a:lnTo>
                  <a:lnTo>
                    <a:pt x="6485" y="181704"/>
                  </a:lnTo>
                  <a:lnTo>
                    <a:pt x="9557" y="185470"/>
                  </a:lnTo>
                  <a:lnTo>
                    <a:pt x="13299" y="188827"/>
                  </a:lnTo>
                  <a:lnTo>
                    <a:pt x="17487" y="191912"/>
                  </a:lnTo>
                  <a:lnTo>
                    <a:pt x="22819" y="194815"/>
                  </a:lnTo>
                  <a:lnTo>
                    <a:pt x="28914" y="197597"/>
                  </a:lnTo>
                  <a:lnTo>
                    <a:pt x="35516" y="200299"/>
                  </a:lnTo>
                  <a:lnTo>
                    <a:pt x="42459" y="202946"/>
                  </a:lnTo>
                  <a:lnTo>
                    <a:pt x="56945" y="208145"/>
                  </a:lnTo>
                  <a:lnTo>
                    <a:pt x="65211" y="209871"/>
                  </a:lnTo>
                  <a:lnTo>
                    <a:pt x="74108" y="211021"/>
                  </a:lnTo>
                  <a:lnTo>
                    <a:pt x="83426" y="211788"/>
                  </a:lnTo>
                  <a:lnTo>
                    <a:pt x="93872" y="212299"/>
                  </a:lnTo>
                  <a:lnTo>
                    <a:pt x="116767" y="212867"/>
                  </a:lnTo>
                  <a:lnTo>
                    <a:pt x="149411" y="213187"/>
                  </a:lnTo>
                  <a:lnTo>
                    <a:pt x="159875" y="212384"/>
                  </a:lnTo>
                  <a:lnTo>
                    <a:pt x="170237" y="211003"/>
                  </a:lnTo>
                  <a:lnTo>
                    <a:pt x="180533" y="209236"/>
                  </a:lnTo>
                  <a:lnTo>
                    <a:pt x="189935" y="207211"/>
                  </a:lnTo>
                  <a:lnTo>
                    <a:pt x="198744" y="205015"/>
                  </a:lnTo>
                  <a:lnTo>
                    <a:pt x="207157" y="202704"/>
                  </a:lnTo>
                  <a:lnTo>
                    <a:pt x="214459" y="201163"/>
                  </a:lnTo>
                  <a:lnTo>
                    <a:pt x="221020" y="200136"/>
                  </a:lnTo>
                  <a:lnTo>
                    <a:pt x="227087" y="199450"/>
                  </a:lnTo>
                  <a:lnTo>
                    <a:pt x="231979" y="198994"/>
                  </a:lnTo>
                  <a:lnTo>
                    <a:pt x="236088" y="198690"/>
                  </a:lnTo>
                  <a:lnTo>
                    <a:pt x="246842" y="19808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MARTInkAnnotation249"/>
            <p:cNvSpPr/>
            <p:nvPr/>
          </p:nvSpPr>
          <p:spPr>
            <a:xfrm>
              <a:off x="6337080" y="2979000"/>
              <a:ext cx="140040" cy="44928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40183" h="449581">
                  <a:moveTo>
                    <a:pt x="140182" y="0"/>
                  </a:moveTo>
                  <a:lnTo>
                    <a:pt x="135792" y="0"/>
                  </a:lnTo>
                  <a:lnTo>
                    <a:pt x="139437" y="0"/>
                  </a:lnTo>
                  <a:lnTo>
                    <a:pt x="135917" y="4046"/>
                  </a:lnTo>
                  <a:lnTo>
                    <a:pt x="134799" y="6084"/>
                  </a:lnTo>
                  <a:lnTo>
                    <a:pt x="133556" y="10606"/>
                  </a:lnTo>
                  <a:lnTo>
                    <a:pt x="131532" y="13844"/>
                  </a:lnTo>
                  <a:lnTo>
                    <a:pt x="128489" y="17696"/>
                  </a:lnTo>
                  <a:lnTo>
                    <a:pt x="124767" y="21957"/>
                  </a:lnTo>
                  <a:lnTo>
                    <a:pt x="120592" y="26492"/>
                  </a:lnTo>
                  <a:lnTo>
                    <a:pt x="111438" y="36045"/>
                  </a:lnTo>
                  <a:lnTo>
                    <a:pt x="106626" y="41810"/>
                  </a:lnTo>
                  <a:lnTo>
                    <a:pt x="101724" y="48194"/>
                  </a:lnTo>
                  <a:lnTo>
                    <a:pt x="77647" y="80734"/>
                  </a:lnTo>
                  <a:lnTo>
                    <a:pt x="71398" y="90229"/>
                  </a:lnTo>
                  <a:lnTo>
                    <a:pt x="65540" y="99946"/>
                  </a:lnTo>
                  <a:lnTo>
                    <a:pt x="59941" y="109811"/>
                  </a:lnTo>
                  <a:lnTo>
                    <a:pt x="53668" y="119774"/>
                  </a:lnTo>
                  <a:lnTo>
                    <a:pt x="46947" y="129803"/>
                  </a:lnTo>
                  <a:lnTo>
                    <a:pt x="39925" y="139875"/>
                  </a:lnTo>
                  <a:lnTo>
                    <a:pt x="33551" y="149977"/>
                  </a:lnTo>
                  <a:lnTo>
                    <a:pt x="27608" y="160098"/>
                  </a:lnTo>
                  <a:lnTo>
                    <a:pt x="21953" y="170232"/>
                  </a:lnTo>
                  <a:lnTo>
                    <a:pt x="17336" y="181221"/>
                  </a:lnTo>
                  <a:lnTo>
                    <a:pt x="13411" y="192781"/>
                  </a:lnTo>
                  <a:lnTo>
                    <a:pt x="9948" y="204721"/>
                  </a:lnTo>
                  <a:lnTo>
                    <a:pt x="6793" y="216914"/>
                  </a:lnTo>
                  <a:lnTo>
                    <a:pt x="1028" y="241751"/>
                  </a:lnTo>
                  <a:lnTo>
                    <a:pt x="0" y="254300"/>
                  </a:lnTo>
                  <a:lnTo>
                    <a:pt x="161" y="266900"/>
                  </a:lnTo>
                  <a:lnTo>
                    <a:pt x="1114" y="279534"/>
                  </a:lnTo>
                  <a:lnTo>
                    <a:pt x="2597" y="292189"/>
                  </a:lnTo>
                  <a:lnTo>
                    <a:pt x="4432" y="304859"/>
                  </a:lnTo>
                  <a:lnTo>
                    <a:pt x="6502" y="317540"/>
                  </a:lnTo>
                  <a:lnTo>
                    <a:pt x="10422" y="330226"/>
                  </a:lnTo>
                  <a:lnTo>
                    <a:pt x="15576" y="342918"/>
                  </a:lnTo>
                  <a:lnTo>
                    <a:pt x="21552" y="355612"/>
                  </a:lnTo>
                  <a:lnTo>
                    <a:pt x="28075" y="367461"/>
                  </a:lnTo>
                  <a:lnTo>
                    <a:pt x="34964" y="378748"/>
                  </a:lnTo>
                  <a:lnTo>
                    <a:pt x="60226" y="417150"/>
                  </a:lnTo>
                  <a:lnTo>
                    <a:pt x="65712" y="424574"/>
                  </a:lnTo>
                  <a:lnTo>
                    <a:pt x="71061" y="431216"/>
                  </a:lnTo>
                  <a:lnTo>
                    <a:pt x="86843" y="4495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SMARTInkAnnotation250"/>
            <p:cNvSpPr/>
            <p:nvPr/>
          </p:nvSpPr>
          <p:spPr>
            <a:xfrm>
              <a:off x="6644880" y="3085920"/>
              <a:ext cx="219600" cy="2131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19671" h="213353">
                  <a:moveTo>
                    <a:pt x="0" y="15232"/>
                  </a:moveTo>
                  <a:lnTo>
                    <a:pt x="43352" y="15232"/>
                  </a:lnTo>
                  <a:lnTo>
                    <a:pt x="50068" y="14385"/>
                  </a:lnTo>
                  <a:lnTo>
                    <a:pt x="57932" y="12974"/>
                  </a:lnTo>
                  <a:lnTo>
                    <a:pt x="66561" y="11187"/>
                  </a:lnTo>
                  <a:lnTo>
                    <a:pt x="75701" y="9995"/>
                  </a:lnTo>
                  <a:lnTo>
                    <a:pt x="85180" y="9201"/>
                  </a:lnTo>
                  <a:lnTo>
                    <a:pt x="94887" y="8671"/>
                  </a:lnTo>
                  <a:lnTo>
                    <a:pt x="112445" y="8083"/>
                  </a:lnTo>
                  <a:lnTo>
                    <a:pt x="138868" y="7751"/>
                  </a:lnTo>
                  <a:lnTo>
                    <a:pt x="148459" y="7705"/>
                  </a:lnTo>
                  <a:lnTo>
                    <a:pt x="157393" y="6828"/>
                  </a:lnTo>
                  <a:lnTo>
                    <a:pt x="165888" y="5395"/>
                  </a:lnTo>
                  <a:lnTo>
                    <a:pt x="174092" y="3594"/>
                  </a:lnTo>
                  <a:lnTo>
                    <a:pt x="180408" y="2394"/>
                  </a:lnTo>
                  <a:lnTo>
                    <a:pt x="185466" y="1593"/>
                  </a:lnTo>
                  <a:lnTo>
                    <a:pt x="189684" y="1060"/>
                  </a:lnTo>
                  <a:lnTo>
                    <a:pt x="194189" y="704"/>
                  </a:lnTo>
                  <a:lnTo>
                    <a:pt x="198886" y="467"/>
                  </a:lnTo>
                  <a:lnTo>
                    <a:pt x="210500" y="86"/>
                  </a:lnTo>
                  <a:lnTo>
                    <a:pt x="219670" y="0"/>
                  </a:lnTo>
                  <a:lnTo>
                    <a:pt x="219260" y="844"/>
                  </a:lnTo>
                  <a:lnTo>
                    <a:pt x="214638" y="6077"/>
                  </a:lnTo>
                  <a:lnTo>
                    <a:pt x="210259" y="10599"/>
                  </a:lnTo>
                  <a:lnTo>
                    <a:pt x="207906" y="14683"/>
                  </a:lnTo>
                  <a:lnTo>
                    <a:pt x="205490" y="19946"/>
                  </a:lnTo>
                  <a:lnTo>
                    <a:pt x="203034" y="25995"/>
                  </a:lnTo>
                  <a:lnTo>
                    <a:pt x="198856" y="31721"/>
                  </a:lnTo>
                  <a:lnTo>
                    <a:pt x="193531" y="37231"/>
                  </a:lnTo>
                  <a:lnTo>
                    <a:pt x="187440" y="42598"/>
                  </a:lnTo>
                  <a:lnTo>
                    <a:pt x="180840" y="47869"/>
                  </a:lnTo>
                  <a:lnTo>
                    <a:pt x="173900" y="53077"/>
                  </a:lnTo>
                  <a:lnTo>
                    <a:pt x="166733" y="58242"/>
                  </a:lnTo>
                  <a:lnTo>
                    <a:pt x="160262" y="65072"/>
                  </a:lnTo>
                  <a:lnTo>
                    <a:pt x="154255" y="73012"/>
                  </a:lnTo>
                  <a:lnTo>
                    <a:pt x="148557" y="81692"/>
                  </a:lnTo>
                  <a:lnTo>
                    <a:pt x="141371" y="90019"/>
                  </a:lnTo>
                  <a:lnTo>
                    <a:pt x="133194" y="98110"/>
                  </a:lnTo>
                  <a:lnTo>
                    <a:pt x="124356" y="106044"/>
                  </a:lnTo>
                  <a:lnTo>
                    <a:pt x="116771" y="113873"/>
                  </a:lnTo>
                  <a:lnTo>
                    <a:pt x="110021" y="121633"/>
                  </a:lnTo>
                  <a:lnTo>
                    <a:pt x="103827" y="129346"/>
                  </a:lnTo>
                  <a:lnTo>
                    <a:pt x="97158" y="137028"/>
                  </a:lnTo>
                  <a:lnTo>
                    <a:pt x="90172" y="144689"/>
                  </a:lnTo>
                  <a:lnTo>
                    <a:pt x="70462" y="165350"/>
                  </a:lnTo>
                  <a:lnTo>
                    <a:pt x="64755" y="171190"/>
                  </a:lnTo>
                  <a:lnTo>
                    <a:pt x="60103" y="176778"/>
                  </a:lnTo>
                  <a:lnTo>
                    <a:pt x="56156" y="182196"/>
                  </a:lnTo>
                  <a:lnTo>
                    <a:pt x="52677" y="187501"/>
                  </a:lnTo>
                  <a:lnTo>
                    <a:pt x="49512" y="191885"/>
                  </a:lnTo>
                  <a:lnTo>
                    <a:pt x="46555" y="195654"/>
                  </a:lnTo>
                  <a:lnTo>
                    <a:pt x="43737" y="199014"/>
                  </a:lnTo>
                  <a:lnTo>
                    <a:pt x="40606" y="205004"/>
                  </a:lnTo>
                  <a:lnTo>
                    <a:pt x="39771" y="207786"/>
                  </a:lnTo>
                  <a:lnTo>
                    <a:pt x="38368" y="209642"/>
                  </a:lnTo>
                  <a:lnTo>
                    <a:pt x="36585" y="210879"/>
                  </a:lnTo>
                  <a:lnTo>
                    <a:pt x="30480" y="2133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SMARTInkAnnotation251"/>
            <p:cNvSpPr/>
            <p:nvPr/>
          </p:nvSpPr>
          <p:spPr>
            <a:xfrm>
              <a:off x="6660000" y="3207600"/>
              <a:ext cx="243720" cy="378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3841" h="38101">
                  <a:moveTo>
                    <a:pt x="0" y="0"/>
                  </a:moveTo>
                  <a:lnTo>
                    <a:pt x="15397" y="0"/>
                  </a:lnTo>
                  <a:lnTo>
                    <a:pt x="19578" y="847"/>
                  </a:lnTo>
                  <a:lnTo>
                    <a:pt x="24059" y="2258"/>
                  </a:lnTo>
                  <a:lnTo>
                    <a:pt x="28739" y="4046"/>
                  </a:lnTo>
                  <a:lnTo>
                    <a:pt x="33553" y="6084"/>
                  </a:lnTo>
                  <a:lnTo>
                    <a:pt x="38455" y="8289"/>
                  </a:lnTo>
                  <a:lnTo>
                    <a:pt x="43417" y="10606"/>
                  </a:lnTo>
                  <a:lnTo>
                    <a:pt x="50111" y="12998"/>
                  </a:lnTo>
                  <a:lnTo>
                    <a:pt x="57960" y="15438"/>
                  </a:lnTo>
                  <a:lnTo>
                    <a:pt x="66580" y="17912"/>
                  </a:lnTo>
                  <a:lnTo>
                    <a:pt x="74866" y="19561"/>
                  </a:lnTo>
                  <a:lnTo>
                    <a:pt x="82931" y="20661"/>
                  </a:lnTo>
                  <a:lnTo>
                    <a:pt x="90847" y="21394"/>
                  </a:lnTo>
                  <a:lnTo>
                    <a:pt x="99511" y="23576"/>
                  </a:lnTo>
                  <a:lnTo>
                    <a:pt x="108674" y="26724"/>
                  </a:lnTo>
                  <a:lnTo>
                    <a:pt x="118170" y="30516"/>
                  </a:lnTo>
                  <a:lnTo>
                    <a:pt x="128733" y="33044"/>
                  </a:lnTo>
                  <a:lnTo>
                    <a:pt x="140008" y="34730"/>
                  </a:lnTo>
                  <a:lnTo>
                    <a:pt x="151759" y="35853"/>
                  </a:lnTo>
                  <a:lnTo>
                    <a:pt x="162132" y="36602"/>
                  </a:lnTo>
                  <a:lnTo>
                    <a:pt x="171588" y="37102"/>
                  </a:lnTo>
                  <a:lnTo>
                    <a:pt x="189715" y="37656"/>
                  </a:lnTo>
                  <a:lnTo>
                    <a:pt x="243840" y="38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SMARTInkAnnotation252"/>
            <p:cNvSpPr/>
            <p:nvPr/>
          </p:nvSpPr>
          <p:spPr>
            <a:xfrm>
              <a:off x="7010640" y="2994480"/>
              <a:ext cx="109080" cy="4035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09277" h="403861">
                  <a:moveTo>
                    <a:pt x="0" y="0"/>
                  </a:moveTo>
                  <a:lnTo>
                    <a:pt x="7307" y="0"/>
                  </a:lnTo>
                  <a:lnTo>
                    <a:pt x="9738" y="2258"/>
                  </a:lnTo>
                  <a:lnTo>
                    <a:pt x="18198" y="10606"/>
                  </a:lnTo>
                  <a:lnTo>
                    <a:pt x="20599" y="14691"/>
                  </a:lnTo>
                  <a:lnTo>
                    <a:pt x="23046" y="19954"/>
                  </a:lnTo>
                  <a:lnTo>
                    <a:pt x="25524" y="26003"/>
                  </a:lnTo>
                  <a:lnTo>
                    <a:pt x="28022" y="32575"/>
                  </a:lnTo>
                  <a:lnTo>
                    <a:pt x="33057" y="46651"/>
                  </a:lnTo>
                  <a:lnTo>
                    <a:pt x="36431" y="53961"/>
                  </a:lnTo>
                  <a:lnTo>
                    <a:pt x="40374" y="61374"/>
                  </a:lnTo>
                  <a:lnTo>
                    <a:pt x="44697" y="68856"/>
                  </a:lnTo>
                  <a:lnTo>
                    <a:pt x="54014" y="86201"/>
                  </a:lnTo>
                  <a:lnTo>
                    <a:pt x="58869" y="95567"/>
                  </a:lnTo>
                  <a:lnTo>
                    <a:pt x="63800" y="106045"/>
                  </a:lnTo>
                  <a:lnTo>
                    <a:pt x="73793" y="128976"/>
                  </a:lnTo>
                  <a:lnTo>
                    <a:pt x="77982" y="140170"/>
                  </a:lnTo>
                  <a:lnTo>
                    <a:pt x="81621" y="151020"/>
                  </a:lnTo>
                  <a:lnTo>
                    <a:pt x="88770" y="173800"/>
                  </a:lnTo>
                  <a:lnTo>
                    <a:pt x="97592" y="200858"/>
                  </a:lnTo>
                  <a:lnTo>
                    <a:pt x="101467" y="214339"/>
                  </a:lnTo>
                  <a:lnTo>
                    <a:pt x="104898" y="227559"/>
                  </a:lnTo>
                  <a:lnTo>
                    <a:pt x="108033" y="240606"/>
                  </a:lnTo>
                  <a:lnTo>
                    <a:pt x="109276" y="252691"/>
                  </a:lnTo>
                  <a:lnTo>
                    <a:pt x="109257" y="264134"/>
                  </a:lnTo>
                  <a:lnTo>
                    <a:pt x="108398" y="275149"/>
                  </a:lnTo>
                  <a:lnTo>
                    <a:pt x="106979" y="285880"/>
                  </a:lnTo>
                  <a:lnTo>
                    <a:pt x="105187" y="296420"/>
                  </a:lnTo>
                  <a:lnTo>
                    <a:pt x="103145" y="306833"/>
                  </a:lnTo>
                  <a:lnTo>
                    <a:pt x="100936" y="316315"/>
                  </a:lnTo>
                  <a:lnTo>
                    <a:pt x="98617" y="325177"/>
                  </a:lnTo>
                  <a:lnTo>
                    <a:pt x="96225" y="333625"/>
                  </a:lnTo>
                  <a:lnTo>
                    <a:pt x="91309" y="349784"/>
                  </a:lnTo>
                  <a:lnTo>
                    <a:pt x="88812" y="357650"/>
                  </a:lnTo>
                  <a:lnTo>
                    <a:pt x="85455" y="363740"/>
                  </a:lnTo>
                  <a:lnTo>
                    <a:pt x="81524" y="368646"/>
                  </a:lnTo>
                  <a:lnTo>
                    <a:pt x="67899" y="381855"/>
                  </a:lnTo>
                  <a:lnTo>
                    <a:pt x="52171" y="397444"/>
                  </a:lnTo>
                  <a:lnTo>
                    <a:pt x="49174" y="399583"/>
                  </a:lnTo>
                  <a:lnTo>
                    <a:pt x="46330" y="401009"/>
                  </a:lnTo>
                  <a:lnTo>
                    <a:pt x="43586" y="401959"/>
                  </a:lnTo>
                  <a:lnTo>
                    <a:pt x="40911" y="402593"/>
                  </a:lnTo>
                  <a:lnTo>
                    <a:pt x="38281" y="403015"/>
                  </a:lnTo>
                  <a:lnTo>
                    <a:pt x="35681" y="403297"/>
                  </a:lnTo>
                  <a:lnTo>
                    <a:pt x="33100" y="403485"/>
                  </a:lnTo>
                  <a:lnTo>
                    <a:pt x="30534" y="403610"/>
                  </a:lnTo>
                  <a:lnTo>
                    <a:pt x="22860" y="403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SMARTInkAnnotation253"/>
            <p:cNvSpPr/>
            <p:nvPr/>
          </p:nvSpPr>
          <p:spPr>
            <a:xfrm>
              <a:off x="3032280" y="2781000"/>
              <a:ext cx="617040" cy="129240"/>
            </a:xfrm>
            <a:custGeom>
              <a:avLst/>
              <a:gdLst>
                <a:gd name="textAreaLeft" fmla="*/ 0 w 617040"/>
                <a:gd name="textAreaRight" fmla="*/ 617400 w 61704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617221" h="129541">
                  <a:moveTo>
                    <a:pt x="0" y="129540"/>
                  </a:moveTo>
                  <a:lnTo>
                    <a:pt x="4045" y="129540"/>
                  </a:lnTo>
                  <a:lnTo>
                    <a:pt x="14651" y="125495"/>
                  </a:lnTo>
                  <a:lnTo>
                    <a:pt x="28168" y="121780"/>
                  </a:lnTo>
                  <a:lnTo>
                    <a:pt x="42307" y="116046"/>
                  </a:lnTo>
                  <a:lnTo>
                    <a:pt x="55210" y="111407"/>
                  </a:lnTo>
                  <a:lnTo>
                    <a:pt x="61360" y="108138"/>
                  </a:lnTo>
                  <a:lnTo>
                    <a:pt x="67153" y="104266"/>
                  </a:lnTo>
                  <a:lnTo>
                    <a:pt x="72709" y="99991"/>
                  </a:lnTo>
                  <a:lnTo>
                    <a:pt x="78953" y="96294"/>
                  </a:lnTo>
                  <a:lnTo>
                    <a:pt x="85655" y="92983"/>
                  </a:lnTo>
                  <a:lnTo>
                    <a:pt x="92664" y="89928"/>
                  </a:lnTo>
                  <a:lnTo>
                    <a:pt x="99876" y="87046"/>
                  </a:lnTo>
                  <a:lnTo>
                    <a:pt x="114663" y="81585"/>
                  </a:lnTo>
                  <a:lnTo>
                    <a:pt x="137268" y="73750"/>
                  </a:lnTo>
                  <a:lnTo>
                    <a:pt x="145699" y="71180"/>
                  </a:lnTo>
                  <a:lnTo>
                    <a:pt x="172898" y="63518"/>
                  </a:lnTo>
                  <a:lnTo>
                    <a:pt x="189450" y="58428"/>
                  </a:lnTo>
                  <a:lnTo>
                    <a:pt x="213049" y="50802"/>
                  </a:lnTo>
                  <a:lnTo>
                    <a:pt x="228461" y="47979"/>
                  </a:lnTo>
                  <a:lnTo>
                    <a:pt x="243779" y="45877"/>
                  </a:lnTo>
                  <a:lnTo>
                    <a:pt x="259053" y="42121"/>
                  </a:lnTo>
                  <a:lnTo>
                    <a:pt x="285977" y="35246"/>
                  </a:lnTo>
                  <a:lnTo>
                    <a:pt x="294792" y="32811"/>
                  </a:lnTo>
                  <a:lnTo>
                    <a:pt x="311358" y="27847"/>
                  </a:lnTo>
                  <a:lnTo>
                    <a:pt x="329446" y="25077"/>
                  </a:lnTo>
                  <a:lnTo>
                    <a:pt x="347927" y="23845"/>
                  </a:lnTo>
                  <a:lnTo>
                    <a:pt x="364607" y="23298"/>
                  </a:lnTo>
                  <a:lnTo>
                    <a:pt x="380488" y="20797"/>
                  </a:lnTo>
                  <a:lnTo>
                    <a:pt x="396859" y="17710"/>
                  </a:lnTo>
                  <a:lnTo>
                    <a:pt x="415424" y="16338"/>
                  </a:lnTo>
                  <a:lnTo>
                    <a:pt x="434964" y="15728"/>
                  </a:lnTo>
                  <a:lnTo>
                    <a:pt x="454090" y="14610"/>
                  </a:lnTo>
                  <a:lnTo>
                    <a:pt x="471058" y="11291"/>
                  </a:lnTo>
                  <a:lnTo>
                    <a:pt x="489323" y="9252"/>
                  </a:lnTo>
                  <a:lnTo>
                    <a:pt x="507884" y="8345"/>
                  </a:lnTo>
                  <a:lnTo>
                    <a:pt x="524600" y="7943"/>
                  </a:lnTo>
                  <a:lnTo>
                    <a:pt x="577957" y="7648"/>
                  </a:lnTo>
                  <a:lnTo>
                    <a:pt x="589328" y="5375"/>
                  </a:lnTo>
                  <a:lnTo>
                    <a:pt x="598050" y="2389"/>
                  </a:lnTo>
                  <a:lnTo>
                    <a:pt x="6172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MARTInkAnnotation254"/>
            <p:cNvSpPr/>
            <p:nvPr/>
          </p:nvSpPr>
          <p:spPr>
            <a:xfrm>
              <a:off x="3382920" y="2605680"/>
              <a:ext cx="2492280" cy="357840"/>
            </a:xfrm>
            <a:custGeom>
              <a:avLst/>
              <a:gdLst>
                <a:gd name="textAreaLeft" fmla="*/ 0 w 2492280"/>
                <a:gd name="textAreaRight" fmla="*/ 2492640 w 249228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2491741" h="358139">
                  <a:moveTo>
                    <a:pt x="0" y="358138"/>
                  </a:moveTo>
                  <a:lnTo>
                    <a:pt x="4045" y="358138"/>
                  </a:lnTo>
                  <a:lnTo>
                    <a:pt x="5237" y="357291"/>
                  </a:lnTo>
                  <a:lnTo>
                    <a:pt x="6031" y="355880"/>
                  </a:lnTo>
                  <a:lnTo>
                    <a:pt x="6561" y="354093"/>
                  </a:lnTo>
                  <a:lnTo>
                    <a:pt x="7760" y="352901"/>
                  </a:lnTo>
                  <a:lnTo>
                    <a:pt x="9407" y="352107"/>
                  </a:lnTo>
                  <a:lnTo>
                    <a:pt x="11352" y="351577"/>
                  </a:lnTo>
                  <a:lnTo>
                    <a:pt x="12648" y="350378"/>
                  </a:lnTo>
                  <a:lnTo>
                    <a:pt x="13512" y="348731"/>
                  </a:lnTo>
                  <a:lnTo>
                    <a:pt x="14088" y="346787"/>
                  </a:lnTo>
                  <a:lnTo>
                    <a:pt x="16986" y="342369"/>
                  </a:lnTo>
                  <a:lnTo>
                    <a:pt x="21096" y="336736"/>
                  </a:lnTo>
                  <a:lnTo>
                    <a:pt x="25745" y="328589"/>
                  </a:lnTo>
                  <a:lnTo>
                    <a:pt x="33122" y="318526"/>
                  </a:lnTo>
                  <a:lnTo>
                    <a:pt x="43200" y="307541"/>
                  </a:lnTo>
                  <a:lnTo>
                    <a:pt x="70062" y="280465"/>
                  </a:lnTo>
                  <a:lnTo>
                    <a:pt x="82472" y="272094"/>
                  </a:lnTo>
                  <a:lnTo>
                    <a:pt x="89712" y="264581"/>
                  </a:lnTo>
                  <a:lnTo>
                    <a:pt x="95752" y="256444"/>
                  </a:lnTo>
                  <a:lnTo>
                    <a:pt x="103912" y="247103"/>
                  </a:lnTo>
                  <a:lnTo>
                    <a:pt x="111693" y="238126"/>
                  </a:lnTo>
                  <a:lnTo>
                    <a:pt x="116810" y="229728"/>
                  </a:lnTo>
                  <a:lnTo>
                    <a:pt x="124451" y="219525"/>
                  </a:lnTo>
                  <a:lnTo>
                    <a:pt x="134618" y="208493"/>
                  </a:lnTo>
                  <a:lnTo>
                    <a:pt x="147320" y="195606"/>
                  </a:lnTo>
                  <a:lnTo>
                    <a:pt x="166051" y="182882"/>
                  </a:lnTo>
                  <a:lnTo>
                    <a:pt x="177486" y="172719"/>
                  </a:lnTo>
                  <a:lnTo>
                    <a:pt x="199218" y="162558"/>
                  </a:lnTo>
                  <a:lnTo>
                    <a:pt x="214626" y="154938"/>
                  </a:lnTo>
                  <a:lnTo>
                    <a:pt x="226623" y="147318"/>
                  </a:lnTo>
                  <a:lnTo>
                    <a:pt x="250317" y="137158"/>
                  </a:lnTo>
                  <a:lnTo>
                    <a:pt x="261112" y="132925"/>
                  </a:lnTo>
                  <a:lnTo>
                    <a:pt x="281839" y="127949"/>
                  </a:lnTo>
                  <a:lnTo>
                    <a:pt x="308173" y="117475"/>
                  </a:lnTo>
                  <a:lnTo>
                    <a:pt x="343344" y="110671"/>
                  </a:lnTo>
                  <a:lnTo>
                    <a:pt x="368231" y="102230"/>
                  </a:lnTo>
                  <a:lnTo>
                    <a:pt x="404185" y="95431"/>
                  </a:lnTo>
                  <a:lnTo>
                    <a:pt x="430014" y="86143"/>
                  </a:lnTo>
                  <a:lnTo>
                    <a:pt x="461457" y="78413"/>
                  </a:lnTo>
                  <a:lnTo>
                    <a:pt x="501098" y="70406"/>
                  </a:lnTo>
                  <a:lnTo>
                    <a:pt x="533040" y="60818"/>
                  </a:lnTo>
                  <a:lnTo>
                    <a:pt x="563809" y="50770"/>
                  </a:lnTo>
                  <a:lnTo>
                    <a:pt x="624130" y="39930"/>
                  </a:lnTo>
                  <a:lnTo>
                    <a:pt x="655180" y="30338"/>
                  </a:lnTo>
                  <a:lnTo>
                    <a:pt x="671344" y="26182"/>
                  </a:lnTo>
                  <a:lnTo>
                    <a:pt x="745384" y="16427"/>
                  </a:lnTo>
                  <a:lnTo>
                    <a:pt x="819331" y="8135"/>
                  </a:lnTo>
                  <a:lnTo>
                    <a:pt x="893868" y="7648"/>
                  </a:lnTo>
                  <a:lnTo>
                    <a:pt x="966034" y="706"/>
                  </a:lnTo>
                  <a:lnTo>
                    <a:pt x="1043469" y="39"/>
                  </a:lnTo>
                  <a:lnTo>
                    <a:pt x="1119078" y="0"/>
                  </a:lnTo>
                  <a:lnTo>
                    <a:pt x="1194436" y="6912"/>
                  </a:lnTo>
                  <a:lnTo>
                    <a:pt x="1240429" y="9736"/>
                  </a:lnTo>
                  <a:lnTo>
                    <a:pt x="1319646" y="18961"/>
                  </a:lnTo>
                  <a:lnTo>
                    <a:pt x="1404003" y="27867"/>
                  </a:lnTo>
                  <a:lnTo>
                    <a:pt x="1473927" y="36332"/>
                  </a:lnTo>
                  <a:lnTo>
                    <a:pt x="1544227" y="45629"/>
                  </a:lnTo>
                  <a:lnTo>
                    <a:pt x="1605602" y="56201"/>
                  </a:lnTo>
                  <a:lnTo>
                    <a:pt x="1674948" y="71147"/>
                  </a:lnTo>
                  <a:lnTo>
                    <a:pt x="1743595" y="79800"/>
                  </a:lnTo>
                  <a:lnTo>
                    <a:pt x="1787385" y="89108"/>
                  </a:lnTo>
                  <a:lnTo>
                    <a:pt x="1828647" y="96842"/>
                  </a:lnTo>
                  <a:lnTo>
                    <a:pt x="1869409" y="102666"/>
                  </a:lnTo>
                  <a:lnTo>
                    <a:pt x="1914205" y="112181"/>
                  </a:lnTo>
                  <a:lnTo>
                    <a:pt x="1941312" y="115929"/>
                  </a:lnTo>
                  <a:lnTo>
                    <a:pt x="1986202" y="126366"/>
                  </a:lnTo>
                  <a:lnTo>
                    <a:pt x="2026576" y="133165"/>
                  </a:lnTo>
                  <a:lnTo>
                    <a:pt x="2064975" y="142663"/>
                  </a:lnTo>
                  <a:lnTo>
                    <a:pt x="2079394" y="144685"/>
                  </a:lnTo>
                  <a:lnTo>
                    <a:pt x="2111797" y="155260"/>
                  </a:lnTo>
                  <a:lnTo>
                    <a:pt x="2146722" y="165423"/>
                  </a:lnTo>
                  <a:lnTo>
                    <a:pt x="2152508" y="166161"/>
                  </a:lnTo>
                  <a:lnTo>
                    <a:pt x="2165710" y="171497"/>
                  </a:lnTo>
                  <a:lnTo>
                    <a:pt x="2179198" y="177820"/>
                  </a:lnTo>
                  <a:lnTo>
                    <a:pt x="2212107" y="188517"/>
                  </a:lnTo>
                  <a:lnTo>
                    <a:pt x="2232614" y="198229"/>
                  </a:lnTo>
                  <a:lnTo>
                    <a:pt x="2283459" y="223520"/>
                  </a:lnTo>
                  <a:lnTo>
                    <a:pt x="2308170" y="233678"/>
                  </a:lnTo>
                  <a:lnTo>
                    <a:pt x="2325218" y="243838"/>
                  </a:lnTo>
                  <a:lnTo>
                    <a:pt x="2334757" y="249765"/>
                  </a:lnTo>
                  <a:lnTo>
                    <a:pt x="2344641" y="258043"/>
                  </a:lnTo>
                  <a:lnTo>
                    <a:pt x="2359726" y="268179"/>
                  </a:lnTo>
                  <a:lnTo>
                    <a:pt x="2374920" y="276544"/>
                  </a:lnTo>
                  <a:lnTo>
                    <a:pt x="2385069" y="284056"/>
                  </a:lnTo>
                  <a:lnTo>
                    <a:pt x="2395225" y="292193"/>
                  </a:lnTo>
                  <a:lnTo>
                    <a:pt x="2410462" y="301534"/>
                  </a:lnTo>
                  <a:lnTo>
                    <a:pt x="2430781" y="312275"/>
                  </a:lnTo>
                  <a:lnTo>
                    <a:pt x="2435861" y="314863"/>
                  </a:lnTo>
                  <a:lnTo>
                    <a:pt x="2443762" y="322253"/>
                  </a:lnTo>
                  <a:lnTo>
                    <a:pt x="2447055" y="326595"/>
                  </a:lnTo>
                  <a:lnTo>
                    <a:pt x="2455229" y="333677"/>
                  </a:lnTo>
                  <a:lnTo>
                    <a:pt x="2469351" y="342424"/>
                  </a:lnTo>
                  <a:lnTo>
                    <a:pt x="2474274" y="345122"/>
                  </a:lnTo>
                  <a:lnTo>
                    <a:pt x="2477556" y="347767"/>
                  </a:lnTo>
                  <a:lnTo>
                    <a:pt x="2479744" y="350378"/>
                  </a:lnTo>
                  <a:lnTo>
                    <a:pt x="2481203" y="352965"/>
                  </a:lnTo>
                  <a:lnTo>
                    <a:pt x="2483023" y="354689"/>
                  </a:lnTo>
                  <a:lnTo>
                    <a:pt x="2485082" y="355839"/>
                  </a:lnTo>
                  <a:lnTo>
                    <a:pt x="2491740" y="3581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MARTInkAnnotation255"/>
            <p:cNvSpPr/>
            <p:nvPr/>
          </p:nvSpPr>
          <p:spPr>
            <a:xfrm>
              <a:off x="4266720" y="3299040"/>
              <a:ext cx="2476800" cy="419040"/>
            </a:xfrm>
            <a:custGeom>
              <a:avLst/>
              <a:gdLst>
                <a:gd name="textAreaLeft" fmla="*/ 0 w 2476800"/>
                <a:gd name="textAreaRight" fmla="*/ 2477160 w 247680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476501" h="419101">
                  <a:moveTo>
                    <a:pt x="0" y="0"/>
                  </a:moveTo>
                  <a:lnTo>
                    <a:pt x="0" y="11351"/>
                  </a:lnTo>
                  <a:lnTo>
                    <a:pt x="846" y="13494"/>
                  </a:lnTo>
                  <a:lnTo>
                    <a:pt x="5237" y="20556"/>
                  </a:lnTo>
                  <a:lnTo>
                    <a:pt x="7760" y="28010"/>
                  </a:lnTo>
                  <a:lnTo>
                    <a:pt x="13495" y="35581"/>
                  </a:lnTo>
                  <a:lnTo>
                    <a:pt x="25505" y="48263"/>
                  </a:lnTo>
                  <a:lnTo>
                    <a:pt x="33051" y="59926"/>
                  </a:lnTo>
                  <a:lnTo>
                    <a:pt x="40372" y="66992"/>
                  </a:lnTo>
                  <a:lnTo>
                    <a:pt x="44695" y="70061"/>
                  </a:lnTo>
                  <a:lnTo>
                    <a:pt x="51756" y="77987"/>
                  </a:lnTo>
                  <a:lnTo>
                    <a:pt x="54824" y="82472"/>
                  </a:lnTo>
                  <a:lnTo>
                    <a:pt x="65006" y="91970"/>
                  </a:lnTo>
                  <a:lnTo>
                    <a:pt x="82762" y="104579"/>
                  </a:lnTo>
                  <a:lnTo>
                    <a:pt x="101004" y="115935"/>
                  </a:lnTo>
                  <a:lnTo>
                    <a:pt x="152514" y="149956"/>
                  </a:lnTo>
                  <a:lnTo>
                    <a:pt x="175294" y="161083"/>
                  </a:lnTo>
                  <a:lnTo>
                    <a:pt x="202175" y="173788"/>
                  </a:lnTo>
                  <a:lnTo>
                    <a:pt x="231589" y="188276"/>
                  </a:lnTo>
                  <a:lnTo>
                    <a:pt x="261754" y="199249"/>
                  </a:lnTo>
                  <a:lnTo>
                    <a:pt x="292140" y="211907"/>
                  </a:lnTo>
                  <a:lnTo>
                    <a:pt x="314695" y="221463"/>
                  </a:lnTo>
                  <a:lnTo>
                    <a:pt x="348936" y="234105"/>
                  </a:lnTo>
                  <a:lnTo>
                    <a:pt x="394892" y="245962"/>
                  </a:lnTo>
                  <a:lnTo>
                    <a:pt x="444736" y="261694"/>
                  </a:lnTo>
                  <a:lnTo>
                    <a:pt x="482670" y="271896"/>
                  </a:lnTo>
                  <a:lnTo>
                    <a:pt x="520721" y="284420"/>
                  </a:lnTo>
                  <a:lnTo>
                    <a:pt x="559653" y="294716"/>
                  </a:lnTo>
                  <a:lnTo>
                    <a:pt x="602985" y="307268"/>
                  </a:lnTo>
                  <a:lnTo>
                    <a:pt x="663139" y="319524"/>
                  </a:lnTo>
                  <a:lnTo>
                    <a:pt x="944973" y="368299"/>
                  </a:lnTo>
                  <a:lnTo>
                    <a:pt x="1141849" y="398780"/>
                  </a:lnTo>
                  <a:lnTo>
                    <a:pt x="1225079" y="405449"/>
                  </a:lnTo>
                  <a:lnTo>
                    <a:pt x="1287437" y="414334"/>
                  </a:lnTo>
                  <a:lnTo>
                    <a:pt x="1354755" y="418158"/>
                  </a:lnTo>
                  <a:lnTo>
                    <a:pt x="1438799" y="418976"/>
                  </a:lnTo>
                  <a:lnTo>
                    <a:pt x="1668998" y="419100"/>
                  </a:lnTo>
                  <a:lnTo>
                    <a:pt x="1741236" y="413069"/>
                  </a:lnTo>
                  <a:lnTo>
                    <a:pt x="1815450" y="405606"/>
                  </a:lnTo>
                  <a:lnTo>
                    <a:pt x="1890010" y="393596"/>
                  </a:lnTo>
                  <a:lnTo>
                    <a:pt x="1957705" y="380986"/>
                  </a:lnTo>
                  <a:lnTo>
                    <a:pt x="2053764" y="363219"/>
                  </a:lnTo>
                  <a:lnTo>
                    <a:pt x="2088590" y="351555"/>
                  </a:lnTo>
                  <a:lnTo>
                    <a:pt x="2143237" y="333493"/>
                  </a:lnTo>
                  <a:lnTo>
                    <a:pt x="2175402" y="321768"/>
                  </a:lnTo>
                  <a:lnTo>
                    <a:pt x="2203277" y="310674"/>
                  </a:lnTo>
                  <a:lnTo>
                    <a:pt x="2232985" y="298920"/>
                  </a:lnTo>
                  <a:lnTo>
                    <a:pt x="2252278" y="292027"/>
                  </a:lnTo>
                  <a:lnTo>
                    <a:pt x="2269320" y="283319"/>
                  </a:lnTo>
                  <a:lnTo>
                    <a:pt x="2297239" y="268896"/>
                  </a:lnTo>
                  <a:lnTo>
                    <a:pt x="2312444" y="258927"/>
                  </a:lnTo>
                  <a:lnTo>
                    <a:pt x="2325693" y="249699"/>
                  </a:lnTo>
                  <a:lnTo>
                    <a:pt x="2347433" y="238897"/>
                  </a:lnTo>
                  <a:lnTo>
                    <a:pt x="2362409" y="230072"/>
                  </a:lnTo>
                  <a:lnTo>
                    <a:pt x="2375276" y="220506"/>
                  </a:lnTo>
                  <a:lnTo>
                    <a:pt x="2389781" y="207857"/>
                  </a:lnTo>
                  <a:lnTo>
                    <a:pt x="2403957" y="196489"/>
                  </a:lnTo>
                  <a:lnTo>
                    <a:pt x="2419727" y="184655"/>
                  </a:lnTo>
                  <a:lnTo>
                    <a:pt x="2432021" y="175786"/>
                  </a:lnTo>
                  <a:lnTo>
                    <a:pt x="2451346" y="165204"/>
                  </a:lnTo>
                  <a:lnTo>
                    <a:pt x="2454650" y="162629"/>
                  </a:lnTo>
                  <a:lnTo>
                    <a:pt x="2456854" y="160066"/>
                  </a:lnTo>
                  <a:lnTo>
                    <a:pt x="2458323" y="157511"/>
                  </a:lnTo>
                  <a:lnTo>
                    <a:pt x="2460149" y="155807"/>
                  </a:lnTo>
                  <a:lnTo>
                    <a:pt x="2462213" y="154671"/>
                  </a:lnTo>
                  <a:lnTo>
                    <a:pt x="2466764" y="153410"/>
                  </a:lnTo>
                  <a:lnTo>
                    <a:pt x="2476500" y="1524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MARTInkAnnotation256"/>
            <p:cNvSpPr/>
            <p:nvPr/>
          </p:nvSpPr>
          <p:spPr>
            <a:xfrm>
              <a:off x="6675480" y="3375360"/>
              <a:ext cx="198000" cy="1432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98017" h="143588">
                  <a:moveTo>
                    <a:pt x="0" y="7619"/>
                  </a:moveTo>
                  <a:lnTo>
                    <a:pt x="0" y="0"/>
                  </a:lnTo>
                  <a:lnTo>
                    <a:pt x="4046" y="4044"/>
                  </a:lnTo>
                  <a:lnTo>
                    <a:pt x="6931" y="6083"/>
                  </a:lnTo>
                  <a:lnTo>
                    <a:pt x="10547" y="8288"/>
                  </a:lnTo>
                  <a:lnTo>
                    <a:pt x="14652" y="10605"/>
                  </a:lnTo>
                  <a:lnTo>
                    <a:pt x="23728" y="15437"/>
                  </a:lnTo>
                  <a:lnTo>
                    <a:pt x="28519" y="17911"/>
                  </a:lnTo>
                  <a:lnTo>
                    <a:pt x="34253" y="20407"/>
                  </a:lnTo>
                  <a:lnTo>
                    <a:pt x="40614" y="22918"/>
                  </a:lnTo>
                  <a:lnTo>
                    <a:pt x="54458" y="27966"/>
                  </a:lnTo>
                  <a:lnTo>
                    <a:pt x="69077" y="33031"/>
                  </a:lnTo>
                  <a:lnTo>
                    <a:pt x="75685" y="34720"/>
                  </a:lnTo>
                  <a:lnTo>
                    <a:pt x="81783" y="35847"/>
                  </a:lnTo>
                  <a:lnTo>
                    <a:pt x="87542" y="36598"/>
                  </a:lnTo>
                  <a:lnTo>
                    <a:pt x="93922" y="37098"/>
                  </a:lnTo>
                  <a:lnTo>
                    <a:pt x="100714" y="37432"/>
                  </a:lnTo>
                  <a:lnTo>
                    <a:pt x="107783" y="37654"/>
                  </a:lnTo>
                  <a:lnTo>
                    <a:pt x="114190" y="38649"/>
                  </a:lnTo>
                  <a:lnTo>
                    <a:pt x="120153" y="40159"/>
                  </a:lnTo>
                  <a:lnTo>
                    <a:pt x="125822" y="42013"/>
                  </a:lnTo>
                  <a:lnTo>
                    <a:pt x="132141" y="43249"/>
                  </a:lnTo>
                  <a:lnTo>
                    <a:pt x="138894" y="44072"/>
                  </a:lnTo>
                  <a:lnTo>
                    <a:pt x="145936" y="44621"/>
                  </a:lnTo>
                  <a:lnTo>
                    <a:pt x="151477" y="45834"/>
                  </a:lnTo>
                  <a:lnTo>
                    <a:pt x="156019" y="47489"/>
                  </a:lnTo>
                  <a:lnTo>
                    <a:pt x="159892" y="49439"/>
                  </a:lnTo>
                  <a:lnTo>
                    <a:pt x="163322" y="50739"/>
                  </a:lnTo>
                  <a:lnTo>
                    <a:pt x="169390" y="52184"/>
                  </a:lnTo>
                  <a:lnTo>
                    <a:pt x="174908" y="52825"/>
                  </a:lnTo>
                  <a:lnTo>
                    <a:pt x="180184" y="53111"/>
                  </a:lnTo>
                  <a:lnTo>
                    <a:pt x="185350" y="53238"/>
                  </a:lnTo>
                  <a:lnTo>
                    <a:pt x="187067" y="54118"/>
                  </a:lnTo>
                  <a:lnTo>
                    <a:pt x="188211" y="55552"/>
                  </a:lnTo>
                  <a:lnTo>
                    <a:pt x="188974" y="57354"/>
                  </a:lnTo>
                  <a:lnTo>
                    <a:pt x="190330" y="58556"/>
                  </a:lnTo>
                  <a:lnTo>
                    <a:pt x="192080" y="59357"/>
                  </a:lnTo>
                  <a:lnTo>
                    <a:pt x="194093" y="59891"/>
                  </a:lnTo>
                  <a:lnTo>
                    <a:pt x="195436" y="61094"/>
                  </a:lnTo>
                  <a:lnTo>
                    <a:pt x="196331" y="62742"/>
                  </a:lnTo>
                  <a:lnTo>
                    <a:pt x="197325" y="66832"/>
                  </a:lnTo>
                  <a:lnTo>
                    <a:pt x="197590" y="69107"/>
                  </a:lnTo>
                  <a:lnTo>
                    <a:pt x="197767" y="71471"/>
                  </a:lnTo>
                  <a:lnTo>
                    <a:pt x="197885" y="73894"/>
                  </a:lnTo>
                  <a:lnTo>
                    <a:pt x="198016" y="78844"/>
                  </a:lnTo>
                  <a:lnTo>
                    <a:pt x="197204" y="81349"/>
                  </a:lnTo>
                  <a:lnTo>
                    <a:pt x="195816" y="83865"/>
                  </a:lnTo>
                  <a:lnTo>
                    <a:pt x="194044" y="86390"/>
                  </a:lnTo>
                  <a:lnTo>
                    <a:pt x="192863" y="89767"/>
                  </a:lnTo>
                  <a:lnTo>
                    <a:pt x="192076" y="93711"/>
                  </a:lnTo>
                  <a:lnTo>
                    <a:pt x="191550" y="98034"/>
                  </a:lnTo>
                  <a:lnTo>
                    <a:pt x="191200" y="101762"/>
                  </a:lnTo>
                  <a:lnTo>
                    <a:pt x="190967" y="105095"/>
                  </a:lnTo>
                  <a:lnTo>
                    <a:pt x="190811" y="108163"/>
                  </a:lnTo>
                  <a:lnTo>
                    <a:pt x="189860" y="111055"/>
                  </a:lnTo>
                  <a:lnTo>
                    <a:pt x="188380" y="113829"/>
                  </a:lnTo>
                  <a:lnTo>
                    <a:pt x="186547" y="116526"/>
                  </a:lnTo>
                  <a:lnTo>
                    <a:pt x="184478" y="119170"/>
                  </a:lnTo>
                  <a:lnTo>
                    <a:pt x="182251" y="121780"/>
                  </a:lnTo>
                  <a:lnTo>
                    <a:pt x="179921" y="124366"/>
                  </a:lnTo>
                  <a:lnTo>
                    <a:pt x="175074" y="129498"/>
                  </a:lnTo>
                  <a:lnTo>
                    <a:pt x="172596" y="132052"/>
                  </a:lnTo>
                  <a:lnTo>
                    <a:pt x="170098" y="133754"/>
                  </a:lnTo>
                  <a:lnTo>
                    <a:pt x="165063" y="135646"/>
                  </a:lnTo>
                  <a:lnTo>
                    <a:pt x="160003" y="138744"/>
                  </a:lnTo>
                  <a:lnTo>
                    <a:pt x="157469" y="140756"/>
                  </a:lnTo>
                  <a:lnTo>
                    <a:pt x="154086" y="142097"/>
                  </a:lnTo>
                  <a:lnTo>
                    <a:pt x="150137" y="142991"/>
                  </a:lnTo>
                  <a:lnTo>
                    <a:pt x="145812" y="143587"/>
                  </a:lnTo>
                  <a:lnTo>
                    <a:pt x="142082" y="143138"/>
                  </a:lnTo>
                  <a:lnTo>
                    <a:pt x="138747" y="141991"/>
                  </a:lnTo>
                  <a:lnTo>
                    <a:pt x="132785" y="138460"/>
                  </a:lnTo>
                  <a:lnTo>
                    <a:pt x="127314" y="134069"/>
                  </a:lnTo>
                  <a:lnTo>
                    <a:pt x="123822" y="132559"/>
                  </a:lnTo>
                  <a:lnTo>
                    <a:pt x="119802" y="131552"/>
                  </a:lnTo>
                  <a:lnTo>
                    <a:pt x="115428" y="130881"/>
                  </a:lnTo>
                  <a:lnTo>
                    <a:pt x="111665" y="129587"/>
                  </a:lnTo>
                  <a:lnTo>
                    <a:pt x="108311" y="127878"/>
                  </a:lnTo>
                  <a:lnTo>
                    <a:pt x="102325" y="123720"/>
                  </a:lnTo>
                  <a:lnTo>
                    <a:pt x="99543" y="121427"/>
                  </a:lnTo>
                  <a:lnTo>
                    <a:pt x="96843" y="119051"/>
                  </a:lnTo>
                  <a:lnTo>
                    <a:pt x="94195" y="117467"/>
                  </a:lnTo>
                  <a:lnTo>
                    <a:pt x="88996" y="115707"/>
                  </a:lnTo>
                  <a:lnTo>
                    <a:pt x="87270" y="114391"/>
                  </a:lnTo>
                  <a:lnTo>
                    <a:pt x="86121" y="112667"/>
                  </a:lnTo>
                  <a:lnTo>
                    <a:pt x="83820" y="1066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MARTInkAnnotation257"/>
            <p:cNvSpPr/>
            <p:nvPr/>
          </p:nvSpPr>
          <p:spPr>
            <a:xfrm>
              <a:off x="7445160" y="3161880"/>
              <a:ext cx="220680" cy="151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0981" h="15240">
                  <a:moveTo>
                    <a:pt x="0" y="7619"/>
                  </a:moveTo>
                  <a:lnTo>
                    <a:pt x="4046" y="7619"/>
                  </a:lnTo>
                  <a:lnTo>
                    <a:pt x="5237" y="6772"/>
                  </a:lnTo>
                  <a:lnTo>
                    <a:pt x="6032" y="5361"/>
                  </a:lnTo>
                  <a:lnTo>
                    <a:pt x="6563" y="3574"/>
                  </a:lnTo>
                  <a:lnTo>
                    <a:pt x="8609" y="2382"/>
                  </a:lnTo>
                  <a:lnTo>
                    <a:pt x="11665" y="1588"/>
                  </a:lnTo>
                  <a:lnTo>
                    <a:pt x="15397" y="1058"/>
                  </a:lnTo>
                  <a:lnTo>
                    <a:pt x="19578" y="705"/>
                  </a:lnTo>
                  <a:lnTo>
                    <a:pt x="24058" y="470"/>
                  </a:lnTo>
                  <a:lnTo>
                    <a:pt x="28739" y="313"/>
                  </a:lnTo>
                  <a:lnTo>
                    <a:pt x="54501" y="61"/>
                  </a:lnTo>
                  <a:lnTo>
                    <a:pt x="137173" y="0"/>
                  </a:lnTo>
                  <a:lnTo>
                    <a:pt x="145635" y="846"/>
                  </a:lnTo>
                  <a:lnTo>
                    <a:pt x="154664" y="2257"/>
                  </a:lnTo>
                  <a:lnTo>
                    <a:pt x="164069" y="4044"/>
                  </a:lnTo>
                  <a:lnTo>
                    <a:pt x="172880" y="5236"/>
                  </a:lnTo>
                  <a:lnTo>
                    <a:pt x="181293" y="6030"/>
                  </a:lnTo>
                  <a:lnTo>
                    <a:pt x="189442" y="6560"/>
                  </a:lnTo>
                  <a:lnTo>
                    <a:pt x="196569" y="7759"/>
                  </a:lnTo>
                  <a:lnTo>
                    <a:pt x="203013" y="9406"/>
                  </a:lnTo>
                  <a:lnTo>
                    <a:pt x="220980" y="152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MARTInkAnnotation258"/>
            <p:cNvSpPr/>
            <p:nvPr/>
          </p:nvSpPr>
          <p:spPr>
            <a:xfrm>
              <a:off x="7513560" y="324576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1" h="7622">
                  <a:moveTo>
                    <a:pt x="0" y="7621"/>
                  </a:moveTo>
                  <a:lnTo>
                    <a:pt x="172275" y="7621"/>
                  </a:lnTo>
                  <a:lnTo>
                    <a:pt x="176656" y="6774"/>
                  </a:lnTo>
                  <a:lnTo>
                    <a:pt x="180424" y="5363"/>
                  </a:lnTo>
                  <a:lnTo>
                    <a:pt x="183784" y="3575"/>
                  </a:lnTo>
                  <a:lnTo>
                    <a:pt x="186870" y="2383"/>
                  </a:lnTo>
                  <a:lnTo>
                    <a:pt x="189773" y="1589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MARTInkAnnotation259"/>
            <p:cNvSpPr/>
            <p:nvPr/>
          </p:nvSpPr>
          <p:spPr>
            <a:xfrm>
              <a:off x="7961760" y="3025080"/>
              <a:ext cx="203400" cy="1483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03608" h="148477">
                  <a:moveTo>
                    <a:pt x="154127" y="7527"/>
                  </a:moveTo>
                  <a:lnTo>
                    <a:pt x="154127" y="3482"/>
                  </a:lnTo>
                  <a:lnTo>
                    <a:pt x="153280" y="2290"/>
                  </a:lnTo>
                  <a:lnTo>
                    <a:pt x="151869" y="1496"/>
                  </a:lnTo>
                  <a:lnTo>
                    <a:pt x="147565" y="221"/>
                  </a:lnTo>
                  <a:lnTo>
                    <a:pt x="142776" y="0"/>
                  </a:lnTo>
                  <a:lnTo>
                    <a:pt x="139787" y="816"/>
                  </a:lnTo>
                  <a:lnTo>
                    <a:pt x="136100" y="2206"/>
                  </a:lnTo>
                  <a:lnTo>
                    <a:pt x="131949" y="3980"/>
                  </a:lnTo>
                  <a:lnTo>
                    <a:pt x="126641" y="6009"/>
                  </a:lnTo>
                  <a:lnTo>
                    <a:pt x="113971" y="10521"/>
                  </a:lnTo>
                  <a:lnTo>
                    <a:pt x="92557" y="17822"/>
                  </a:lnTo>
                  <a:lnTo>
                    <a:pt x="84294" y="21164"/>
                  </a:lnTo>
                  <a:lnTo>
                    <a:pt x="75399" y="25084"/>
                  </a:lnTo>
                  <a:lnTo>
                    <a:pt x="66081" y="29392"/>
                  </a:lnTo>
                  <a:lnTo>
                    <a:pt x="57330" y="33957"/>
                  </a:lnTo>
                  <a:lnTo>
                    <a:pt x="48955" y="38694"/>
                  </a:lnTo>
                  <a:lnTo>
                    <a:pt x="40832" y="43545"/>
                  </a:lnTo>
                  <a:lnTo>
                    <a:pt x="32877" y="49319"/>
                  </a:lnTo>
                  <a:lnTo>
                    <a:pt x="25035" y="55708"/>
                  </a:lnTo>
                  <a:lnTo>
                    <a:pt x="17265" y="62508"/>
                  </a:lnTo>
                  <a:lnTo>
                    <a:pt x="11239" y="69581"/>
                  </a:lnTo>
                  <a:lnTo>
                    <a:pt x="6375" y="76836"/>
                  </a:lnTo>
                  <a:lnTo>
                    <a:pt x="2286" y="84213"/>
                  </a:lnTo>
                  <a:lnTo>
                    <a:pt x="406" y="90824"/>
                  </a:lnTo>
                  <a:lnTo>
                    <a:pt x="0" y="96925"/>
                  </a:lnTo>
                  <a:lnTo>
                    <a:pt x="576" y="102686"/>
                  </a:lnTo>
                  <a:lnTo>
                    <a:pt x="2652" y="108220"/>
                  </a:lnTo>
                  <a:lnTo>
                    <a:pt x="5730" y="113602"/>
                  </a:lnTo>
                  <a:lnTo>
                    <a:pt x="9476" y="118884"/>
                  </a:lnTo>
                  <a:lnTo>
                    <a:pt x="15359" y="124098"/>
                  </a:lnTo>
                  <a:lnTo>
                    <a:pt x="22668" y="129268"/>
                  </a:lnTo>
                  <a:lnTo>
                    <a:pt x="30928" y="134408"/>
                  </a:lnTo>
                  <a:lnTo>
                    <a:pt x="39821" y="137834"/>
                  </a:lnTo>
                  <a:lnTo>
                    <a:pt x="49136" y="140118"/>
                  </a:lnTo>
                  <a:lnTo>
                    <a:pt x="58733" y="141642"/>
                  </a:lnTo>
                  <a:lnTo>
                    <a:pt x="80685" y="145591"/>
                  </a:lnTo>
                  <a:lnTo>
                    <a:pt x="92465" y="147830"/>
                  </a:lnTo>
                  <a:lnTo>
                    <a:pt x="103705" y="148476"/>
                  </a:lnTo>
                  <a:lnTo>
                    <a:pt x="114587" y="148060"/>
                  </a:lnTo>
                  <a:lnTo>
                    <a:pt x="125226" y="146935"/>
                  </a:lnTo>
                  <a:lnTo>
                    <a:pt x="134861" y="145339"/>
                  </a:lnTo>
                  <a:lnTo>
                    <a:pt x="143823" y="143428"/>
                  </a:lnTo>
                  <a:lnTo>
                    <a:pt x="152337" y="141308"/>
                  </a:lnTo>
                  <a:lnTo>
                    <a:pt x="159707" y="138201"/>
                  </a:lnTo>
                  <a:lnTo>
                    <a:pt x="166313" y="134436"/>
                  </a:lnTo>
                  <a:lnTo>
                    <a:pt x="172412" y="130233"/>
                  </a:lnTo>
                  <a:lnTo>
                    <a:pt x="178170" y="125738"/>
                  </a:lnTo>
                  <a:lnTo>
                    <a:pt x="183702" y="121047"/>
                  </a:lnTo>
                  <a:lnTo>
                    <a:pt x="189084" y="116228"/>
                  </a:lnTo>
                  <a:lnTo>
                    <a:pt x="192672" y="110474"/>
                  </a:lnTo>
                  <a:lnTo>
                    <a:pt x="195064" y="104098"/>
                  </a:lnTo>
                  <a:lnTo>
                    <a:pt x="196658" y="97308"/>
                  </a:lnTo>
                  <a:lnTo>
                    <a:pt x="198568" y="91087"/>
                  </a:lnTo>
                  <a:lnTo>
                    <a:pt x="200687" y="85247"/>
                  </a:lnTo>
                  <a:lnTo>
                    <a:pt x="202947" y="79661"/>
                  </a:lnTo>
                  <a:lnTo>
                    <a:pt x="203607" y="73396"/>
                  </a:lnTo>
                  <a:lnTo>
                    <a:pt x="203201" y="66680"/>
                  </a:lnTo>
                  <a:lnTo>
                    <a:pt x="202083" y="59662"/>
                  </a:lnTo>
                  <a:lnTo>
                    <a:pt x="200491" y="53291"/>
                  </a:lnTo>
                  <a:lnTo>
                    <a:pt x="198583" y="47349"/>
                  </a:lnTo>
                  <a:lnTo>
                    <a:pt x="196464" y="41695"/>
                  </a:lnTo>
                  <a:lnTo>
                    <a:pt x="194206" y="37079"/>
                  </a:lnTo>
                  <a:lnTo>
                    <a:pt x="191852" y="33155"/>
                  </a:lnTo>
                  <a:lnTo>
                    <a:pt x="189437" y="29693"/>
                  </a:lnTo>
                  <a:lnTo>
                    <a:pt x="186133" y="26537"/>
                  </a:lnTo>
                  <a:lnTo>
                    <a:pt x="182237" y="23587"/>
                  </a:lnTo>
                  <a:lnTo>
                    <a:pt x="177948" y="20774"/>
                  </a:lnTo>
                  <a:lnTo>
                    <a:pt x="174241" y="18051"/>
                  </a:lnTo>
                  <a:lnTo>
                    <a:pt x="170923" y="15390"/>
                  </a:lnTo>
                  <a:lnTo>
                    <a:pt x="167865" y="12769"/>
                  </a:lnTo>
                  <a:lnTo>
                    <a:pt x="164132" y="11868"/>
                  </a:lnTo>
                  <a:lnTo>
                    <a:pt x="159950" y="12115"/>
                  </a:lnTo>
                  <a:lnTo>
                    <a:pt x="149163" y="14548"/>
                  </a:lnTo>
                  <a:lnTo>
                    <a:pt x="145430" y="14881"/>
                  </a:lnTo>
                  <a:lnTo>
                    <a:pt x="138887" y="151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MARTInkAnnotation260"/>
            <p:cNvSpPr/>
            <p:nvPr/>
          </p:nvSpPr>
          <p:spPr>
            <a:xfrm>
              <a:off x="8094600" y="3154320"/>
              <a:ext cx="104400" cy="14796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04688" h="148078">
                  <a:moveTo>
                    <a:pt x="74666" y="60960"/>
                  </a:moveTo>
                  <a:lnTo>
                    <a:pt x="70620" y="56915"/>
                  </a:lnTo>
                  <a:lnTo>
                    <a:pt x="69429" y="54876"/>
                  </a:lnTo>
                  <a:lnTo>
                    <a:pt x="68104" y="50354"/>
                  </a:lnTo>
                  <a:lnTo>
                    <a:pt x="67752" y="47962"/>
                  </a:lnTo>
                  <a:lnTo>
                    <a:pt x="67516" y="45522"/>
                  </a:lnTo>
                  <a:lnTo>
                    <a:pt x="67138" y="39566"/>
                  </a:lnTo>
                  <a:lnTo>
                    <a:pt x="67087" y="36494"/>
                  </a:lnTo>
                  <a:lnTo>
                    <a:pt x="67073" y="34489"/>
                  </a:lnTo>
                  <a:lnTo>
                    <a:pt x="66218" y="32306"/>
                  </a:lnTo>
                  <a:lnTo>
                    <a:pt x="64800" y="30004"/>
                  </a:lnTo>
                  <a:lnTo>
                    <a:pt x="60487" y="24271"/>
                  </a:lnTo>
                  <a:lnTo>
                    <a:pt x="58439" y="24648"/>
                  </a:lnTo>
                  <a:lnTo>
                    <a:pt x="55381" y="25745"/>
                  </a:lnTo>
                  <a:lnTo>
                    <a:pt x="51649" y="27323"/>
                  </a:lnTo>
                  <a:lnTo>
                    <a:pt x="48314" y="29222"/>
                  </a:lnTo>
                  <a:lnTo>
                    <a:pt x="45244" y="31335"/>
                  </a:lnTo>
                  <a:lnTo>
                    <a:pt x="42352" y="33590"/>
                  </a:lnTo>
                  <a:lnTo>
                    <a:pt x="38730" y="35940"/>
                  </a:lnTo>
                  <a:lnTo>
                    <a:pt x="34622" y="38353"/>
                  </a:lnTo>
                  <a:lnTo>
                    <a:pt x="30189" y="40809"/>
                  </a:lnTo>
                  <a:lnTo>
                    <a:pt x="26388" y="44139"/>
                  </a:lnTo>
                  <a:lnTo>
                    <a:pt x="23008" y="48053"/>
                  </a:lnTo>
                  <a:lnTo>
                    <a:pt x="19906" y="52355"/>
                  </a:lnTo>
                  <a:lnTo>
                    <a:pt x="16993" y="57764"/>
                  </a:lnTo>
                  <a:lnTo>
                    <a:pt x="14204" y="63909"/>
                  </a:lnTo>
                  <a:lnTo>
                    <a:pt x="11498" y="70546"/>
                  </a:lnTo>
                  <a:lnTo>
                    <a:pt x="8847" y="76664"/>
                  </a:lnTo>
                  <a:lnTo>
                    <a:pt x="3644" y="87977"/>
                  </a:lnTo>
                  <a:lnTo>
                    <a:pt x="1918" y="93365"/>
                  </a:lnTo>
                  <a:lnTo>
                    <a:pt x="767" y="98650"/>
                  </a:lnTo>
                  <a:lnTo>
                    <a:pt x="0" y="103867"/>
                  </a:lnTo>
                  <a:lnTo>
                    <a:pt x="1181" y="109038"/>
                  </a:lnTo>
                  <a:lnTo>
                    <a:pt x="3663" y="114178"/>
                  </a:lnTo>
                  <a:lnTo>
                    <a:pt x="7010" y="119299"/>
                  </a:lnTo>
                  <a:lnTo>
                    <a:pt x="10088" y="123559"/>
                  </a:lnTo>
                  <a:lnTo>
                    <a:pt x="12988" y="127246"/>
                  </a:lnTo>
                  <a:lnTo>
                    <a:pt x="15766" y="130551"/>
                  </a:lnTo>
                  <a:lnTo>
                    <a:pt x="19313" y="133600"/>
                  </a:lnTo>
                  <a:lnTo>
                    <a:pt x="23371" y="136480"/>
                  </a:lnTo>
                  <a:lnTo>
                    <a:pt x="27769" y="139247"/>
                  </a:lnTo>
                  <a:lnTo>
                    <a:pt x="32394" y="141938"/>
                  </a:lnTo>
                  <a:lnTo>
                    <a:pt x="42049" y="147186"/>
                  </a:lnTo>
                  <a:lnTo>
                    <a:pt x="46995" y="148077"/>
                  </a:lnTo>
                  <a:lnTo>
                    <a:pt x="51985" y="147825"/>
                  </a:lnTo>
                  <a:lnTo>
                    <a:pt x="57005" y="146810"/>
                  </a:lnTo>
                  <a:lnTo>
                    <a:pt x="62045" y="146133"/>
                  </a:lnTo>
                  <a:lnTo>
                    <a:pt x="67099" y="145682"/>
                  </a:lnTo>
                  <a:lnTo>
                    <a:pt x="72161" y="145381"/>
                  </a:lnTo>
                  <a:lnTo>
                    <a:pt x="76382" y="143488"/>
                  </a:lnTo>
                  <a:lnTo>
                    <a:pt x="80042" y="140532"/>
                  </a:lnTo>
                  <a:lnTo>
                    <a:pt x="83331" y="136868"/>
                  </a:lnTo>
                  <a:lnTo>
                    <a:pt x="86368" y="132732"/>
                  </a:lnTo>
                  <a:lnTo>
                    <a:pt x="89240" y="128282"/>
                  </a:lnTo>
                  <a:lnTo>
                    <a:pt x="92002" y="123621"/>
                  </a:lnTo>
                  <a:lnTo>
                    <a:pt x="94690" y="117974"/>
                  </a:lnTo>
                  <a:lnTo>
                    <a:pt x="97328" y="111669"/>
                  </a:lnTo>
                  <a:lnTo>
                    <a:pt x="99934" y="104926"/>
                  </a:lnTo>
                  <a:lnTo>
                    <a:pt x="101671" y="97891"/>
                  </a:lnTo>
                  <a:lnTo>
                    <a:pt x="102829" y="90660"/>
                  </a:lnTo>
                  <a:lnTo>
                    <a:pt x="103601" y="83300"/>
                  </a:lnTo>
                  <a:lnTo>
                    <a:pt x="104115" y="75853"/>
                  </a:lnTo>
                  <a:lnTo>
                    <a:pt x="104459" y="68349"/>
                  </a:lnTo>
                  <a:lnTo>
                    <a:pt x="104687" y="60806"/>
                  </a:lnTo>
                  <a:lnTo>
                    <a:pt x="103994" y="53238"/>
                  </a:lnTo>
                  <a:lnTo>
                    <a:pt x="102684" y="45652"/>
                  </a:lnTo>
                  <a:lnTo>
                    <a:pt x="100964" y="38054"/>
                  </a:lnTo>
                  <a:lnTo>
                    <a:pt x="98971" y="31296"/>
                  </a:lnTo>
                  <a:lnTo>
                    <a:pt x="96796" y="25097"/>
                  </a:lnTo>
                  <a:lnTo>
                    <a:pt x="91266" y="11072"/>
                  </a:lnTo>
                  <a:lnTo>
                    <a:pt x="90511" y="6897"/>
                  </a:lnTo>
                  <a:lnTo>
                    <a:pt x="8990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SMARTInkAnnotation261"/>
            <p:cNvSpPr/>
            <p:nvPr/>
          </p:nvSpPr>
          <p:spPr>
            <a:xfrm>
              <a:off x="8299800" y="3040200"/>
              <a:ext cx="181440" cy="14472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1683" h="144741">
                  <a:moveTo>
                    <a:pt x="82621" y="0"/>
                  </a:moveTo>
                  <a:lnTo>
                    <a:pt x="78576" y="0"/>
                  </a:lnTo>
                  <a:lnTo>
                    <a:pt x="77384" y="847"/>
                  </a:lnTo>
                  <a:lnTo>
                    <a:pt x="76590" y="2258"/>
                  </a:lnTo>
                  <a:lnTo>
                    <a:pt x="76060" y="4045"/>
                  </a:lnTo>
                  <a:lnTo>
                    <a:pt x="73215" y="8289"/>
                  </a:lnTo>
                  <a:lnTo>
                    <a:pt x="71271" y="10606"/>
                  </a:lnTo>
                  <a:lnTo>
                    <a:pt x="69974" y="12997"/>
                  </a:lnTo>
                  <a:lnTo>
                    <a:pt x="69110" y="15438"/>
                  </a:lnTo>
                  <a:lnTo>
                    <a:pt x="68533" y="17912"/>
                  </a:lnTo>
                  <a:lnTo>
                    <a:pt x="67303" y="21255"/>
                  </a:lnTo>
                  <a:lnTo>
                    <a:pt x="65636" y="25176"/>
                  </a:lnTo>
                  <a:lnTo>
                    <a:pt x="61526" y="34049"/>
                  </a:lnTo>
                  <a:lnTo>
                    <a:pt x="41951" y="73700"/>
                  </a:lnTo>
                  <a:lnTo>
                    <a:pt x="38575" y="78767"/>
                  </a:lnTo>
                  <a:lnTo>
                    <a:pt x="34630" y="83838"/>
                  </a:lnTo>
                  <a:lnTo>
                    <a:pt x="30308" y="88912"/>
                  </a:lnTo>
                  <a:lnTo>
                    <a:pt x="26578" y="93141"/>
                  </a:lnTo>
                  <a:lnTo>
                    <a:pt x="20178" y="100098"/>
                  </a:lnTo>
                  <a:lnTo>
                    <a:pt x="17285" y="103986"/>
                  </a:lnTo>
                  <a:lnTo>
                    <a:pt x="14511" y="108270"/>
                  </a:lnTo>
                  <a:lnTo>
                    <a:pt x="11814" y="112820"/>
                  </a:lnTo>
                  <a:lnTo>
                    <a:pt x="10016" y="116700"/>
                  </a:lnTo>
                  <a:lnTo>
                    <a:pt x="8819" y="120133"/>
                  </a:lnTo>
                  <a:lnTo>
                    <a:pt x="8019" y="123269"/>
                  </a:lnTo>
                  <a:lnTo>
                    <a:pt x="6640" y="126206"/>
                  </a:lnTo>
                  <a:lnTo>
                    <a:pt x="4874" y="129011"/>
                  </a:lnTo>
                  <a:lnTo>
                    <a:pt x="2849" y="131727"/>
                  </a:lnTo>
                  <a:lnTo>
                    <a:pt x="1500" y="134385"/>
                  </a:lnTo>
                  <a:lnTo>
                    <a:pt x="600" y="137003"/>
                  </a:lnTo>
                  <a:lnTo>
                    <a:pt x="0" y="139595"/>
                  </a:lnTo>
                  <a:lnTo>
                    <a:pt x="448" y="141324"/>
                  </a:lnTo>
                  <a:lnTo>
                    <a:pt x="1592" y="142476"/>
                  </a:lnTo>
                  <a:lnTo>
                    <a:pt x="5468" y="144325"/>
                  </a:lnTo>
                  <a:lnTo>
                    <a:pt x="10184" y="144645"/>
                  </a:lnTo>
                  <a:lnTo>
                    <a:pt x="20989" y="144740"/>
                  </a:lnTo>
                  <a:lnTo>
                    <a:pt x="26293" y="143907"/>
                  </a:lnTo>
                  <a:lnTo>
                    <a:pt x="32370" y="142504"/>
                  </a:lnTo>
                  <a:lnTo>
                    <a:pt x="38960" y="140723"/>
                  </a:lnTo>
                  <a:lnTo>
                    <a:pt x="45895" y="139535"/>
                  </a:lnTo>
                  <a:lnTo>
                    <a:pt x="53057" y="138744"/>
                  </a:lnTo>
                  <a:lnTo>
                    <a:pt x="60371" y="138216"/>
                  </a:lnTo>
                  <a:lnTo>
                    <a:pt x="67789" y="137017"/>
                  </a:lnTo>
                  <a:lnTo>
                    <a:pt x="75273" y="135371"/>
                  </a:lnTo>
                  <a:lnTo>
                    <a:pt x="82802" y="133428"/>
                  </a:lnTo>
                  <a:lnTo>
                    <a:pt x="89515" y="132132"/>
                  </a:lnTo>
                  <a:lnTo>
                    <a:pt x="95685" y="131268"/>
                  </a:lnTo>
                  <a:lnTo>
                    <a:pt x="101490" y="130692"/>
                  </a:lnTo>
                  <a:lnTo>
                    <a:pt x="107901" y="130308"/>
                  </a:lnTo>
                  <a:lnTo>
                    <a:pt x="121797" y="129881"/>
                  </a:lnTo>
                  <a:lnTo>
                    <a:pt x="151884" y="129570"/>
                  </a:lnTo>
                  <a:lnTo>
                    <a:pt x="164857" y="129549"/>
                  </a:lnTo>
                  <a:lnTo>
                    <a:pt x="167924" y="130392"/>
                  </a:lnTo>
                  <a:lnTo>
                    <a:pt x="169971" y="131802"/>
                  </a:lnTo>
                  <a:lnTo>
                    <a:pt x="171334" y="133588"/>
                  </a:lnTo>
                  <a:lnTo>
                    <a:pt x="173090" y="134779"/>
                  </a:lnTo>
                  <a:lnTo>
                    <a:pt x="175108" y="135572"/>
                  </a:lnTo>
                  <a:lnTo>
                    <a:pt x="181682" y="1371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SMARTInkAnnotation262"/>
            <p:cNvSpPr/>
            <p:nvPr/>
          </p:nvSpPr>
          <p:spPr>
            <a:xfrm>
              <a:off x="8428320" y="3070440"/>
              <a:ext cx="114120" cy="281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4301" h="281941">
                  <a:moveTo>
                    <a:pt x="114300" y="0"/>
                  </a:moveTo>
                  <a:lnTo>
                    <a:pt x="114300" y="4046"/>
                  </a:lnTo>
                  <a:lnTo>
                    <a:pt x="113454" y="6084"/>
                  </a:lnTo>
                  <a:lnTo>
                    <a:pt x="110255" y="10606"/>
                  </a:lnTo>
                  <a:lnTo>
                    <a:pt x="109064" y="12997"/>
                  </a:lnTo>
                  <a:lnTo>
                    <a:pt x="106540" y="21255"/>
                  </a:lnTo>
                  <a:lnTo>
                    <a:pt x="104894" y="25177"/>
                  </a:lnTo>
                  <a:lnTo>
                    <a:pt x="102950" y="29485"/>
                  </a:lnTo>
                  <a:lnTo>
                    <a:pt x="99959" y="34896"/>
                  </a:lnTo>
                  <a:lnTo>
                    <a:pt x="96274" y="41044"/>
                  </a:lnTo>
                  <a:lnTo>
                    <a:pt x="92123" y="47683"/>
                  </a:lnTo>
                  <a:lnTo>
                    <a:pt x="88509" y="53802"/>
                  </a:lnTo>
                  <a:lnTo>
                    <a:pt x="85253" y="59575"/>
                  </a:lnTo>
                  <a:lnTo>
                    <a:pt x="82235" y="65116"/>
                  </a:lnTo>
                  <a:lnTo>
                    <a:pt x="69899" y="89097"/>
                  </a:lnTo>
                  <a:lnTo>
                    <a:pt x="65225" y="97498"/>
                  </a:lnTo>
                  <a:lnTo>
                    <a:pt x="60417" y="105639"/>
                  </a:lnTo>
                  <a:lnTo>
                    <a:pt x="55518" y="113606"/>
                  </a:lnTo>
                  <a:lnTo>
                    <a:pt x="50559" y="122304"/>
                  </a:lnTo>
                  <a:lnTo>
                    <a:pt x="40532" y="141000"/>
                  </a:lnTo>
                  <a:lnTo>
                    <a:pt x="25368" y="170565"/>
                  </a:lnTo>
                  <a:lnTo>
                    <a:pt x="21146" y="179750"/>
                  </a:lnTo>
                  <a:lnTo>
                    <a:pt x="17484" y="188414"/>
                  </a:lnTo>
                  <a:lnTo>
                    <a:pt x="14196" y="196729"/>
                  </a:lnTo>
                  <a:lnTo>
                    <a:pt x="11156" y="205659"/>
                  </a:lnTo>
                  <a:lnTo>
                    <a:pt x="8285" y="215000"/>
                  </a:lnTo>
                  <a:lnTo>
                    <a:pt x="5523" y="224613"/>
                  </a:lnTo>
                  <a:lnTo>
                    <a:pt x="3682" y="233562"/>
                  </a:lnTo>
                  <a:lnTo>
                    <a:pt x="2455" y="242068"/>
                  </a:lnTo>
                  <a:lnTo>
                    <a:pt x="1636" y="250279"/>
                  </a:lnTo>
                  <a:lnTo>
                    <a:pt x="1091" y="257446"/>
                  </a:lnTo>
                  <a:lnTo>
                    <a:pt x="728" y="263917"/>
                  </a:lnTo>
                  <a:lnTo>
                    <a:pt x="0" y="2819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SMARTInkAnnotation263"/>
            <p:cNvSpPr/>
            <p:nvPr/>
          </p:nvSpPr>
          <p:spPr>
            <a:xfrm>
              <a:off x="2567160" y="412992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0">
                  <a:moveTo>
                    <a:pt x="0" y="7619"/>
                  </a:moveTo>
                  <a:lnTo>
                    <a:pt x="4045" y="7619"/>
                  </a:lnTo>
                  <a:lnTo>
                    <a:pt x="6931" y="6772"/>
                  </a:lnTo>
                  <a:lnTo>
                    <a:pt x="10547" y="5362"/>
                  </a:lnTo>
                  <a:lnTo>
                    <a:pt x="14651" y="3574"/>
                  </a:lnTo>
                  <a:lnTo>
                    <a:pt x="19928" y="2382"/>
                  </a:lnTo>
                  <a:lnTo>
                    <a:pt x="25985" y="1588"/>
                  </a:lnTo>
                  <a:lnTo>
                    <a:pt x="32564" y="1058"/>
                  </a:lnTo>
                  <a:lnTo>
                    <a:pt x="38643" y="705"/>
                  </a:lnTo>
                  <a:lnTo>
                    <a:pt x="49912" y="313"/>
                  </a:lnTo>
                  <a:lnTo>
                    <a:pt x="84372" y="40"/>
                  </a:lnTo>
                  <a:lnTo>
                    <a:pt x="172277" y="0"/>
                  </a:lnTo>
                  <a:lnTo>
                    <a:pt x="176658" y="846"/>
                  </a:lnTo>
                  <a:lnTo>
                    <a:pt x="180426" y="2257"/>
                  </a:lnTo>
                  <a:lnTo>
                    <a:pt x="190500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SMARTInkAnnotation264"/>
            <p:cNvSpPr/>
            <p:nvPr/>
          </p:nvSpPr>
          <p:spPr>
            <a:xfrm>
              <a:off x="2552040" y="417528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1" h="7621">
                  <a:moveTo>
                    <a:pt x="0" y="7620"/>
                  </a:moveTo>
                  <a:lnTo>
                    <a:pt x="40090" y="7620"/>
                  </a:lnTo>
                  <a:lnTo>
                    <a:pt x="47047" y="6774"/>
                  </a:lnTo>
                  <a:lnTo>
                    <a:pt x="54225" y="5363"/>
                  </a:lnTo>
                  <a:lnTo>
                    <a:pt x="61550" y="3576"/>
                  </a:lnTo>
                  <a:lnTo>
                    <a:pt x="68973" y="2383"/>
                  </a:lnTo>
                  <a:lnTo>
                    <a:pt x="76462" y="1589"/>
                  </a:lnTo>
                  <a:lnTo>
                    <a:pt x="83995" y="1059"/>
                  </a:lnTo>
                  <a:lnTo>
                    <a:pt x="91557" y="706"/>
                  </a:lnTo>
                  <a:lnTo>
                    <a:pt x="106732" y="314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MARTInkAnnotation265"/>
            <p:cNvSpPr/>
            <p:nvPr/>
          </p:nvSpPr>
          <p:spPr>
            <a:xfrm>
              <a:off x="2872080" y="4122000"/>
              <a:ext cx="121680" cy="7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1921" h="7621">
                  <a:moveTo>
                    <a:pt x="0" y="7620"/>
                  </a:moveTo>
                  <a:lnTo>
                    <a:pt x="10606" y="7620"/>
                  </a:lnTo>
                  <a:lnTo>
                    <a:pt x="12998" y="6774"/>
                  </a:lnTo>
                  <a:lnTo>
                    <a:pt x="15439" y="5363"/>
                  </a:lnTo>
                  <a:lnTo>
                    <a:pt x="17912" y="3575"/>
                  </a:lnTo>
                  <a:lnTo>
                    <a:pt x="21255" y="2383"/>
                  </a:lnTo>
                  <a:lnTo>
                    <a:pt x="25177" y="1589"/>
                  </a:lnTo>
                  <a:lnTo>
                    <a:pt x="29485" y="1059"/>
                  </a:lnTo>
                  <a:lnTo>
                    <a:pt x="34050" y="706"/>
                  </a:lnTo>
                  <a:lnTo>
                    <a:pt x="38787" y="471"/>
                  </a:lnTo>
                  <a:lnTo>
                    <a:pt x="43638" y="314"/>
                  </a:lnTo>
                  <a:lnTo>
                    <a:pt x="69674" y="62"/>
                  </a:ln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MARTInkAnnotation266"/>
            <p:cNvSpPr/>
            <p:nvPr/>
          </p:nvSpPr>
          <p:spPr>
            <a:xfrm>
              <a:off x="3064680" y="4030560"/>
              <a:ext cx="207720" cy="20124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07739" h="201418">
                  <a:moveTo>
                    <a:pt x="119941" y="0"/>
                  </a:moveTo>
                  <a:lnTo>
                    <a:pt x="115897" y="0"/>
                  </a:lnTo>
                  <a:lnTo>
                    <a:pt x="113858" y="846"/>
                  </a:lnTo>
                  <a:lnTo>
                    <a:pt x="107791" y="5237"/>
                  </a:lnTo>
                  <a:lnTo>
                    <a:pt x="106075" y="6561"/>
                  </a:lnTo>
                  <a:lnTo>
                    <a:pt x="100796" y="9407"/>
                  </a:lnTo>
                  <a:lnTo>
                    <a:pt x="97018" y="11352"/>
                  </a:lnTo>
                  <a:lnTo>
                    <a:pt x="92806" y="14341"/>
                  </a:lnTo>
                  <a:lnTo>
                    <a:pt x="88304" y="18027"/>
                  </a:lnTo>
                  <a:lnTo>
                    <a:pt x="83610" y="22178"/>
                  </a:lnTo>
                  <a:lnTo>
                    <a:pt x="73879" y="31306"/>
                  </a:lnTo>
                  <a:lnTo>
                    <a:pt x="68913" y="36111"/>
                  </a:lnTo>
                  <a:lnTo>
                    <a:pt x="63063" y="41007"/>
                  </a:lnTo>
                  <a:lnTo>
                    <a:pt x="56622" y="45965"/>
                  </a:lnTo>
                  <a:lnTo>
                    <a:pt x="49789" y="50963"/>
                  </a:lnTo>
                  <a:lnTo>
                    <a:pt x="43540" y="55989"/>
                  </a:lnTo>
                  <a:lnTo>
                    <a:pt x="37680" y="61033"/>
                  </a:lnTo>
                  <a:lnTo>
                    <a:pt x="32081" y="66088"/>
                  </a:lnTo>
                  <a:lnTo>
                    <a:pt x="26654" y="71999"/>
                  </a:lnTo>
                  <a:lnTo>
                    <a:pt x="21344" y="78479"/>
                  </a:lnTo>
                  <a:lnTo>
                    <a:pt x="16109" y="85339"/>
                  </a:lnTo>
                  <a:lnTo>
                    <a:pt x="11773" y="91606"/>
                  </a:lnTo>
                  <a:lnTo>
                    <a:pt x="8036" y="97477"/>
                  </a:lnTo>
                  <a:lnTo>
                    <a:pt x="4698" y="103085"/>
                  </a:lnTo>
                  <a:lnTo>
                    <a:pt x="2473" y="109363"/>
                  </a:lnTo>
                  <a:lnTo>
                    <a:pt x="989" y="116089"/>
                  </a:lnTo>
                  <a:lnTo>
                    <a:pt x="0" y="123113"/>
                  </a:lnTo>
                  <a:lnTo>
                    <a:pt x="187" y="129489"/>
                  </a:lnTo>
                  <a:lnTo>
                    <a:pt x="1159" y="135432"/>
                  </a:lnTo>
                  <a:lnTo>
                    <a:pt x="2653" y="141088"/>
                  </a:lnTo>
                  <a:lnTo>
                    <a:pt x="4496" y="146552"/>
                  </a:lnTo>
                  <a:lnTo>
                    <a:pt x="6571" y="151888"/>
                  </a:lnTo>
                  <a:lnTo>
                    <a:pt x="8801" y="157139"/>
                  </a:lnTo>
                  <a:lnTo>
                    <a:pt x="13537" y="167489"/>
                  </a:lnTo>
                  <a:lnTo>
                    <a:pt x="15985" y="172619"/>
                  </a:lnTo>
                  <a:lnTo>
                    <a:pt x="21004" y="176886"/>
                  </a:lnTo>
                  <a:lnTo>
                    <a:pt x="27737" y="180577"/>
                  </a:lnTo>
                  <a:lnTo>
                    <a:pt x="35611" y="183885"/>
                  </a:lnTo>
                  <a:lnTo>
                    <a:pt x="43402" y="186937"/>
                  </a:lnTo>
                  <a:lnTo>
                    <a:pt x="58830" y="192585"/>
                  </a:lnTo>
                  <a:lnTo>
                    <a:pt x="67347" y="195277"/>
                  </a:lnTo>
                  <a:lnTo>
                    <a:pt x="85842" y="200525"/>
                  </a:lnTo>
                  <a:lnTo>
                    <a:pt x="95515" y="201417"/>
                  </a:lnTo>
                  <a:lnTo>
                    <a:pt x="105351" y="201164"/>
                  </a:lnTo>
                  <a:lnTo>
                    <a:pt x="115294" y="200150"/>
                  </a:lnTo>
                  <a:lnTo>
                    <a:pt x="124463" y="199473"/>
                  </a:lnTo>
                  <a:lnTo>
                    <a:pt x="133116" y="199022"/>
                  </a:lnTo>
                  <a:lnTo>
                    <a:pt x="141424" y="198722"/>
                  </a:lnTo>
                  <a:lnTo>
                    <a:pt x="149503" y="196827"/>
                  </a:lnTo>
                  <a:lnTo>
                    <a:pt x="157429" y="193872"/>
                  </a:lnTo>
                  <a:lnTo>
                    <a:pt x="178462" y="183879"/>
                  </a:lnTo>
                  <a:lnTo>
                    <a:pt x="184355" y="181006"/>
                  </a:lnTo>
                  <a:lnTo>
                    <a:pt x="189131" y="177398"/>
                  </a:lnTo>
                  <a:lnTo>
                    <a:pt x="193161" y="173298"/>
                  </a:lnTo>
                  <a:lnTo>
                    <a:pt x="196694" y="168872"/>
                  </a:lnTo>
                  <a:lnTo>
                    <a:pt x="199050" y="165075"/>
                  </a:lnTo>
                  <a:lnTo>
                    <a:pt x="200621" y="161696"/>
                  </a:lnTo>
                  <a:lnTo>
                    <a:pt x="201667" y="158598"/>
                  </a:lnTo>
                  <a:lnTo>
                    <a:pt x="203212" y="154839"/>
                  </a:lnTo>
                  <a:lnTo>
                    <a:pt x="205088" y="150639"/>
                  </a:lnTo>
                  <a:lnTo>
                    <a:pt x="207186" y="146146"/>
                  </a:lnTo>
                  <a:lnTo>
                    <a:pt x="207738" y="142304"/>
                  </a:lnTo>
                  <a:lnTo>
                    <a:pt x="207259" y="138896"/>
                  </a:lnTo>
                  <a:lnTo>
                    <a:pt x="206093" y="135777"/>
                  </a:lnTo>
                  <a:lnTo>
                    <a:pt x="204469" y="133698"/>
                  </a:lnTo>
                  <a:lnTo>
                    <a:pt x="202539" y="132312"/>
                  </a:lnTo>
                  <a:lnTo>
                    <a:pt x="200407" y="131388"/>
                  </a:lnTo>
                  <a:lnTo>
                    <a:pt x="197292" y="130772"/>
                  </a:lnTo>
                  <a:lnTo>
                    <a:pt x="193521" y="130361"/>
                  </a:lnTo>
                  <a:lnTo>
                    <a:pt x="189315" y="130087"/>
                  </a:lnTo>
                  <a:lnTo>
                    <a:pt x="182383" y="129784"/>
                  </a:lnTo>
                  <a:lnTo>
                    <a:pt x="175633" y="129648"/>
                  </a:lnTo>
                  <a:lnTo>
                    <a:pt x="166989" y="129589"/>
                  </a:lnTo>
                  <a:lnTo>
                    <a:pt x="163160" y="130419"/>
                  </a:lnTo>
                  <a:lnTo>
                    <a:pt x="159760" y="131819"/>
                  </a:lnTo>
                  <a:lnTo>
                    <a:pt x="153725" y="135633"/>
                  </a:lnTo>
                  <a:lnTo>
                    <a:pt x="148221" y="140150"/>
                  </a:lnTo>
                  <a:lnTo>
                    <a:pt x="146414" y="143387"/>
                  </a:lnTo>
                  <a:lnTo>
                    <a:pt x="145210" y="147237"/>
                  </a:lnTo>
                  <a:lnTo>
                    <a:pt x="144407" y="151499"/>
                  </a:lnTo>
                  <a:lnTo>
                    <a:pt x="143872" y="156032"/>
                  </a:lnTo>
                  <a:lnTo>
                    <a:pt x="143515" y="160748"/>
                  </a:lnTo>
                  <a:lnTo>
                    <a:pt x="143277" y="165585"/>
                  </a:lnTo>
                  <a:lnTo>
                    <a:pt x="143965" y="170503"/>
                  </a:lnTo>
                  <a:lnTo>
                    <a:pt x="145271" y="175476"/>
                  </a:lnTo>
                  <a:lnTo>
                    <a:pt x="146988" y="180484"/>
                  </a:lnTo>
                  <a:lnTo>
                    <a:pt x="148979" y="184669"/>
                  </a:lnTo>
                  <a:lnTo>
                    <a:pt x="151153" y="188306"/>
                  </a:lnTo>
                  <a:lnTo>
                    <a:pt x="158041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SMARTInkAnnotation267"/>
            <p:cNvSpPr/>
            <p:nvPr/>
          </p:nvSpPr>
          <p:spPr>
            <a:xfrm>
              <a:off x="1987920" y="4442040"/>
              <a:ext cx="159480" cy="27972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159527" h="279940">
                  <a:moveTo>
                    <a:pt x="38090" y="0"/>
                  </a:moveTo>
                  <a:lnTo>
                    <a:pt x="38090" y="32811"/>
                  </a:lnTo>
                  <a:lnTo>
                    <a:pt x="37243" y="35421"/>
                  </a:lnTo>
                  <a:lnTo>
                    <a:pt x="34045" y="40578"/>
                  </a:lnTo>
                  <a:lnTo>
                    <a:pt x="29801" y="47951"/>
                  </a:lnTo>
                  <a:lnTo>
                    <a:pt x="27484" y="52287"/>
                  </a:lnTo>
                  <a:lnTo>
                    <a:pt x="25939" y="56872"/>
                  </a:lnTo>
                  <a:lnTo>
                    <a:pt x="24910" y="61621"/>
                  </a:lnTo>
                  <a:lnTo>
                    <a:pt x="24223" y="66481"/>
                  </a:lnTo>
                  <a:lnTo>
                    <a:pt x="22072" y="71414"/>
                  </a:lnTo>
                  <a:lnTo>
                    <a:pt x="18945" y="76396"/>
                  </a:lnTo>
                  <a:lnTo>
                    <a:pt x="15166" y="81411"/>
                  </a:lnTo>
                  <a:lnTo>
                    <a:pt x="10968" y="89240"/>
                  </a:lnTo>
                  <a:lnTo>
                    <a:pt x="9849" y="92514"/>
                  </a:lnTo>
                  <a:lnTo>
                    <a:pt x="6347" y="98408"/>
                  </a:lnTo>
                  <a:lnTo>
                    <a:pt x="1246" y="105046"/>
                  </a:lnTo>
                  <a:lnTo>
                    <a:pt x="548" y="108211"/>
                  </a:lnTo>
                  <a:lnTo>
                    <a:pt x="100" y="113097"/>
                  </a:lnTo>
                  <a:lnTo>
                    <a:pt x="4" y="105853"/>
                  </a:lnTo>
                  <a:lnTo>
                    <a:pt x="0" y="103588"/>
                  </a:lnTo>
                  <a:lnTo>
                    <a:pt x="843" y="101232"/>
                  </a:lnTo>
                  <a:lnTo>
                    <a:pt x="4038" y="96356"/>
                  </a:lnTo>
                  <a:lnTo>
                    <a:pt x="8280" y="89110"/>
                  </a:lnTo>
                  <a:lnTo>
                    <a:pt x="10597" y="84807"/>
                  </a:lnTo>
                  <a:lnTo>
                    <a:pt x="13835" y="80245"/>
                  </a:lnTo>
                  <a:lnTo>
                    <a:pt x="17686" y="75510"/>
                  </a:lnTo>
                  <a:lnTo>
                    <a:pt x="21947" y="70660"/>
                  </a:lnTo>
                  <a:lnTo>
                    <a:pt x="26482" y="66580"/>
                  </a:lnTo>
                  <a:lnTo>
                    <a:pt x="31198" y="63014"/>
                  </a:lnTo>
                  <a:lnTo>
                    <a:pt x="36035" y="59789"/>
                  </a:lnTo>
                  <a:lnTo>
                    <a:pt x="40953" y="56793"/>
                  </a:lnTo>
                  <a:lnTo>
                    <a:pt x="45926" y="53948"/>
                  </a:lnTo>
                  <a:lnTo>
                    <a:pt x="50934" y="51206"/>
                  </a:lnTo>
                  <a:lnTo>
                    <a:pt x="55966" y="49377"/>
                  </a:lnTo>
                  <a:lnTo>
                    <a:pt x="61014" y="48158"/>
                  </a:lnTo>
                  <a:lnTo>
                    <a:pt x="66072" y="47346"/>
                  </a:lnTo>
                  <a:lnTo>
                    <a:pt x="71138" y="46804"/>
                  </a:lnTo>
                  <a:lnTo>
                    <a:pt x="76209" y="46443"/>
                  </a:lnTo>
                  <a:lnTo>
                    <a:pt x="81283" y="46202"/>
                  </a:lnTo>
                  <a:lnTo>
                    <a:pt x="85512" y="46888"/>
                  </a:lnTo>
                  <a:lnTo>
                    <a:pt x="89178" y="48192"/>
                  </a:lnTo>
                  <a:lnTo>
                    <a:pt x="92469" y="49908"/>
                  </a:lnTo>
                  <a:lnTo>
                    <a:pt x="96356" y="52745"/>
                  </a:lnTo>
                  <a:lnTo>
                    <a:pt x="100641" y="56331"/>
                  </a:lnTo>
                  <a:lnTo>
                    <a:pt x="105190" y="60414"/>
                  </a:lnTo>
                  <a:lnTo>
                    <a:pt x="109917" y="65676"/>
                  </a:lnTo>
                  <a:lnTo>
                    <a:pt x="114761" y="71724"/>
                  </a:lnTo>
                  <a:lnTo>
                    <a:pt x="119684" y="78296"/>
                  </a:lnTo>
                  <a:lnTo>
                    <a:pt x="124659" y="84371"/>
                  </a:lnTo>
                  <a:lnTo>
                    <a:pt x="129670" y="90114"/>
                  </a:lnTo>
                  <a:lnTo>
                    <a:pt x="134703" y="95636"/>
                  </a:lnTo>
                  <a:lnTo>
                    <a:pt x="138906" y="102704"/>
                  </a:lnTo>
                  <a:lnTo>
                    <a:pt x="142554" y="110803"/>
                  </a:lnTo>
                  <a:lnTo>
                    <a:pt x="148865" y="127986"/>
                  </a:lnTo>
                  <a:lnTo>
                    <a:pt x="154492" y="144089"/>
                  </a:lnTo>
                  <a:lnTo>
                    <a:pt x="156332" y="152786"/>
                  </a:lnTo>
                  <a:lnTo>
                    <a:pt x="157558" y="161971"/>
                  </a:lnTo>
                  <a:lnTo>
                    <a:pt x="158375" y="171481"/>
                  </a:lnTo>
                  <a:lnTo>
                    <a:pt x="158920" y="181207"/>
                  </a:lnTo>
                  <a:lnTo>
                    <a:pt x="159526" y="201045"/>
                  </a:lnTo>
                  <a:lnTo>
                    <a:pt x="158840" y="210230"/>
                  </a:lnTo>
                  <a:lnTo>
                    <a:pt x="157537" y="218894"/>
                  </a:lnTo>
                  <a:lnTo>
                    <a:pt x="155822" y="227209"/>
                  </a:lnTo>
                  <a:lnTo>
                    <a:pt x="153831" y="234446"/>
                  </a:lnTo>
                  <a:lnTo>
                    <a:pt x="151657" y="240964"/>
                  </a:lnTo>
                  <a:lnTo>
                    <a:pt x="149362" y="247003"/>
                  </a:lnTo>
                  <a:lnTo>
                    <a:pt x="146984" y="252722"/>
                  </a:lnTo>
                  <a:lnTo>
                    <a:pt x="144553" y="258228"/>
                  </a:lnTo>
                  <a:lnTo>
                    <a:pt x="142085" y="263592"/>
                  </a:lnTo>
                  <a:lnTo>
                    <a:pt x="138747" y="268015"/>
                  </a:lnTo>
                  <a:lnTo>
                    <a:pt x="134828" y="271810"/>
                  </a:lnTo>
                  <a:lnTo>
                    <a:pt x="130522" y="275187"/>
                  </a:lnTo>
                  <a:lnTo>
                    <a:pt x="125958" y="277438"/>
                  </a:lnTo>
                  <a:lnTo>
                    <a:pt x="121222" y="278939"/>
                  </a:lnTo>
                  <a:lnTo>
                    <a:pt x="116371" y="279939"/>
                  </a:lnTo>
                  <a:lnTo>
                    <a:pt x="111444" y="279759"/>
                  </a:lnTo>
                  <a:lnTo>
                    <a:pt x="106467" y="278793"/>
                  </a:lnTo>
                  <a:lnTo>
                    <a:pt x="101454" y="277302"/>
                  </a:lnTo>
                  <a:lnTo>
                    <a:pt x="96419" y="274615"/>
                  </a:lnTo>
                  <a:lnTo>
                    <a:pt x="91370" y="271129"/>
                  </a:lnTo>
                  <a:lnTo>
                    <a:pt x="86310" y="267113"/>
                  </a:lnTo>
                  <a:lnTo>
                    <a:pt x="81243" y="262742"/>
                  </a:lnTo>
                  <a:lnTo>
                    <a:pt x="76172" y="258134"/>
                  </a:lnTo>
                  <a:lnTo>
                    <a:pt x="71098" y="253370"/>
                  </a:lnTo>
                  <a:lnTo>
                    <a:pt x="66869" y="248500"/>
                  </a:lnTo>
                  <a:lnTo>
                    <a:pt x="63202" y="243560"/>
                  </a:lnTo>
                  <a:lnTo>
                    <a:pt x="5333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SMARTInkAnnotation268"/>
            <p:cNvSpPr/>
            <p:nvPr/>
          </p:nvSpPr>
          <p:spPr>
            <a:xfrm>
              <a:off x="1987920" y="4396680"/>
              <a:ext cx="220680" cy="302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0981" h="30388">
                  <a:moveTo>
                    <a:pt x="0" y="7527"/>
                  </a:moveTo>
                  <a:lnTo>
                    <a:pt x="0" y="221"/>
                  </a:lnTo>
                  <a:lnTo>
                    <a:pt x="4045" y="0"/>
                  </a:lnTo>
                  <a:lnTo>
                    <a:pt x="6084" y="816"/>
                  </a:lnTo>
                  <a:lnTo>
                    <a:pt x="8289" y="2206"/>
                  </a:lnTo>
                  <a:lnTo>
                    <a:pt x="10606" y="3980"/>
                  </a:lnTo>
                  <a:lnTo>
                    <a:pt x="14691" y="5162"/>
                  </a:lnTo>
                  <a:lnTo>
                    <a:pt x="19954" y="5951"/>
                  </a:lnTo>
                  <a:lnTo>
                    <a:pt x="26003" y="6476"/>
                  </a:lnTo>
                  <a:lnTo>
                    <a:pt x="32575" y="6826"/>
                  </a:lnTo>
                  <a:lnTo>
                    <a:pt x="46651" y="7216"/>
                  </a:lnTo>
                  <a:lnTo>
                    <a:pt x="54808" y="8166"/>
                  </a:lnTo>
                  <a:lnTo>
                    <a:pt x="63632" y="9646"/>
                  </a:lnTo>
                  <a:lnTo>
                    <a:pt x="106173" y="18105"/>
                  </a:lnTo>
                  <a:lnTo>
                    <a:pt x="118196" y="19659"/>
                  </a:lnTo>
                  <a:lnTo>
                    <a:pt x="130443" y="20695"/>
                  </a:lnTo>
                  <a:lnTo>
                    <a:pt x="142843" y="21386"/>
                  </a:lnTo>
                  <a:lnTo>
                    <a:pt x="155342" y="22693"/>
                  </a:lnTo>
                  <a:lnTo>
                    <a:pt x="167908" y="24411"/>
                  </a:lnTo>
                  <a:lnTo>
                    <a:pt x="180519" y="26403"/>
                  </a:lnTo>
                  <a:lnTo>
                    <a:pt x="190619" y="27731"/>
                  </a:lnTo>
                  <a:lnTo>
                    <a:pt x="199046" y="28616"/>
                  </a:lnTo>
                  <a:lnTo>
                    <a:pt x="220980" y="303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SMARTInkAnnotation269"/>
            <p:cNvSpPr/>
            <p:nvPr/>
          </p:nvSpPr>
          <p:spPr>
            <a:xfrm>
              <a:off x="2280600" y="4327920"/>
              <a:ext cx="149400" cy="4492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49481" h="449581">
                  <a:moveTo>
                    <a:pt x="119000" y="0"/>
                  </a:moveTo>
                  <a:lnTo>
                    <a:pt x="119000" y="8091"/>
                  </a:lnTo>
                  <a:lnTo>
                    <a:pt x="118153" y="11320"/>
                  </a:lnTo>
                  <a:lnTo>
                    <a:pt x="112916" y="21605"/>
                  </a:lnTo>
                  <a:lnTo>
                    <a:pt x="108394" y="33309"/>
                  </a:lnTo>
                  <a:lnTo>
                    <a:pt x="105156" y="40833"/>
                  </a:lnTo>
                  <a:lnTo>
                    <a:pt x="97043" y="58223"/>
                  </a:lnTo>
                  <a:lnTo>
                    <a:pt x="91662" y="67602"/>
                  </a:lnTo>
                  <a:lnTo>
                    <a:pt x="85535" y="77242"/>
                  </a:lnTo>
                  <a:lnTo>
                    <a:pt x="78909" y="87054"/>
                  </a:lnTo>
                  <a:lnTo>
                    <a:pt x="72800" y="97830"/>
                  </a:lnTo>
                  <a:lnTo>
                    <a:pt x="67033" y="109246"/>
                  </a:lnTo>
                  <a:lnTo>
                    <a:pt x="61495" y="121091"/>
                  </a:lnTo>
                  <a:lnTo>
                    <a:pt x="55264" y="133221"/>
                  </a:lnTo>
                  <a:lnTo>
                    <a:pt x="48569" y="145541"/>
                  </a:lnTo>
                  <a:lnTo>
                    <a:pt x="41566" y="157987"/>
                  </a:lnTo>
                  <a:lnTo>
                    <a:pt x="35204" y="171365"/>
                  </a:lnTo>
                  <a:lnTo>
                    <a:pt x="29269" y="185363"/>
                  </a:lnTo>
                  <a:lnTo>
                    <a:pt x="7578" y="240286"/>
                  </a:lnTo>
                  <a:lnTo>
                    <a:pt x="4079" y="253324"/>
                  </a:lnTo>
                  <a:lnTo>
                    <a:pt x="1746" y="266249"/>
                  </a:lnTo>
                  <a:lnTo>
                    <a:pt x="190" y="279099"/>
                  </a:lnTo>
                  <a:lnTo>
                    <a:pt x="0" y="291900"/>
                  </a:lnTo>
                  <a:lnTo>
                    <a:pt x="720" y="304667"/>
                  </a:lnTo>
                  <a:lnTo>
                    <a:pt x="2047" y="317411"/>
                  </a:lnTo>
                  <a:lnTo>
                    <a:pt x="4624" y="329294"/>
                  </a:lnTo>
                  <a:lnTo>
                    <a:pt x="8036" y="340603"/>
                  </a:lnTo>
                  <a:lnTo>
                    <a:pt x="12004" y="351529"/>
                  </a:lnTo>
                  <a:lnTo>
                    <a:pt x="17190" y="362199"/>
                  </a:lnTo>
                  <a:lnTo>
                    <a:pt x="23186" y="372700"/>
                  </a:lnTo>
                  <a:lnTo>
                    <a:pt x="29724" y="383086"/>
                  </a:lnTo>
                  <a:lnTo>
                    <a:pt x="37470" y="392551"/>
                  </a:lnTo>
                  <a:lnTo>
                    <a:pt x="46020" y="401401"/>
                  </a:lnTo>
                  <a:lnTo>
                    <a:pt x="55107" y="409841"/>
                  </a:lnTo>
                  <a:lnTo>
                    <a:pt x="65398" y="417160"/>
                  </a:lnTo>
                  <a:lnTo>
                    <a:pt x="76492" y="423734"/>
                  </a:lnTo>
                  <a:lnTo>
                    <a:pt x="112579" y="442405"/>
                  </a:lnTo>
                  <a:lnTo>
                    <a:pt x="119799" y="444797"/>
                  </a:lnTo>
                  <a:lnTo>
                    <a:pt x="127153" y="446391"/>
                  </a:lnTo>
                  <a:lnTo>
                    <a:pt x="149480" y="449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SMARTInkAnnotation270"/>
            <p:cNvSpPr/>
            <p:nvPr/>
          </p:nvSpPr>
          <p:spPr>
            <a:xfrm>
              <a:off x="2331000" y="448020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1" h="7621">
                  <a:moveTo>
                    <a:pt x="0" y="0"/>
                  </a:moveTo>
                  <a:lnTo>
                    <a:pt x="4046" y="0"/>
                  </a:lnTo>
                  <a:lnTo>
                    <a:pt x="6084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3844" y="5237"/>
                  </a:lnTo>
                  <a:lnTo>
                    <a:pt x="17696" y="6032"/>
                  </a:lnTo>
                  <a:lnTo>
                    <a:pt x="21957" y="6561"/>
                  </a:lnTo>
                  <a:lnTo>
                    <a:pt x="27338" y="6915"/>
                  </a:lnTo>
                  <a:lnTo>
                    <a:pt x="33466" y="7150"/>
                  </a:lnTo>
                  <a:lnTo>
                    <a:pt x="51967" y="7481"/>
                  </a:lnTo>
                  <a:lnTo>
                    <a:pt x="1447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SMARTInkAnnotation271"/>
            <p:cNvSpPr/>
            <p:nvPr/>
          </p:nvSpPr>
          <p:spPr>
            <a:xfrm>
              <a:off x="2475720" y="4419360"/>
              <a:ext cx="144720" cy="1206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4741" h="120727">
                  <a:moveTo>
                    <a:pt x="53300" y="0"/>
                  </a:moveTo>
                  <a:lnTo>
                    <a:pt x="53300" y="4045"/>
                  </a:lnTo>
                  <a:lnTo>
                    <a:pt x="52454" y="5237"/>
                  </a:lnTo>
                  <a:lnTo>
                    <a:pt x="51042" y="6031"/>
                  </a:lnTo>
                  <a:lnTo>
                    <a:pt x="49255" y="6561"/>
                  </a:lnTo>
                  <a:lnTo>
                    <a:pt x="48063" y="7760"/>
                  </a:lnTo>
                  <a:lnTo>
                    <a:pt x="47269" y="9408"/>
                  </a:lnTo>
                  <a:lnTo>
                    <a:pt x="46739" y="11352"/>
                  </a:lnTo>
                  <a:lnTo>
                    <a:pt x="46386" y="13495"/>
                  </a:lnTo>
                  <a:lnTo>
                    <a:pt x="46151" y="15770"/>
                  </a:lnTo>
                  <a:lnTo>
                    <a:pt x="45994" y="18133"/>
                  </a:lnTo>
                  <a:lnTo>
                    <a:pt x="45043" y="20556"/>
                  </a:lnTo>
                  <a:lnTo>
                    <a:pt x="43562" y="23017"/>
                  </a:lnTo>
                  <a:lnTo>
                    <a:pt x="41728" y="25505"/>
                  </a:lnTo>
                  <a:lnTo>
                    <a:pt x="38812" y="28010"/>
                  </a:lnTo>
                  <a:lnTo>
                    <a:pt x="35175" y="30526"/>
                  </a:lnTo>
                  <a:lnTo>
                    <a:pt x="31057" y="33051"/>
                  </a:lnTo>
                  <a:lnTo>
                    <a:pt x="27464" y="35581"/>
                  </a:lnTo>
                  <a:lnTo>
                    <a:pt x="24223" y="38114"/>
                  </a:lnTo>
                  <a:lnTo>
                    <a:pt x="21215" y="40649"/>
                  </a:lnTo>
                  <a:lnTo>
                    <a:pt x="18364" y="44033"/>
                  </a:lnTo>
                  <a:lnTo>
                    <a:pt x="15616" y="47982"/>
                  </a:lnTo>
                  <a:lnTo>
                    <a:pt x="12937" y="52308"/>
                  </a:lnTo>
                  <a:lnTo>
                    <a:pt x="10305" y="56038"/>
                  </a:lnTo>
                  <a:lnTo>
                    <a:pt x="7704" y="59373"/>
                  </a:lnTo>
                  <a:lnTo>
                    <a:pt x="5122" y="62442"/>
                  </a:lnTo>
                  <a:lnTo>
                    <a:pt x="3402" y="65335"/>
                  </a:lnTo>
                  <a:lnTo>
                    <a:pt x="2254" y="68110"/>
                  </a:lnTo>
                  <a:lnTo>
                    <a:pt x="1490" y="70807"/>
                  </a:lnTo>
                  <a:lnTo>
                    <a:pt x="980" y="74298"/>
                  </a:lnTo>
                  <a:lnTo>
                    <a:pt x="640" y="78318"/>
                  </a:lnTo>
                  <a:lnTo>
                    <a:pt x="262" y="86455"/>
                  </a:lnTo>
                  <a:lnTo>
                    <a:pt x="95" y="92894"/>
                  </a:lnTo>
                  <a:lnTo>
                    <a:pt x="0" y="101278"/>
                  </a:lnTo>
                  <a:lnTo>
                    <a:pt x="833" y="103925"/>
                  </a:lnTo>
                  <a:lnTo>
                    <a:pt x="2236" y="106537"/>
                  </a:lnTo>
                  <a:lnTo>
                    <a:pt x="4017" y="109125"/>
                  </a:lnTo>
                  <a:lnTo>
                    <a:pt x="6898" y="110850"/>
                  </a:lnTo>
                  <a:lnTo>
                    <a:pt x="10512" y="112000"/>
                  </a:lnTo>
                  <a:lnTo>
                    <a:pt x="14615" y="112767"/>
                  </a:lnTo>
                  <a:lnTo>
                    <a:pt x="19043" y="114124"/>
                  </a:lnTo>
                  <a:lnTo>
                    <a:pt x="23689" y="115877"/>
                  </a:lnTo>
                  <a:lnTo>
                    <a:pt x="28479" y="117891"/>
                  </a:lnTo>
                  <a:lnTo>
                    <a:pt x="33366" y="119235"/>
                  </a:lnTo>
                  <a:lnTo>
                    <a:pt x="38318" y="120129"/>
                  </a:lnTo>
                  <a:lnTo>
                    <a:pt x="43312" y="120726"/>
                  </a:lnTo>
                  <a:lnTo>
                    <a:pt x="48335" y="120278"/>
                  </a:lnTo>
                  <a:lnTo>
                    <a:pt x="53377" y="119131"/>
                  </a:lnTo>
                  <a:lnTo>
                    <a:pt x="58431" y="117522"/>
                  </a:lnTo>
                  <a:lnTo>
                    <a:pt x="64341" y="116448"/>
                  </a:lnTo>
                  <a:lnTo>
                    <a:pt x="70821" y="115732"/>
                  </a:lnTo>
                  <a:lnTo>
                    <a:pt x="77680" y="115255"/>
                  </a:lnTo>
                  <a:lnTo>
                    <a:pt x="83947" y="114936"/>
                  </a:lnTo>
                  <a:lnTo>
                    <a:pt x="95425" y="114583"/>
                  </a:lnTo>
                  <a:lnTo>
                    <a:pt x="100857" y="113642"/>
                  </a:lnTo>
                  <a:lnTo>
                    <a:pt x="106171" y="112168"/>
                  </a:lnTo>
                  <a:lnTo>
                    <a:pt x="111407" y="110339"/>
                  </a:lnTo>
                  <a:lnTo>
                    <a:pt x="116592" y="108272"/>
                  </a:lnTo>
                  <a:lnTo>
                    <a:pt x="121741" y="106049"/>
                  </a:lnTo>
                  <a:lnTo>
                    <a:pt x="126867" y="103719"/>
                  </a:lnTo>
                  <a:lnTo>
                    <a:pt x="131131" y="102166"/>
                  </a:lnTo>
                  <a:lnTo>
                    <a:pt x="134821" y="101131"/>
                  </a:lnTo>
                  <a:lnTo>
                    <a:pt x="144740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SMARTInkAnnotation272"/>
            <p:cNvSpPr/>
            <p:nvPr/>
          </p:nvSpPr>
          <p:spPr>
            <a:xfrm>
              <a:off x="2620440" y="4411800"/>
              <a:ext cx="30240" cy="243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30481" h="243841">
                  <a:moveTo>
                    <a:pt x="0" y="0"/>
                  </a:moveTo>
                  <a:lnTo>
                    <a:pt x="0" y="77680"/>
                  </a:lnTo>
                  <a:lnTo>
                    <a:pt x="847" y="84807"/>
                  </a:lnTo>
                  <a:lnTo>
                    <a:pt x="2258" y="92098"/>
                  </a:lnTo>
                  <a:lnTo>
                    <a:pt x="4045" y="99499"/>
                  </a:lnTo>
                  <a:lnTo>
                    <a:pt x="5236" y="106973"/>
                  </a:lnTo>
                  <a:lnTo>
                    <a:pt x="6031" y="114495"/>
                  </a:lnTo>
                  <a:lnTo>
                    <a:pt x="6561" y="122050"/>
                  </a:lnTo>
                  <a:lnTo>
                    <a:pt x="7761" y="130474"/>
                  </a:lnTo>
                  <a:lnTo>
                    <a:pt x="9407" y="139476"/>
                  </a:lnTo>
                  <a:lnTo>
                    <a:pt x="11351" y="148864"/>
                  </a:lnTo>
                  <a:lnTo>
                    <a:pt x="12648" y="157663"/>
                  </a:lnTo>
                  <a:lnTo>
                    <a:pt x="13512" y="166068"/>
                  </a:lnTo>
                  <a:lnTo>
                    <a:pt x="14088" y="174213"/>
                  </a:lnTo>
                  <a:lnTo>
                    <a:pt x="15319" y="182182"/>
                  </a:lnTo>
                  <a:lnTo>
                    <a:pt x="16986" y="190034"/>
                  </a:lnTo>
                  <a:lnTo>
                    <a:pt x="18944" y="197810"/>
                  </a:lnTo>
                  <a:lnTo>
                    <a:pt x="20249" y="205534"/>
                  </a:lnTo>
                  <a:lnTo>
                    <a:pt x="21120" y="213223"/>
                  </a:lnTo>
                  <a:lnTo>
                    <a:pt x="21700" y="220888"/>
                  </a:lnTo>
                  <a:lnTo>
                    <a:pt x="22933" y="226846"/>
                  </a:lnTo>
                  <a:lnTo>
                    <a:pt x="24602" y="231664"/>
                  </a:lnTo>
                  <a:lnTo>
                    <a:pt x="30480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SMARTInkAnnotation273"/>
            <p:cNvSpPr/>
            <p:nvPr/>
          </p:nvSpPr>
          <p:spPr>
            <a:xfrm>
              <a:off x="2689200" y="4251600"/>
              <a:ext cx="155520" cy="5486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155687" h="548641">
                  <a:moveTo>
                    <a:pt x="53340" y="0"/>
                  </a:moveTo>
                  <a:lnTo>
                    <a:pt x="53340" y="4045"/>
                  </a:lnTo>
                  <a:lnTo>
                    <a:pt x="57385" y="14652"/>
                  </a:lnTo>
                  <a:lnTo>
                    <a:pt x="61948" y="23779"/>
                  </a:lnTo>
                  <a:lnTo>
                    <a:pt x="72918" y="40630"/>
                  </a:lnTo>
                  <a:lnTo>
                    <a:pt x="82079" y="54465"/>
                  </a:lnTo>
                  <a:lnTo>
                    <a:pt x="86046" y="62556"/>
                  </a:lnTo>
                  <a:lnTo>
                    <a:pt x="89538" y="71338"/>
                  </a:lnTo>
                  <a:lnTo>
                    <a:pt x="92712" y="80579"/>
                  </a:lnTo>
                  <a:lnTo>
                    <a:pt x="97368" y="90973"/>
                  </a:lnTo>
                  <a:lnTo>
                    <a:pt x="103012" y="102135"/>
                  </a:lnTo>
                  <a:lnTo>
                    <a:pt x="109315" y="113810"/>
                  </a:lnTo>
                  <a:lnTo>
                    <a:pt x="115210" y="126674"/>
                  </a:lnTo>
                  <a:lnTo>
                    <a:pt x="120833" y="140329"/>
                  </a:lnTo>
                  <a:lnTo>
                    <a:pt x="126275" y="154513"/>
                  </a:lnTo>
                  <a:lnTo>
                    <a:pt x="130751" y="169048"/>
                  </a:lnTo>
                  <a:lnTo>
                    <a:pt x="134581" y="183819"/>
                  </a:lnTo>
                  <a:lnTo>
                    <a:pt x="137980" y="198746"/>
                  </a:lnTo>
                  <a:lnTo>
                    <a:pt x="144016" y="228878"/>
                  </a:lnTo>
                  <a:lnTo>
                    <a:pt x="146810" y="244026"/>
                  </a:lnTo>
                  <a:lnTo>
                    <a:pt x="152174" y="276660"/>
                  </a:lnTo>
                  <a:lnTo>
                    <a:pt x="154789" y="293660"/>
                  </a:lnTo>
                  <a:lnTo>
                    <a:pt x="155686" y="310074"/>
                  </a:lnTo>
                  <a:lnTo>
                    <a:pt x="155437" y="326095"/>
                  </a:lnTo>
                  <a:lnTo>
                    <a:pt x="154425" y="341857"/>
                  </a:lnTo>
                  <a:lnTo>
                    <a:pt x="152903" y="356598"/>
                  </a:lnTo>
                  <a:lnTo>
                    <a:pt x="151043" y="370658"/>
                  </a:lnTo>
                  <a:lnTo>
                    <a:pt x="148955" y="384266"/>
                  </a:lnTo>
                  <a:lnTo>
                    <a:pt x="145024" y="397571"/>
                  </a:lnTo>
                  <a:lnTo>
                    <a:pt x="139862" y="410674"/>
                  </a:lnTo>
                  <a:lnTo>
                    <a:pt x="128201" y="435675"/>
                  </a:lnTo>
                  <a:lnTo>
                    <a:pt x="117374" y="458076"/>
                  </a:lnTo>
                  <a:lnTo>
                    <a:pt x="110423" y="467944"/>
                  </a:lnTo>
                  <a:lnTo>
                    <a:pt x="102402" y="477063"/>
                  </a:lnTo>
                  <a:lnTo>
                    <a:pt x="69240" y="509948"/>
                  </a:lnTo>
                  <a:lnTo>
                    <a:pt x="61400" y="516072"/>
                  </a:lnTo>
                  <a:lnTo>
                    <a:pt x="53634" y="521001"/>
                  </a:lnTo>
                  <a:lnTo>
                    <a:pt x="32825" y="531984"/>
                  </a:lnTo>
                  <a:lnTo>
                    <a:pt x="26964" y="534997"/>
                  </a:lnTo>
                  <a:lnTo>
                    <a:pt x="22209" y="537851"/>
                  </a:lnTo>
                  <a:lnTo>
                    <a:pt x="18193" y="540601"/>
                  </a:lnTo>
                  <a:lnTo>
                    <a:pt x="14669" y="543280"/>
                  </a:lnTo>
                  <a:lnTo>
                    <a:pt x="11473" y="545067"/>
                  </a:lnTo>
                  <a:lnTo>
                    <a:pt x="8495" y="546258"/>
                  </a:lnTo>
                  <a:lnTo>
                    <a:pt x="0" y="5486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SMARTInkAnnotation274"/>
            <p:cNvSpPr/>
            <p:nvPr/>
          </p:nvSpPr>
          <p:spPr>
            <a:xfrm>
              <a:off x="2872080" y="4503240"/>
              <a:ext cx="182880" cy="3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82881" h="1">
                  <a:moveTo>
                    <a:pt x="0" y="0"/>
                  </a:move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SMARTInkAnnotation275"/>
            <p:cNvSpPr/>
            <p:nvPr/>
          </p:nvSpPr>
          <p:spPr>
            <a:xfrm>
              <a:off x="3123720" y="4366080"/>
              <a:ext cx="251280" cy="2512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251461" h="251411">
                  <a:moveTo>
                    <a:pt x="0" y="45708"/>
                  </a:moveTo>
                  <a:lnTo>
                    <a:pt x="0" y="39147"/>
                  </a:lnTo>
                  <a:lnTo>
                    <a:pt x="847" y="38794"/>
                  </a:lnTo>
                  <a:lnTo>
                    <a:pt x="4045" y="38402"/>
                  </a:lnTo>
                  <a:lnTo>
                    <a:pt x="6084" y="37451"/>
                  </a:lnTo>
                  <a:lnTo>
                    <a:pt x="13844" y="32067"/>
                  </a:lnTo>
                  <a:lnTo>
                    <a:pt x="17696" y="29841"/>
                  </a:lnTo>
                  <a:lnTo>
                    <a:pt x="26492" y="25110"/>
                  </a:lnTo>
                  <a:lnTo>
                    <a:pt x="50944" y="12651"/>
                  </a:lnTo>
                  <a:lnTo>
                    <a:pt x="57669" y="10124"/>
                  </a:lnTo>
                  <a:lnTo>
                    <a:pt x="65539" y="7592"/>
                  </a:lnTo>
                  <a:lnTo>
                    <a:pt x="74173" y="5058"/>
                  </a:lnTo>
                  <a:lnTo>
                    <a:pt x="82468" y="3367"/>
                  </a:lnTo>
                  <a:lnTo>
                    <a:pt x="90539" y="2241"/>
                  </a:lnTo>
                  <a:lnTo>
                    <a:pt x="98459" y="1490"/>
                  </a:lnTo>
                  <a:lnTo>
                    <a:pt x="106280" y="989"/>
                  </a:lnTo>
                  <a:lnTo>
                    <a:pt x="121742" y="434"/>
                  </a:lnTo>
                  <a:lnTo>
                    <a:pt x="151518" y="76"/>
                  </a:lnTo>
                  <a:lnTo>
                    <a:pt x="179890" y="0"/>
                  </a:lnTo>
                  <a:lnTo>
                    <a:pt x="184273" y="843"/>
                  </a:lnTo>
                  <a:lnTo>
                    <a:pt x="191401" y="4037"/>
                  </a:lnTo>
                  <a:lnTo>
                    <a:pt x="197392" y="8279"/>
                  </a:lnTo>
                  <a:lnTo>
                    <a:pt x="202877" y="12986"/>
                  </a:lnTo>
                  <a:lnTo>
                    <a:pt x="208136" y="17901"/>
                  </a:lnTo>
                  <a:lnTo>
                    <a:pt x="209877" y="20397"/>
                  </a:lnTo>
                  <a:lnTo>
                    <a:pt x="211812" y="25427"/>
                  </a:lnTo>
                  <a:lnTo>
                    <a:pt x="211482" y="27954"/>
                  </a:lnTo>
                  <a:lnTo>
                    <a:pt x="210415" y="30485"/>
                  </a:lnTo>
                  <a:lnTo>
                    <a:pt x="204868" y="38093"/>
                  </a:lnTo>
                  <a:lnTo>
                    <a:pt x="200272" y="44017"/>
                  </a:lnTo>
                  <a:lnTo>
                    <a:pt x="197862" y="47968"/>
                  </a:lnTo>
                  <a:lnTo>
                    <a:pt x="195408" y="52294"/>
                  </a:lnTo>
                  <a:lnTo>
                    <a:pt x="192079" y="56872"/>
                  </a:lnTo>
                  <a:lnTo>
                    <a:pt x="188165" y="61617"/>
                  </a:lnTo>
                  <a:lnTo>
                    <a:pt x="183864" y="66474"/>
                  </a:lnTo>
                  <a:lnTo>
                    <a:pt x="174568" y="76387"/>
                  </a:lnTo>
                  <a:lnTo>
                    <a:pt x="169719" y="81401"/>
                  </a:lnTo>
                  <a:lnTo>
                    <a:pt x="163946" y="86436"/>
                  </a:lnTo>
                  <a:lnTo>
                    <a:pt x="157557" y="91487"/>
                  </a:lnTo>
                  <a:lnTo>
                    <a:pt x="150758" y="96547"/>
                  </a:lnTo>
                  <a:lnTo>
                    <a:pt x="143686" y="102461"/>
                  </a:lnTo>
                  <a:lnTo>
                    <a:pt x="136430" y="108943"/>
                  </a:lnTo>
                  <a:lnTo>
                    <a:pt x="129054" y="115805"/>
                  </a:lnTo>
                  <a:lnTo>
                    <a:pt x="121596" y="122073"/>
                  </a:lnTo>
                  <a:lnTo>
                    <a:pt x="114084" y="127944"/>
                  </a:lnTo>
                  <a:lnTo>
                    <a:pt x="106536" y="133552"/>
                  </a:lnTo>
                  <a:lnTo>
                    <a:pt x="99811" y="138984"/>
                  </a:lnTo>
                  <a:lnTo>
                    <a:pt x="93634" y="144299"/>
                  </a:lnTo>
                  <a:lnTo>
                    <a:pt x="87823" y="149536"/>
                  </a:lnTo>
                  <a:lnTo>
                    <a:pt x="76850" y="159869"/>
                  </a:lnTo>
                  <a:lnTo>
                    <a:pt x="56008" y="180300"/>
                  </a:lnTo>
                  <a:lnTo>
                    <a:pt x="52579" y="184543"/>
                  </a:lnTo>
                  <a:lnTo>
                    <a:pt x="46905" y="194559"/>
                  </a:lnTo>
                  <a:lnTo>
                    <a:pt x="42578" y="200200"/>
                  </a:lnTo>
                  <a:lnTo>
                    <a:pt x="41086" y="203736"/>
                  </a:lnTo>
                  <a:lnTo>
                    <a:pt x="40090" y="207787"/>
                  </a:lnTo>
                  <a:lnTo>
                    <a:pt x="39427" y="212181"/>
                  </a:lnTo>
                  <a:lnTo>
                    <a:pt x="39831" y="215956"/>
                  </a:lnTo>
                  <a:lnTo>
                    <a:pt x="40948" y="219321"/>
                  </a:lnTo>
                  <a:lnTo>
                    <a:pt x="42538" y="222410"/>
                  </a:lnTo>
                  <a:lnTo>
                    <a:pt x="44446" y="224469"/>
                  </a:lnTo>
                  <a:lnTo>
                    <a:pt x="46564" y="225843"/>
                  </a:lnTo>
                  <a:lnTo>
                    <a:pt x="52021" y="228215"/>
                  </a:lnTo>
                  <a:lnTo>
                    <a:pt x="60092" y="232091"/>
                  </a:lnTo>
                  <a:lnTo>
                    <a:pt x="65461" y="234310"/>
                  </a:lnTo>
                  <a:lnTo>
                    <a:pt x="71581" y="236636"/>
                  </a:lnTo>
                  <a:lnTo>
                    <a:pt x="78201" y="239034"/>
                  </a:lnTo>
                  <a:lnTo>
                    <a:pt x="84307" y="241479"/>
                  </a:lnTo>
                  <a:lnTo>
                    <a:pt x="90071" y="243956"/>
                  </a:lnTo>
                  <a:lnTo>
                    <a:pt x="95608" y="246453"/>
                  </a:lnTo>
                  <a:lnTo>
                    <a:pt x="102685" y="248118"/>
                  </a:lnTo>
                  <a:lnTo>
                    <a:pt x="110790" y="249228"/>
                  </a:lnTo>
                  <a:lnTo>
                    <a:pt x="119580" y="249968"/>
                  </a:lnTo>
                  <a:lnTo>
                    <a:pt x="127980" y="250462"/>
                  </a:lnTo>
                  <a:lnTo>
                    <a:pt x="144087" y="251010"/>
                  </a:lnTo>
                  <a:lnTo>
                    <a:pt x="188820" y="251391"/>
                  </a:lnTo>
                  <a:lnTo>
                    <a:pt x="197000" y="251410"/>
                  </a:lnTo>
                  <a:lnTo>
                    <a:pt x="204993" y="250576"/>
                  </a:lnTo>
                  <a:lnTo>
                    <a:pt x="212863" y="249173"/>
                  </a:lnTo>
                  <a:lnTo>
                    <a:pt x="220649" y="247392"/>
                  </a:lnTo>
                  <a:lnTo>
                    <a:pt x="226685" y="245357"/>
                  </a:lnTo>
                  <a:lnTo>
                    <a:pt x="231557" y="243154"/>
                  </a:lnTo>
                  <a:lnTo>
                    <a:pt x="239228" y="239295"/>
                  </a:lnTo>
                  <a:lnTo>
                    <a:pt x="242458" y="238266"/>
                  </a:lnTo>
                  <a:lnTo>
                    <a:pt x="251460" y="236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SMARTInkAnnotation276"/>
            <p:cNvSpPr/>
            <p:nvPr/>
          </p:nvSpPr>
          <p:spPr>
            <a:xfrm>
              <a:off x="3445560" y="4297320"/>
              <a:ext cx="180720" cy="43416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81023" h="434341">
                  <a:moveTo>
                    <a:pt x="112442" y="0"/>
                  </a:moveTo>
                  <a:lnTo>
                    <a:pt x="112442" y="4045"/>
                  </a:lnTo>
                  <a:lnTo>
                    <a:pt x="111596" y="5237"/>
                  </a:lnTo>
                  <a:lnTo>
                    <a:pt x="110185" y="6031"/>
                  </a:lnTo>
                  <a:lnTo>
                    <a:pt x="108397" y="6561"/>
                  </a:lnTo>
                  <a:lnTo>
                    <a:pt x="106359" y="8608"/>
                  </a:lnTo>
                  <a:lnTo>
                    <a:pt x="101836" y="15397"/>
                  </a:lnTo>
                  <a:lnTo>
                    <a:pt x="97004" y="24059"/>
                  </a:lnTo>
                  <a:lnTo>
                    <a:pt x="94530" y="28739"/>
                  </a:lnTo>
                  <a:lnTo>
                    <a:pt x="91188" y="34399"/>
                  </a:lnTo>
                  <a:lnTo>
                    <a:pt x="82958" y="47462"/>
                  </a:lnTo>
                  <a:lnTo>
                    <a:pt x="68805" y="69096"/>
                  </a:lnTo>
                  <a:lnTo>
                    <a:pt x="63877" y="77391"/>
                  </a:lnTo>
                  <a:lnTo>
                    <a:pt x="58899" y="86307"/>
                  </a:lnTo>
                  <a:lnTo>
                    <a:pt x="48851" y="105245"/>
                  </a:lnTo>
                  <a:lnTo>
                    <a:pt x="38742" y="124952"/>
                  </a:lnTo>
                  <a:lnTo>
                    <a:pt x="34522" y="134101"/>
                  </a:lnTo>
                  <a:lnTo>
                    <a:pt x="30862" y="142741"/>
                  </a:lnTo>
                  <a:lnTo>
                    <a:pt x="27575" y="151041"/>
                  </a:lnTo>
                  <a:lnTo>
                    <a:pt x="23691" y="159961"/>
                  </a:lnTo>
                  <a:lnTo>
                    <a:pt x="14859" y="178903"/>
                  </a:lnTo>
                  <a:lnTo>
                    <a:pt x="10981" y="188695"/>
                  </a:lnTo>
                  <a:lnTo>
                    <a:pt x="7547" y="198610"/>
                  </a:lnTo>
                  <a:lnTo>
                    <a:pt x="4412" y="208607"/>
                  </a:lnTo>
                  <a:lnTo>
                    <a:pt x="2322" y="218658"/>
                  </a:lnTo>
                  <a:lnTo>
                    <a:pt x="929" y="228746"/>
                  </a:lnTo>
                  <a:lnTo>
                    <a:pt x="0" y="238857"/>
                  </a:lnTo>
                  <a:lnTo>
                    <a:pt x="228" y="248985"/>
                  </a:lnTo>
                  <a:lnTo>
                    <a:pt x="1226" y="259123"/>
                  </a:lnTo>
                  <a:lnTo>
                    <a:pt x="2738" y="269269"/>
                  </a:lnTo>
                  <a:lnTo>
                    <a:pt x="5439" y="279420"/>
                  </a:lnTo>
                  <a:lnTo>
                    <a:pt x="8933" y="289573"/>
                  </a:lnTo>
                  <a:lnTo>
                    <a:pt x="12956" y="299729"/>
                  </a:lnTo>
                  <a:lnTo>
                    <a:pt x="18178" y="309039"/>
                  </a:lnTo>
                  <a:lnTo>
                    <a:pt x="24199" y="317787"/>
                  </a:lnTo>
                  <a:lnTo>
                    <a:pt x="30754" y="326158"/>
                  </a:lnTo>
                  <a:lnTo>
                    <a:pt x="38510" y="334279"/>
                  </a:lnTo>
                  <a:lnTo>
                    <a:pt x="47067" y="342233"/>
                  </a:lnTo>
                  <a:lnTo>
                    <a:pt x="56159" y="350075"/>
                  </a:lnTo>
                  <a:lnTo>
                    <a:pt x="65607" y="358690"/>
                  </a:lnTo>
                  <a:lnTo>
                    <a:pt x="85135" y="377294"/>
                  </a:lnTo>
                  <a:lnTo>
                    <a:pt x="95084" y="385303"/>
                  </a:lnTo>
                  <a:lnTo>
                    <a:pt x="105103" y="392336"/>
                  </a:lnTo>
                  <a:lnTo>
                    <a:pt x="115170" y="398717"/>
                  </a:lnTo>
                  <a:lnTo>
                    <a:pt x="125267" y="404665"/>
                  </a:lnTo>
                  <a:lnTo>
                    <a:pt x="135386" y="410323"/>
                  </a:lnTo>
                  <a:lnTo>
                    <a:pt x="161291" y="424120"/>
                  </a:lnTo>
                  <a:lnTo>
                    <a:pt x="181022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MARTInkAnnotation277"/>
            <p:cNvSpPr/>
            <p:nvPr/>
          </p:nvSpPr>
          <p:spPr>
            <a:xfrm>
              <a:off x="3535200" y="4426920"/>
              <a:ext cx="114120" cy="22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14302" h="22861">
                  <a:moveTo>
                    <a:pt x="0" y="0"/>
                  </a:moveTo>
                  <a:lnTo>
                    <a:pt x="6562" y="0"/>
                  </a:lnTo>
                  <a:lnTo>
                    <a:pt x="7761" y="847"/>
                  </a:lnTo>
                  <a:lnTo>
                    <a:pt x="9408" y="2257"/>
                  </a:lnTo>
                  <a:lnTo>
                    <a:pt x="11352" y="4044"/>
                  </a:lnTo>
                  <a:lnTo>
                    <a:pt x="13495" y="5237"/>
                  </a:lnTo>
                  <a:lnTo>
                    <a:pt x="15770" y="6031"/>
                  </a:lnTo>
                  <a:lnTo>
                    <a:pt x="18133" y="6561"/>
                  </a:lnTo>
                  <a:lnTo>
                    <a:pt x="21402" y="7760"/>
                  </a:lnTo>
                  <a:lnTo>
                    <a:pt x="25275" y="9407"/>
                  </a:lnTo>
                  <a:lnTo>
                    <a:pt x="29550" y="11351"/>
                  </a:lnTo>
                  <a:lnTo>
                    <a:pt x="34094" y="12647"/>
                  </a:lnTo>
                  <a:lnTo>
                    <a:pt x="38816" y="13511"/>
                  </a:lnTo>
                  <a:lnTo>
                    <a:pt x="43657" y="14088"/>
                  </a:lnTo>
                  <a:lnTo>
                    <a:pt x="48578" y="14472"/>
                  </a:lnTo>
                  <a:lnTo>
                    <a:pt x="53552" y="14727"/>
                  </a:lnTo>
                  <a:lnTo>
                    <a:pt x="58562" y="14898"/>
                  </a:lnTo>
                  <a:lnTo>
                    <a:pt x="63595" y="15858"/>
                  </a:lnTo>
                  <a:lnTo>
                    <a:pt x="68643" y="17346"/>
                  </a:lnTo>
                  <a:lnTo>
                    <a:pt x="73702" y="19183"/>
                  </a:lnTo>
                  <a:lnTo>
                    <a:pt x="79615" y="20409"/>
                  </a:lnTo>
                  <a:lnTo>
                    <a:pt x="86097" y="21226"/>
                  </a:lnTo>
                  <a:lnTo>
                    <a:pt x="98379" y="22134"/>
                  </a:lnTo>
                  <a:lnTo>
                    <a:pt x="114301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MARTInkAnnotation278"/>
            <p:cNvSpPr/>
            <p:nvPr/>
          </p:nvSpPr>
          <p:spPr>
            <a:xfrm>
              <a:off x="3710520" y="4366080"/>
              <a:ext cx="127800" cy="25128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28088" h="251458">
                  <a:moveTo>
                    <a:pt x="0" y="15237"/>
                  </a:moveTo>
                  <a:lnTo>
                    <a:pt x="4044" y="11192"/>
                  </a:lnTo>
                  <a:lnTo>
                    <a:pt x="6083" y="10000"/>
                  </a:lnTo>
                  <a:lnTo>
                    <a:pt x="8288" y="9206"/>
                  </a:lnTo>
                  <a:lnTo>
                    <a:pt x="10605" y="8676"/>
                  </a:lnTo>
                  <a:lnTo>
                    <a:pt x="13843" y="7477"/>
                  </a:lnTo>
                  <a:lnTo>
                    <a:pt x="17695" y="5830"/>
                  </a:lnTo>
                  <a:lnTo>
                    <a:pt x="21957" y="3886"/>
                  </a:lnTo>
                  <a:lnTo>
                    <a:pt x="27338" y="2590"/>
                  </a:lnTo>
                  <a:lnTo>
                    <a:pt x="33465" y="1725"/>
                  </a:lnTo>
                  <a:lnTo>
                    <a:pt x="40090" y="1149"/>
                  </a:lnTo>
                  <a:lnTo>
                    <a:pt x="46200" y="765"/>
                  </a:lnTo>
                  <a:lnTo>
                    <a:pt x="57504" y="339"/>
                  </a:lnTo>
                  <a:lnTo>
                    <a:pt x="73388" y="98"/>
                  </a:lnTo>
                  <a:lnTo>
                    <a:pt x="111282" y="0"/>
                  </a:lnTo>
                  <a:lnTo>
                    <a:pt x="113134" y="846"/>
                  </a:lnTo>
                  <a:lnTo>
                    <a:pt x="115216" y="2256"/>
                  </a:lnTo>
                  <a:lnTo>
                    <a:pt x="117450" y="4043"/>
                  </a:lnTo>
                  <a:lnTo>
                    <a:pt x="119786" y="5235"/>
                  </a:lnTo>
                  <a:lnTo>
                    <a:pt x="122191" y="6029"/>
                  </a:lnTo>
                  <a:lnTo>
                    <a:pt x="128087" y="7304"/>
                  </a:lnTo>
                  <a:lnTo>
                    <a:pt x="127724" y="8255"/>
                  </a:lnTo>
                  <a:lnTo>
                    <a:pt x="125064" y="11570"/>
                  </a:lnTo>
                  <a:lnTo>
                    <a:pt x="124016" y="13639"/>
                  </a:lnTo>
                  <a:lnTo>
                    <a:pt x="122851" y="18196"/>
                  </a:lnTo>
                  <a:lnTo>
                    <a:pt x="122334" y="25301"/>
                  </a:lnTo>
                  <a:lnTo>
                    <a:pt x="122195" y="29566"/>
                  </a:lnTo>
                  <a:lnTo>
                    <a:pt x="121256" y="33257"/>
                  </a:lnTo>
                  <a:lnTo>
                    <a:pt x="117956" y="39615"/>
                  </a:lnTo>
                  <a:lnTo>
                    <a:pt x="115890" y="43342"/>
                  </a:lnTo>
                  <a:lnTo>
                    <a:pt x="111337" y="52000"/>
                  </a:lnTo>
                  <a:lnTo>
                    <a:pt x="104014" y="66393"/>
                  </a:lnTo>
                  <a:lnTo>
                    <a:pt x="100669" y="71355"/>
                  </a:lnTo>
                  <a:lnTo>
                    <a:pt x="96746" y="76355"/>
                  </a:lnTo>
                  <a:lnTo>
                    <a:pt x="92436" y="81383"/>
                  </a:lnTo>
                  <a:lnTo>
                    <a:pt x="88717" y="86428"/>
                  </a:lnTo>
                  <a:lnTo>
                    <a:pt x="85391" y="91484"/>
                  </a:lnTo>
                  <a:lnTo>
                    <a:pt x="82327" y="96548"/>
                  </a:lnTo>
                  <a:lnTo>
                    <a:pt x="79438" y="102464"/>
                  </a:lnTo>
                  <a:lnTo>
                    <a:pt x="76665" y="108949"/>
                  </a:lnTo>
                  <a:lnTo>
                    <a:pt x="73969" y="115812"/>
                  </a:lnTo>
                  <a:lnTo>
                    <a:pt x="70479" y="122080"/>
                  </a:lnTo>
                  <a:lnTo>
                    <a:pt x="66460" y="127953"/>
                  </a:lnTo>
                  <a:lnTo>
                    <a:pt x="62086" y="133561"/>
                  </a:lnTo>
                  <a:lnTo>
                    <a:pt x="58324" y="139840"/>
                  </a:lnTo>
                  <a:lnTo>
                    <a:pt x="54969" y="146566"/>
                  </a:lnTo>
                  <a:lnTo>
                    <a:pt x="48984" y="159965"/>
                  </a:lnTo>
                  <a:lnTo>
                    <a:pt x="43501" y="171565"/>
                  </a:lnTo>
                  <a:lnTo>
                    <a:pt x="40854" y="177876"/>
                  </a:lnTo>
                  <a:lnTo>
                    <a:pt x="38242" y="184623"/>
                  </a:lnTo>
                  <a:lnTo>
                    <a:pt x="35655" y="191661"/>
                  </a:lnTo>
                  <a:lnTo>
                    <a:pt x="33083" y="198047"/>
                  </a:lnTo>
                  <a:lnTo>
                    <a:pt x="30522" y="203997"/>
                  </a:lnTo>
                  <a:lnTo>
                    <a:pt x="27968" y="209657"/>
                  </a:lnTo>
                  <a:lnTo>
                    <a:pt x="25419" y="214277"/>
                  </a:lnTo>
                  <a:lnTo>
                    <a:pt x="22873" y="218204"/>
                  </a:lnTo>
                  <a:lnTo>
                    <a:pt x="20328" y="221669"/>
                  </a:lnTo>
                  <a:lnTo>
                    <a:pt x="17785" y="224824"/>
                  </a:lnTo>
                  <a:lnTo>
                    <a:pt x="15243" y="227775"/>
                  </a:lnTo>
                  <a:lnTo>
                    <a:pt x="12701" y="230589"/>
                  </a:lnTo>
                  <a:lnTo>
                    <a:pt x="11007" y="233312"/>
                  </a:lnTo>
                  <a:lnTo>
                    <a:pt x="9125" y="238595"/>
                  </a:lnTo>
                  <a:lnTo>
                    <a:pt x="8289" y="243765"/>
                  </a:lnTo>
                  <a:lnTo>
                    <a:pt x="7620" y="2514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MARTInkAnnotation279"/>
            <p:cNvSpPr/>
            <p:nvPr/>
          </p:nvSpPr>
          <p:spPr>
            <a:xfrm>
              <a:off x="3718080" y="4510800"/>
              <a:ext cx="121680" cy="7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1921" h="7621">
                  <a:moveTo>
                    <a:pt x="0" y="7620"/>
                  </a:moveTo>
                  <a:lnTo>
                    <a:pt x="17911" y="7620"/>
                  </a:lnTo>
                  <a:lnTo>
                    <a:pt x="22101" y="6774"/>
                  </a:lnTo>
                  <a:lnTo>
                    <a:pt x="27434" y="5363"/>
                  </a:lnTo>
                  <a:lnTo>
                    <a:pt x="33529" y="3575"/>
                  </a:lnTo>
                  <a:lnTo>
                    <a:pt x="40132" y="3230"/>
                  </a:lnTo>
                  <a:lnTo>
                    <a:pt x="47075" y="3847"/>
                  </a:lnTo>
                  <a:lnTo>
                    <a:pt x="54243" y="5104"/>
                  </a:lnTo>
                  <a:lnTo>
                    <a:pt x="61562" y="5096"/>
                  </a:lnTo>
                  <a:lnTo>
                    <a:pt x="68981" y="4244"/>
                  </a:lnTo>
                  <a:lnTo>
                    <a:pt x="76467" y="2830"/>
                  </a:lnTo>
                  <a:lnTo>
                    <a:pt x="83152" y="1886"/>
                  </a:lnTo>
                  <a:lnTo>
                    <a:pt x="89301" y="1258"/>
                  </a:lnTo>
                  <a:lnTo>
                    <a:pt x="95094" y="838"/>
                  </a:lnTo>
                  <a:lnTo>
                    <a:pt x="100649" y="559"/>
                  </a:ln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SMARTInkAnnotation280"/>
            <p:cNvSpPr/>
            <p:nvPr/>
          </p:nvSpPr>
          <p:spPr>
            <a:xfrm>
              <a:off x="3908520" y="4228920"/>
              <a:ext cx="112680" cy="434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12759" h="434341">
                  <a:moveTo>
                    <a:pt x="15240" y="0"/>
                  </a:moveTo>
                  <a:lnTo>
                    <a:pt x="19285" y="4045"/>
                  </a:lnTo>
                  <a:lnTo>
                    <a:pt x="22170" y="6083"/>
                  </a:lnTo>
                  <a:lnTo>
                    <a:pt x="25786" y="8289"/>
                  </a:lnTo>
                  <a:lnTo>
                    <a:pt x="29891" y="10606"/>
                  </a:lnTo>
                  <a:lnTo>
                    <a:pt x="34320" y="13844"/>
                  </a:lnTo>
                  <a:lnTo>
                    <a:pt x="38967" y="17697"/>
                  </a:lnTo>
                  <a:lnTo>
                    <a:pt x="43758" y="21957"/>
                  </a:lnTo>
                  <a:lnTo>
                    <a:pt x="47798" y="27338"/>
                  </a:lnTo>
                  <a:lnTo>
                    <a:pt x="51339" y="33466"/>
                  </a:lnTo>
                  <a:lnTo>
                    <a:pt x="54546" y="40091"/>
                  </a:lnTo>
                  <a:lnTo>
                    <a:pt x="58377" y="47047"/>
                  </a:lnTo>
                  <a:lnTo>
                    <a:pt x="62625" y="54225"/>
                  </a:lnTo>
                  <a:lnTo>
                    <a:pt x="67149" y="61550"/>
                  </a:lnTo>
                  <a:lnTo>
                    <a:pt x="71860" y="69820"/>
                  </a:lnTo>
                  <a:lnTo>
                    <a:pt x="81609" y="88040"/>
                  </a:lnTo>
                  <a:lnTo>
                    <a:pt x="85732" y="97641"/>
                  </a:lnTo>
                  <a:lnTo>
                    <a:pt x="89328" y="107426"/>
                  </a:lnTo>
                  <a:lnTo>
                    <a:pt x="92572" y="117338"/>
                  </a:lnTo>
                  <a:lnTo>
                    <a:pt x="95582" y="128179"/>
                  </a:lnTo>
                  <a:lnTo>
                    <a:pt x="98434" y="139639"/>
                  </a:lnTo>
                  <a:lnTo>
                    <a:pt x="103861" y="163662"/>
                  </a:lnTo>
                  <a:lnTo>
                    <a:pt x="109096" y="188450"/>
                  </a:lnTo>
                  <a:lnTo>
                    <a:pt x="110830" y="200987"/>
                  </a:lnTo>
                  <a:lnTo>
                    <a:pt x="111987" y="213578"/>
                  </a:lnTo>
                  <a:lnTo>
                    <a:pt x="112758" y="226205"/>
                  </a:lnTo>
                  <a:lnTo>
                    <a:pt x="112425" y="238858"/>
                  </a:lnTo>
                  <a:lnTo>
                    <a:pt x="111357" y="251525"/>
                  </a:lnTo>
                  <a:lnTo>
                    <a:pt x="109798" y="264203"/>
                  </a:lnTo>
                  <a:lnTo>
                    <a:pt x="107065" y="276042"/>
                  </a:lnTo>
                  <a:lnTo>
                    <a:pt x="103550" y="287322"/>
                  </a:lnTo>
                  <a:lnTo>
                    <a:pt x="99513" y="298228"/>
                  </a:lnTo>
                  <a:lnTo>
                    <a:pt x="95129" y="308885"/>
                  </a:lnTo>
                  <a:lnTo>
                    <a:pt x="90512" y="319377"/>
                  </a:lnTo>
                  <a:lnTo>
                    <a:pt x="80868" y="340065"/>
                  </a:lnTo>
                  <a:lnTo>
                    <a:pt x="70936" y="360549"/>
                  </a:lnTo>
                  <a:lnTo>
                    <a:pt x="65918" y="369059"/>
                  </a:lnTo>
                  <a:lnTo>
                    <a:pt x="60878" y="376426"/>
                  </a:lnTo>
                  <a:lnTo>
                    <a:pt x="55825" y="383031"/>
                  </a:lnTo>
                  <a:lnTo>
                    <a:pt x="50764" y="389127"/>
                  </a:lnTo>
                  <a:lnTo>
                    <a:pt x="45696" y="394885"/>
                  </a:lnTo>
                  <a:lnTo>
                    <a:pt x="40623" y="400417"/>
                  </a:lnTo>
                  <a:lnTo>
                    <a:pt x="34703" y="405798"/>
                  </a:lnTo>
                  <a:lnTo>
                    <a:pt x="28215" y="411079"/>
                  </a:lnTo>
                  <a:lnTo>
                    <a:pt x="21350" y="416292"/>
                  </a:lnTo>
                  <a:lnTo>
                    <a:pt x="16773" y="420615"/>
                  </a:lnTo>
                  <a:lnTo>
                    <a:pt x="13722" y="424343"/>
                  </a:lnTo>
                  <a:lnTo>
                    <a:pt x="11688" y="427676"/>
                  </a:lnTo>
                  <a:lnTo>
                    <a:pt x="9485" y="429897"/>
                  </a:lnTo>
                  <a:lnTo>
                    <a:pt x="7170" y="431378"/>
                  </a:lnTo>
                  <a:lnTo>
                    <a:pt x="0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MARTInkAnnotation281"/>
            <p:cNvSpPr/>
            <p:nvPr/>
          </p:nvSpPr>
          <p:spPr>
            <a:xfrm>
              <a:off x="4175280" y="4381560"/>
              <a:ext cx="190440" cy="14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0501" h="14925">
                  <a:moveTo>
                    <a:pt x="0" y="14924"/>
                  </a:moveTo>
                  <a:lnTo>
                    <a:pt x="43637" y="14924"/>
                  </a:lnTo>
                  <a:lnTo>
                    <a:pt x="48565" y="14078"/>
                  </a:lnTo>
                  <a:lnTo>
                    <a:pt x="53542" y="12667"/>
                  </a:lnTo>
                  <a:lnTo>
                    <a:pt x="58555" y="10879"/>
                  </a:lnTo>
                  <a:lnTo>
                    <a:pt x="63590" y="9687"/>
                  </a:lnTo>
                  <a:lnTo>
                    <a:pt x="68640" y="8893"/>
                  </a:lnTo>
                  <a:lnTo>
                    <a:pt x="73699" y="8363"/>
                  </a:lnTo>
                  <a:lnTo>
                    <a:pt x="78766" y="8010"/>
                  </a:lnTo>
                  <a:lnTo>
                    <a:pt x="83837" y="7775"/>
                  </a:lnTo>
                  <a:lnTo>
                    <a:pt x="94834" y="7514"/>
                  </a:lnTo>
                  <a:lnTo>
                    <a:pt x="108188" y="7397"/>
                  </a:lnTo>
                  <a:lnTo>
                    <a:pt x="113612" y="6520"/>
                  </a:lnTo>
                  <a:lnTo>
                    <a:pt x="118074" y="5088"/>
                  </a:lnTo>
                  <a:lnTo>
                    <a:pt x="121896" y="3286"/>
                  </a:lnTo>
                  <a:lnTo>
                    <a:pt x="126984" y="2086"/>
                  </a:lnTo>
                  <a:lnTo>
                    <a:pt x="132916" y="1285"/>
                  </a:lnTo>
                  <a:lnTo>
                    <a:pt x="139410" y="751"/>
                  </a:lnTo>
                  <a:lnTo>
                    <a:pt x="145433" y="396"/>
                  </a:lnTo>
                  <a:lnTo>
                    <a:pt x="156642" y="0"/>
                  </a:lnTo>
                  <a:lnTo>
                    <a:pt x="162001" y="742"/>
                  </a:lnTo>
                  <a:lnTo>
                    <a:pt x="167267" y="2082"/>
                  </a:lnTo>
                  <a:lnTo>
                    <a:pt x="172471" y="3823"/>
                  </a:lnTo>
                  <a:lnTo>
                    <a:pt x="176787" y="4984"/>
                  </a:lnTo>
                  <a:lnTo>
                    <a:pt x="180511" y="5757"/>
                  </a:lnTo>
                  <a:lnTo>
                    <a:pt x="190500" y="7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MARTInkAnnotation282"/>
            <p:cNvSpPr/>
            <p:nvPr/>
          </p:nvSpPr>
          <p:spPr>
            <a:xfrm>
              <a:off x="4182840" y="444960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10606" y="15240"/>
                  </a:lnTo>
                  <a:lnTo>
                    <a:pt x="13844" y="14394"/>
                  </a:lnTo>
                  <a:lnTo>
                    <a:pt x="17696" y="12982"/>
                  </a:lnTo>
                  <a:lnTo>
                    <a:pt x="21957" y="11195"/>
                  </a:lnTo>
                  <a:lnTo>
                    <a:pt x="27339" y="10003"/>
                  </a:lnTo>
                  <a:lnTo>
                    <a:pt x="33466" y="9209"/>
                  </a:lnTo>
                  <a:lnTo>
                    <a:pt x="40090" y="8679"/>
                  </a:lnTo>
                  <a:lnTo>
                    <a:pt x="47047" y="7480"/>
                  </a:lnTo>
                  <a:lnTo>
                    <a:pt x="54225" y="5833"/>
                  </a:lnTo>
                  <a:lnTo>
                    <a:pt x="61550" y="3888"/>
                  </a:lnTo>
                  <a:lnTo>
                    <a:pt x="68973" y="2592"/>
                  </a:lnTo>
                  <a:lnTo>
                    <a:pt x="76462" y="1728"/>
                  </a:lnTo>
                  <a:lnTo>
                    <a:pt x="83995" y="1152"/>
                  </a:lnTo>
                  <a:lnTo>
                    <a:pt x="91557" y="768"/>
                  </a:lnTo>
                  <a:lnTo>
                    <a:pt x="106732" y="341"/>
                  </a:lnTo>
                  <a:lnTo>
                    <a:pt x="125850" y="67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MARTInkAnnotation283"/>
            <p:cNvSpPr/>
            <p:nvPr/>
          </p:nvSpPr>
          <p:spPr>
            <a:xfrm>
              <a:off x="4495680" y="435060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0">
                  <a:moveTo>
                    <a:pt x="0" y="15239"/>
                  </a:moveTo>
                  <a:lnTo>
                    <a:pt x="10606" y="15239"/>
                  </a:lnTo>
                  <a:lnTo>
                    <a:pt x="12997" y="14393"/>
                  </a:lnTo>
                  <a:lnTo>
                    <a:pt x="15439" y="12982"/>
                  </a:lnTo>
                  <a:lnTo>
                    <a:pt x="17912" y="11195"/>
                  </a:lnTo>
                  <a:lnTo>
                    <a:pt x="22102" y="10003"/>
                  </a:lnTo>
                  <a:lnTo>
                    <a:pt x="27435" y="9208"/>
                  </a:lnTo>
                  <a:lnTo>
                    <a:pt x="33530" y="8679"/>
                  </a:lnTo>
                  <a:lnTo>
                    <a:pt x="40133" y="7479"/>
                  </a:lnTo>
                  <a:lnTo>
                    <a:pt x="47076" y="5833"/>
                  </a:lnTo>
                  <a:lnTo>
                    <a:pt x="54244" y="3889"/>
                  </a:lnTo>
                  <a:lnTo>
                    <a:pt x="61563" y="2592"/>
                  </a:lnTo>
                  <a:lnTo>
                    <a:pt x="68982" y="1728"/>
                  </a:lnTo>
                  <a:lnTo>
                    <a:pt x="76468" y="1152"/>
                  </a:lnTo>
                  <a:lnTo>
                    <a:pt x="83998" y="768"/>
                  </a:lnTo>
                  <a:lnTo>
                    <a:pt x="99140" y="342"/>
                  </a:lnTo>
                  <a:lnTo>
                    <a:pt x="157765" y="13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SMARTInkAnnotation284"/>
            <p:cNvSpPr/>
            <p:nvPr/>
          </p:nvSpPr>
          <p:spPr>
            <a:xfrm>
              <a:off x="4688280" y="4297320"/>
              <a:ext cx="210960" cy="19008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1233" h="190118">
                  <a:moveTo>
                    <a:pt x="51212" y="15238"/>
                  </a:moveTo>
                  <a:lnTo>
                    <a:pt x="55257" y="15238"/>
                  </a:lnTo>
                  <a:lnTo>
                    <a:pt x="57295" y="14392"/>
                  </a:lnTo>
                  <a:lnTo>
                    <a:pt x="61818" y="11193"/>
                  </a:lnTo>
                  <a:lnTo>
                    <a:pt x="64209" y="10001"/>
                  </a:lnTo>
                  <a:lnTo>
                    <a:pt x="69123" y="8677"/>
                  </a:lnTo>
                  <a:lnTo>
                    <a:pt x="73314" y="7478"/>
                  </a:lnTo>
                  <a:lnTo>
                    <a:pt x="84741" y="3886"/>
                  </a:lnTo>
                  <a:lnTo>
                    <a:pt x="91345" y="2590"/>
                  </a:lnTo>
                  <a:lnTo>
                    <a:pt x="98287" y="1726"/>
                  </a:lnTo>
                  <a:lnTo>
                    <a:pt x="105456" y="1150"/>
                  </a:lnTo>
                  <a:lnTo>
                    <a:pt x="112774" y="766"/>
                  </a:lnTo>
                  <a:lnTo>
                    <a:pt x="127680" y="339"/>
                  </a:lnTo>
                  <a:lnTo>
                    <a:pt x="186124" y="11"/>
                  </a:lnTo>
                  <a:lnTo>
                    <a:pt x="204203" y="0"/>
                  </a:lnTo>
                  <a:lnTo>
                    <a:pt x="206546" y="846"/>
                  </a:lnTo>
                  <a:lnTo>
                    <a:pt x="208108" y="2257"/>
                  </a:lnTo>
                  <a:lnTo>
                    <a:pt x="209149" y="4044"/>
                  </a:lnTo>
                  <a:lnTo>
                    <a:pt x="210306" y="8287"/>
                  </a:lnTo>
                  <a:lnTo>
                    <a:pt x="210615" y="10604"/>
                  </a:lnTo>
                  <a:lnTo>
                    <a:pt x="209973" y="12995"/>
                  </a:lnTo>
                  <a:lnTo>
                    <a:pt x="207003" y="17910"/>
                  </a:lnTo>
                  <a:lnTo>
                    <a:pt x="200604" y="22917"/>
                  </a:lnTo>
                  <a:lnTo>
                    <a:pt x="196527" y="25437"/>
                  </a:lnTo>
                  <a:lnTo>
                    <a:pt x="178652" y="37075"/>
                  </a:lnTo>
                  <a:lnTo>
                    <a:pt x="170885" y="41649"/>
                  </a:lnTo>
                  <a:lnTo>
                    <a:pt x="162321" y="46392"/>
                  </a:lnTo>
                  <a:lnTo>
                    <a:pt x="153225" y="51248"/>
                  </a:lnTo>
                  <a:lnTo>
                    <a:pt x="144621" y="56178"/>
                  </a:lnTo>
                  <a:lnTo>
                    <a:pt x="136344" y="61157"/>
                  </a:lnTo>
                  <a:lnTo>
                    <a:pt x="128287" y="66171"/>
                  </a:lnTo>
                  <a:lnTo>
                    <a:pt x="118681" y="70360"/>
                  </a:lnTo>
                  <a:lnTo>
                    <a:pt x="108045" y="74000"/>
                  </a:lnTo>
                  <a:lnTo>
                    <a:pt x="96721" y="77272"/>
                  </a:lnTo>
                  <a:lnTo>
                    <a:pt x="85784" y="81148"/>
                  </a:lnTo>
                  <a:lnTo>
                    <a:pt x="75107" y="85424"/>
                  </a:lnTo>
                  <a:lnTo>
                    <a:pt x="64602" y="89969"/>
                  </a:lnTo>
                  <a:lnTo>
                    <a:pt x="55059" y="94692"/>
                  </a:lnTo>
                  <a:lnTo>
                    <a:pt x="46156" y="99534"/>
                  </a:lnTo>
                  <a:lnTo>
                    <a:pt x="30338" y="108583"/>
                  </a:lnTo>
                  <a:lnTo>
                    <a:pt x="17664" y="115427"/>
                  </a:lnTo>
                  <a:lnTo>
                    <a:pt x="12759" y="119284"/>
                  </a:lnTo>
                  <a:lnTo>
                    <a:pt x="8643" y="123549"/>
                  </a:lnTo>
                  <a:lnTo>
                    <a:pt x="5053" y="128085"/>
                  </a:lnTo>
                  <a:lnTo>
                    <a:pt x="2659" y="132803"/>
                  </a:lnTo>
                  <a:lnTo>
                    <a:pt x="1063" y="137641"/>
                  </a:lnTo>
                  <a:lnTo>
                    <a:pt x="0" y="142560"/>
                  </a:lnTo>
                  <a:lnTo>
                    <a:pt x="137" y="146686"/>
                  </a:lnTo>
                  <a:lnTo>
                    <a:pt x="1075" y="150283"/>
                  </a:lnTo>
                  <a:lnTo>
                    <a:pt x="2548" y="153528"/>
                  </a:lnTo>
                  <a:lnTo>
                    <a:pt x="5222" y="156538"/>
                  </a:lnTo>
                  <a:lnTo>
                    <a:pt x="8699" y="159391"/>
                  </a:lnTo>
                  <a:lnTo>
                    <a:pt x="30491" y="174099"/>
                  </a:lnTo>
                  <a:lnTo>
                    <a:pt x="37398" y="177025"/>
                  </a:lnTo>
                  <a:lnTo>
                    <a:pt x="44542" y="178977"/>
                  </a:lnTo>
                  <a:lnTo>
                    <a:pt x="60947" y="181991"/>
                  </a:lnTo>
                  <a:lnTo>
                    <a:pt x="82350" y="186153"/>
                  </a:lnTo>
                  <a:lnTo>
                    <a:pt x="93984" y="187601"/>
                  </a:lnTo>
                  <a:lnTo>
                    <a:pt x="105973" y="188567"/>
                  </a:lnTo>
                  <a:lnTo>
                    <a:pt x="118200" y="189210"/>
                  </a:lnTo>
                  <a:lnTo>
                    <a:pt x="140815" y="189926"/>
                  </a:lnTo>
                  <a:lnTo>
                    <a:pt x="151587" y="190117"/>
                  </a:lnTo>
                  <a:lnTo>
                    <a:pt x="161309" y="189397"/>
                  </a:lnTo>
                  <a:lnTo>
                    <a:pt x="170329" y="188071"/>
                  </a:lnTo>
                  <a:lnTo>
                    <a:pt x="178884" y="186340"/>
                  </a:lnTo>
                  <a:lnTo>
                    <a:pt x="186280" y="185186"/>
                  </a:lnTo>
                  <a:lnTo>
                    <a:pt x="192904" y="184417"/>
                  </a:lnTo>
                  <a:lnTo>
                    <a:pt x="211232" y="1828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SMARTInkAnnotation285"/>
            <p:cNvSpPr/>
            <p:nvPr/>
          </p:nvSpPr>
          <p:spPr>
            <a:xfrm>
              <a:off x="4945680" y="4297320"/>
              <a:ext cx="90720" cy="2340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90861" h="234156">
                  <a:moveTo>
                    <a:pt x="90860" y="0"/>
                  </a:moveTo>
                  <a:lnTo>
                    <a:pt x="90860" y="4045"/>
                  </a:lnTo>
                  <a:lnTo>
                    <a:pt x="88602" y="10546"/>
                  </a:lnTo>
                  <a:lnTo>
                    <a:pt x="86815" y="14651"/>
                  </a:lnTo>
                  <a:lnTo>
                    <a:pt x="84777" y="19927"/>
                  </a:lnTo>
                  <a:lnTo>
                    <a:pt x="80254" y="32563"/>
                  </a:lnTo>
                  <a:lnTo>
                    <a:pt x="76170" y="39489"/>
                  </a:lnTo>
                  <a:lnTo>
                    <a:pt x="70907" y="46646"/>
                  </a:lnTo>
                  <a:lnTo>
                    <a:pt x="64858" y="53957"/>
                  </a:lnTo>
                  <a:lnTo>
                    <a:pt x="59132" y="61372"/>
                  </a:lnTo>
                  <a:lnTo>
                    <a:pt x="53622" y="68854"/>
                  </a:lnTo>
                  <a:lnTo>
                    <a:pt x="48255" y="76383"/>
                  </a:lnTo>
                  <a:lnTo>
                    <a:pt x="42984" y="84789"/>
                  </a:lnTo>
                  <a:lnTo>
                    <a:pt x="37775" y="93779"/>
                  </a:lnTo>
                  <a:lnTo>
                    <a:pt x="32611" y="103159"/>
                  </a:lnTo>
                  <a:lnTo>
                    <a:pt x="27474" y="111953"/>
                  </a:lnTo>
                  <a:lnTo>
                    <a:pt x="17251" y="128497"/>
                  </a:lnTo>
                  <a:lnTo>
                    <a:pt x="13000" y="137311"/>
                  </a:lnTo>
                  <a:lnTo>
                    <a:pt x="9321" y="146574"/>
                  </a:lnTo>
                  <a:lnTo>
                    <a:pt x="6020" y="156136"/>
                  </a:lnTo>
                  <a:lnTo>
                    <a:pt x="3820" y="164204"/>
                  </a:lnTo>
                  <a:lnTo>
                    <a:pt x="2354" y="171276"/>
                  </a:lnTo>
                  <a:lnTo>
                    <a:pt x="1376" y="177684"/>
                  </a:lnTo>
                  <a:lnTo>
                    <a:pt x="724" y="184496"/>
                  </a:lnTo>
                  <a:lnTo>
                    <a:pt x="290" y="191577"/>
                  </a:lnTo>
                  <a:lnTo>
                    <a:pt x="0" y="198838"/>
                  </a:lnTo>
                  <a:lnTo>
                    <a:pt x="653" y="205372"/>
                  </a:lnTo>
                  <a:lnTo>
                    <a:pt x="1936" y="211422"/>
                  </a:lnTo>
                  <a:lnTo>
                    <a:pt x="3638" y="217148"/>
                  </a:lnTo>
                  <a:lnTo>
                    <a:pt x="6466" y="221812"/>
                  </a:lnTo>
                  <a:lnTo>
                    <a:pt x="10043" y="225768"/>
                  </a:lnTo>
                  <a:lnTo>
                    <a:pt x="14122" y="229251"/>
                  </a:lnTo>
                  <a:lnTo>
                    <a:pt x="18535" y="231575"/>
                  </a:lnTo>
                  <a:lnTo>
                    <a:pt x="23170" y="233123"/>
                  </a:lnTo>
                  <a:lnTo>
                    <a:pt x="27954" y="234155"/>
                  </a:lnTo>
                  <a:lnTo>
                    <a:pt x="32836" y="233997"/>
                  </a:lnTo>
                  <a:lnTo>
                    <a:pt x="37785" y="233044"/>
                  </a:lnTo>
                  <a:lnTo>
                    <a:pt x="42776" y="231563"/>
                  </a:lnTo>
                  <a:lnTo>
                    <a:pt x="46952" y="228882"/>
                  </a:lnTo>
                  <a:lnTo>
                    <a:pt x="50581" y="225402"/>
                  </a:lnTo>
                  <a:lnTo>
                    <a:pt x="53847" y="221388"/>
                  </a:lnTo>
                  <a:lnTo>
                    <a:pt x="57718" y="216172"/>
                  </a:lnTo>
                  <a:lnTo>
                    <a:pt x="66535" y="203603"/>
                  </a:lnTo>
                  <a:lnTo>
                    <a:pt x="70411" y="196695"/>
                  </a:lnTo>
                  <a:lnTo>
                    <a:pt x="73840" y="189550"/>
                  </a:lnTo>
                  <a:lnTo>
                    <a:pt x="76974" y="182247"/>
                  </a:lnTo>
                  <a:lnTo>
                    <a:pt x="79910" y="174838"/>
                  </a:lnTo>
                  <a:lnTo>
                    <a:pt x="85429" y="159832"/>
                  </a:lnTo>
                  <a:lnTo>
                    <a:pt x="87239" y="152275"/>
                  </a:lnTo>
                  <a:lnTo>
                    <a:pt x="88447" y="144696"/>
                  </a:lnTo>
                  <a:lnTo>
                    <a:pt x="89251" y="137104"/>
                  </a:lnTo>
                  <a:lnTo>
                    <a:pt x="89787" y="129503"/>
                  </a:lnTo>
                  <a:lnTo>
                    <a:pt x="90145" y="121895"/>
                  </a:lnTo>
                  <a:lnTo>
                    <a:pt x="90384" y="114283"/>
                  </a:lnTo>
                  <a:lnTo>
                    <a:pt x="89695" y="107516"/>
                  </a:lnTo>
                  <a:lnTo>
                    <a:pt x="88391" y="101310"/>
                  </a:lnTo>
                  <a:lnTo>
                    <a:pt x="86675" y="95480"/>
                  </a:lnTo>
                  <a:lnTo>
                    <a:pt x="84683" y="90747"/>
                  </a:lnTo>
                  <a:lnTo>
                    <a:pt x="82509" y="86745"/>
                  </a:lnTo>
                  <a:lnTo>
                    <a:pt x="80212" y="83230"/>
                  </a:lnTo>
                  <a:lnTo>
                    <a:pt x="77835" y="80040"/>
                  </a:lnTo>
                  <a:lnTo>
                    <a:pt x="75403" y="77067"/>
                  </a:lnTo>
                  <a:lnTo>
                    <a:pt x="68001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MARTInkAnnotation286"/>
            <p:cNvSpPr/>
            <p:nvPr/>
          </p:nvSpPr>
          <p:spPr>
            <a:xfrm>
              <a:off x="5212080" y="4289760"/>
              <a:ext cx="22680" cy="18288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2861" h="182881">
                  <a:moveTo>
                    <a:pt x="22860" y="0"/>
                  </a:moveTo>
                  <a:lnTo>
                    <a:pt x="22860" y="51995"/>
                  </a:lnTo>
                  <a:lnTo>
                    <a:pt x="22013" y="56677"/>
                  </a:lnTo>
                  <a:lnTo>
                    <a:pt x="20602" y="61491"/>
                  </a:lnTo>
                  <a:lnTo>
                    <a:pt x="18815" y="66394"/>
                  </a:lnTo>
                  <a:lnTo>
                    <a:pt x="17623" y="71356"/>
                  </a:lnTo>
                  <a:lnTo>
                    <a:pt x="16829" y="76357"/>
                  </a:lnTo>
                  <a:lnTo>
                    <a:pt x="16299" y="81385"/>
                  </a:lnTo>
                  <a:lnTo>
                    <a:pt x="15946" y="86430"/>
                  </a:lnTo>
                  <a:lnTo>
                    <a:pt x="15711" y="91487"/>
                  </a:lnTo>
                  <a:lnTo>
                    <a:pt x="15554" y="96551"/>
                  </a:lnTo>
                  <a:lnTo>
                    <a:pt x="14603" y="101621"/>
                  </a:lnTo>
                  <a:lnTo>
                    <a:pt x="13122" y="106694"/>
                  </a:lnTo>
                  <a:lnTo>
                    <a:pt x="11288" y="111769"/>
                  </a:lnTo>
                  <a:lnTo>
                    <a:pt x="10065" y="116846"/>
                  </a:lnTo>
                  <a:lnTo>
                    <a:pt x="9250" y="121924"/>
                  </a:lnTo>
                  <a:lnTo>
                    <a:pt x="8707" y="127003"/>
                  </a:lnTo>
                  <a:lnTo>
                    <a:pt x="8344" y="131235"/>
                  </a:lnTo>
                  <a:lnTo>
                    <a:pt x="8103" y="134904"/>
                  </a:lnTo>
                  <a:lnTo>
                    <a:pt x="7942" y="138196"/>
                  </a:lnTo>
                  <a:lnTo>
                    <a:pt x="7763" y="146369"/>
                  </a:lnTo>
                  <a:lnTo>
                    <a:pt x="7648" y="161369"/>
                  </a:lnTo>
                  <a:lnTo>
                    <a:pt x="6792" y="164306"/>
                  </a:lnTo>
                  <a:lnTo>
                    <a:pt x="5374" y="167110"/>
                  </a:lnTo>
                  <a:lnTo>
                    <a:pt x="1062" y="173650"/>
                  </a:lnTo>
                  <a:lnTo>
                    <a:pt x="472" y="176802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MARTInkAnnotation287"/>
            <p:cNvSpPr/>
            <p:nvPr/>
          </p:nvSpPr>
          <p:spPr>
            <a:xfrm>
              <a:off x="5150880" y="434304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148">
                  <a:moveTo>
                    <a:pt x="0" y="7527"/>
                  </a:moveTo>
                  <a:lnTo>
                    <a:pt x="4045" y="3482"/>
                  </a:lnTo>
                  <a:lnTo>
                    <a:pt x="6083" y="2291"/>
                  </a:lnTo>
                  <a:lnTo>
                    <a:pt x="8288" y="1496"/>
                  </a:lnTo>
                  <a:lnTo>
                    <a:pt x="10606" y="966"/>
                  </a:lnTo>
                  <a:lnTo>
                    <a:pt x="12997" y="613"/>
                  </a:lnTo>
                  <a:lnTo>
                    <a:pt x="15438" y="378"/>
                  </a:lnTo>
                  <a:lnTo>
                    <a:pt x="17912" y="221"/>
                  </a:lnTo>
                  <a:lnTo>
                    <a:pt x="22919" y="47"/>
                  </a:lnTo>
                  <a:lnTo>
                    <a:pt x="25439" y="0"/>
                  </a:lnTo>
                  <a:lnTo>
                    <a:pt x="28813" y="816"/>
                  </a:lnTo>
                  <a:lnTo>
                    <a:pt x="32756" y="2206"/>
                  </a:lnTo>
                  <a:lnTo>
                    <a:pt x="37077" y="3980"/>
                  </a:lnTo>
                  <a:lnTo>
                    <a:pt x="42498" y="5162"/>
                  </a:lnTo>
                  <a:lnTo>
                    <a:pt x="48652" y="5951"/>
                  </a:lnTo>
                  <a:lnTo>
                    <a:pt x="60570" y="6826"/>
                  </a:lnTo>
                  <a:lnTo>
                    <a:pt x="68689" y="7216"/>
                  </a:lnTo>
                  <a:lnTo>
                    <a:pt x="72886" y="8166"/>
                  </a:lnTo>
                  <a:lnTo>
                    <a:pt x="77377" y="9646"/>
                  </a:lnTo>
                  <a:lnTo>
                    <a:pt x="82065" y="11480"/>
                  </a:lnTo>
                  <a:lnTo>
                    <a:pt x="87730" y="12703"/>
                  </a:lnTo>
                  <a:lnTo>
                    <a:pt x="94046" y="13517"/>
                  </a:lnTo>
                  <a:lnTo>
                    <a:pt x="106145" y="14423"/>
                  </a:lnTo>
                  <a:lnTo>
                    <a:pt x="114344" y="14825"/>
                  </a:lnTo>
                  <a:lnTo>
                    <a:pt x="120811" y="15004"/>
                  </a:lnTo>
                  <a:lnTo>
                    <a:pt x="144780" y="151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MARTInkAnnotation288"/>
            <p:cNvSpPr/>
            <p:nvPr/>
          </p:nvSpPr>
          <p:spPr>
            <a:xfrm>
              <a:off x="5417640" y="4244040"/>
              <a:ext cx="22680" cy="213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2738" h="213361">
                  <a:moveTo>
                    <a:pt x="15210" y="0"/>
                  </a:moveTo>
                  <a:lnTo>
                    <a:pt x="21770" y="6561"/>
                  </a:lnTo>
                  <a:lnTo>
                    <a:pt x="22359" y="9407"/>
                  </a:lnTo>
                  <a:lnTo>
                    <a:pt x="22690" y="15770"/>
                  </a:lnTo>
                  <a:lnTo>
                    <a:pt x="22737" y="18133"/>
                  </a:lnTo>
                  <a:lnTo>
                    <a:pt x="21921" y="20555"/>
                  </a:lnTo>
                  <a:lnTo>
                    <a:pt x="20531" y="23017"/>
                  </a:lnTo>
                  <a:lnTo>
                    <a:pt x="18757" y="25505"/>
                  </a:lnTo>
                  <a:lnTo>
                    <a:pt x="17575" y="28857"/>
                  </a:lnTo>
                  <a:lnTo>
                    <a:pt x="16786" y="32785"/>
                  </a:lnTo>
                  <a:lnTo>
                    <a:pt x="16261" y="37096"/>
                  </a:lnTo>
                  <a:lnTo>
                    <a:pt x="15910" y="41664"/>
                  </a:lnTo>
                  <a:lnTo>
                    <a:pt x="15677" y="46403"/>
                  </a:lnTo>
                  <a:lnTo>
                    <a:pt x="15417" y="56184"/>
                  </a:lnTo>
                  <a:lnTo>
                    <a:pt x="15302" y="66175"/>
                  </a:lnTo>
                  <a:lnTo>
                    <a:pt x="14425" y="72057"/>
                  </a:lnTo>
                  <a:lnTo>
                    <a:pt x="12993" y="78517"/>
                  </a:lnTo>
                  <a:lnTo>
                    <a:pt x="11192" y="85365"/>
                  </a:lnTo>
                  <a:lnTo>
                    <a:pt x="9991" y="91623"/>
                  </a:lnTo>
                  <a:lnTo>
                    <a:pt x="9191" y="97489"/>
                  </a:lnTo>
                  <a:lnTo>
                    <a:pt x="8657" y="103093"/>
                  </a:lnTo>
                  <a:lnTo>
                    <a:pt x="7455" y="109369"/>
                  </a:lnTo>
                  <a:lnTo>
                    <a:pt x="5806" y="116092"/>
                  </a:lnTo>
                  <a:lnTo>
                    <a:pt x="3861" y="123115"/>
                  </a:lnTo>
                  <a:lnTo>
                    <a:pt x="2563" y="129490"/>
                  </a:lnTo>
                  <a:lnTo>
                    <a:pt x="1699" y="135433"/>
                  </a:lnTo>
                  <a:lnTo>
                    <a:pt x="1123" y="141089"/>
                  </a:lnTo>
                  <a:lnTo>
                    <a:pt x="739" y="146552"/>
                  </a:lnTo>
                  <a:lnTo>
                    <a:pt x="481" y="151889"/>
                  </a:lnTo>
                  <a:lnTo>
                    <a:pt x="197" y="162333"/>
                  </a:lnTo>
                  <a:lnTo>
                    <a:pt x="0" y="187930"/>
                  </a:lnTo>
                  <a:lnTo>
                    <a:pt x="836" y="192173"/>
                  </a:lnTo>
                  <a:lnTo>
                    <a:pt x="2241" y="195849"/>
                  </a:lnTo>
                  <a:lnTo>
                    <a:pt x="4023" y="199146"/>
                  </a:lnTo>
                  <a:lnTo>
                    <a:pt x="5213" y="202191"/>
                  </a:lnTo>
                  <a:lnTo>
                    <a:pt x="6005" y="205067"/>
                  </a:lnTo>
                  <a:lnTo>
                    <a:pt x="7590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MARTInkAnnotation289"/>
            <p:cNvSpPr/>
            <p:nvPr/>
          </p:nvSpPr>
          <p:spPr>
            <a:xfrm>
              <a:off x="5562720" y="4205880"/>
              <a:ext cx="136800" cy="137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36806" h="137161">
                  <a:moveTo>
                    <a:pt x="68225" y="0"/>
                  </a:moveTo>
                  <a:lnTo>
                    <a:pt x="61663" y="0"/>
                  </a:lnTo>
                  <a:lnTo>
                    <a:pt x="61311" y="847"/>
                  </a:lnTo>
                  <a:lnTo>
                    <a:pt x="60919" y="4045"/>
                  </a:lnTo>
                  <a:lnTo>
                    <a:pt x="59967" y="6084"/>
                  </a:lnTo>
                  <a:lnTo>
                    <a:pt x="58487" y="8289"/>
                  </a:lnTo>
                  <a:lnTo>
                    <a:pt x="56653" y="10606"/>
                  </a:lnTo>
                  <a:lnTo>
                    <a:pt x="55429" y="12997"/>
                  </a:lnTo>
                  <a:lnTo>
                    <a:pt x="54615" y="15438"/>
                  </a:lnTo>
                  <a:lnTo>
                    <a:pt x="54071" y="17912"/>
                  </a:lnTo>
                  <a:lnTo>
                    <a:pt x="52862" y="20408"/>
                  </a:lnTo>
                  <a:lnTo>
                    <a:pt x="51210" y="22919"/>
                  </a:lnTo>
                  <a:lnTo>
                    <a:pt x="49262" y="25439"/>
                  </a:lnTo>
                  <a:lnTo>
                    <a:pt x="47116" y="27966"/>
                  </a:lnTo>
                  <a:lnTo>
                    <a:pt x="44839" y="30497"/>
                  </a:lnTo>
                  <a:lnTo>
                    <a:pt x="42474" y="33031"/>
                  </a:lnTo>
                  <a:lnTo>
                    <a:pt x="39204" y="35568"/>
                  </a:lnTo>
                  <a:lnTo>
                    <a:pt x="35332" y="38105"/>
                  </a:lnTo>
                  <a:lnTo>
                    <a:pt x="31056" y="40643"/>
                  </a:lnTo>
                  <a:lnTo>
                    <a:pt x="27359" y="44029"/>
                  </a:lnTo>
                  <a:lnTo>
                    <a:pt x="24047" y="47979"/>
                  </a:lnTo>
                  <a:lnTo>
                    <a:pt x="20994" y="52306"/>
                  </a:lnTo>
                  <a:lnTo>
                    <a:pt x="18111" y="56037"/>
                  </a:lnTo>
                  <a:lnTo>
                    <a:pt x="15342" y="59372"/>
                  </a:lnTo>
                  <a:lnTo>
                    <a:pt x="12650" y="62441"/>
                  </a:lnTo>
                  <a:lnTo>
                    <a:pt x="10855" y="65334"/>
                  </a:lnTo>
                  <a:lnTo>
                    <a:pt x="9658" y="68110"/>
                  </a:lnTo>
                  <a:lnTo>
                    <a:pt x="8861" y="70806"/>
                  </a:lnTo>
                  <a:lnTo>
                    <a:pt x="7482" y="74298"/>
                  </a:lnTo>
                  <a:lnTo>
                    <a:pt x="5716" y="78319"/>
                  </a:lnTo>
                  <a:lnTo>
                    <a:pt x="844" y="88848"/>
                  </a:lnTo>
                  <a:lnTo>
                    <a:pt x="178" y="92546"/>
                  </a:lnTo>
                  <a:lnTo>
                    <a:pt x="0" y="94718"/>
                  </a:lnTo>
                  <a:lnTo>
                    <a:pt x="728" y="97011"/>
                  </a:lnTo>
                  <a:lnTo>
                    <a:pt x="2061" y="99388"/>
                  </a:lnTo>
                  <a:lnTo>
                    <a:pt x="3795" y="101818"/>
                  </a:lnTo>
                  <a:lnTo>
                    <a:pt x="5799" y="104286"/>
                  </a:lnTo>
                  <a:lnTo>
                    <a:pt x="7981" y="106777"/>
                  </a:lnTo>
                  <a:lnTo>
                    <a:pt x="10282" y="109285"/>
                  </a:lnTo>
                  <a:lnTo>
                    <a:pt x="13510" y="110957"/>
                  </a:lnTo>
                  <a:lnTo>
                    <a:pt x="17355" y="112071"/>
                  </a:lnTo>
                  <a:lnTo>
                    <a:pt x="21612" y="112814"/>
                  </a:lnTo>
                  <a:lnTo>
                    <a:pt x="26142" y="114156"/>
                  </a:lnTo>
                  <a:lnTo>
                    <a:pt x="30856" y="115898"/>
                  </a:lnTo>
                  <a:lnTo>
                    <a:pt x="35693" y="117905"/>
                  </a:lnTo>
                  <a:lnTo>
                    <a:pt x="40610" y="120090"/>
                  </a:lnTo>
                  <a:lnTo>
                    <a:pt x="50589" y="124776"/>
                  </a:lnTo>
                  <a:lnTo>
                    <a:pt x="55621" y="126364"/>
                  </a:lnTo>
                  <a:lnTo>
                    <a:pt x="60669" y="127423"/>
                  </a:lnTo>
                  <a:lnTo>
                    <a:pt x="65728" y="128128"/>
                  </a:lnTo>
                  <a:lnTo>
                    <a:pt x="71640" y="129446"/>
                  </a:lnTo>
                  <a:lnTo>
                    <a:pt x="78121" y="131171"/>
                  </a:lnTo>
                  <a:lnTo>
                    <a:pt x="84983" y="133167"/>
                  </a:lnTo>
                  <a:lnTo>
                    <a:pt x="91250" y="134498"/>
                  </a:lnTo>
                  <a:lnTo>
                    <a:pt x="97121" y="135386"/>
                  </a:lnTo>
                  <a:lnTo>
                    <a:pt x="102729" y="135977"/>
                  </a:lnTo>
                  <a:lnTo>
                    <a:pt x="107315" y="136372"/>
                  </a:lnTo>
                  <a:lnTo>
                    <a:pt x="111218" y="136634"/>
                  </a:lnTo>
                  <a:lnTo>
                    <a:pt x="117813" y="136926"/>
                  </a:lnTo>
                  <a:lnTo>
                    <a:pt x="126285" y="137091"/>
                  </a:lnTo>
                  <a:lnTo>
                    <a:pt x="136805" y="137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MARTInkAnnotation290"/>
            <p:cNvSpPr/>
            <p:nvPr/>
          </p:nvSpPr>
          <p:spPr>
            <a:xfrm>
              <a:off x="5684400" y="4190760"/>
              <a:ext cx="99000" cy="2512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99061" h="251461">
                  <a:moveTo>
                    <a:pt x="99060" y="0"/>
                  </a:moveTo>
                  <a:lnTo>
                    <a:pt x="88454" y="10606"/>
                  </a:lnTo>
                  <a:lnTo>
                    <a:pt x="86910" y="13844"/>
                  </a:lnTo>
                  <a:lnTo>
                    <a:pt x="85879" y="17697"/>
                  </a:lnTo>
                  <a:lnTo>
                    <a:pt x="85193" y="21957"/>
                  </a:lnTo>
                  <a:lnTo>
                    <a:pt x="83042" y="25645"/>
                  </a:lnTo>
                  <a:lnTo>
                    <a:pt x="79915" y="28950"/>
                  </a:lnTo>
                  <a:lnTo>
                    <a:pt x="76136" y="32000"/>
                  </a:lnTo>
                  <a:lnTo>
                    <a:pt x="72771" y="35727"/>
                  </a:lnTo>
                  <a:lnTo>
                    <a:pt x="69680" y="39905"/>
                  </a:lnTo>
                  <a:lnTo>
                    <a:pt x="66773" y="44383"/>
                  </a:lnTo>
                  <a:lnTo>
                    <a:pt x="63989" y="49062"/>
                  </a:lnTo>
                  <a:lnTo>
                    <a:pt x="61286" y="53875"/>
                  </a:lnTo>
                  <a:lnTo>
                    <a:pt x="58637" y="58777"/>
                  </a:lnTo>
                  <a:lnTo>
                    <a:pt x="55179" y="64584"/>
                  </a:lnTo>
                  <a:lnTo>
                    <a:pt x="46819" y="77811"/>
                  </a:lnTo>
                  <a:lnTo>
                    <a:pt x="43067" y="84894"/>
                  </a:lnTo>
                  <a:lnTo>
                    <a:pt x="39717" y="92156"/>
                  </a:lnTo>
                  <a:lnTo>
                    <a:pt x="36638" y="99537"/>
                  </a:lnTo>
                  <a:lnTo>
                    <a:pt x="33739" y="106152"/>
                  </a:lnTo>
                  <a:lnTo>
                    <a:pt x="28259" y="118017"/>
                  </a:lnTo>
                  <a:lnTo>
                    <a:pt x="25613" y="124398"/>
                  </a:lnTo>
                  <a:lnTo>
                    <a:pt x="23002" y="131192"/>
                  </a:lnTo>
                  <a:lnTo>
                    <a:pt x="20415" y="138261"/>
                  </a:lnTo>
                  <a:lnTo>
                    <a:pt x="18689" y="145514"/>
                  </a:lnTo>
                  <a:lnTo>
                    <a:pt x="17540" y="152890"/>
                  </a:lnTo>
                  <a:lnTo>
                    <a:pt x="16773" y="160347"/>
                  </a:lnTo>
                  <a:lnTo>
                    <a:pt x="15415" y="167858"/>
                  </a:lnTo>
                  <a:lnTo>
                    <a:pt x="13664" y="175406"/>
                  </a:lnTo>
                  <a:lnTo>
                    <a:pt x="11649" y="182977"/>
                  </a:lnTo>
                  <a:lnTo>
                    <a:pt x="7153" y="198163"/>
                  </a:lnTo>
                  <a:lnTo>
                    <a:pt x="4769" y="205769"/>
                  </a:lnTo>
                  <a:lnTo>
                    <a:pt x="3178" y="212533"/>
                  </a:lnTo>
                  <a:lnTo>
                    <a:pt x="2119" y="218735"/>
                  </a:lnTo>
                  <a:lnTo>
                    <a:pt x="1413" y="224563"/>
                  </a:lnTo>
                  <a:lnTo>
                    <a:pt x="941" y="230143"/>
                  </a:lnTo>
                  <a:lnTo>
                    <a:pt x="628" y="235555"/>
                  </a:lnTo>
                  <a:lnTo>
                    <a:pt x="0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MARTInkAnnotation291"/>
            <p:cNvSpPr/>
            <p:nvPr/>
          </p:nvSpPr>
          <p:spPr>
            <a:xfrm>
              <a:off x="5936040" y="4335840"/>
              <a:ext cx="213120" cy="147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13361" h="14925">
                  <a:moveTo>
                    <a:pt x="0" y="14924"/>
                  </a:moveTo>
                  <a:lnTo>
                    <a:pt x="10606" y="14924"/>
                  </a:lnTo>
                  <a:lnTo>
                    <a:pt x="12997" y="14078"/>
                  </a:lnTo>
                  <a:lnTo>
                    <a:pt x="15438" y="12666"/>
                  </a:lnTo>
                  <a:lnTo>
                    <a:pt x="17912" y="10879"/>
                  </a:lnTo>
                  <a:lnTo>
                    <a:pt x="21254" y="9687"/>
                  </a:lnTo>
                  <a:lnTo>
                    <a:pt x="25176" y="8893"/>
                  </a:lnTo>
                  <a:lnTo>
                    <a:pt x="29484" y="8363"/>
                  </a:lnTo>
                  <a:lnTo>
                    <a:pt x="34896" y="8010"/>
                  </a:lnTo>
                  <a:lnTo>
                    <a:pt x="41044" y="7775"/>
                  </a:lnTo>
                  <a:lnTo>
                    <a:pt x="61832" y="7444"/>
                  </a:lnTo>
                  <a:lnTo>
                    <a:pt x="69161" y="7397"/>
                  </a:lnTo>
                  <a:lnTo>
                    <a:pt x="76588" y="6520"/>
                  </a:lnTo>
                  <a:lnTo>
                    <a:pt x="84078" y="5088"/>
                  </a:lnTo>
                  <a:lnTo>
                    <a:pt x="91612" y="3286"/>
                  </a:lnTo>
                  <a:lnTo>
                    <a:pt x="99175" y="2086"/>
                  </a:lnTo>
                  <a:lnTo>
                    <a:pt x="106757" y="1285"/>
                  </a:lnTo>
                  <a:lnTo>
                    <a:pt x="114351" y="751"/>
                  </a:lnTo>
                  <a:lnTo>
                    <a:pt x="121954" y="396"/>
                  </a:lnTo>
                  <a:lnTo>
                    <a:pt x="137175" y="0"/>
                  </a:lnTo>
                  <a:lnTo>
                    <a:pt x="144790" y="742"/>
                  </a:lnTo>
                  <a:lnTo>
                    <a:pt x="152406" y="2082"/>
                  </a:lnTo>
                  <a:lnTo>
                    <a:pt x="160024" y="3823"/>
                  </a:lnTo>
                  <a:lnTo>
                    <a:pt x="166796" y="4983"/>
                  </a:lnTo>
                  <a:lnTo>
                    <a:pt x="173005" y="5757"/>
                  </a:lnTo>
                  <a:lnTo>
                    <a:pt x="178836" y="6272"/>
                  </a:lnTo>
                  <a:lnTo>
                    <a:pt x="184418" y="6616"/>
                  </a:lnTo>
                  <a:lnTo>
                    <a:pt x="195135" y="6999"/>
                  </a:lnTo>
                  <a:lnTo>
                    <a:pt x="213360" y="7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MARTInkAnnotation292"/>
            <p:cNvSpPr/>
            <p:nvPr/>
          </p:nvSpPr>
          <p:spPr>
            <a:xfrm>
              <a:off x="5996880" y="436608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39">
                  <a:moveTo>
                    <a:pt x="0" y="7620"/>
                  </a:moveTo>
                  <a:lnTo>
                    <a:pt x="0" y="14181"/>
                  </a:lnTo>
                  <a:lnTo>
                    <a:pt x="847" y="14534"/>
                  </a:lnTo>
                  <a:lnTo>
                    <a:pt x="4045" y="14926"/>
                  </a:lnTo>
                  <a:lnTo>
                    <a:pt x="8289" y="15100"/>
                  </a:lnTo>
                  <a:lnTo>
                    <a:pt x="13844" y="15178"/>
                  </a:lnTo>
                  <a:lnTo>
                    <a:pt x="54989" y="15238"/>
                  </a:lnTo>
                  <a:lnTo>
                    <a:pt x="62059" y="14392"/>
                  </a:lnTo>
                  <a:lnTo>
                    <a:pt x="69313" y="12981"/>
                  </a:lnTo>
                  <a:lnTo>
                    <a:pt x="76689" y="11194"/>
                  </a:lnTo>
                  <a:lnTo>
                    <a:pt x="84146" y="10003"/>
                  </a:lnTo>
                  <a:lnTo>
                    <a:pt x="91658" y="9208"/>
                  </a:lnTo>
                  <a:lnTo>
                    <a:pt x="99206" y="8679"/>
                  </a:lnTo>
                  <a:lnTo>
                    <a:pt x="105930" y="8326"/>
                  </a:lnTo>
                  <a:lnTo>
                    <a:pt x="117917" y="7933"/>
                  </a:lnTo>
                  <a:lnTo>
                    <a:pt x="124332" y="6982"/>
                  </a:lnTo>
                  <a:lnTo>
                    <a:pt x="131148" y="5502"/>
                  </a:lnTo>
                  <a:lnTo>
                    <a:pt x="138232" y="3668"/>
                  </a:lnTo>
                  <a:lnTo>
                    <a:pt x="144648" y="2445"/>
                  </a:lnTo>
                  <a:lnTo>
                    <a:pt x="150619" y="1630"/>
                  </a:lnTo>
                  <a:lnTo>
                    <a:pt x="156293" y="1087"/>
                  </a:lnTo>
                  <a:lnTo>
                    <a:pt x="160922" y="725"/>
                  </a:lnTo>
                  <a:lnTo>
                    <a:pt x="164855" y="483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SMARTInkAnnotation293"/>
            <p:cNvSpPr/>
            <p:nvPr/>
          </p:nvSpPr>
          <p:spPr>
            <a:xfrm>
              <a:off x="6309360" y="4251600"/>
              <a:ext cx="159840" cy="302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0021" h="3048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8" y="2258"/>
                  </a:lnTo>
                  <a:lnTo>
                    <a:pt x="10606" y="4045"/>
                  </a:lnTo>
                  <a:lnTo>
                    <a:pt x="13843" y="5237"/>
                  </a:lnTo>
                  <a:lnTo>
                    <a:pt x="17695" y="6031"/>
                  </a:lnTo>
                  <a:lnTo>
                    <a:pt x="21957" y="6561"/>
                  </a:lnTo>
                  <a:lnTo>
                    <a:pt x="26491" y="7761"/>
                  </a:lnTo>
                  <a:lnTo>
                    <a:pt x="31207" y="9408"/>
                  </a:lnTo>
                  <a:lnTo>
                    <a:pt x="36045" y="11352"/>
                  </a:lnTo>
                  <a:lnTo>
                    <a:pt x="40963" y="12648"/>
                  </a:lnTo>
                  <a:lnTo>
                    <a:pt x="45936" y="13512"/>
                  </a:lnTo>
                  <a:lnTo>
                    <a:pt x="50943" y="14088"/>
                  </a:lnTo>
                  <a:lnTo>
                    <a:pt x="55976" y="15319"/>
                  </a:lnTo>
                  <a:lnTo>
                    <a:pt x="61023" y="16986"/>
                  </a:lnTo>
                  <a:lnTo>
                    <a:pt x="66082" y="18944"/>
                  </a:lnTo>
                  <a:lnTo>
                    <a:pt x="71148" y="20249"/>
                  </a:lnTo>
                  <a:lnTo>
                    <a:pt x="76219" y="21120"/>
                  </a:lnTo>
                  <a:lnTo>
                    <a:pt x="81292" y="21700"/>
                  </a:lnTo>
                  <a:lnTo>
                    <a:pt x="87215" y="22086"/>
                  </a:lnTo>
                  <a:lnTo>
                    <a:pt x="93703" y="22345"/>
                  </a:lnTo>
                  <a:lnTo>
                    <a:pt x="112713" y="22707"/>
                  </a:lnTo>
                  <a:lnTo>
                    <a:pt x="118321" y="22758"/>
                  </a:lnTo>
                  <a:lnTo>
                    <a:pt x="123754" y="23639"/>
                  </a:lnTo>
                  <a:lnTo>
                    <a:pt x="129069" y="25072"/>
                  </a:lnTo>
                  <a:lnTo>
                    <a:pt x="134306" y="26875"/>
                  </a:lnTo>
                  <a:lnTo>
                    <a:pt x="139491" y="28077"/>
                  </a:lnTo>
                  <a:lnTo>
                    <a:pt x="144640" y="28878"/>
                  </a:lnTo>
                  <a:lnTo>
                    <a:pt x="160020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SMARTInkAnnotation294"/>
            <p:cNvSpPr/>
            <p:nvPr/>
          </p:nvSpPr>
          <p:spPr>
            <a:xfrm>
              <a:off x="6539760" y="4213440"/>
              <a:ext cx="218880" cy="1940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218882" h="194357">
                  <a:moveTo>
                    <a:pt x="97488" y="0"/>
                  </a:moveTo>
                  <a:lnTo>
                    <a:pt x="104049" y="0"/>
                  </a:lnTo>
                  <a:lnTo>
                    <a:pt x="98454" y="0"/>
                  </a:lnTo>
                  <a:lnTo>
                    <a:pt x="98132" y="847"/>
                  </a:lnTo>
                  <a:lnTo>
                    <a:pt x="97773" y="4045"/>
                  </a:lnTo>
                  <a:lnTo>
                    <a:pt x="96832" y="6084"/>
                  </a:lnTo>
                  <a:lnTo>
                    <a:pt x="93527" y="10606"/>
                  </a:lnTo>
                  <a:lnTo>
                    <a:pt x="86979" y="15438"/>
                  </a:lnTo>
                  <a:lnTo>
                    <a:pt x="82862" y="17912"/>
                  </a:lnTo>
                  <a:lnTo>
                    <a:pt x="78424" y="21255"/>
                  </a:lnTo>
                  <a:lnTo>
                    <a:pt x="73772" y="25177"/>
                  </a:lnTo>
                  <a:lnTo>
                    <a:pt x="68978" y="29484"/>
                  </a:lnTo>
                  <a:lnTo>
                    <a:pt x="59134" y="38787"/>
                  </a:lnTo>
                  <a:lnTo>
                    <a:pt x="54138" y="43637"/>
                  </a:lnTo>
                  <a:lnTo>
                    <a:pt x="48269" y="47719"/>
                  </a:lnTo>
                  <a:lnTo>
                    <a:pt x="41814" y="51286"/>
                  </a:lnTo>
                  <a:lnTo>
                    <a:pt x="34972" y="54511"/>
                  </a:lnTo>
                  <a:lnTo>
                    <a:pt x="29564" y="59200"/>
                  </a:lnTo>
                  <a:lnTo>
                    <a:pt x="25112" y="64867"/>
                  </a:lnTo>
                  <a:lnTo>
                    <a:pt x="21298" y="71185"/>
                  </a:lnTo>
                  <a:lnTo>
                    <a:pt x="17908" y="77090"/>
                  </a:lnTo>
                  <a:lnTo>
                    <a:pt x="11883" y="88167"/>
                  </a:lnTo>
                  <a:lnTo>
                    <a:pt x="3732" y="103923"/>
                  </a:lnTo>
                  <a:lnTo>
                    <a:pt x="1965" y="109922"/>
                  </a:lnTo>
                  <a:lnTo>
                    <a:pt x="785" y="116462"/>
                  </a:lnTo>
                  <a:lnTo>
                    <a:pt x="0" y="123361"/>
                  </a:lnTo>
                  <a:lnTo>
                    <a:pt x="323" y="129654"/>
                  </a:lnTo>
                  <a:lnTo>
                    <a:pt x="1384" y="135543"/>
                  </a:lnTo>
                  <a:lnTo>
                    <a:pt x="2938" y="141162"/>
                  </a:lnTo>
                  <a:lnTo>
                    <a:pt x="4822" y="146602"/>
                  </a:lnTo>
                  <a:lnTo>
                    <a:pt x="6924" y="151921"/>
                  </a:lnTo>
                  <a:lnTo>
                    <a:pt x="9172" y="157161"/>
                  </a:lnTo>
                  <a:lnTo>
                    <a:pt x="12364" y="161501"/>
                  </a:lnTo>
                  <a:lnTo>
                    <a:pt x="16185" y="165240"/>
                  </a:lnTo>
                  <a:lnTo>
                    <a:pt x="20426" y="168580"/>
                  </a:lnTo>
                  <a:lnTo>
                    <a:pt x="25793" y="172500"/>
                  </a:lnTo>
                  <a:lnTo>
                    <a:pt x="38531" y="181372"/>
                  </a:lnTo>
                  <a:lnTo>
                    <a:pt x="45483" y="184414"/>
                  </a:lnTo>
                  <a:lnTo>
                    <a:pt x="52658" y="186443"/>
                  </a:lnTo>
                  <a:lnTo>
                    <a:pt x="59980" y="187795"/>
                  </a:lnTo>
                  <a:lnTo>
                    <a:pt x="77148" y="191556"/>
                  </a:lnTo>
                  <a:lnTo>
                    <a:pt x="86469" y="193744"/>
                  </a:lnTo>
                  <a:lnTo>
                    <a:pt x="95222" y="194356"/>
                  </a:lnTo>
                  <a:lnTo>
                    <a:pt x="103597" y="193917"/>
                  </a:lnTo>
                  <a:lnTo>
                    <a:pt x="111721" y="192778"/>
                  </a:lnTo>
                  <a:lnTo>
                    <a:pt x="120523" y="192019"/>
                  </a:lnTo>
                  <a:lnTo>
                    <a:pt x="129778" y="191513"/>
                  </a:lnTo>
                  <a:lnTo>
                    <a:pt x="139335" y="191175"/>
                  </a:lnTo>
                  <a:lnTo>
                    <a:pt x="148246" y="189257"/>
                  </a:lnTo>
                  <a:lnTo>
                    <a:pt x="156726" y="186285"/>
                  </a:lnTo>
                  <a:lnTo>
                    <a:pt x="164920" y="182610"/>
                  </a:lnTo>
                  <a:lnTo>
                    <a:pt x="172922" y="179314"/>
                  </a:lnTo>
                  <a:lnTo>
                    <a:pt x="180797" y="176269"/>
                  </a:lnTo>
                  <a:lnTo>
                    <a:pt x="188587" y="173393"/>
                  </a:lnTo>
                  <a:lnTo>
                    <a:pt x="194627" y="169782"/>
                  </a:lnTo>
                  <a:lnTo>
                    <a:pt x="199501" y="165681"/>
                  </a:lnTo>
                  <a:lnTo>
                    <a:pt x="207174" y="157456"/>
                  </a:lnTo>
                  <a:lnTo>
                    <a:pt x="213406" y="150978"/>
                  </a:lnTo>
                  <a:lnTo>
                    <a:pt x="215407" y="147219"/>
                  </a:lnTo>
                  <a:lnTo>
                    <a:pt x="216741" y="143019"/>
                  </a:lnTo>
                  <a:lnTo>
                    <a:pt x="217630" y="138526"/>
                  </a:lnTo>
                  <a:lnTo>
                    <a:pt x="218222" y="133837"/>
                  </a:lnTo>
                  <a:lnTo>
                    <a:pt x="218617" y="129018"/>
                  </a:lnTo>
                  <a:lnTo>
                    <a:pt x="218881" y="124112"/>
                  </a:lnTo>
                  <a:lnTo>
                    <a:pt x="218210" y="119995"/>
                  </a:lnTo>
                  <a:lnTo>
                    <a:pt x="216916" y="116404"/>
                  </a:lnTo>
                  <a:lnTo>
                    <a:pt x="215207" y="113162"/>
                  </a:lnTo>
                  <a:lnTo>
                    <a:pt x="211050" y="107303"/>
                  </a:lnTo>
                  <a:lnTo>
                    <a:pt x="208755" y="104555"/>
                  </a:lnTo>
                  <a:lnTo>
                    <a:pt x="206380" y="102724"/>
                  </a:lnTo>
                  <a:lnTo>
                    <a:pt x="201482" y="100688"/>
                  </a:lnTo>
                  <a:lnTo>
                    <a:pt x="197297" y="100146"/>
                  </a:lnTo>
                  <a:lnTo>
                    <a:pt x="191967" y="99784"/>
                  </a:lnTo>
                  <a:lnTo>
                    <a:pt x="176846" y="99274"/>
                  </a:lnTo>
                  <a:lnTo>
                    <a:pt x="173253" y="99203"/>
                  </a:lnTo>
                  <a:lnTo>
                    <a:pt x="170012" y="100002"/>
                  </a:lnTo>
                  <a:lnTo>
                    <a:pt x="164152" y="103148"/>
                  </a:lnTo>
                  <a:lnTo>
                    <a:pt x="158725" y="107368"/>
                  </a:lnTo>
                  <a:lnTo>
                    <a:pt x="156092" y="109678"/>
                  </a:lnTo>
                  <a:lnTo>
                    <a:pt x="153490" y="112912"/>
                  </a:lnTo>
                  <a:lnTo>
                    <a:pt x="150909" y="116762"/>
                  </a:lnTo>
                  <a:lnTo>
                    <a:pt x="148342" y="121021"/>
                  </a:lnTo>
                  <a:lnTo>
                    <a:pt x="146630" y="125554"/>
                  </a:lnTo>
                  <a:lnTo>
                    <a:pt x="145490" y="130269"/>
                  </a:lnTo>
                  <a:lnTo>
                    <a:pt x="144729" y="135106"/>
                  </a:lnTo>
                  <a:lnTo>
                    <a:pt x="144222" y="139178"/>
                  </a:lnTo>
                  <a:lnTo>
                    <a:pt x="143884" y="142738"/>
                  </a:lnTo>
                  <a:lnTo>
                    <a:pt x="143658" y="145959"/>
                  </a:lnTo>
                  <a:lnTo>
                    <a:pt x="144355" y="149799"/>
                  </a:lnTo>
                  <a:lnTo>
                    <a:pt x="145666" y="154053"/>
                  </a:lnTo>
                  <a:lnTo>
                    <a:pt x="147387" y="158582"/>
                  </a:lnTo>
                  <a:lnTo>
                    <a:pt x="149380" y="162448"/>
                  </a:lnTo>
                  <a:lnTo>
                    <a:pt x="151555" y="165872"/>
                  </a:lnTo>
                  <a:lnTo>
                    <a:pt x="153853" y="169002"/>
                  </a:lnTo>
                  <a:lnTo>
                    <a:pt x="156231" y="172781"/>
                  </a:lnTo>
                  <a:lnTo>
                    <a:pt x="158664" y="176994"/>
                  </a:lnTo>
                  <a:lnTo>
                    <a:pt x="161132" y="181496"/>
                  </a:lnTo>
                  <a:lnTo>
                    <a:pt x="163624" y="184497"/>
                  </a:lnTo>
                  <a:lnTo>
                    <a:pt x="166131" y="186499"/>
                  </a:lnTo>
                  <a:lnTo>
                    <a:pt x="173687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SMARTInkAnnotation295"/>
            <p:cNvSpPr/>
            <p:nvPr/>
          </p:nvSpPr>
          <p:spPr>
            <a:xfrm>
              <a:off x="2689200" y="5341320"/>
              <a:ext cx="174960" cy="226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75261" h="22861">
                  <a:moveTo>
                    <a:pt x="0" y="22860"/>
                  </a:moveTo>
                  <a:lnTo>
                    <a:pt x="4045" y="18816"/>
                  </a:lnTo>
                  <a:lnTo>
                    <a:pt x="6084" y="17623"/>
                  </a:lnTo>
                  <a:lnTo>
                    <a:pt x="8289" y="16829"/>
                  </a:lnTo>
                  <a:lnTo>
                    <a:pt x="10606" y="16299"/>
                  </a:lnTo>
                  <a:lnTo>
                    <a:pt x="15438" y="15711"/>
                  </a:lnTo>
                  <a:lnTo>
                    <a:pt x="17912" y="15554"/>
                  </a:lnTo>
                  <a:lnTo>
                    <a:pt x="27435" y="15380"/>
                  </a:lnTo>
                  <a:lnTo>
                    <a:pt x="33530" y="15333"/>
                  </a:lnTo>
                  <a:lnTo>
                    <a:pt x="40133" y="14455"/>
                  </a:lnTo>
                  <a:lnTo>
                    <a:pt x="47076" y="13024"/>
                  </a:lnTo>
                  <a:lnTo>
                    <a:pt x="54244" y="11223"/>
                  </a:lnTo>
                  <a:lnTo>
                    <a:pt x="61563" y="10022"/>
                  </a:lnTo>
                  <a:lnTo>
                    <a:pt x="68982" y="9222"/>
                  </a:lnTo>
                  <a:lnTo>
                    <a:pt x="76468" y="8688"/>
                  </a:lnTo>
                  <a:lnTo>
                    <a:pt x="83999" y="8332"/>
                  </a:lnTo>
                  <a:lnTo>
                    <a:pt x="99140" y="7936"/>
                  </a:lnTo>
                  <a:lnTo>
                    <a:pt x="121944" y="7714"/>
                  </a:lnTo>
                  <a:lnTo>
                    <a:pt x="129556" y="6836"/>
                  </a:lnTo>
                  <a:lnTo>
                    <a:pt x="137171" y="5404"/>
                  </a:lnTo>
                  <a:lnTo>
                    <a:pt x="144787" y="3603"/>
                  </a:lnTo>
                  <a:lnTo>
                    <a:pt x="151558" y="2402"/>
                  </a:lnTo>
                  <a:lnTo>
                    <a:pt x="157766" y="1602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MARTInkAnnotation296"/>
            <p:cNvSpPr/>
            <p:nvPr/>
          </p:nvSpPr>
          <p:spPr>
            <a:xfrm>
              <a:off x="2750040" y="5371920"/>
              <a:ext cx="129240" cy="22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29541" h="22861">
                  <a:moveTo>
                    <a:pt x="0" y="22860"/>
                  </a:moveTo>
                  <a:lnTo>
                    <a:pt x="21958" y="22860"/>
                  </a:lnTo>
                  <a:lnTo>
                    <a:pt x="26492" y="22014"/>
                  </a:lnTo>
                  <a:lnTo>
                    <a:pt x="31208" y="20603"/>
                  </a:lnTo>
                  <a:lnTo>
                    <a:pt x="36045" y="18815"/>
                  </a:lnTo>
                  <a:lnTo>
                    <a:pt x="41810" y="17623"/>
                  </a:lnTo>
                  <a:lnTo>
                    <a:pt x="48194" y="16829"/>
                  </a:lnTo>
                  <a:lnTo>
                    <a:pt x="54989" y="16299"/>
                  </a:lnTo>
                  <a:lnTo>
                    <a:pt x="62059" y="15099"/>
                  </a:lnTo>
                  <a:lnTo>
                    <a:pt x="69313" y="13453"/>
                  </a:lnTo>
                  <a:lnTo>
                    <a:pt x="103250" y="4728"/>
                  </a:lnTo>
                  <a:lnTo>
                    <a:pt x="110320" y="3151"/>
                  </a:lnTo>
                  <a:lnTo>
                    <a:pt x="115880" y="2101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SMARTInkAnnotation297"/>
            <p:cNvSpPr/>
            <p:nvPr/>
          </p:nvSpPr>
          <p:spPr>
            <a:xfrm>
              <a:off x="2964240" y="5150880"/>
              <a:ext cx="197280" cy="1216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97574" h="121921">
                  <a:moveTo>
                    <a:pt x="83273" y="0"/>
                  </a:moveTo>
                  <a:lnTo>
                    <a:pt x="79228" y="4045"/>
                  </a:lnTo>
                  <a:lnTo>
                    <a:pt x="78036" y="6084"/>
                  </a:lnTo>
                  <a:lnTo>
                    <a:pt x="77242" y="8289"/>
                  </a:lnTo>
                  <a:lnTo>
                    <a:pt x="76712" y="10606"/>
                  </a:lnTo>
                  <a:lnTo>
                    <a:pt x="76359" y="12997"/>
                  </a:lnTo>
                  <a:lnTo>
                    <a:pt x="76124" y="15439"/>
                  </a:lnTo>
                  <a:lnTo>
                    <a:pt x="75967" y="17912"/>
                  </a:lnTo>
                  <a:lnTo>
                    <a:pt x="74169" y="20409"/>
                  </a:lnTo>
                  <a:lnTo>
                    <a:pt x="71277" y="22919"/>
                  </a:lnTo>
                  <a:lnTo>
                    <a:pt x="67656" y="25439"/>
                  </a:lnTo>
                  <a:lnTo>
                    <a:pt x="64395" y="27966"/>
                  </a:lnTo>
                  <a:lnTo>
                    <a:pt x="61375" y="30497"/>
                  </a:lnTo>
                  <a:lnTo>
                    <a:pt x="58513" y="33032"/>
                  </a:lnTo>
                  <a:lnTo>
                    <a:pt x="53078" y="38105"/>
                  </a:lnTo>
                  <a:lnTo>
                    <a:pt x="43000" y="47980"/>
                  </a:lnTo>
                  <a:lnTo>
                    <a:pt x="38644" y="52307"/>
                  </a:lnTo>
                  <a:lnTo>
                    <a:pt x="34894" y="55191"/>
                  </a:lnTo>
                  <a:lnTo>
                    <a:pt x="31547" y="57114"/>
                  </a:lnTo>
                  <a:lnTo>
                    <a:pt x="28469" y="58396"/>
                  </a:lnTo>
                  <a:lnTo>
                    <a:pt x="24723" y="60098"/>
                  </a:lnTo>
                  <a:lnTo>
                    <a:pt x="16046" y="64245"/>
                  </a:lnTo>
                  <a:lnTo>
                    <a:pt x="12209" y="66537"/>
                  </a:lnTo>
                  <a:lnTo>
                    <a:pt x="8804" y="68911"/>
                  </a:lnTo>
                  <a:lnTo>
                    <a:pt x="5687" y="71341"/>
                  </a:lnTo>
                  <a:lnTo>
                    <a:pt x="3609" y="73808"/>
                  </a:lnTo>
                  <a:lnTo>
                    <a:pt x="2224" y="76298"/>
                  </a:lnTo>
                  <a:lnTo>
                    <a:pt x="0" y="82334"/>
                  </a:lnTo>
                  <a:lnTo>
                    <a:pt x="664" y="83677"/>
                  </a:lnTo>
                  <a:lnTo>
                    <a:pt x="3660" y="87425"/>
                  </a:lnTo>
                  <a:lnTo>
                    <a:pt x="5645" y="89610"/>
                  </a:lnTo>
                  <a:lnTo>
                    <a:pt x="10107" y="94296"/>
                  </a:lnTo>
                  <a:lnTo>
                    <a:pt x="12482" y="95884"/>
                  </a:lnTo>
                  <a:lnTo>
                    <a:pt x="17380" y="97648"/>
                  </a:lnTo>
                  <a:lnTo>
                    <a:pt x="20718" y="98966"/>
                  </a:lnTo>
                  <a:lnTo>
                    <a:pt x="24636" y="100691"/>
                  </a:lnTo>
                  <a:lnTo>
                    <a:pt x="28942" y="102687"/>
                  </a:lnTo>
                  <a:lnTo>
                    <a:pt x="33505" y="104018"/>
                  </a:lnTo>
                  <a:lnTo>
                    <a:pt x="38241" y="104905"/>
                  </a:lnTo>
                  <a:lnTo>
                    <a:pt x="43092" y="105497"/>
                  </a:lnTo>
                  <a:lnTo>
                    <a:pt x="48866" y="105891"/>
                  </a:lnTo>
                  <a:lnTo>
                    <a:pt x="55255" y="106154"/>
                  </a:lnTo>
                  <a:lnTo>
                    <a:pt x="62055" y="106329"/>
                  </a:lnTo>
                  <a:lnTo>
                    <a:pt x="69128" y="107293"/>
                  </a:lnTo>
                  <a:lnTo>
                    <a:pt x="76382" y="108782"/>
                  </a:lnTo>
                  <a:lnTo>
                    <a:pt x="83759" y="110621"/>
                  </a:lnTo>
                  <a:lnTo>
                    <a:pt x="91217" y="111848"/>
                  </a:lnTo>
                  <a:lnTo>
                    <a:pt x="98729" y="112665"/>
                  </a:lnTo>
                  <a:lnTo>
                    <a:pt x="106277" y="113210"/>
                  </a:lnTo>
                  <a:lnTo>
                    <a:pt x="113003" y="113574"/>
                  </a:lnTo>
                  <a:lnTo>
                    <a:pt x="124990" y="113977"/>
                  </a:lnTo>
                  <a:lnTo>
                    <a:pt x="157692" y="114257"/>
                  </a:lnTo>
                  <a:lnTo>
                    <a:pt x="163366" y="114272"/>
                  </a:lnTo>
                  <a:lnTo>
                    <a:pt x="167995" y="115128"/>
                  </a:lnTo>
                  <a:lnTo>
                    <a:pt x="171928" y="116546"/>
                  </a:lnTo>
                  <a:lnTo>
                    <a:pt x="175396" y="118337"/>
                  </a:lnTo>
                  <a:lnTo>
                    <a:pt x="181508" y="120328"/>
                  </a:lnTo>
                  <a:lnTo>
                    <a:pt x="187046" y="121212"/>
                  </a:lnTo>
                  <a:lnTo>
                    <a:pt x="192330" y="121606"/>
                  </a:lnTo>
                  <a:lnTo>
                    <a:pt x="197573" y="1219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SMARTInkAnnotation298"/>
            <p:cNvSpPr/>
            <p:nvPr/>
          </p:nvSpPr>
          <p:spPr>
            <a:xfrm>
              <a:off x="3147840" y="5143320"/>
              <a:ext cx="97560" cy="304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97859" h="304801">
                  <a:moveTo>
                    <a:pt x="97858" y="0"/>
                  </a:moveTo>
                  <a:lnTo>
                    <a:pt x="97858" y="10606"/>
                  </a:lnTo>
                  <a:lnTo>
                    <a:pt x="97011" y="12997"/>
                  </a:lnTo>
                  <a:lnTo>
                    <a:pt x="95601" y="15439"/>
                  </a:lnTo>
                  <a:lnTo>
                    <a:pt x="93813" y="17912"/>
                  </a:lnTo>
                  <a:lnTo>
                    <a:pt x="91775" y="21255"/>
                  </a:lnTo>
                  <a:lnTo>
                    <a:pt x="89569" y="25176"/>
                  </a:lnTo>
                  <a:lnTo>
                    <a:pt x="87252" y="29484"/>
                  </a:lnTo>
                  <a:lnTo>
                    <a:pt x="84014" y="34049"/>
                  </a:lnTo>
                  <a:lnTo>
                    <a:pt x="80162" y="38786"/>
                  </a:lnTo>
                  <a:lnTo>
                    <a:pt x="75901" y="43637"/>
                  </a:lnTo>
                  <a:lnTo>
                    <a:pt x="72213" y="49412"/>
                  </a:lnTo>
                  <a:lnTo>
                    <a:pt x="68908" y="55801"/>
                  </a:lnTo>
                  <a:lnTo>
                    <a:pt x="65858" y="62601"/>
                  </a:lnTo>
                  <a:lnTo>
                    <a:pt x="62978" y="69674"/>
                  </a:lnTo>
                  <a:lnTo>
                    <a:pt x="60211" y="76929"/>
                  </a:lnTo>
                  <a:lnTo>
                    <a:pt x="57520" y="84306"/>
                  </a:lnTo>
                  <a:lnTo>
                    <a:pt x="54033" y="91764"/>
                  </a:lnTo>
                  <a:lnTo>
                    <a:pt x="50015" y="99276"/>
                  </a:lnTo>
                  <a:lnTo>
                    <a:pt x="45642" y="106824"/>
                  </a:lnTo>
                  <a:lnTo>
                    <a:pt x="36269" y="124242"/>
                  </a:lnTo>
                  <a:lnTo>
                    <a:pt x="31398" y="133628"/>
                  </a:lnTo>
                  <a:lnTo>
                    <a:pt x="27305" y="142425"/>
                  </a:lnTo>
                  <a:lnTo>
                    <a:pt x="23729" y="150830"/>
                  </a:lnTo>
                  <a:lnTo>
                    <a:pt x="20499" y="158974"/>
                  </a:lnTo>
                  <a:lnTo>
                    <a:pt x="17499" y="167789"/>
                  </a:lnTo>
                  <a:lnTo>
                    <a:pt x="14651" y="177052"/>
                  </a:lnTo>
                  <a:lnTo>
                    <a:pt x="11907" y="186615"/>
                  </a:lnTo>
                  <a:lnTo>
                    <a:pt x="10077" y="195530"/>
                  </a:lnTo>
                  <a:lnTo>
                    <a:pt x="8857" y="204013"/>
                  </a:lnTo>
                  <a:lnTo>
                    <a:pt x="8044" y="212209"/>
                  </a:lnTo>
                  <a:lnTo>
                    <a:pt x="6656" y="221059"/>
                  </a:lnTo>
                  <a:lnTo>
                    <a:pt x="4883" y="230346"/>
                  </a:lnTo>
                  <a:lnTo>
                    <a:pt x="2854" y="239924"/>
                  </a:lnTo>
                  <a:lnTo>
                    <a:pt x="1502" y="248003"/>
                  </a:lnTo>
                  <a:lnTo>
                    <a:pt x="601" y="255082"/>
                  </a:lnTo>
                  <a:lnTo>
                    <a:pt x="0" y="261495"/>
                  </a:lnTo>
                  <a:lnTo>
                    <a:pt x="446" y="267463"/>
                  </a:lnTo>
                  <a:lnTo>
                    <a:pt x="1590" y="273136"/>
                  </a:lnTo>
                  <a:lnTo>
                    <a:pt x="3199" y="278611"/>
                  </a:lnTo>
                  <a:lnTo>
                    <a:pt x="4988" y="286951"/>
                  </a:lnTo>
                  <a:lnTo>
                    <a:pt x="5994" y="296407"/>
                  </a:lnTo>
                  <a:lnTo>
                    <a:pt x="6136" y="299205"/>
                  </a:lnTo>
                  <a:lnTo>
                    <a:pt x="7076" y="301070"/>
                  </a:lnTo>
                  <a:lnTo>
                    <a:pt x="8550" y="302313"/>
                  </a:lnTo>
                  <a:lnTo>
                    <a:pt x="14038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MARTInkAnnotation299"/>
            <p:cNvSpPr/>
            <p:nvPr/>
          </p:nvSpPr>
          <p:spPr>
            <a:xfrm>
              <a:off x="3323160" y="5089680"/>
              <a:ext cx="165960" cy="45720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66097" h="457201">
                  <a:moveTo>
                    <a:pt x="120376" y="0"/>
                  </a:moveTo>
                  <a:lnTo>
                    <a:pt x="116331" y="0"/>
                  </a:lnTo>
                  <a:lnTo>
                    <a:pt x="115139" y="846"/>
                  </a:lnTo>
                  <a:lnTo>
                    <a:pt x="114345" y="2257"/>
                  </a:lnTo>
                  <a:lnTo>
                    <a:pt x="113815" y="4045"/>
                  </a:lnTo>
                  <a:lnTo>
                    <a:pt x="110969" y="8289"/>
                  </a:lnTo>
                  <a:lnTo>
                    <a:pt x="106882" y="13844"/>
                  </a:lnTo>
                  <a:lnTo>
                    <a:pt x="98974" y="27338"/>
                  </a:lnTo>
                  <a:lnTo>
                    <a:pt x="90826" y="40090"/>
                  </a:lnTo>
                  <a:lnTo>
                    <a:pt x="61815" y="83995"/>
                  </a:lnTo>
                  <a:lnTo>
                    <a:pt x="56782" y="92403"/>
                  </a:lnTo>
                  <a:lnTo>
                    <a:pt x="51733" y="101395"/>
                  </a:lnTo>
                  <a:lnTo>
                    <a:pt x="41608" y="120418"/>
                  </a:lnTo>
                  <a:lnTo>
                    <a:pt x="31464" y="140161"/>
                  </a:lnTo>
                  <a:lnTo>
                    <a:pt x="27235" y="150167"/>
                  </a:lnTo>
                  <a:lnTo>
                    <a:pt x="23568" y="160225"/>
                  </a:lnTo>
                  <a:lnTo>
                    <a:pt x="20278" y="170317"/>
                  </a:lnTo>
                  <a:lnTo>
                    <a:pt x="17237" y="181278"/>
                  </a:lnTo>
                  <a:lnTo>
                    <a:pt x="14364" y="192818"/>
                  </a:lnTo>
                  <a:lnTo>
                    <a:pt x="3668" y="237712"/>
                  </a:lnTo>
                  <a:lnTo>
                    <a:pt x="1931" y="249068"/>
                  </a:lnTo>
                  <a:lnTo>
                    <a:pt x="772" y="260872"/>
                  </a:lnTo>
                  <a:lnTo>
                    <a:pt x="0" y="272975"/>
                  </a:lnTo>
                  <a:lnTo>
                    <a:pt x="333" y="284429"/>
                  </a:lnTo>
                  <a:lnTo>
                    <a:pt x="1400" y="295453"/>
                  </a:lnTo>
                  <a:lnTo>
                    <a:pt x="2959" y="306189"/>
                  </a:lnTo>
                  <a:lnTo>
                    <a:pt x="5691" y="317579"/>
                  </a:lnTo>
                  <a:lnTo>
                    <a:pt x="9207" y="329406"/>
                  </a:lnTo>
                  <a:lnTo>
                    <a:pt x="13243" y="341524"/>
                  </a:lnTo>
                  <a:lnTo>
                    <a:pt x="18474" y="352990"/>
                  </a:lnTo>
                  <a:lnTo>
                    <a:pt x="24501" y="364019"/>
                  </a:lnTo>
                  <a:lnTo>
                    <a:pt x="31060" y="374760"/>
                  </a:lnTo>
                  <a:lnTo>
                    <a:pt x="37972" y="384460"/>
                  </a:lnTo>
                  <a:lnTo>
                    <a:pt x="45120" y="393466"/>
                  </a:lnTo>
                  <a:lnTo>
                    <a:pt x="52425" y="402011"/>
                  </a:lnTo>
                  <a:lnTo>
                    <a:pt x="60683" y="409400"/>
                  </a:lnTo>
                  <a:lnTo>
                    <a:pt x="69574" y="416021"/>
                  </a:lnTo>
                  <a:lnTo>
                    <a:pt x="78888" y="422127"/>
                  </a:lnTo>
                  <a:lnTo>
                    <a:pt x="88484" y="427892"/>
                  </a:lnTo>
                  <a:lnTo>
                    <a:pt x="98268" y="433427"/>
                  </a:lnTo>
                  <a:lnTo>
                    <a:pt x="123703" y="447052"/>
                  </a:lnTo>
                  <a:lnTo>
                    <a:pt x="130214" y="450435"/>
                  </a:lnTo>
                  <a:lnTo>
                    <a:pt x="137095" y="452690"/>
                  </a:lnTo>
                  <a:lnTo>
                    <a:pt x="144222" y="454193"/>
                  </a:lnTo>
                  <a:lnTo>
                    <a:pt x="166096" y="457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MARTInkAnnotation300"/>
            <p:cNvSpPr/>
            <p:nvPr/>
          </p:nvSpPr>
          <p:spPr>
            <a:xfrm>
              <a:off x="3520440" y="5127840"/>
              <a:ext cx="167040" cy="32004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167159" h="320041">
                  <a:moveTo>
                    <a:pt x="60478" y="0"/>
                  </a:moveTo>
                  <a:lnTo>
                    <a:pt x="60478" y="10606"/>
                  </a:lnTo>
                  <a:lnTo>
                    <a:pt x="61324" y="12997"/>
                  </a:lnTo>
                  <a:lnTo>
                    <a:pt x="64523" y="17912"/>
                  </a:lnTo>
                  <a:lnTo>
                    <a:pt x="66509" y="25176"/>
                  </a:lnTo>
                  <a:lnTo>
                    <a:pt x="67039" y="29484"/>
                  </a:lnTo>
                  <a:lnTo>
                    <a:pt x="66545" y="33202"/>
                  </a:lnTo>
                  <a:lnTo>
                    <a:pt x="65370" y="36528"/>
                  </a:lnTo>
                  <a:lnTo>
                    <a:pt x="63739" y="39592"/>
                  </a:lnTo>
                  <a:lnTo>
                    <a:pt x="62652" y="44175"/>
                  </a:lnTo>
                  <a:lnTo>
                    <a:pt x="61927" y="49770"/>
                  </a:lnTo>
                  <a:lnTo>
                    <a:pt x="61445" y="56040"/>
                  </a:lnTo>
                  <a:lnTo>
                    <a:pt x="60276" y="61914"/>
                  </a:lnTo>
                  <a:lnTo>
                    <a:pt x="58649" y="67522"/>
                  </a:lnTo>
                  <a:lnTo>
                    <a:pt x="52316" y="85764"/>
                  </a:lnTo>
                  <a:lnTo>
                    <a:pt x="49957" y="92736"/>
                  </a:lnTo>
                  <a:lnTo>
                    <a:pt x="46690" y="99924"/>
                  </a:lnTo>
                  <a:lnTo>
                    <a:pt x="42820" y="107256"/>
                  </a:lnTo>
                  <a:lnTo>
                    <a:pt x="38546" y="114684"/>
                  </a:lnTo>
                  <a:lnTo>
                    <a:pt x="34003" y="122176"/>
                  </a:lnTo>
                  <a:lnTo>
                    <a:pt x="24440" y="137274"/>
                  </a:lnTo>
                  <a:lnTo>
                    <a:pt x="20366" y="144856"/>
                  </a:lnTo>
                  <a:lnTo>
                    <a:pt x="16804" y="152450"/>
                  </a:lnTo>
                  <a:lnTo>
                    <a:pt x="13582" y="160054"/>
                  </a:lnTo>
                  <a:lnTo>
                    <a:pt x="10587" y="167662"/>
                  </a:lnTo>
                  <a:lnTo>
                    <a:pt x="5002" y="182890"/>
                  </a:lnTo>
                  <a:lnTo>
                    <a:pt x="3174" y="190506"/>
                  </a:lnTo>
                  <a:lnTo>
                    <a:pt x="1956" y="198125"/>
                  </a:lnTo>
                  <a:lnTo>
                    <a:pt x="1143" y="205743"/>
                  </a:lnTo>
                  <a:lnTo>
                    <a:pt x="601" y="212516"/>
                  </a:lnTo>
                  <a:lnTo>
                    <a:pt x="240" y="218723"/>
                  </a:lnTo>
                  <a:lnTo>
                    <a:pt x="0" y="224556"/>
                  </a:lnTo>
                  <a:lnTo>
                    <a:pt x="686" y="230984"/>
                  </a:lnTo>
                  <a:lnTo>
                    <a:pt x="1990" y="237809"/>
                  </a:lnTo>
                  <a:lnTo>
                    <a:pt x="3706" y="244900"/>
                  </a:lnTo>
                  <a:lnTo>
                    <a:pt x="6543" y="251320"/>
                  </a:lnTo>
                  <a:lnTo>
                    <a:pt x="10128" y="257293"/>
                  </a:lnTo>
                  <a:lnTo>
                    <a:pt x="14211" y="262969"/>
                  </a:lnTo>
                  <a:lnTo>
                    <a:pt x="18627" y="268446"/>
                  </a:lnTo>
                  <a:lnTo>
                    <a:pt x="23264" y="273790"/>
                  </a:lnTo>
                  <a:lnTo>
                    <a:pt x="28049" y="279047"/>
                  </a:lnTo>
                  <a:lnTo>
                    <a:pt x="33778" y="284245"/>
                  </a:lnTo>
                  <a:lnTo>
                    <a:pt x="40139" y="289403"/>
                  </a:lnTo>
                  <a:lnTo>
                    <a:pt x="46918" y="294535"/>
                  </a:lnTo>
                  <a:lnTo>
                    <a:pt x="54825" y="298804"/>
                  </a:lnTo>
                  <a:lnTo>
                    <a:pt x="63482" y="302496"/>
                  </a:lnTo>
                  <a:lnTo>
                    <a:pt x="72641" y="305804"/>
                  </a:lnTo>
                  <a:lnTo>
                    <a:pt x="82133" y="308009"/>
                  </a:lnTo>
                  <a:lnTo>
                    <a:pt x="91848" y="309479"/>
                  </a:lnTo>
                  <a:lnTo>
                    <a:pt x="101711" y="310460"/>
                  </a:lnTo>
                  <a:lnTo>
                    <a:pt x="110827" y="311959"/>
                  </a:lnTo>
                  <a:lnTo>
                    <a:pt x="119444" y="313807"/>
                  </a:lnTo>
                  <a:lnTo>
                    <a:pt x="127729" y="315884"/>
                  </a:lnTo>
                  <a:lnTo>
                    <a:pt x="135792" y="317270"/>
                  </a:lnTo>
                  <a:lnTo>
                    <a:pt x="143707" y="318193"/>
                  </a:lnTo>
                  <a:lnTo>
                    <a:pt x="167158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MARTInkAnnotation301"/>
            <p:cNvSpPr/>
            <p:nvPr/>
          </p:nvSpPr>
          <p:spPr>
            <a:xfrm>
              <a:off x="3649680" y="5242320"/>
              <a:ext cx="129240" cy="15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9541" h="15241">
                  <a:moveTo>
                    <a:pt x="0" y="0"/>
                  </a:moveTo>
                  <a:lnTo>
                    <a:pt x="11352" y="0"/>
                  </a:lnTo>
                  <a:lnTo>
                    <a:pt x="14341" y="846"/>
                  </a:lnTo>
                  <a:lnTo>
                    <a:pt x="18028" y="2257"/>
                  </a:lnTo>
                  <a:lnTo>
                    <a:pt x="22178" y="4045"/>
                  </a:lnTo>
                  <a:lnTo>
                    <a:pt x="27485" y="5237"/>
                  </a:lnTo>
                  <a:lnTo>
                    <a:pt x="33563" y="6031"/>
                  </a:lnTo>
                  <a:lnTo>
                    <a:pt x="40156" y="6561"/>
                  </a:lnTo>
                  <a:lnTo>
                    <a:pt x="46244" y="7761"/>
                  </a:lnTo>
                  <a:lnTo>
                    <a:pt x="51996" y="9407"/>
                  </a:lnTo>
                  <a:lnTo>
                    <a:pt x="57524" y="11351"/>
                  </a:lnTo>
                  <a:lnTo>
                    <a:pt x="63750" y="12648"/>
                  </a:lnTo>
                  <a:lnTo>
                    <a:pt x="70439" y="13512"/>
                  </a:lnTo>
                  <a:lnTo>
                    <a:pt x="77440" y="14088"/>
                  </a:lnTo>
                  <a:lnTo>
                    <a:pt x="84647" y="14473"/>
                  </a:lnTo>
                  <a:lnTo>
                    <a:pt x="99428" y="14899"/>
                  </a:lnTo>
                  <a:lnTo>
                    <a:pt x="120631" y="15195"/>
                  </a:lnTo>
                  <a:lnTo>
                    <a:pt x="12954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MARTInkAnnotation302"/>
            <p:cNvSpPr/>
            <p:nvPr/>
          </p:nvSpPr>
          <p:spPr>
            <a:xfrm>
              <a:off x="3817080" y="5143320"/>
              <a:ext cx="144720" cy="914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44739" h="91441">
                  <a:moveTo>
                    <a:pt x="53298" y="0"/>
                  </a:moveTo>
                  <a:lnTo>
                    <a:pt x="35165" y="18133"/>
                  </a:lnTo>
                  <a:lnTo>
                    <a:pt x="31896" y="20556"/>
                  </a:lnTo>
                  <a:lnTo>
                    <a:pt x="28024" y="23017"/>
                  </a:lnTo>
                  <a:lnTo>
                    <a:pt x="23748" y="25505"/>
                  </a:lnTo>
                  <a:lnTo>
                    <a:pt x="20052" y="28010"/>
                  </a:lnTo>
                  <a:lnTo>
                    <a:pt x="16741" y="30526"/>
                  </a:lnTo>
                  <a:lnTo>
                    <a:pt x="13686" y="33051"/>
                  </a:lnTo>
                  <a:lnTo>
                    <a:pt x="10804" y="35581"/>
                  </a:lnTo>
                  <a:lnTo>
                    <a:pt x="8035" y="38114"/>
                  </a:lnTo>
                  <a:lnTo>
                    <a:pt x="5343" y="40649"/>
                  </a:lnTo>
                  <a:lnTo>
                    <a:pt x="3547" y="43186"/>
                  </a:lnTo>
                  <a:lnTo>
                    <a:pt x="2351" y="45724"/>
                  </a:lnTo>
                  <a:lnTo>
                    <a:pt x="1553" y="48263"/>
                  </a:lnTo>
                  <a:lnTo>
                    <a:pt x="1022" y="50802"/>
                  </a:lnTo>
                  <a:lnTo>
                    <a:pt x="667" y="53341"/>
                  </a:lnTo>
                  <a:lnTo>
                    <a:pt x="431" y="55881"/>
                  </a:lnTo>
                  <a:lnTo>
                    <a:pt x="273" y="58421"/>
                  </a:lnTo>
                  <a:lnTo>
                    <a:pt x="0" y="67075"/>
                  </a:lnTo>
                  <a:lnTo>
                    <a:pt x="832" y="68423"/>
                  </a:lnTo>
                  <a:lnTo>
                    <a:pt x="2235" y="70169"/>
                  </a:lnTo>
                  <a:lnTo>
                    <a:pt x="4016" y="72179"/>
                  </a:lnTo>
                  <a:lnTo>
                    <a:pt x="6896" y="73519"/>
                  </a:lnTo>
                  <a:lnTo>
                    <a:pt x="10511" y="74413"/>
                  </a:lnTo>
                  <a:lnTo>
                    <a:pt x="14613" y="75009"/>
                  </a:lnTo>
                  <a:lnTo>
                    <a:pt x="19041" y="75406"/>
                  </a:lnTo>
                  <a:lnTo>
                    <a:pt x="23687" y="75670"/>
                  </a:lnTo>
                  <a:lnTo>
                    <a:pt x="33364" y="75965"/>
                  </a:lnTo>
                  <a:lnTo>
                    <a:pt x="43310" y="76095"/>
                  </a:lnTo>
                  <a:lnTo>
                    <a:pt x="48332" y="76977"/>
                  </a:lnTo>
                  <a:lnTo>
                    <a:pt x="53374" y="78411"/>
                  </a:lnTo>
                  <a:lnTo>
                    <a:pt x="58429" y="80214"/>
                  </a:lnTo>
                  <a:lnTo>
                    <a:pt x="64339" y="81416"/>
                  </a:lnTo>
                  <a:lnTo>
                    <a:pt x="70818" y="82218"/>
                  </a:lnTo>
                  <a:lnTo>
                    <a:pt x="83098" y="83108"/>
                  </a:lnTo>
                  <a:lnTo>
                    <a:pt x="91378" y="83504"/>
                  </a:lnTo>
                  <a:lnTo>
                    <a:pt x="100138" y="83680"/>
                  </a:lnTo>
                  <a:lnTo>
                    <a:pt x="143444" y="83820"/>
                  </a:lnTo>
                  <a:lnTo>
                    <a:pt x="143876" y="84667"/>
                  </a:lnTo>
                  <a:lnTo>
                    <a:pt x="144163" y="86078"/>
                  </a:lnTo>
                  <a:lnTo>
                    <a:pt x="144738" y="91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MARTInkAnnotation303"/>
            <p:cNvSpPr/>
            <p:nvPr/>
          </p:nvSpPr>
          <p:spPr>
            <a:xfrm>
              <a:off x="3916440" y="5127840"/>
              <a:ext cx="75960" cy="274320"/>
            </a:xfrm>
            <a:custGeom>
              <a:avLst/>
              <a:gdLst>
                <a:gd name="textAreaLeft" fmla="*/ 0 w 75960"/>
                <a:gd name="textAreaRight" fmla="*/ 75960 w 7596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76187" h="274321">
                  <a:moveTo>
                    <a:pt x="76186" y="0"/>
                  </a:moveTo>
                  <a:lnTo>
                    <a:pt x="76186" y="4045"/>
                  </a:lnTo>
                  <a:lnTo>
                    <a:pt x="75339" y="6083"/>
                  </a:lnTo>
                  <a:lnTo>
                    <a:pt x="73928" y="8289"/>
                  </a:lnTo>
                  <a:lnTo>
                    <a:pt x="72141" y="10606"/>
                  </a:lnTo>
                  <a:lnTo>
                    <a:pt x="70949" y="12997"/>
                  </a:lnTo>
                  <a:lnTo>
                    <a:pt x="69625" y="17912"/>
                  </a:lnTo>
                  <a:lnTo>
                    <a:pt x="68426" y="21254"/>
                  </a:lnTo>
                  <a:lnTo>
                    <a:pt x="66779" y="25176"/>
                  </a:lnTo>
                  <a:lnTo>
                    <a:pt x="64835" y="29484"/>
                  </a:lnTo>
                  <a:lnTo>
                    <a:pt x="60416" y="38786"/>
                  </a:lnTo>
                  <a:lnTo>
                    <a:pt x="58054" y="43637"/>
                  </a:lnTo>
                  <a:lnTo>
                    <a:pt x="55631" y="49412"/>
                  </a:lnTo>
                  <a:lnTo>
                    <a:pt x="53169" y="55801"/>
                  </a:lnTo>
                  <a:lnTo>
                    <a:pt x="48176" y="69674"/>
                  </a:lnTo>
                  <a:lnTo>
                    <a:pt x="43135" y="84306"/>
                  </a:lnTo>
                  <a:lnTo>
                    <a:pt x="40606" y="92610"/>
                  </a:lnTo>
                  <a:lnTo>
                    <a:pt x="33000" y="119633"/>
                  </a:lnTo>
                  <a:lnTo>
                    <a:pt x="27923" y="136144"/>
                  </a:lnTo>
                  <a:lnTo>
                    <a:pt x="24537" y="144102"/>
                  </a:lnTo>
                  <a:lnTo>
                    <a:pt x="20587" y="151948"/>
                  </a:lnTo>
                  <a:lnTo>
                    <a:pt x="16260" y="159719"/>
                  </a:lnTo>
                  <a:lnTo>
                    <a:pt x="12529" y="168286"/>
                  </a:lnTo>
                  <a:lnTo>
                    <a:pt x="9194" y="177384"/>
                  </a:lnTo>
                  <a:lnTo>
                    <a:pt x="6124" y="186836"/>
                  </a:lnTo>
                  <a:lnTo>
                    <a:pt x="4079" y="195677"/>
                  </a:lnTo>
                  <a:lnTo>
                    <a:pt x="2715" y="204112"/>
                  </a:lnTo>
                  <a:lnTo>
                    <a:pt x="1805" y="212274"/>
                  </a:lnTo>
                  <a:lnTo>
                    <a:pt x="1199" y="219409"/>
                  </a:lnTo>
                  <a:lnTo>
                    <a:pt x="794" y="225860"/>
                  </a:lnTo>
                  <a:lnTo>
                    <a:pt x="346" y="237542"/>
                  </a:lnTo>
                  <a:lnTo>
                    <a:pt x="57" y="256581"/>
                  </a:lnTo>
                  <a:lnTo>
                    <a:pt x="0" y="268746"/>
                  </a:lnTo>
                  <a:lnTo>
                    <a:pt x="842" y="270604"/>
                  </a:lnTo>
                  <a:lnTo>
                    <a:pt x="2250" y="271843"/>
                  </a:lnTo>
                  <a:lnTo>
                    <a:pt x="7606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SMARTInkAnnotation304"/>
            <p:cNvSpPr/>
            <p:nvPr/>
          </p:nvSpPr>
          <p:spPr>
            <a:xfrm>
              <a:off x="3954240" y="5067000"/>
              <a:ext cx="144720" cy="403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144751" h="403861">
                  <a:moveTo>
                    <a:pt x="129540" y="0"/>
                  </a:moveTo>
                  <a:lnTo>
                    <a:pt x="129540" y="10606"/>
                  </a:lnTo>
                  <a:lnTo>
                    <a:pt x="130387" y="12997"/>
                  </a:lnTo>
                  <a:lnTo>
                    <a:pt x="133585" y="17912"/>
                  </a:lnTo>
                  <a:lnTo>
                    <a:pt x="135571" y="25176"/>
                  </a:lnTo>
                  <a:lnTo>
                    <a:pt x="137300" y="35743"/>
                  </a:lnTo>
                  <a:lnTo>
                    <a:pt x="140892" y="51728"/>
                  </a:lnTo>
                  <a:lnTo>
                    <a:pt x="142188" y="60732"/>
                  </a:lnTo>
                  <a:lnTo>
                    <a:pt x="143052" y="70121"/>
                  </a:lnTo>
                  <a:lnTo>
                    <a:pt x="143628" y="79768"/>
                  </a:lnTo>
                  <a:lnTo>
                    <a:pt x="144268" y="101774"/>
                  </a:lnTo>
                  <a:lnTo>
                    <a:pt x="144750" y="185603"/>
                  </a:lnTo>
                  <a:lnTo>
                    <a:pt x="143914" y="199089"/>
                  </a:lnTo>
                  <a:lnTo>
                    <a:pt x="142509" y="212313"/>
                  </a:lnTo>
                  <a:lnTo>
                    <a:pt x="140726" y="225361"/>
                  </a:lnTo>
                  <a:lnTo>
                    <a:pt x="137844" y="238294"/>
                  </a:lnTo>
                  <a:lnTo>
                    <a:pt x="134230" y="251149"/>
                  </a:lnTo>
                  <a:lnTo>
                    <a:pt x="130126" y="263953"/>
                  </a:lnTo>
                  <a:lnTo>
                    <a:pt x="125697" y="276722"/>
                  </a:lnTo>
                  <a:lnTo>
                    <a:pt x="116261" y="302199"/>
                  </a:lnTo>
                  <a:lnTo>
                    <a:pt x="111375" y="313225"/>
                  </a:lnTo>
                  <a:lnTo>
                    <a:pt x="106423" y="323117"/>
                  </a:lnTo>
                  <a:lnTo>
                    <a:pt x="101429" y="332251"/>
                  </a:lnTo>
                  <a:lnTo>
                    <a:pt x="95559" y="340881"/>
                  </a:lnTo>
                  <a:lnTo>
                    <a:pt x="89105" y="349174"/>
                  </a:lnTo>
                  <a:lnTo>
                    <a:pt x="82264" y="357243"/>
                  </a:lnTo>
                  <a:lnTo>
                    <a:pt x="76009" y="364315"/>
                  </a:lnTo>
                  <a:lnTo>
                    <a:pt x="64544" y="376689"/>
                  </a:lnTo>
                  <a:lnTo>
                    <a:pt x="59116" y="381512"/>
                  </a:lnTo>
                  <a:lnTo>
                    <a:pt x="53804" y="385575"/>
                  </a:lnTo>
                  <a:lnTo>
                    <a:pt x="48569" y="389130"/>
                  </a:lnTo>
                  <a:lnTo>
                    <a:pt x="43386" y="392347"/>
                  </a:lnTo>
                  <a:lnTo>
                    <a:pt x="38238" y="395337"/>
                  </a:lnTo>
                  <a:lnTo>
                    <a:pt x="33111" y="398178"/>
                  </a:lnTo>
                  <a:lnTo>
                    <a:pt x="28001" y="400072"/>
                  </a:lnTo>
                  <a:lnTo>
                    <a:pt x="22900" y="401335"/>
                  </a:lnTo>
                  <a:lnTo>
                    <a:pt x="17807" y="402176"/>
                  </a:lnTo>
                  <a:lnTo>
                    <a:pt x="13565" y="402738"/>
                  </a:lnTo>
                  <a:lnTo>
                    <a:pt x="9890" y="403111"/>
                  </a:lnTo>
                  <a:lnTo>
                    <a:pt x="0" y="403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MARTInkAnnotation305"/>
            <p:cNvSpPr/>
            <p:nvPr/>
          </p:nvSpPr>
          <p:spPr>
            <a:xfrm>
              <a:off x="4289760" y="5067000"/>
              <a:ext cx="99000" cy="274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99061" h="274321">
                  <a:moveTo>
                    <a:pt x="99060" y="0"/>
                  </a:moveTo>
                  <a:lnTo>
                    <a:pt x="99060" y="15397"/>
                  </a:lnTo>
                  <a:lnTo>
                    <a:pt x="98214" y="18731"/>
                  </a:lnTo>
                  <a:lnTo>
                    <a:pt x="96802" y="21801"/>
                  </a:lnTo>
                  <a:lnTo>
                    <a:pt x="95015" y="24694"/>
                  </a:lnTo>
                  <a:lnTo>
                    <a:pt x="93029" y="32424"/>
                  </a:lnTo>
                  <a:lnTo>
                    <a:pt x="92499" y="36856"/>
                  </a:lnTo>
                  <a:lnTo>
                    <a:pt x="91300" y="41504"/>
                  </a:lnTo>
                  <a:lnTo>
                    <a:pt x="89653" y="46296"/>
                  </a:lnTo>
                  <a:lnTo>
                    <a:pt x="87709" y="51184"/>
                  </a:lnTo>
                  <a:lnTo>
                    <a:pt x="85566" y="56136"/>
                  </a:lnTo>
                  <a:lnTo>
                    <a:pt x="80927" y="66154"/>
                  </a:lnTo>
                  <a:lnTo>
                    <a:pt x="79352" y="72043"/>
                  </a:lnTo>
                  <a:lnTo>
                    <a:pt x="78301" y="78509"/>
                  </a:lnTo>
                  <a:lnTo>
                    <a:pt x="77601" y="85359"/>
                  </a:lnTo>
                  <a:lnTo>
                    <a:pt x="75441" y="92466"/>
                  </a:lnTo>
                  <a:lnTo>
                    <a:pt x="72307" y="99744"/>
                  </a:lnTo>
                  <a:lnTo>
                    <a:pt x="68525" y="107136"/>
                  </a:lnTo>
                  <a:lnTo>
                    <a:pt x="65157" y="114605"/>
                  </a:lnTo>
                  <a:lnTo>
                    <a:pt x="62065" y="122123"/>
                  </a:lnTo>
                  <a:lnTo>
                    <a:pt x="59156" y="129675"/>
                  </a:lnTo>
                  <a:lnTo>
                    <a:pt x="53667" y="144840"/>
                  </a:lnTo>
                  <a:lnTo>
                    <a:pt x="43244" y="175272"/>
                  </a:lnTo>
                  <a:lnTo>
                    <a:pt x="39836" y="182888"/>
                  </a:lnTo>
                  <a:lnTo>
                    <a:pt x="35871" y="190506"/>
                  </a:lnTo>
                  <a:lnTo>
                    <a:pt x="31534" y="198124"/>
                  </a:lnTo>
                  <a:lnTo>
                    <a:pt x="27796" y="205742"/>
                  </a:lnTo>
                  <a:lnTo>
                    <a:pt x="24458" y="213362"/>
                  </a:lnTo>
                  <a:lnTo>
                    <a:pt x="21385" y="220981"/>
                  </a:lnTo>
                  <a:lnTo>
                    <a:pt x="17643" y="227754"/>
                  </a:lnTo>
                  <a:lnTo>
                    <a:pt x="13456" y="233963"/>
                  </a:lnTo>
                  <a:lnTo>
                    <a:pt x="8971" y="239795"/>
                  </a:lnTo>
                  <a:lnTo>
                    <a:pt x="5980" y="245377"/>
                  </a:lnTo>
                  <a:lnTo>
                    <a:pt x="3986" y="250792"/>
                  </a:lnTo>
                  <a:lnTo>
                    <a:pt x="2658" y="256094"/>
                  </a:lnTo>
                  <a:lnTo>
                    <a:pt x="1181" y="264244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SMARTInkAnnotation306"/>
            <p:cNvSpPr/>
            <p:nvPr/>
          </p:nvSpPr>
          <p:spPr>
            <a:xfrm>
              <a:off x="4251600" y="5249880"/>
              <a:ext cx="213120" cy="302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3361" h="30481">
                  <a:moveTo>
                    <a:pt x="0" y="30480"/>
                  </a:moveTo>
                  <a:lnTo>
                    <a:pt x="6561" y="23919"/>
                  </a:lnTo>
                  <a:lnTo>
                    <a:pt x="11665" y="23331"/>
                  </a:lnTo>
                  <a:lnTo>
                    <a:pt x="15397" y="23174"/>
                  </a:lnTo>
                  <a:lnTo>
                    <a:pt x="24058" y="23000"/>
                  </a:lnTo>
                  <a:lnTo>
                    <a:pt x="141807" y="22860"/>
                  </a:lnTo>
                  <a:lnTo>
                    <a:pt x="147032" y="22014"/>
                  </a:lnTo>
                  <a:lnTo>
                    <a:pt x="152208" y="20603"/>
                  </a:lnTo>
                  <a:lnTo>
                    <a:pt x="157352" y="18815"/>
                  </a:lnTo>
                  <a:lnTo>
                    <a:pt x="162474" y="17623"/>
                  </a:lnTo>
                  <a:lnTo>
                    <a:pt x="167583" y="16829"/>
                  </a:lnTo>
                  <a:lnTo>
                    <a:pt x="172682" y="16299"/>
                  </a:lnTo>
                  <a:lnTo>
                    <a:pt x="177775" y="15099"/>
                  </a:lnTo>
                  <a:lnTo>
                    <a:pt x="182863" y="13453"/>
                  </a:lnTo>
                  <a:lnTo>
                    <a:pt x="187948" y="11509"/>
                  </a:lnTo>
                  <a:lnTo>
                    <a:pt x="192186" y="9366"/>
                  </a:lnTo>
                  <a:lnTo>
                    <a:pt x="195858" y="7090"/>
                  </a:lnTo>
                  <a:lnTo>
                    <a:pt x="199152" y="4727"/>
                  </a:lnTo>
                  <a:lnTo>
                    <a:pt x="202194" y="3151"/>
                  </a:lnTo>
                  <a:lnTo>
                    <a:pt x="205070" y="2101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MARTInkAnnotation307"/>
            <p:cNvSpPr/>
            <p:nvPr/>
          </p:nvSpPr>
          <p:spPr>
            <a:xfrm>
              <a:off x="4470120" y="5043960"/>
              <a:ext cx="192960" cy="33516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072" h="335281">
                  <a:moveTo>
                    <a:pt x="193071" y="0"/>
                  </a:moveTo>
                  <a:lnTo>
                    <a:pt x="186510" y="0"/>
                  </a:lnTo>
                  <a:lnTo>
                    <a:pt x="181719" y="4045"/>
                  </a:lnTo>
                  <a:lnTo>
                    <a:pt x="177301" y="8289"/>
                  </a:lnTo>
                  <a:lnTo>
                    <a:pt x="174938" y="10606"/>
                  </a:lnTo>
                  <a:lnTo>
                    <a:pt x="172515" y="12151"/>
                  </a:lnTo>
                  <a:lnTo>
                    <a:pt x="167566" y="13867"/>
                  </a:lnTo>
                  <a:lnTo>
                    <a:pt x="164215" y="16018"/>
                  </a:lnTo>
                  <a:lnTo>
                    <a:pt x="160286" y="19145"/>
                  </a:lnTo>
                  <a:lnTo>
                    <a:pt x="155975" y="22924"/>
                  </a:lnTo>
                  <a:lnTo>
                    <a:pt x="150560" y="26289"/>
                  </a:lnTo>
                  <a:lnTo>
                    <a:pt x="144410" y="29380"/>
                  </a:lnTo>
                  <a:lnTo>
                    <a:pt x="137771" y="32287"/>
                  </a:lnTo>
                  <a:lnTo>
                    <a:pt x="131650" y="36764"/>
                  </a:lnTo>
                  <a:lnTo>
                    <a:pt x="125878" y="42289"/>
                  </a:lnTo>
                  <a:lnTo>
                    <a:pt x="120335" y="48513"/>
                  </a:lnTo>
                  <a:lnTo>
                    <a:pt x="113254" y="54355"/>
                  </a:lnTo>
                  <a:lnTo>
                    <a:pt x="105146" y="59944"/>
                  </a:lnTo>
                  <a:lnTo>
                    <a:pt x="96355" y="65362"/>
                  </a:lnTo>
                  <a:lnTo>
                    <a:pt x="88800" y="71515"/>
                  </a:lnTo>
                  <a:lnTo>
                    <a:pt x="82070" y="78157"/>
                  </a:lnTo>
                  <a:lnTo>
                    <a:pt x="75891" y="85125"/>
                  </a:lnTo>
                  <a:lnTo>
                    <a:pt x="62250" y="99639"/>
                  </a:lnTo>
                  <a:lnTo>
                    <a:pt x="36843" y="125610"/>
                  </a:lnTo>
                  <a:lnTo>
                    <a:pt x="32192" y="132846"/>
                  </a:lnTo>
                  <a:lnTo>
                    <a:pt x="28246" y="141057"/>
                  </a:lnTo>
                  <a:lnTo>
                    <a:pt x="24767" y="149919"/>
                  </a:lnTo>
                  <a:lnTo>
                    <a:pt x="20755" y="158366"/>
                  </a:lnTo>
                  <a:lnTo>
                    <a:pt x="16387" y="166537"/>
                  </a:lnTo>
                  <a:lnTo>
                    <a:pt x="11781" y="174525"/>
                  </a:lnTo>
                  <a:lnTo>
                    <a:pt x="7865" y="182390"/>
                  </a:lnTo>
                  <a:lnTo>
                    <a:pt x="4407" y="190173"/>
                  </a:lnTo>
                  <a:lnTo>
                    <a:pt x="1255" y="197902"/>
                  </a:lnTo>
                  <a:lnTo>
                    <a:pt x="0" y="205595"/>
                  </a:lnTo>
                  <a:lnTo>
                    <a:pt x="10" y="213263"/>
                  </a:lnTo>
                  <a:lnTo>
                    <a:pt x="864" y="220915"/>
                  </a:lnTo>
                  <a:lnTo>
                    <a:pt x="2280" y="228558"/>
                  </a:lnTo>
                  <a:lnTo>
                    <a:pt x="4070" y="236192"/>
                  </a:lnTo>
                  <a:lnTo>
                    <a:pt x="6110" y="243821"/>
                  </a:lnTo>
                  <a:lnTo>
                    <a:pt x="10635" y="259072"/>
                  </a:lnTo>
                  <a:lnTo>
                    <a:pt x="13027" y="266695"/>
                  </a:lnTo>
                  <a:lnTo>
                    <a:pt x="16315" y="273470"/>
                  </a:lnTo>
                  <a:lnTo>
                    <a:pt x="20200" y="279680"/>
                  </a:lnTo>
                  <a:lnTo>
                    <a:pt x="24484" y="285514"/>
                  </a:lnTo>
                  <a:lnTo>
                    <a:pt x="29880" y="291096"/>
                  </a:lnTo>
                  <a:lnTo>
                    <a:pt x="36016" y="296511"/>
                  </a:lnTo>
                  <a:lnTo>
                    <a:pt x="42648" y="301814"/>
                  </a:lnTo>
                  <a:lnTo>
                    <a:pt x="48763" y="307043"/>
                  </a:lnTo>
                  <a:lnTo>
                    <a:pt x="54532" y="312221"/>
                  </a:lnTo>
                  <a:lnTo>
                    <a:pt x="60072" y="317368"/>
                  </a:lnTo>
                  <a:lnTo>
                    <a:pt x="66304" y="321645"/>
                  </a:lnTo>
                  <a:lnTo>
                    <a:pt x="73000" y="325344"/>
                  </a:lnTo>
                  <a:lnTo>
                    <a:pt x="80004" y="328655"/>
                  </a:lnTo>
                  <a:lnTo>
                    <a:pt x="87213" y="330864"/>
                  </a:lnTo>
                  <a:lnTo>
                    <a:pt x="94559" y="332336"/>
                  </a:lnTo>
                  <a:lnTo>
                    <a:pt x="101996" y="333318"/>
                  </a:lnTo>
                  <a:lnTo>
                    <a:pt x="108647" y="333971"/>
                  </a:lnTo>
                  <a:lnTo>
                    <a:pt x="114775" y="334408"/>
                  </a:lnTo>
                  <a:lnTo>
                    <a:pt x="125252" y="334892"/>
                  </a:lnTo>
                  <a:lnTo>
                    <a:pt x="139731" y="3352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SMARTInkAnnotation308"/>
            <p:cNvSpPr/>
            <p:nvPr/>
          </p:nvSpPr>
          <p:spPr>
            <a:xfrm>
              <a:off x="4602240" y="5150880"/>
              <a:ext cx="144720" cy="30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44781" h="30481">
                  <a:moveTo>
                    <a:pt x="0" y="0"/>
                  </a:moveTo>
                  <a:lnTo>
                    <a:pt x="11352" y="0"/>
                  </a:lnTo>
                  <a:lnTo>
                    <a:pt x="14341" y="847"/>
                  </a:lnTo>
                  <a:lnTo>
                    <a:pt x="18028" y="2258"/>
                  </a:lnTo>
                  <a:lnTo>
                    <a:pt x="22178" y="4045"/>
                  </a:lnTo>
                  <a:lnTo>
                    <a:pt x="31306" y="8289"/>
                  </a:lnTo>
                  <a:lnTo>
                    <a:pt x="36111" y="10606"/>
                  </a:lnTo>
                  <a:lnTo>
                    <a:pt x="41007" y="12151"/>
                  </a:lnTo>
                  <a:lnTo>
                    <a:pt x="45965" y="13181"/>
                  </a:lnTo>
                  <a:lnTo>
                    <a:pt x="50963" y="13867"/>
                  </a:lnTo>
                  <a:lnTo>
                    <a:pt x="56836" y="14325"/>
                  </a:lnTo>
                  <a:lnTo>
                    <a:pt x="63291" y="14630"/>
                  </a:lnTo>
                  <a:lnTo>
                    <a:pt x="70133" y="14833"/>
                  </a:lnTo>
                  <a:lnTo>
                    <a:pt x="76389" y="15816"/>
                  </a:lnTo>
                  <a:lnTo>
                    <a:pt x="82253" y="17317"/>
                  </a:lnTo>
                  <a:lnTo>
                    <a:pt x="87855" y="19165"/>
                  </a:lnTo>
                  <a:lnTo>
                    <a:pt x="93283" y="20397"/>
                  </a:lnTo>
                  <a:lnTo>
                    <a:pt x="98596" y="21218"/>
                  </a:lnTo>
                  <a:lnTo>
                    <a:pt x="103830" y="21765"/>
                  </a:lnTo>
                  <a:lnTo>
                    <a:pt x="109014" y="22130"/>
                  </a:lnTo>
                  <a:lnTo>
                    <a:pt x="114162" y="22374"/>
                  </a:lnTo>
                  <a:lnTo>
                    <a:pt x="119288" y="22536"/>
                  </a:lnTo>
                  <a:lnTo>
                    <a:pt x="123552" y="23490"/>
                  </a:lnTo>
                  <a:lnTo>
                    <a:pt x="127241" y="24974"/>
                  </a:lnTo>
                  <a:lnTo>
                    <a:pt x="130547" y="26809"/>
                  </a:lnTo>
                  <a:lnTo>
                    <a:pt x="133598" y="28033"/>
                  </a:lnTo>
                  <a:lnTo>
                    <a:pt x="136479" y="28849"/>
                  </a:lnTo>
                  <a:lnTo>
                    <a:pt x="144780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MARTInkAnnotation309"/>
            <p:cNvSpPr/>
            <p:nvPr/>
          </p:nvSpPr>
          <p:spPr>
            <a:xfrm>
              <a:off x="4792680" y="5074560"/>
              <a:ext cx="136800" cy="1674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136813" h="167611">
                  <a:moveTo>
                    <a:pt x="0" y="22830"/>
                  </a:moveTo>
                  <a:lnTo>
                    <a:pt x="0" y="18785"/>
                  </a:lnTo>
                  <a:lnTo>
                    <a:pt x="846" y="17593"/>
                  </a:lnTo>
                  <a:lnTo>
                    <a:pt x="2258" y="16799"/>
                  </a:lnTo>
                  <a:lnTo>
                    <a:pt x="4045" y="16269"/>
                  </a:lnTo>
                  <a:lnTo>
                    <a:pt x="6931" y="15070"/>
                  </a:lnTo>
                  <a:lnTo>
                    <a:pt x="10546" y="13423"/>
                  </a:lnTo>
                  <a:lnTo>
                    <a:pt x="14651" y="11479"/>
                  </a:lnTo>
                  <a:lnTo>
                    <a:pt x="19081" y="10182"/>
                  </a:lnTo>
                  <a:lnTo>
                    <a:pt x="23727" y="9318"/>
                  </a:lnTo>
                  <a:lnTo>
                    <a:pt x="28518" y="8742"/>
                  </a:lnTo>
                  <a:lnTo>
                    <a:pt x="33405" y="7511"/>
                  </a:lnTo>
                  <a:lnTo>
                    <a:pt x="38356" y="5844"/>
                  </a:lnTo>
                  <a:lnTo>
                    <a:pt x="43352" y="3886"/>
                  </a:lnTo>
                  <a:lnTo>
                    <a:pt x="48374" y="2580"/>
                  </a:lnTo>
                  <a:lnTo>
                    <a:pt x="53416" y="1710"/>
                  </a:lnTo>
                  <a:lnTo>
                    <a:pt x="58471" y="1130"/>
                  </a:lnTo>
                  <a:lnTo>
                    <a:pt x="63534" y="743"/>
                  </a:lnTo>
                  <a:lnTo>
                    <a:pt x="68603" y="485"/>
                  </a:lnTo>
                  <a:lnTo>
                    <a:pt x="81569" y="122"/>
                  </a:lnTo>
                  <a:lnTo>
                    <a:pt x="97581" y="0"/>
                  </a:lnTo>
                  <a:lnTo>
                    <a:pt x="102307" y="837"/>
                  </a:lnTo>
                  <a:lnTo>
                    <a:pt x="107151" y="2242"/>
                  </a:lnTo>
                  <a:lnTo>
                    <a:pt x="119003" y="6534"/>
                  </a:lnTo>
                  <a:lnTo>
                    <a:pt x="122882" y="7120"/>
                  </a:lnTo>
                  <a:lnTo>
                    <a:pt x="125101" y="7277"/>
                  </a:lnTo>
                  <a:lnTo>
                    <a:pt x="126581" y="8228"/>
                  </a:lnTo>
                  <a:lnTo>
                    <a:pt x="127567" y="9709"/>
                  </a:lnTo>
                  <a:lnTo>
                    <a:pt x="128225" y="11542"/>
                  </a:lnTo>
                  <a:lnTo>
                    <a:pt x="129510" y="12765"/>
                  </a:lnTo>
                  <a:lnTo>
                    <a:pt x="131213" y="13580"/>
                  </a:lnTo>
                  <a:lnTo>
                    <a:pt x="133196" y="14123"/>
                  </a:lnTo>
                  <a:lnTo>
                    <a:pt x="134517" y="15332"/>
                  </a:lnTo>
                  <a:lnTo>
                    <a:pt x="135398" y="16985"/>
                  </a:lnTo>
                  <a:lnTo>
                    <a:pt x="136377" y="21079"/>
                  </a:lnTo>
                  <a:lnTo>
                    <a:pt x="136812" y="25720"/>
                  </a:lnTo>
                  <a:lnTo>
                    <a:pt x="136082" y="28144"/>
                  </a:lnTo>
                  <a:lnTo>
                    <a:pt x="133012" y="33094"/>
                  </a:lnTo>
                  <a:lnTo>
                    <a:pt x="128825" y="38117"/>
                  </a:lnTo>
                  <a:lnTo>
                    <a:pt x="126524" y="40641"/>
                  </a:lnTo>
                  <a:lnTo>
                    <a:pt x="124143" y="44017"/>
                  </a:lnTo>
                  <a:lnTo>
                    <a:pt x="121708" y="47961"/>
                  </a:lnTo>
                  <a:lnTo>
                    <a:pt x="119239" y="52284"/>
                  </a:lnTo>
                  <a:lnTo>
                    <a:pt x="116746" y="56013"/>
                  </a:lnTo>
                  <a:lnTo>
                    <a:pt x="114238" y="59346"/>
                  </a:lnTo>
                  <a:lnTo>
                    <a:pt x="111718" y="62414"/>
                  </a:lnTo>
                  <a:lnTo>
                    <a:pt x="108346" y="66152"/>
                  </a:lnTo>
                  <a:lnTo>
                    <a:pt x="100083" y="74822"/>
                  </a:lnTo>
                  <a:lnTo>
                    <a:pt x="96355" y="79505"/>
                  </a:lnTo>
                  <a:lnTo>
                    <a:pt x="93024" y="84320"/>
                  </a:lnTo>
                  <a:lnTo>
                    <a:pt x="89955" y="89223"/>
                  </a:lnTo>
                  <a:lnTo>
                    <a:pt x="86218" y="93339"/>
                  </a:lnTo>
                  <a:lnTo>
                    <a:pt x="82032" y="96930"/>
                  </a:lnTo>
                  <a:lnTo>
                    <a:pt x="77548" y="100169"/>
                  </a:lnTo>
                  <a:lnTo>
                    <a:pt x="73712" y="104023"/>
                  </a:lnTo>
                  <a:lnTo>
                    <a:pt x="70308" y="108285"/>
                  </a:lnTo>
                  <a:lnTo>
                    <a:pt x="67192" y="112820"/>
                  </a:lnTo>
                  <a:lnTo>
                    <a:pt x="64268" y="117537"/>
                  </a:lnTo>
                  <a:lnTo>
                    <a:pt x="61471" y="122375"/>
                  </a:lnTo>
                  <a:lnTo>
                    <a:pt x="58761" y="127293"/>
                  </a:lnTo>
                  <a:lnTo>
                    <a:pt x="55261" y="131419"/>
                  </a:lnTo>
                  <a:lnTo>
                    <a:pt x="51234" y="135016"/>
                  </a:lnTo>
                  <a:lnTo>
                    <a:pt x="46856" y="138260"/>
                  </a:lnTo>
                  <a:lnTo>
                    <a:pt x="43090" y="141270"/>
                  </a:lnTo>
                  <a:lnTo>
                    <a:pt x="39734" y="144123"/>
                  </a:lnTo>
                  <a:lnTo>
                    <a:pt x="36650" y="146873"/>
                  </a:lnTo>
                  <a:lnTo>
                    <a:pt x="34593" y="149552"/>
                  </a:lnTo>
                  <a:lnTo>
                    <a:pt x="32308" y="154786"/>
                  </a:lnTo>
                  <a:lnTo>
                    <a:pt x="31293" y="159935"/>
                  </a:lnTo>
                  <a:lnTo>
                    <a:pt x="30480" y="1676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MARTInkAnnotation310"/>
            <p:cNvSpPr/>
            <p:nvPr/>
          </p:nvSpPr>
          <p:spPr>
            <a:xfrm>
              <a:off x="4808160" y="5173560"/>
              <a:ext cx="152280" cy="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401" h="7621">
                  <a:moveTo>
                    <a:pt x="0" y="0"/>
                  </a:moveTo>
                  <a:lnTo>
                    <a:pt x="21958" y="0"/>
                  </a:lnTo>
                  <a:lnTo>
                    <a:pt x="27339" y="846"/>
                  </a:lnTo>
                  <a:lnTo>
                    <a:pt x="33466" y="2258"/>
                  </a:lnTo>
                  <a:lnTo>
                    <a:pt x="40091" y="4045"/>
                  </a:lnTo>
                  <a:lnTo>
                    <a:pt x="47047" y="5237"/>
                  </a:lnTo>
                  <a:lnTo>
                    <a:pt x="54225" y="6032"/>
                  </a:lnTo>
                  <a:lnTo>
                    <a:pt x="61550" y="6561"/>
                  </a:lnTo>
                  <a:lnTo>
                    <a:pt x="68973" y="6914"/>
                  </a:lnTo>
                  <a:lnTo>
                    <a:pt x="83995" y="7306"/>
                  </a:lnTo>
                  <a:lnTo>
                    <a:pt x="15240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MARTInkAnnotation311"/>
            <p:cNvSpPr/>
            <p:nvPr/>
          </p:nvSpPr>
          <p:spPr>
            <a:xfrm>
              <a:off x="4998600" y="4998240"/>
              <a:ext cx="82440" cy="3733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2732" h="373381">
                  <a:moveTo>
                    <a:pt x="60960" y="0"/>
                  </a:moveTo>
                  <a:lnTo>
                    <a:pt x="60960" y="4045"/>
                  </a:lnTo>
                  <a:lnTo>
                    <a:pt x="61806" y="6084"/>
                  </a:lnTo>
                  <a:lnTo>
                    <a:pt x="63218" y="8289"/>
                  </a:lnTo>
                  <a:lnTo>
                    <a:pt x="65005" y="10606"/>
                  </a:lnTo>
                  <a:lnTo>
                    <a:pt x="66197" y="13844"/>
                  </a:lnTo>
                  <a:lnTo>
                    <a:pt x="67521" y="21957"/>
                  </a:lnTo>
                  <a:lnTo>
                    <a:pt x="68720" y="27338"/>
                  </a:lnTo>
                  <a:lnTo>
                    <a:pt x="70367" y="33466"/>
                  </a:lnTo>
                  <a:lnTo>
                    <a:pt x="72312" y="40091"/>
                  </a:lnTo>
                  <a:lnTo>
                    <a:pt x="73608" y="47047"/>
                  </a:lnTo>
                  <a:lnTo>
                    <a:pt x="74472" y="54225"/>
                  </a:lnTo>
                  <a:lnTo>
                    <a:pt x="75048" y="61550"/>
                  </a:lnTo>
                  <a:lnTo>
                    <a:pt x="75432" y="69820"/>
                  </a:lnTo>
                  <a:lnTo>
                    <a:pt x="75859" y="88040"/>
                  </a:lnTo>
                  <a:lnTo>
                    <a:pt x="76819" y="97640"/>
                  </a:lnTo>
                  <a:lnTo>
                    <a:pt x="78306" y="107426"/>
                  </a:lnTo>
                  <a:lnTo>
                    <a:pt x="80144" y="117338"/>
                  </a:lnTo>
                  <a:lnTo>
                    <a:pt x="81370" y="127332"/>
                  </a:lnTo>
                  <a:lnTo>
                    <a:pt x="82186" y="137382"/>
                  </a:lnTo>
                  <a:lnTo>
                    <a:pt x="82731" y="147467"/>
                  </a:lnTo>
                  <a:lnTo>
                    <a:pt x="82247" y="158425"/>
                  </a:lnTo>
                  <a:lnTo>
                    <a:pt x="81078" y="169964"/>
                  </a:lnTo>
                  <a:lnTo>
                    <a:pt x="79453" y="181889"/>
                  </a:lnTo>
                  <a:lnTo>
                    <a:pt x="78368" y="194073"/>
                  </a:lnTo>
                  <a:lnTo>
                    <a:pt x="77645" y="206429"/>
                  </a:lnTo>
                  <a:lnTo>
                    <a:pt x="77164" y="218899"/>
                  </a:lnTo>
                  <a:lnTo>
                    <a:pt x="75996" y="230600"/>
                  </a:lnTo>
                  <a:lnTo>
                    <a:pt x="74371" y="241786"/>
                  </a:lnTo>
                  <a:lnTo>
                    <a:pt x="72440" y="252631"/>
                  </a:lnTo>
                  <a:lnTo>
                    <a:pt x="69461" y="263247"/>
                  </a:lnTo>
                  <a:lnTo>
                    <a:pt x="65780" y="273712"/>
                  </a:lnTo>
                  <a:lnTo>
                    <a:pt x="61634" y="284075"/>
                  </a:lnTo>
                  <a:lnTo>
                    <a:pt x="57176" y="293523"/>
                  </a:lnTo>
                  <a:lnTo>
                    <a:pt x="52511" y="302362"/>
                  </a:lnTo>
                  <a:lnTo>
                    <a:pt x="47707" y="310795"/>
                  </a:lnTo>
                  <a:lnTo>
                    <a:pt x="43658" y="318957"/>
                  </a:lnTo>
                  <a:lnTo>
                    <a:pt x="40112" y="326938"/>
                  </a:lnTo>
                  <a:lnTo>
                    <a:pt x="36902" y="334799"/>
                  </a:lnTo>
                  <a:lnTo>
                    <a:pt x="33068" y="340886"/>
                  </a:lnTo>
                  <a:lnTo>
                    <a:pt x="28819" y="345791"/>
                  </a:lnTo>
                  <a:lnTo>
                    <a:pt x="20428" y="353498"/>
                  </a:lnTo>
                  <a:lnTo>
                    <a:pt x="10945" y="362597"/>
                  </a:lnTo>
                  <a:lnTo>
                    <a:pt x="0" y="3733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MARTInkAnnotation312"/>
            <p:cNvSpPr/>
            <p:nvPr/>
          </p:nvSpPr>
          <p:spPr>
            <a:xfrm>
              <a:off x="5135760" y="4891680"/>
              <a:ext cx="196560" cy="4723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196808" h="472441">
                  <a:moveTo>
                    <a:pt x="129540" y="0"/>
                  </a:moveTo>
                  <a:lnTo>
                    <a:pt x="136101" y="0"/>
                  </a:lnTo>
                  <a:lnTo>
                    <a:pt x="141205" y="2258"/>
                  </a:lnTo>
                  <a:lnTo>
                    <a:pt x="144937" y="4045"/>
                  </a:lnTo>
                  <a:lnTo>
                    <a:pt x="148271" y="6930"/>
                  </a:lnTo>
                  <a:lnTo>
                    <a:pt x="154234" y="14651"/>
                  </a:lnTo>
                  <a:lnTo>
                    <a:pt x="157856" y="20774"/>
                  </a:lnTo>
                  <a:lnTo>
                    <a:pt x="161964" y="28243"/>
                  </a:lnTo>
                  <a:lnTo>
                    <a:pt x="175836" y="54935"/>
                  </a:lnTo>
                  <a:lnTo>
                    <a:pt x="180724" y="64564"/>
                  </a:lnTo>
                  <a:lnTo>
                    <a:pt x="183983" y="74369"/>
                  </a:lnTo>
                  <a:lnTo>
                    <a:pt x="186156" y="84293"/>
                  </a:lnTo>
                  <a:lnTo>
                    <a:pt x="191470" y="118956"/>
                  </a:lnTo>
                  <a:lnTo>
                    <a:pt x="193687" y="132644"/>
                  </a:lnTo>
                  <a:lnTo>
                    <a:pt x="195164" y="146849"/>
                  </a:lnTo>
                  <a:lnTo>
                    <a:pt x="196150" y="161400"/>
                  </a:lnTo>
                  <a:lnTo>
                    <a:pt x="196807" y="176180"/>
                  </a:lnTo>
                  <a:lnTo>
                    <a:pt x="195551" y="191113"/>
                  </a:lnTo>
                  <a:lnTo>
                    <a:pt x="193021" y="206149"/>
                  </a:lnTo>
                  <a:lnTo>
                    <a:pt x="189640" y="221253"/>
                  </a:lnTo>
                  <a:lnTo>
                    <a:pt x="185694" y="236402"/>
                  </a:lnTo>
                  <a:lnTo>
                    <a:pt x="181369" y="251581"/>
                  </a:lnTo>
                  <a:lnTo>
                    <a:pt x="176793" y="266781"/>
                  </a:lnTo>
                  <a:lnTo>
                    <a:pt x="171201" y="281994"/>
                  </a:lnTo>
                  <a:lnTo>
                    <a:pt x="164935" y="297216"/>
                  </a:lnTo>
                  <a:lnTo>
                    <a:pt x="158216" y="312444"/>
                  </a:lnTo>
                  <a:lnTo>
                    <a:pt x="151198" y="326829"/>
                  </a:lnTo>
                  <a:lnTo>
                    <a:pt x="143978" y="340653"/>
                  </a:lnTo>
                  <a:lnTo>
                    <a:pt x="136626" y="354102"/>
                  </a:lnTo>
                  <a:lnTo>
                    <a:pt x="127491" y="366455"/>
                  </a:lnTo>
                  <a:lnTo>
                    <a:pt x="117167" y="378076"/>
                  </a:lnTo>
                  <a:lnTo>
                    <a:pt x="106051" y="389211"/>
                  </a:lnTo>
                  <a:lnTo>
                    <a:pt x="95254" y="399174"/>
                  </a:lnTo>
                  <a:lnTo>
                    <a:pt x="84670" y="408356"/>
                  </a:lnTo>
                  <a:lnTo>
                    <a:pt x="74226" y="417017"/>
                  </a:lnTo>
                  <a:lnTo>
                    <a:pt x="64724" y="425332"/>
                  </a:lnTo>
                  <a:lnTo>
                    <a:pt x="55850" y="433414"/>
                  </a:lnTo>
                  <a:lnTo>
                    <a:pt x="47393" y="441343"/>
                  </a:lnTo>
                  <a:lnTo>
                    <a:pt x="40062" y="447476"/>
                  </a:lnTo>
                  <a:lnTo>
                    <a:pt x="33481" y="452410"/>
                  </a:lnTo>
                  <a:lnTo>
                    <a:pt x="27401" y="456547"/>
                  </a:lnTo>
                  <a:lnTo>
                    <a:pt x="21654" y="460151"/>
                  </a:lnTo>
                  <a:lnTo>
                    <a:pt x="16129" y="463401"/>
                  </a:lnTo>
                  <a:lnTo>
                    <a:pt x="0" y="472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MARTInkAnnotation313"/>
            <p:cNvSpPr/>
            <p:nvPr/>
          </p:nvSpPr>
          <p:spPr>
            <a:xfrm>
              <a:off x="5493960" y="5181120"/>
              <a:ext cx="174960" cy="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5261" h="1">
                  <a:moveTo>
                    <a:pt x="0" y="0"/>
                  </a:move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MARTInkAnnotation314"/>
            <p:cNvSpPr/>
            <p:nvPr/>
          </p:nvSpPr>
          <p:spPr>
            <a:xfrm>
              <a:off x="5532120" y="5196600"/>
              <a:ext cx="137160" cy="226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7161" h="22861">
                  <a:moveTo>
                    <a:pt x="0" y="22860"/>
                  </a:moveTo>
                  <a:lnTo>
                    <a:pt x="14651" y="22860"/>
                  </a:lnTo>
                  <a:lnTo>
                    <a:pt x="19081" y="22014"/>
                  </a:lnTo>
                  <a:lnTo>
                    <a:pt x="23727" y="20603"/>
                  </a:lnTo>
                  <a:lnTo>
                    <a:pt x="28518" y="18815"/>
                  </a:lnTo>
                  <a:lnTo>
                    <a:pt x="33405" y="17623"/>
                  </a:lnTo>
                  <a:lnTo>
                    <a:pt x="38357" y="16829"/>
                  </a:lnTo>
                  <a:lnTo>
                    <a:pt x="43352" y="16299"/>
                  </a:lnTo>
                  <a:lnTo>
                    <a:pt x="49221" y="15946"/>
                  </a:lnTo>
                  <a:lnTo>
                    <a:pt x="62516" y="15554"/>
                  </a:lnTo>
                  <a:lnTo>
                    <a:pt x="68771" y="14603"/>
                  </a:lnTo>
                  <a:lnTo>
                    <a:pt x="74634" y="13121"/>
                  </a:lnTo>
                  <a:lnTo>
                    <a:pt x="80236" y="11288"/>
                  </a:lnTo>
                  <a:lnTo>
                    <a:pt x="85663" y="10065"/>
                  </a:lnTo>
                  <a:lnTo>
                    <a:pt x="90976" y="9250"/>
                  </a:lnTo>
                  <a:lnTo>
                    <a:pt x="96210" y="8707"/>
                  </a:lnTo>
                  <a:lnTo>
                    <a:pt x="101394" y="8345"/>
                  </a:lnTo>
                  <a:lnTo>
                    <a:pt x="106543" y="8103"/>
                  </a:lnTo>
                  <a:lnTo>
                    <a:pt x="111668" y="7942"/>
                  </a:lnTo>
                  <a:lnTo>
                    <a:pt x="115932" y="6988"/>
                  </a:lnTo>
                  <a:lnTo>
                    <a:pt x="119621" y="5505"/>
                  </a:lnTo>
                  <a:lnTo>
                    <a:pt x="122928" y="3670"/>
                  </a:lnTo>
                  <a:lnTo>
                    <a:pt x="125979" y="2447"/>
                  </a:lnTo>
                  <a:lnTo>
                    <a:pt x="128859" y="1631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MARTInkAnnotation315"/>
            <p:cNvSpPr/>
            <p:nvPr/>
          </p:nvSpPr>
          <p:spPr>
            <a:xfrm>
              <a:off x="5806440" y="4983120"/>
              <a:ext cx="205560" cy="910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05606" h="91345">
                  <a:moveTo>
                    <a:pt x="76066" y="0"/>
                  </a:moveTo>
                  <a:lnTo>
                    <a:pt x="76066" y="10606"/>
                  </a:lnTo>
                  <a:lnTo>
                    <a:pt x="75219" y="12150"/>
                  </a:lnTo>
                  <a:lnTo>
                    <a:pt x="73808" y="13181"/>
                  </a:lnTo>
                  <a:lnTo>
                    <a:pt x="72020" y="13867"/>
                  </a:lnTo>
                  <a:lnTo>
                    <a:pt x="69982" y="16018"/>
                  </a:lnTo>
                  <a:lnTo>
                    <a:pt x="67776" y="19145"/>
                  </a:lnTo>
                  <a:lnTo>
                    <a:pt x="65460" y="22924"/>
                  </a:lnTo>
                  <a:lnTo>
                    <a:pt x="62222" y="26289"/>
                  </a:lnTo>
                  <a:lnTo>
                    <a:pt x="58370" y="29380"/>
                  </a:lnTo>
                  <a:lnTo>
                    <a:pt x="54108" y="32286"/>
                  </a:lnTo>
                  <a:lnTo>
                    <a:pt x="50421" y="35071"/>
                  </a:lnTo>
                  <a:lnTo>
                    <a:pt x="47116" y="37774"/>
                  </a:lnTo>
                  <a:lnTo>
                    <a:pt x="44066" y="40423"/>
                  </a:lnTo>
                  <a:lnTo>
                    <a:pt x="40339" y="43035"/>
                  </a:lnTo>
                  <a:lnTo>
                    <a:pt x="36161" y="45623"/>
                  </a:lnTo>
                  <a:lnTo>
                    <a:pt x="31683" y="48196"/>
                  </a:lnTo>
                  <a:lnTo>
                    <a:pt x="27851" y="50757"/>
                  </a:lnTo>
                  <a:lnTo>
                    <a:pt x="24449" y="53312"/>
                  </a:lnTo>
                  <a:lnTo>
                    <a:pt x="21335" y="55861"/>
                  </a:lnTo>
                  <a:lnTo>
                    <a:pt x="18411" y="58408"/>
                  </a:lnTo>
                  <a:lnTo>
                    <a:pt x="15616" y="60952"/>
                  </a:lnTo>
                  <a:lnTo>
                    <a:pt x="10252" y="66037"/>
                  </a:lnTo>
                  <a:lnTo>
                    <a:pt x="5047" y="71118"/>
                  </a:lnTo>
                  <a:lnTo>
                    <a:pt x="3319" y="73659"/>
                  </a:lnTo>
                  <a:lnTo>
                    <a:pt x="2169" y="76200"/>
                  </a:lnTo>
                  <a:lnTo>
                    <a:pt x="0" y="83374"/>
                  </a:lnTo>
                  <a:lnTo>
                    <a:pt x="2183" y="85880"/>
                  </a:lnTo>
                  <a:lnTo>
                    <a:pt x="3950" y="87734"/>
                  </a:lnTo>
                  <a:lnTo>
                    <a:pt x="6822" y="88969"/>
                  </a:lnTo>
                  <a:lnTo>
                    <a:pt x="10430" y="89793"/>
                  </a:lnTo>
                  <a:lnTo>
                    <a:pt x="14528" y="90342"/>
                  </a:lnTo>
                  <a:lnTo>
                    <a:pt x="18954" y="90708"/>
                  </a:lnTo>
                  <a:lnTo>
                    <a:pt x="23598" y="90952"/>
                  </a:lnTo>
                  <a:lnTo>
                    <a:pt x="33274" y="91223"/>
                  </a:lnTo>
                  <a:lnTo>
                    <a:pt x="43218" y="91344"/>
                  </a:lnTo>
                  <a:lnTo>
                    <a:pt x="49087" y="90529"/>
                  </a:lnTo>
                  <a:lnTo>
                    <a:pt x="55540" y="89139"/>
                  </a:lnTo>
                  <a:lnTo>
                    <a:pt x="62381" y="87366"/>
                  </a:lnTo>
                  <a:lnTo>
                    <a:pt x="68636" y="86184"/>
                  </a:lnTo>
                  <a:lnTo>
                    <a:pt x="74499" y="85396"/>
                  </a:lnTo>
                  <a:lnTo>
                    <a:pt x="80101" y="84871"/>
                  </a:lnTo>
                  <a:lnTo>
                    <a:pt x="86376" y="84521"/>
                  </a:lnTo>
                  <a:lnTo>
                    <a:pt x="100121" y="84132"/>
                  </a:lnTo>
                  <a:lnTo>
                    <a:pt x="122140" y="83913"/>
                  </a:lnTo>
                  <a:lnTo>
                    <a:pt x="128795" y="83035"/>
                  </a:lnTo>
                  <a:lnTo>
                    <a:pt x="134925" y="81604"/>
                  </a:lnTo>
                  <a:lnTo>
                    <a:pt x="140705" y="79802"/>
                  </a:lnTo>
                  <a:lnTo>
                    <a:pt x="146252" y="79448"/>
                  </a:lnTo>
                  <a:lnTo>
                    <a:pt x="151643" y="80059"/>
                  </a:lnTo>
                  <a:lnTo>
                    <a:pt x="156930" y="81313"/>
                  </a:lnTo>
                  <a:lnTo>
                    <a:pt x="161302" y="81302"/>
                  </a:lnTo>
                  <a:lnTo>
                    <a:pt x="165063" y="80448"/>
                  </a:lnTo>
                  <a:lnTo>
                    <a:pt x="168417" y="79032"/>
                  </a:lnTo>
                  <a:lnTo>
                    <a:pt x="172346" y="78088"/>
                  </a:lnTo>
                  <a:lnTo>
                    <a:pt x="176659" y="77459"/>
                  </a:lnTo>
                  <a:lnTo>
                    <a:pt x="187658" y="76449"/>
                  </a:lnTo>
                  <a:lnTo>
                    <a:pt x="193608" y="76274"/>
                  </a:lnTo>
                  <a:lnTo>
                    <a:pt x="205605" y="76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MARTInkAnnotation316"/>
            <p:cNvSpPr/>
            <p:nvPr/>
          </p:nvSpPr>
          <p:spPr>
            <a:xfrm>
              <a:off x="6004440" y="4983120"/>
              <a:ext cx="53280" cy="2743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53341" h="274321">
                  <a:moveTo>
                    <a:pt x="53340" y="0"/>
                  </a:moveTo>
                  <a:lnTo>
                    <a:pt x="53340" y="50963"/>
                  </a:lnTo>
                  <a:lnTo>
                    <a:pt x="52494" y="56836"/>
                  </a:lnTo>
                  <a:lnTo>
                    <a:pt x="51082" y="63291"/>
                  </a:lnTo>
                  <a:lnTo>
                    <a:pt x="42734" y="95946"/>
                  </a:lnTo>
                  <a:lnTo>
                    <a:pt x="41190" y="103757"/>
                  </a:lnTo>
                  <a:lnTo>
                    <a:pt x="40160" y="110658"/>
                  </a:lnTo>
                  <a:lnTo>
                    <a:pt x="39473" y="116952"/>
                  </a:lnTo>
                  <a:lnTo>
                    <a:pt x="38169" y="124535"/>
                  </a:lnTo>
                  <a:lnTo>
                    <a:pt x="36452" y="132977"/>
                  </a:lnTo>
                  <a:lnTo>
                    <a:pt x="34462" y="141991"/>
                  </a:lnTo>
                  <a:lnTo>
                    <a:pt x="31441" y="150541"/>
                  </a:lnTo>
                  <a:lnTo>
                    <a:pt x="27735" y="158781"/>
                  </a:lnTo>
                  <a:lnTo>
                    <a:pt x="23569" y="166814"/>
                  </a:lnTo>
                  <a:lnTo>
                    <a:pt x="20794" y="174709"/>
                  </a:lnTo>
                  <a:lnTo>
                    <a:pt x="18942" y="182513"/>
                  </a:lnTo>
                  <a:lnTo>
                    <a:pt x="17708" y="190255"/>
                  </a:lnTo>
                  <a:lnTo>
                    <a:pt x="16039" y="198804"/>
                  </a:lnTo>
                  <a:lnTo>
                    <a:pt x="11926" y="217333"/>
                  </a:lnTo>
                  <a:lnTo>
                    <a:pt x="9644" y="225322"/>
                  </a:lnTo>
                  <a:lnTo>
                    <a:pt x="7276" y="232341"/>
                  </a:lnTo>
                  <a:lnTo>
                    <a:pt x="4851" y="238714"/>
                  </a:lnTo>
                  <a:lnTo>
                    <a:pt x="3234" y="244656"/>
                  </a:lnTo>
                  <a:lnTo>
                    <a:pt x="2156" y="250311"/>
                  </a:lnTo>
                  <a:lnTo>
                    <a:pt x="1437" y="255774"/>
                  </a:lnTo>
                  <a:lnTo>
                    <a:pt x="639" y="264102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MARTInkAnnotation317"/>
            <p:cNvSpPr/>
            <p:nvPr/>
          </p:nvSpPr>
          <p:spPr>
            <a:xfrm>
              <a:off x="6257880" y="4906800"/>
              <a:ext cx="158040" cy="4417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158345" h="441961">
                  <a:moveTo>
                    <a:pt x="158344" y="0"/>
                  </a:moveTo>
                  <a:lnTo>
                    <a:pt x="154299" y="4045"/>
                  </a:lnTo>
                  <a:lnTo>
                    <a:pt x="150055" y="10546"/>
                  </a:lnTo>
                  <a:lnTo>
                    <a:pt x="145346" y="18234"/>
                  </a:lnTo>
                  <a:lnTo>
                    <a:pt x="140431" y="24473"/>
                  </a:lnTo>
                  <a:lnTo>
                    <a:pt x="136243" y="28168"/>
                  </a:lnTo>
                  <a:lnTo>
                    <a:pt x="130910" y="32326"/>
                  </a:lnTo>
                  <a:lnTo>
                    <a:pt x="124815" y="36791"/>
                  </a:lnTo>
                  <a:lnTo>
                    <a:pt x="119058" y="42307"/>
                  </a:lnTo>
                  <a:lnTo>
                    <a:pt x="113527" y="48524"/>
                  </a:lnTo>
                  <a:lnTo>
                    <a:pt x="108146" y="55210"/>
                  </a:lnTo>
                  <a:lnTo>
                    <a:pt x="102019" y="62207"/>
                  </a:lnTo>
                  <a:lnTo>
                    <a:pt x="95394" y="69411"/>
                  </a:lnTo>
                  <a:lnTo>
                    <a:pt x="81259" y="84189"/>
                  </a:lnTo>
                  <a:lnTo>
                    <a:pt x="66511" y="99224"/>
                  </a:lnTo>
                  <a:lnTo>
                    <a:pt x="59022" y="107636"/>
                  </a:lnTo>
                  <a:lnTo>
                    <a:pt x="51490" y="116631"/>
                  </a:lnTo>
                  <a:lnTo>
                    <a:pt x="43928" y="126014"/>
                  </a:lnTo>
                  <a:lnTo>
                    <a:pt x="37194" y="134810"/>
                  </a:lnTo>
                  <a:lnTo>
                    <a:pt x="31010" y="143212"/>
                  </a:lnTo>
                  <a:lnTo>
                    <a:pt x="25195" y="151355"/>
                  </a:lnTo>
                  <a:lnTo>
                    <a:pt x="20471" y="160170"/>
                  </a:lnTo>
                  <a:lnTo>
                    <a:pt x="16475" y="169433"/>
                  </a:lnTo>
                  <a:lnTo>
                    <a:pt x="12965" y="178996"/>
                  </a:lnTo>
                  <a:lnTo>
                    <a:pt x="9778" y="188757"/>
                  </a:lnTo>
                  <a:lnTo>
                    <a:pt x="6806" y="198651"/>
                  </a:lnTo>
                  <a:lnTo>
                    <a:pt x="3979" y="208634"/>
                  </a:lnTo>
                  <a:lnTo>
                    <a:pt x="2094" y="218676"/>
                  </a:lnTo>
                  <a:lnTo>
                    <a:pt x="838" y="228758"/>
                  </a:lnTo>
                  <a:lnTo>
                    <a:pt x="0" y="238865"/>
                  </a:lnTo>
                  <a:lnTo>
                    <a:pt x="288" y="248990"/>
                  </a:lnTo>
                  <a:lnTo>
                    <a:pt x="1326" y="259126"/>
                  </a:lnTo>
                  <a:lnTo>
                    <a:pt x="2866" y="269271"/>
                  </a:lnTo>
                  <a:lnTo>
                    <a:pt x="4738" y="279421"/>
                  </a:lnTo>
                  <a:lnTo>
                    <a:pt x="9078" y="299729"/>
                  </a:lnTo>
                  <a:lnTo>
                    <a:pt x="13113" y="309886"/>
                  </a:lnTo>
                  <a:lnTo>
                    <a:pt x="18344" y="320044"/>
                  </a:lnTo>
                  <a:lnTo>
                    <a:pt x="24370" y="330203"/>
                  </a:lnTo>
                  <a:lnTo>
                    <a:pt x="30928" y="340362"/>
                  </a:lnTo>
                  <a:lnTo>
                    <a:pt x="37840" y="350522"/>
                  </a:lnTo>
                  <a:lnTo>
                    <a:pt x="44989" y="360681"/>
                  </a:lnTo>
                  <a:lnTo>
                    <a:pt x="53140" y="369994"/>
                  </a:lnTo>
                  <a:lnTo>
                    <a:pt x="61961" y="378743"/>
                  </a:lnTo>
                  <a:lnTo>
                    <a:pt x="71229" y="387115"/>
                  </a:lnTo>
                  <a:lnTo>
                    <a:pt x="80794" y="395237"/>
                  </a:lnTo>
                  <a:lnTo>
                    <a:pt x="108744" y="417956"/>
                  </a:lnTo>
                  <a:lnTo>
                    <a:pt x="115964" y="424264"/>
                  </a:lnTo>
                  <a:lnTo>
                    <a:pt x="122470" y="430163"/>
                  </a:lnTo>
                  <a:lnTo>
                    <a:pt x="128502" y="434095"/>
                  </a:lnTo>
                  <a:lnTo>
                    <a:pt x="134216" y="436717"/>
                  </a:lnTo>
                  <a:lnTo>
                    <a:pt x="150724" y="441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MARTInkAnnotation318"/>
            <p:cNvSpPr/>
            <p:nvPr/>
          </p:nvSpPr>
          <p:spPr>
            <a:xfrm>
              <a:off x="6408720" y="508212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MARTInkAnnotation319"/>
            <p:cNvSpPr/>
            <p:nvPr/>
          </p:nvSpPr>
          <p:spPr>
            <a:xfrm>
              <a:off x="6668280" y="4983120"/>
              <a:ext cx="45000" cy="205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45275" h="205741">
                  <a:moveTo>
                    <a:pt x="45274" y="0"/>
                  </a:moveTo>
                  <a:lnTo>
                    <a:pt x="45274" y="4045"/>
                  </a:lnTo>
                  <a:lnTo>
                    <a:pt x="44428" y="5237"/>
                  </a:lnTo>
                  <a:lnTo>
                    <a:pt x="43016" y="6031"/>
                  </a:lnTo>
                  <a:lnTo>
                    <a:pt x="41229" y="6561"/>
                  </a:lnTo>
                  <a:lnTo>
                    <a:pt x="40038" y="8608"/>
                  </a:lnTo>
                  <a:lnTo>
                    <a:pt x="39243" y="11665"/>
                  </a:lnTo>
                  <a:lnTo>
                    <a:pt x="38714" y="15397"/>
                  </a:lnTo>
                  <a:lnTo>
                    <a:pt x="37514" y="19578"/>
                  </a:lnTo>
                  <a:lnTo>
                    <a:pt x="35867" y="24059"/>
                  </a:lnTo>
                  <a:lnTo>
                    <a:pt x="33923" y="28739"/>
                  </a:lnTo>
                  <a:lnTo>
                    <a:pt x="31780" y="34399"/>
                  </a:lnTo>
                  <a:lnTo>
                    <a:pt x="27141" y="47462"/>
                  </a:lnTo>
                  <a:lnTo>
                    <a:pt x="24719" y="53654"/>
                  </a:lnTo>
                  <a:lnTo>
                    <a:pt x="22257" y="59477"/>
                  </a:lnTo>
                  <a:lnTo>
                    <a:pt x="19769" y="65051"/>
                  </a:lnTo>
                  <a:lnTo>
                    <a:pt x="17264" y="71307"/>
                  </a:lnTo>
                  <a:lnTo>
                    <a:pt x="12223" y="85032"/>
                  </a:lnTo>
                  <a:lnTo>
                    <a:pt x="4625" y="107040"/>
                  </a:lnTo>
                  <a:lnTo>
                    <a:pt x="2934" y="114539"/>
                  </a:lnTo>
                  <a:lnTo>
                    <a:pt x="1808" y="122080"/>
                  </a:lnTo>
                  <a:lnTo>
                    <a:pt x="1056" y="129647"/>
                  </a:lnTo>
                  <a:lnTo>
                    <a:pt x="555" y="137231"/>
                  </a:lnTo>
                  <a:lnTo>
                    <a:pt x="222" y="144827"/>
                  </a:lnTo>
                  <a:lnTo>
                    <a:pt x="0" y="152432"/>
                  </a:lnTo>
                  <a:lnTo>
                    <a:pt x="697" y="159194"/>
                  </a:lnTo>
                  <a:lnTo>
                    <a:pt x="2009" y="165396"/>
                  </a:lnTo>
                  <a:lnTo>
                    <a:pt x="3730" y="171224"/>
                  </a:lnTo>
                  <a:lnTo>
                    <a:pt x="5725" y="176803"/>
                  </a:lnTo>
                  <a:lnTo>
                    <a:pt x="7902" y="182216"/>
                  </a:lnTo>
                  <a:lnTo>
                    <a:pt x="10199" y="187517"/>
                  </a:lnTo>
                  <a:lnTo>
                    <a:pt x="11731" y="191898"/>
                  </a:lnTo>
                  <a:lnTo>
                    <a:pt x="12752" y="195665"/>
                  </a:lnTo>
                  <a:lnTo>
                    <a:pt x="14794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MARTInkAnnotation320"/>
            <p:cNvSpPr/>
            <p:nvPr/>
          </p:nvSpPr>
          <p:spPr>
            <a:xfrm>
              <a:off x="6789600" y="4975560"/>
              <a:ext cx="37800" cy="205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8101" h="205741">
                  <a:moveTo>
                    <a:pt x="0" y="0"/>
                  </a:moveTo>
                  <a:lnTo>
                    <a:pt x="0" y="43637"/>
                  </a:lnTo>
                  <a:lnTo>
                    <a:pt x="847" y="50258"/>
                  </a:lnTo>
                  <a:lnTo>
                    <a:pt x="2258" y="58059"/>
                  </a:lnTo>
                  <a:lnTo>
                    <a:pt x="4046" y="66646"/>
                  </a:lnTo>
                  <a:lnTo>
                    <a:pt x="6084" y="74911"/>
                  </a:lnTo>
                  <a:lnTo>
                    <a:pt x="8289" y="82961"/>
                  </a:lnTo>
                  <a:lnTo>
                    <a:pt x="10606" y="90867"/>
                  </a:lnTo>
                  <a:lnTo>
                    <a:pt x="12150" y="98678"/>
                  </a:lnTo>
                  <a:lnTo>
                    <a:pt x="13181" y="106425"/>
                  </a:lnTo>
                  <a:lnTo>
                    <a:pt x="13867" y="114130"/>
                  </a:lnTo>
                  <a:lnTo>
                    <a:pt x="15172" y="120960"/>
                  </a:lnTo>
                  <a:lnTo>
                    <a:pt x="16889" y="127207"/>
                  </a:lnTo>
                  <a:lnTo>
                    <a:pt x="18879" y="133065"/>
                  </a:lnTo>
                  <a:lnTo>
                    <a:pt x="20205" y="139510"/>
                  </a:lnTo>
                  <a:lnTo>
                    <a:pt x="21091" y="146346"/>
                  </a:lnTo>
                  <a:lnTo>
                    <a:pt x="21681" y="153444"/>
                  </a:lnTo>
                  <a:lnTo>
                    <a:pt x="22921" y="159870"/>
                  </a:lnTo>
                  <a:lnTo>
                    <a:pt x="24594" y="165846"/>
                  </a:lnTo>
                  <a:lnTo>
                    <a:pt x="26556" y="171524"/>
                  </a:lnTo>
                  <a:lnTo>
                    <a:pt x="27865" y="177003"/>
                  </a:lnTo>
                  <a:lnTo>
                    <a:pt x="28737" y="182348"/>
                  </a:lnTo>
                  <a:lnTo>
                    <a:pt x="29317" y="187606"/>
                  </a:lnTo>
                  <a:lnTo>
                    <a:pt x="30552" y="191957"/>
                  </a:lnTo>
                  <a:lnTo>
                    <a:pt x="32222" y="195705"/>
                  </a:lnTo>
                  <a:lnTo>
                    <a:pt x="3810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MARTInkAnnotation321"/>
            <p:cNvSpPr/>
            <p:nvPr/>
          </p:nvSpPr>
          <p:spPr>
            <a:xfrm>
              <a:off x="6881040" y="4815360"/>
              <a:ext cx="155880" cy="5180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155937" h="518161">
                  <a:moveTo>
                    <a:pt x="114300" y="0"/>
                  </a:moveTo>
                  <a:lnTo>
                    <a:pt x="110255" y="4045"/>
                  </a:lnTo>
                  <a:lnTo>
                    <a:pt x="109909" y="5237"/>
                  </a:lnTo>
                  <a:lnTo>
                    <a:pt x="110526" y="6031"/>
                  </a:lnTo>
                  <a:lnTo>
                    <a:pt x="111784" y="6561"/>
                  </a:lnTo>
                  <a:lnTo>
                    <a:pt x="112623" y="7761"/>
                  </a:lnTo>
                  <a:lnTo>
                    <a:pt x="116227" y="20285"/>
                  </a:lnTo>
                  <a:lnTo>
                    <a:pt x="124841" y="46717"/>
                  </a:lnTo>
                  <a:lnTo>
                    <a:pt x="128101" y="54851"/>
                  </a:lnTo>
                  <a:lnTo>
                    <a:pt x="131967" y="63661"/>
                  </a:lnTo>
                  <a:lnTo>
                    <a:pt x="136239" y="72921"/>
                  </a:lnTo>
                  <a:lnTo>
                    <a:pt x="139086" y="83327"/>
                  </a:lnTo>
                  <a:lnTo>
                    <a:pt x="140983" y="94498"/>
                  </a:lnTo>
                  <a:lnTo>
                    <a:pt x="142249" y="106179"/>
                  </a:lnTo>
                  <a:lnTo>
                    <a:pt x="145913" y="132704"/>
                  </a:lnTo>
                  <a:lnTo>
                    <a:pt x="155164" y="195170"/>
                  </a:lnTo>
                  <a:lnTo>
                    <a:pt x="155936" y="211394"/>
                  </a:lnTo>
                  <a:lnTo>
                    <a:pt x="155604" y="227289"/>
                  </a:lnTo>
                  <a:lnTo>
                    <a:pt x="154536" y="242966"/>
                  </a:lnTo>
                  <a:lnTo>
                    <a:pt x="152978" y="258497"/>
                  </a:lnTo>
                  <a:lnTo>
                    <a:pt x="151091" y="273931"/>
                  </a:lnTo>
                  <a:lnTo>
                    <a:pt x="148988" y="289301"/>
                  </a:lnTo>
                  <a:lnTo>
                    <a:pt x="145892" y="304628"/>
                  </a:lnTo>
                  <a:lnTo>
                    <a:pt x="142135" y="319925"/>
                  </a:lnTo>
                  <a:lnTo>
                    <a:pt x="137936" y="335203"/>
                  </a:lnTo>
                  <a:lnTo>
                    <a:pt x="132598" y="350469"/>
                  </a:lnTo>
                  <a:lnTo>
                    <a:pt x="126498" y="365726"/>
                  </a:lnTo>
                  <a:lnTo>
                    <a:pt x="119893" y="380977"/>
                  </a:lnTo>
                  <a:lnTo>
                    <a:pt x="112949" y="395378"/>
                  </a:lnTo>
                  <a:lnTo>
                    <a:pt x="105779" y="409212"/>
                  </a:lnTo>
                  <a:lnTo>
                    <a:pt x="98459" y="422668"/>
                  </a:lnTo>
                  <a:lnTo>
                    <a:pt x="91039" y="434179"/>
                  </a:lnTo>
                  <a:lnTo>
                    <a:pt x="83553" y="444392"/>
                  </a:lnTo>
                  <a:lnTo>
                    <a:pt x="76022" y="453742"/>
                  </a:lnTo>
                  <a:lnTo>
                    <a:pt x="68461" y="462515"/>
                  </a:lnTo>
                  <a:lnTo>
                    <a:pt x="60881" y="470903"/>
                  </a:lnTo>
                  <a:lnTo>
                    <a:pt x="53287" y="479036"/>
                  </a:lnTo>
                  <a:lnTo>
                    <a:pt x="45685" y="485304"/>
                  </a:lnTo>
                  <a:lnTo>
                    <a:pt x="38077" y="490329"/>
                  </a:lnTo>
                  <a:lnTo>
                    <a:pt x="30465" y="494527"/>
                  </a:lnTo>
                  <a:lnTo>
                    <a:pt x="24543" y="499017"/>
                  </a:lnTo>
                  <a:lnTo>
                    <a:pt x="19748" y="503705"/>
                  </a:lnTo>
                  <a:lnTo>
                    <a:pt x="15706" y="508523"/>
                  </a:lnTo>
                  <a:lnTo>
                    <a:pt x="12164" y="511736"/>
                  </a:lnTo>
                  <a:lnTo>
                    <a:pt x="8956" y="513877"/>
                  </a:lnTo>
                  <a:lnTo>
                    <a:pt x="0" y="518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MARTInkAnnotation322"/>
            <p:cNvSpPr/>
            <p:nvPr/>
          </p:nvSpPr>
          <p:spPr>
            <a:xfrm>
              <a:off x="7193520" y="502884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1">
                  <a:moveTo>
                    <a:pt x="0" y="15240"/>
                  </a:moveTo>
                  <a:lnTo>
                    <a:pt x="4046" y="11195"/>
                  </a:lnTo>
                  <a:lnTo>
                    <a:pt x="6084" y="10003"/>
                  </a:lnTo>
                  <a:lnTo>
                    <a:pt x="8289" y="9209"/>
                  </a:lnTo>
                  <a:lnTo>
                    <a:pt x="10606" y="8679"/>
                  </a:lnTo>
                  <a:lnTo>
                    <a:pt x="14690" y="8326"/>
                  </a:lnTo>
                  <a:lnTo>
                    <a:pt x="19954" y="8091"/>
                  </a:lnTo>
                  <a:lnTo>
                    <a:pt x="26003" y="7934"/>
                  </a:lnTo>
                  <a:lnTo>
                    <a:pt x="31729" y="6983"/>
                  </a:lnTo>
                  <a:lnTo>
                    <a:pt x="37240" y="5502"/>
                  </a:lnTo>
                  <a:lnTo>
                    <a:pt x="42606" y="3668"/>
                  </a:lnTo>
                  <a:lnTo>
                    <a:pt x="49571" y="2445"/>
                  </a:lnTo>
                  <a:lnTo>
                    <a:pt x="57601" y="1630"/>
                  </a:lnTo>
                  <a:lnTo>
                    <a:pt x="66340" y="1087"/>
                  </a:lnTo>
                  <a:lnTo>
                    <a:pt x="85083" y="483"/>
                  </a:lnTo>
                  <a:lnTo>
                    <a:pt x="129550" y="64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MARTInkAnnotation323"/>
            <p:cNvSpPr/>
            <p:nvPr/>
          </p:nvSpPr>
          <p:spPr>
            <a:xfrm>
              <a:off x="7231680" y="505188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1" h="7621">
                  <a:moveTo>
                    <a:pt x="0" y="7620"/>
                  </a:moveTo>
                  <a:lnTo>
                    <a:pt x="91587" y="7620"/>
                  </a:lnTo>
                  <a:lnTo>
                    <a:pt x="100005" y="6773"/>
                  </a:lnTo>
                  <a:lnTo>
                    <a:pt x="109004" y="5362"/>
                  </a:lnTo>
                  <a:lnTo>
                    <a:pt x="118389" y="3575"/>
                  </a:lnTo>
                  <a:lnTo>
                    <a:pt x="125493" y="2383"/>
                  </a:lnTo>
                  <a:lnTo>
                    <a:pt x="131076" y="1589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MARTInkAnnotation324"/>
            <p:cNvSpPr/>
            <p:nvPr/>
          </p:nvSpPr>
          <p:spPr>
            <a:xfrm>
              <a:off x="7521480" y="4944960"/>
              <a:ext cx="121680" cy="7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1921" h="7620">
                  <a:moveTo>
                    <a:pt x="0" y="7619"/>
                  </a:moveTo>
                  <a:lnTo>
                    <a:pt x="4046" y="3574"/>
                  </a:lnTo>
                  <a:lnTo>
                    <a:pt x="6084" y="2382"/>
                  </a:lnTo>
                  <a:lnTo>
                    <a:pt x="8289" y="1588"/>
                  </a:lnTo>
                  <a:lnTo>
                    <a:pt x="10606" y="1058"/>
                  </a:lnTo>
                  <a:lnTo>
                    <a:pt x="12998" y="705"/>
                  </a:lnTo>
                  <a:lnTo>
                    <a:pt x="15439" y="470"/>
                  </a:lnTo>
                  <a:lnTo>
                    <a:pt x="17913" y="313"/>
                  </a:lnTo>
                  <a:lnTo>
                    <a:pt x="27434" y="138"/>
                  </a:lnTo>
                  <a:lnTo>
                    <a:pt x="103065" y="0"/>
                  </a:lnTo>
                  <a:lnTo>
                    <a:pt x="106810" y="847"/>
                  </a:lnTo>
                  <a:lnTo>
                    <a:pt x="109307" y="2257"/>
                  </a:lnTo>
                  <a:lnTo>
                    <a:pt x="110971" y="4045"/>
                  </a:lnTo>
                  <a:lnTo>
                    <a:pt x="112927" y="5236"/>
                  </a:lnTo>
                  <a:lnTo>
                    <a:pt x="115078" y="6031"/>
                  </a:lnTo>
                  <a:lnTo>
                    <a:pt x="121920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MARTInkAnnotation325"/>
            <p:cNvSpPr/>
            <p:nvPr/>
          </p:nvSpPr>
          <p:spPr>
            <a:xfrm>
              <a:off x="7704360" y="4891680"/>
              <a:ext cx="159840" cy="6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59990" h="68581">
                  <a:moveTo>
                    <a:pt x="22829" y="0"/>
                  </a:moveTo>
                  <a:lnTo>
                    <a:pt x="34467" y="0"/>
                  </a:lnTo>
                  <a:lnTo>
                    <a:pt x="34821" y="847"/>
                  </a:lnTo>
                  <a:lnTo>
                    <a:pt x="34211" y="2258"/>
                  </a:lnTo>
                  <a:lnTo>
                    <a:pt x="32957" y="4045"/>
                  </a:lnTo>
                  <a:lnTo>
                    <a:pt x="32121" y="6084"/>
                  </a:lnTo>
                  <a:lnTo>
                    <a:pt x="31564" y="8289"/>
                  </a:lnTo>
                  <a:lnTo>
                    <a:pt x="31192" y="10606"/>
                  </a:lnTo>
                  <a:lnTo>
                    <a:pt x="30098" y="12151"/>
                  </a:lnTo>
                  <a:lnTo>
                    <a:pt x="28522" y="13181"/>
                  </a:lnTo>
                  <a:lnTo>
                    <a:pt x="26624" y="13868"/>
                  </a:lnTo>
                  <a:lnTo>
                    <a:pt x="24513" y="15171"/>
                  </a:lnTo>
                  <a:lnTo>
                    <a:pt x="22258" y="16887"/>
                  </a:lnTo>
                  <a:lnTo>
                    <a:pt x="19909" y="18879"/>
                  </a:lnTo>
                  <a:lnTo>
                    <a:pt x="18342" y="21052"/>
                  </a:lnTo>
                  <a:lnTo>
                    <a:pt x="17297" y="23348"/>
                  </a:lnTo>
                  <a:lnTo>
                    <a:pt x="16602" y="25725"/>
                  </a:lnTo>
                  <a:lnTo>
                    <a:pt x="15291" y="28157"/>
                  </a:lnTo>
                  <a:lnTo>
                    <a:pt x="13570" y="30625"/>
                  </a:lnTo>
                  <a:lnTo>
                    <a:pt x="8770" y="36624"/>
                  </a:lnTo>
                  <a:lnTo>
                    <a:pt x="7529" y="37963"/>
                  </a:lnTo>
                  <a:lnTo>
                    <a:pt x="3893" y="41708"/>
                  </a:lnTo>
                  <a:lnTo>
                    <a:pt x="2586" y="43892"/>
                  </a:lnTo>
                  <a:lnTo>
                    <a:pt x="1714" y="46195"/>
                  </a:lnTo>
                  <a:lnTo>
                    <a:pt x="0" y="53216"/>
                  </a:lnTo>
                  <a:lnTo>
                    <a:pt x="836" y="54105"/>
                  </a:lnTo>
                  <a:lnTo>
                    <a:pt x="4023" y="57349"/>
                  </a:lnTo>
                  <a:lnTo>
                    <a:pt x="6905" y="58553"/>
                  </a:lnTo>
                  <a:lnTo>
                    <a:pt x="10520" y="59355"/>
                  </a:lnTo>
                  <a:lnTo>
                    <a:pt x="14623" y="59890"/>
                  </a:lnTo>
                  <a:lnTo>
                    <a:pt x="18206" y="60247"/>
                  </a:lnTo>
                  <a:lnTo>
                    <a:pt x="21440" y="60484"/>
                  </a:lnTo>
                  <a:lnTo>
                    <a:pt x="24443" y="60643"/>
                  </a:lnTo>
                  <a:lnTo>
                    <a:pt x="28985" y="61596"/>
                  </a:lnTo>
                  <a:lnTo>
                    <a:pt x="34553" y="63077"/>
                  </a:lnTo>
                  <a:lnTo>
                    <a:pt x="40806" y="64911"/>
                  </a:lnTo>
                  <a:lnTo>
                    <a:pt x="45820" y="66134"/>
                  </a:lnTo>
                  <a:lnTo>
                    <a:pt x="50009" y="66950"/>
                  </a:lnTo>
                  <a:lnTo>
                    <a:pt x="53650" y="67493"/>
                  </a:lnTo>
                  <a:lnTo>
                    <a:pt x="58616" y="67856"/>
                  </a:lnTo>
                  <a:lnTo>
                    <a:pt x="64468" y="68097"/>
                  </a:lnTo>
                  <a:lnTo>
                    <a:pt x="84018" y="68485"/>
                  </a:lnTo>
                  <a:lnTo>
                    <a:pt x="150753" y="68580"/>
                  </a:lnTo>
                  <a:lnTo>
                    <a:pt x="152138" y="67734"/>
                  </a:lnTo>
                  <a:lnTo>
                    <a:pt x="153909" y="66322"/>
                  </a:lnTo>
                  <a:lnTo>
                    <a:pt x="159989" y="60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MARTInkAnnotation326"/>
            <p:cNvSpPr/>
            <p:nvPr/>
          </p:nvSpPr>
          <p:spPr>
            <a:xfrm>
              <a:off x="7826040" y="4884120"/>
              <a:ext cx="91440" cy="18288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91441" h="182881">
                  <a:moveTo>
                    <a:pt x="91440" y="0"/>
                  </a:moveTo>
                  <a:lnTo>
                    <a:pt x="65936" y="25505"/>
                  </a:lnTo>
                  <a:lnTo>
                    <a:pt x="63431" y="28857"/>
                  </a:lnTo>
                  <a:lnTo>
                    <a:pt x="60913" y="32785"/>
                  </a:lnTo>
                  <a:lnTo>
                    <a:pt x="58390" y="37097"/>
                  </a:lnTo>
                  <a:lnTo>
                    <a:pt x="55013" y="41664"/>
                  </a:lnTo>
                  <a:lnTo>
                    <a:pt x="51069" y="46403"/>
                  </a:lnTo>
                  <a:lnTo>
                    <a:pt x="46746" y="51255"/>
                  </a:lnTo>
                  <a:lnTo>
                    <a:pt x="43017" y="56184"/>
                  </a:lnTo>
                  <a:lnTo>
                    <a:pt x="39685" y="61163"/>
                  </a:lnTo>
                  <a:lnTo>
                    <a:pt x="36617" y="66175"/>
                  </a:lnTo>
                  <a:lnTo>
                    <a:pt x="32878" y="71210"/>
                  </a:lnTo>
                  <a:lnTo>
                    <a:pt x="28691" y="76260"/>
                  </a:lnTo>
                  <a:lnTo>
                    <a:pt x="24208" y="81320"/>
                  </a:lnTo>
                  <a:lnTo>
                    <a:pt x="20372" y="87234"/>
                  </a:lnTo>
                  <a:lnTo>
                    <a:pt x="16969" y="93716"/>
                  </a:lnTo>
                  <a:lnTo>
                    <a:pt x="13853" y="100577"/>
                  </a:lnTo>
                  <a:lnTo>
                    <a:pt x="11776" y="106845"/>
                  </a:lnTo>
                  <a:lnTo>
                    <a:pt x="10390" y="112717"/>
                  </a:lnTo>
                  <a:lnTo>
                    <a:pt x="9467" y="118324"/>
                  </a:lnTo>
                  <a:lnTo>
                    <a:pt x="8004" y="123756"/>
                  </a:lnTo>
                  <a:lnTo>
                    <a:pt x="6183" y="129071"/>
                  </a:lnTo>
                  <a:lnTo>
                    <a:pt x="4122" y="134307"/>
                  </a:lnTo>
                  <a:lnTo>
                    <a:pt x="2749" y="139492"/>
                  </a:lnTo>
                  <a:lnTo>
                    <a:pt x="1833" y="144641"/>
                  </a:lnTo>
                  <a:lnTo>
                    <a:pt x="1222" y="149768"/>
                  </a:lnTo>
                  <a:lnTo>
                    <a:pt x="814" y="154879"/>
                  </a:lnTo>
                  <a:lnTo>
                    <a:pt x="544" y="159979"/>
                  </a:lnTo>
                  <a:lnTo>
                    <a:pt x="108" y="172242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SMARTInkAnnotation327"/>
            <p:cNvSpPr/>
            <p:nvPr/>
          </p:nvSpPr>
          <p:spPr>
            <a:xfrm>
              <a:off x="7974360" y="4876560"/>
              <a:ext cx="133560" cy="914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3690" h="91441">
                  <a:moveTo>
                    <a:pt x="65109" y="0"/>
                  </a:moveTo>
                  <a:lnTo>
                    <a:pt x="61064" y="0"/>
                  </a:lnTo>
                  <a:lnTo>
                    <a:pt x="59872" y="846"/>
                  </a:lnTo>
                  <a:lnTo>
                    <a:pt x="59078" y="2258"/>
                  </a:lnTo>
                  <a:lnTo>
                    <a:pt x="57802" y="6561"/>
                  </a:lnTo>
                  <a:lnTo>
                    <a:pt x="55371" y="9408"/>
                  </a:lnTo>
                  <a:lnTo>
                    <a:pt x="53537" y="11352"/>
                  </a:lnTo>
                  <a:lnTo>
                    <a:pt x="51468" y="12648"/>
                  </a:lnTo>
                  <a:lnTo>
                    <a:pt x="49241" y="13512"/>
                  </a:lnTo>
                  <a:lnTo>
                    <a:pt x="46911" y="14088"/>
                  </a:lnTo>
                  <a:lnTo>
                    <a:pt x="44510" y="15319"/>
                  </a:lnTo>
                  <a:lnTo>
                    <a:pt x="42063" y="16986"/>
                  </a:lnTo>
                  <a:lnTo>
                    <a:pt x="39585" y="18944"/>
                  </a:lnTo>
                  <a:lnTo>
                    <a:pt x="36240" y="21096"/>
                  </a:lnTo>
                  <a:lnTo>
                    <a:pt x="32316" y="23378"/>
                  </a:lnTo>
                  <a:lnTo>
                    <a:pt x="28007" y="25745"/>
                  </a:lnTo>
                  <a:lnTo>
                    <a:pt x="24288" y="28170"/>
                  </a:lnTo>
                  <a:lnTo>
                    <a:pt x="20962" y="30633"/>
                  </a:lnTo>
                  <a:lnTo>
                    <a:pt x="17897" y="33122"/>
                  </a:lnTo>
                  <a:lnTo>
                    <a:pt x="15855" y="35628"/>
                  </a:lnTo>
                  <a:lnTo>
                    <a:pt x="14493" y="38146"/>
                  </a:lnTo>
                  <a:lnTo>
                    <a:pt x="13585" y="40671"/>
                  </a:lnTo>
                  <a:lnTo>
                    <a:pt x="12133" y="43200"/>
                  </a:lnTo>
                  <a:lnTo>
                    <a:pt x="10318" y="45734"/>
                  </a:lnTo>
                  <a:lnTo>
                    <a:pt x="8261" y="48269"/>
                  </a:lnTo>
                  <a:lnTo>
                    <a:pt x="6892" y="50806"/>
                  </a:lnTo>
                  <a:lnTo>
                    <a:pt x="5977" y="53344"/>
                  </a:lnTo>
                  <a:lnTo>
                    <a:pt x="5368" y="55883"/>
                  </a:lnTo>
                  <a:lnTo>
                    <a:pt x="4115" y="58422"/>
                  </a:lnTo>
                  <a:lnTo>
                    <a:pt x="2433" y="60961"/>
                  </a:lnTo>
                  <a:lnTo>
                    <a:pt x="465" y="63501"/>
                  </a:lnTo>
                  <a:lnTo>
                    <a:pt x="0" y="65194"/>
                  </a:lnTo>
                  <a:lnTo>
                    <a:pt x="536" y="66323"/>
                  </a:lnTo>
                  <a:lnTo>
                    <a:pt x="3436" y="68134"/>
                  </a:lnTo>
                  <a:lnTo>
                    <a:pt x="6089" y="70639"/>
                  </a:lnTo>
                  <a:lnTo>
                    <a:pt x="7982" y="72493"/>
                  </a:lnTo>
                  <a:lnTo>
                    <a:pt x="10092" y="73728"/>
                  </a:lnTo>
                  <a:lnTo>
                    <a:pt x="12344" y="74553"/>
                  </a:lnTo>
                  <a:lnTo>
                    <a:pt x="14693" y="75102"/>
                  </a:lnTo>
                  <a:lnTo>
                    <a:pt x="17105" y="76314"/>
                  </a:lnTo>
                  <a:lnTo>
                    <a:pt x="19559" y="77970"/>
                  </a:lnTo>
                  <a:lnTo>
                    <a:pt x="22043" y="79920"/>
                  </a:lnTo>
                  <a:lnTo>
                    <a:pt x="25391" y="81220"/>
                  </a:lnTo>
                  <a:lnTo>
                    <a:pt x="29318" y="82087"/>
                  </a:lnTo>
                  <a:lnTo>
                    <a:pt x="33628" y="82664"/>
                  </a:lnTo>
                  <a:lnTo>
                    <a:pt x="38195" y="83050"/>
                  </a:lnTo>
                  <a:lnTo>
                    <a:pt x="42933" y="83307"/>
                  </a:lnTo>
                  <a:lnTo>
                    <a:pt x="55434" y="83668"/>
                  </a:lnTo>
                  <a:lnTo>
                    <a:pt x="84611" y="83807"/>
                  </a:lnTo>
                  <a:lnTo>
                    <a:pt x="88270" y="83811"/>
                  </a:lnTo>
                  <a:lnTo>
                    <a:pt x="91557" y="84661"/>
                  </a:lnTo>
                  <a:lnTo>
                    <a:pt x="94595" y="86074"/>
                  </a:lnTo>
                  <a:lnTo>
                    <a:pt x="97466" y="87862"/>
                  </a:lnTo>
                  <a:lnTo>
                    <a:pt x="100227" y="89055"/>
                  </a:lnTo>
                  <a:lnTo>
                    <a:pt x="102915" y="89850"/>
                  </a:lnTo>
                  <a:lnTo>
                    <a:pt x="105553" y="90380"/>
                  </a:lnTo>
                  <a:lnTo>
                    <a:pt x="108158" y="90734"/>
                  </a:lnTo>
                  <a:lnTo>
                    <a:pt x="110743" y="90969"/>
                  </a:lnTo>
                  <a:lnTo>
                    <a:pt x="113311" y="91126"/>
                  </a:lnTo>
                  <a:lnTo>
                    <a:pt x="118423" y="91301"/>
                  </a:lnTo>
                  <a:lnTo>
                    <a:pt x="125909" y="91422"/>
                  </a:lnTo>
                  <a:lnTo>
                    <a:pt x="133689" y="91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MARTInkAnnotation328"/>
            <p:cNvSpPr/>
            <p:nvPr/>
          </p:nvSpPr>
          <p:spPr>
            <a:xfrm>
              <a:off x="8096400" y="4845960"/>
              <a:ext cx="84600" cy="266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84663" h="266701">
                  <a:moveTo>
                    <a:pt x="80272" y="0"/>
                  </a:moveTo>
                  <a:lnTo>
                    <a:pt x="84317" y="0"/>
                  </a:lnTo>
                  <a:lnTo>
                    <a:pt x="84662" y="847"/>
                  </a:lnTo>
                  <a:lnTo>
                    <a:pt x="84046" y="2258"/>
                  </a:lnTo>
                  <a:lnTo>
                    <a:pt x="81018" y="6561"/>
                  </a:lnTo>
                  <a:lnTo>
                    <a:pt x="80604" y="11665"/>
                  </a:lnTo>
                  <a:lnTo>
                    <a:pt x="80494" y="15397"/>
                  </a:lnTo>
                  <a:lnTo>
                    <a:pt x="79573" y="19578"/>
                  </a:lnTo>
                  <a:lnTo>
                    <a:pt x="78112" y="24059"/>
                  </a:lnTo>
                  <a:lnTo>
                    <a:pt x="76292" y="28739"/>
                  </a:lnTo>
                  <a:lnTo>
                    <a:pt x="74233" y="32706"/>
                  </a:lnTo>
                  <a:lnTo>
                    <a:pt x="72012" y="36198"/>
                  </a:lnTo>
                  <a:lnTo>
                    <a:pt x="69686" y="39372"/>
                  </a:lnTo>
                  <a:lnTo>
                    <a:pt x="67288" y="44028"/>
                  </a:lnTo>
                  <a:lnTo>
                    <a:pt x="64843" y="49672"/>
                  </a:lnTo>
                  <a:lnTo>
                    <a:pt x="62366" y="55975"/>
                  </a:lnTo>
                  <a:lnTo>
                    <a:pt x="59021" y="61870"/>
                  </a:lnTo>
                  <a:lnTo>
                    <a:pt x="55098" y="67494"/>
                  </a:lnTo>
                  <a:lnTo>
                    <a:pt x="50789" y="72936"/>
                  </a:lnTo>
                  <a:lnTo>
                    <a:pt x="47071" y="79104"/>
                  </a:lnTo>
                  <a:lnTo>
                    <a:pt x="43744" y="85756"/>
                  </a:lnTo>
                  <a:lnTo>
                    <a:pt x="40680" y="92731"/>
                  </a:lnTo>
                  <a:lnTo>
                    <a:pt x="36943" y="99921"/>
                  </a:lnTo>
                  <a:lnTo>
                    <a:pt x="32761" y="107254"/>
                  </a:lnTo>
                  <a:lnTo>
                    <a:pt x="28278" y="114683"/>
                  </a:lnTo>
                  <a:lnTo>
                    <a:pt x="24442" y="122175"/>
                  </a:lnTo>
                  <a:lnTo>
                    <a:pt x="21040" y="129710"/>
                  </a:lnTo>
                  <a:lnTo>
                    <a:pt x="17924" y="137273"/>
                  </a:lnTo>
                  <a:lnTo>
                    <a:pt x="15000" y="145703"/>
                  </a:lnTo>
                  <a:lnTo>
                    <a:pt x="12204" y="154708"/>
                  </a:lnTo>
                  <a:lnTo>
                    <a:pt x="9493" y="164099"/>
                  </a:lnTo>
                  <a:lnTo>
                    <a:pt x="7686" y="172899"/>
                  </a:lnTo>
                  <a:lnTo>
                    <a:pt x="6481" y="181306"/>
                  </a:lnTo>
                  <a:lnTo>
                    <a:pt x="5679" y="189451"/>
                  </a:lnTo>
                  <a:lnTo>
                    <a:pt x="4297" y="197421"/>
                  </a:lnTo>
                  <a:lnTo>
                    <a:pt x="2528" y="205274"/>
                  </a:lnTo>
                  <a:lnTo>
                    <a:pt x="503" y="213050"/>
                  </a:lnTo>
                  <a:lnTo>
                    <a:pt x="0" y="220773"/>
                  </a:lnTo>
                  <a:lnTo>
                    <a:pt x="511" y="228462"/>
                  </a:lnTo>
                  <a:lnTo>
                    <a:pt x="1698" y="236128"/>
                  </a:lnTo>
                  <a:lnTo>
                    <a:pt x="2489" y="242932"/>
                  </a:lnTo>
                  <a:lnTo>
                    <a:pt x="3018" y="249162"/>
                  </a:lnTo>
                  <a:lnTo>
                    <a:pt x="4072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533520" y="128592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1460520" y="1143000"/>
                <a:ext cx="825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73" name="Group 13"/>
          <p:cNvGrpSpPr/>
          <p:nvPr/>
        </p:nvGrpSpPr>
        <p:grpSpPr>
          <a:xfrm>
            <a:off x="533520" y="2336760"/>
            <a:ext cx="2209680" cy="674640"/>
            <a:chOff x="533520" y="2336760"/>
            <a:chExt cx="2209680" cy="674640"/>
          </a:xfrm>
        </p:grpSpPr>
        <p:sp>
          <p:nvSpPr>
            <p:cNvPr id="474" name="Text Box 7"/>
            <p:cNvSpPr/>
            <p:nvPr/>
          </p:nvSpPr>
          <p:spPr>
            <a:xfrm>
              <a:off x="533520" y="241776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0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5" name="Object 10"/>
                <p:cNvSpPr txBox="1"/>
                <p:nvPr/>
              </p:nvSpPr>
              <p:spPr>
                <a:xfrm>
                  <a:off x="1654200" y="2336760"/>
                  <a:ext cx="1089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6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6" name="Group 14"/>
          <p:cNvGrpSpPr/>
          <p:nvPr/>
        </p:nvGrpSpPr>
        <p:grpSpPr>
          <a:xfrm>
            <a:off x="533520" y="3429000"/>
            <a:ext cx="2209680" cy="1193760"/>
            <a:chOff x="533520" y="3429000"/>
            <a:chExt cx="2209680" cy="1193760"/>
          </a:xfrm>
        </p:grpSpPr>
        <p:sp>
          <p:nvSpPr>
            <p:cNvPr id="477" name="Text Box 7"/>
            <p:cNvSpPr/>
            <p:nvPr/>
          </p:nvSpPr>
          <p:spPr>
            <a:xfrm>
              <a:off x="533520" y="3753000"/>
              <a:ext cx="1447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1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Object 11"/>
                <p:cNvSpPr txBox="1"/>
                <p:nvPr/>
              </p:nvSpPr>
              <p:spPr>
                <a:xfrm>
                  <a:off x="1579680" y="3429000"/>
                  <a:ext cx="1163520" cy="11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9" name="Group 15"/>
          <p:cNvGrpSpPr/>
          <p:nvPr/>
        </p:nvGrpSpPr>
        <p:grpSpPr>
          <a:xfrm>
            <a:off x="533520" y="4888080"/>
            <a:ext cx="2438280" cy="674640"/>
            <a:chOff x="533520" y="4888080"/>
            <a:chExt cx="2438280" cy="674640"/>
          </a:xfrm>
        </p:grpSpPr>
        <p:sp>
          <p:nvSpPr>
            <p:cNvPr id="480" name="Text Box 7"/>
            <p:cNvSpPr/>
            <p:nvPr/>
          </p:nvSpPr>
          <p:spPr>
            <a:xfrm>
              <a:off x="533520" y="4964040"/>
              <a:ext cx="2286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2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Object 12"/>
                <p:cNvSpPr txBox="1"/>
                <p:nvPr/>
              </p:nvSpPr>
              <p:spPr>
                <a:xfrm>
                  <a:off x="1582560" y="4888080"/>
                  <a:ext cx="138924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2" name="SMARTInkAnnotation98"/>
          <p:cNvSpPr/>
          <p:nvPr/>
        </p:nvSpPr>
        <p:spPr>
          <a:xfrm>
            <a:off x="2895480" y="1417680"/>
            <a:ext cx="160560" cy="14400"/>
          </a:xfrm>
          <a:custGeom>
            <a:avLst/>
            <a:gdLst>
              <a:gd name="textAreaLeft" fmla="*/ 0 w 160560"/>
              <a:gd name="textAreaRight" fmla="*/ 160920 w 1605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0021" h="14927">
                <a:moveTo>
                  <a:pt x="0" y="7620"/>
                </a:moveTo>
                <a:lnTo>
                  <a:pt x="8091" y="11665"/>
                </a:lnTo>
                <a:lnTo>
                  <a:pt x="12167" y="12857"/>
                </a:lnTo>
                <a:lnTo>
                  <a:pt x="16578" y="13651"/>
                </a:lnTo>
                <a:lnTo>
                  <a:pt x="21212" y="14181"/>
                </a:lnTo>
                <a:lnTo>
                  <a:pt x="26841" y="14534"/>
                </a:lnTo>
                <a:lnTo>
                  <a:pt x="39869" y="14926"/>
                </a:lnTo>
                <a:lnTo>
                  <a:pt x="48593" y="14184"/>
                </a:lnTo>
                <a:lnTo>
                  <a:pt x="58642" y="12843"/>
                </a:lnTo>
                <a:lnTo>
                  <a:pt x="69575" y="11102"/>
                </a:lnTo>
                <a:lnTo>
                  <a:pt x="80250" y="9095"/>
                </a:lnTo>
                <a:lnTo>
                  <a:pt x="101142" y="4607"/>
                </a:lnTo>
                <a:lnTo>
                  <a:pt x="110608" y="3071"/>
                </a:lnTo>
                <a:lnTo>
                  <a:pt x="119459" y="2047"/>
                </a:lnTo>
                <a:lnTo>
                  <a:pt x="127899" y="1365"/>
                </a:lnTo>
                <a:lnTo>
                  <a:pt x="135220" y="910"/>
                </a:lnTo>
                <a:lnTo>
                  <a:pt x="1600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InkAnnotation99"/>
          <p:cNvSpPr/>
          <p:nvPr/>
        </p:nvSpPr>
        <p:spPr>
          <a:xfrm>
            <a:off x="3132000" y="1303200"/>
            <a:ext cx="300240" cy="312840"/>
          </a:xfrm>
          <a:custGeom>
            <a:avLst/>
            <a:gdLst>
              <a:gd name="textAreaLeft" fmla="*/ 0 w 300240"/>
              <a:gd name="textAreaRight" fmla="*/ 300240 w 30024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300112" h="312257">
                <a:moveTo>
                  <a:pt x="91440" y="38069"/>
                </a:moveTo>
                <a:lnTo>
                  <a:pt x="91440" y="31508"/>
                </a:lnTo>
                <a:lnTo>
                  <a:pt x="95485" y="26718"/>
                </a:lnTo>
                <a:lnTo>
                  <a:pt x="97524" y="25421"/>
                </a:lnTo>
                <a:lnTo>
                  <a:pt x="104438" y="22750"/>
                </a:lnTo>
                <a:lnTo>
                  <a:pt x="112695" y="16973"/>
                </a:lnTo>
                <a:lnTo>
                  <a:pt x="120924" y="12324"/>
                </a:lnTo>
                <a:lnTo>
                  <a:pt x="130227" y="9694"/>
                </a:lnTo>
                <a:lnTo>
                  <a:pt x="135078" y="8992"/>
                </a:lnTo>
                <a:lnTo>
                  <a:pt x="140852" y="7678"/>
                </a:lnTo>
                <a:lnTo>
                  <a:pt x="147241" y="5955"/>
                </a:lnTo>
                <a:lnTo>
                  <a:pt x="154041" y="3960"/>
                </a:lnTo>
                <a:lnTo>
                  <a:pt x="161114" y="2629"/>
                </a:lnTo>
                <a:lnTo>
                  <a:pt x="168369" y="1743"/>
                </a:lnTo>
                <a:lnTo>
                  <a:pt x="175746" y="1151"/>
                </a:lnTo>
                <a:lnTo>
                  <a:pt x="182358" y="757"/>
                </a:lnTo>
                <a:lnTo>
                  <a:pt x="194219" y="319"/>
                </a:lnTo>
                <a:lnTo>
                  <a:pt x="214785" y="38"/>
                </a:lnTo>
                <a:lnTo>
                  <a:pt x="221896" y="0"/>
                </a:lnTo>
                <a:lnTo>
                  <a:pt x="224131" y="836"/>
                </a:lnTo>
                <a:lnTo>
                  <a:pt x="225620" y="2240"/>
                </a:lnTo>
                <a:lnTo>
                  <a:pt x="226614" y="4023"/>
                </a:lnTo>
                <a:lnTo>
                  <a:pt x="227717" y="8262"/>
                </a:lnTo>
                <a:lnTo>
                  <a:pt x="228012" y="10578"/>
                </a:lnTo>
                <a:lnTo>
                  <a:pt x="226081" y="17666"/>
                </a:lnTo>
                <a:lnTo>
                  <a:pt x="224381" y="21927"/>
                </a:lnTo>
                <a:lnTo>
                  <a:pt x="221554" y="25614"/>
                </a:lnTo>
                <a:lnTo>
                  <a:pt x="213897" y="31969"/>
                </a:lnTo>
                <a:lnTo>
                  <a:pt x="208639" y="36543"/>
                </a:lnTo>
                <a:lnTo>
                  <a:pt x="202592" y="42131"/>
                </a:lnTo>
                <a:lnTo>
                  <a:pt x="196021" y="48397"/>
                </a:lnTo>
                <a:lnTo>
                  <a:pt x="188254" y="54268"/>
                </a:lnTo>
                <a:lnTo>
                  <a:pt x="179689" y="59875"/>
                </a:lnTo>
                <a:lnTo>
                  <a:pt x="170593" y="65306"/>
                </a:lnTo>
                <a:lnTo>
                  <a:pt x="153713" y="75857"/>
                </a:lnTo>
                <a:lnTo>
                  <a:pt x="106796" y="106622"/>
                </a:lnTo>
                <a:lnTo>
                  <a:pt x="99137" y="111711"/>
                </a:lnTo>
                <a:lnTo>
                  <a:pt x="90628" y="119623"/>
                </a:lnTo>
                <a:lnTo>
                  <a:pt x="88359" y="122918"/>
                </a:lnTo>
                <a:lnTo>
                  <a:pt x="87693" y="125962"/>
                </a:lnTo>
                <a:lnTo>
                  <a:pt x="88095" y="128838"/>
                </a:lnTo>
                <a:lnTo>
                  <a:pt x="89210" y="131602"/>
                </a:lnTo>
                <a:lnTo>
                  <a:pt x="92707" y="136930"/>
                </a:lnTo>
                <a:lnTo>
                  <a:pt x="94825" y="139536"/>
                </a:lnTo>
                <a:lnTo>
                  <a:pt x="99623" y="142121"/>
                </a:lnTo>
                <a:lnTo>
                  <a:pt x="106209" y="144690"/>
                </a:lnTo>
                <a:lnTo>
                  <a:pt x="113986" y="147250"/>
                </a:lnTo>
                <a:lnTo>
                  <a:pt x="121711" y="148956"/>
                </a:lnTo>
                <a:lnTo>
                  <a:pt x="129401" y="150094"/>
                </a:lnTo>
                <a:lnTo>
                  <a:pt x="137067" y="150852"/>
                </a:lnTo>
                <a:lnTo>
                  <a:pt x="146411" y="152205"/>
                </a:lnTo>
                <a:lnTo>
                  <a:pt x="168083" y="155965"/>
                </a:lnTo>
                <a:lnTo>
                  <a:pt x="178943" y="158153"/>
                </a:lnTo>
                <a:lnTo>
                  <a:pt x="200039" y="162842"/>
                </a:lnTo>
                <a:lnTo>
                  <a:pt x="209559" y="165277"/>
                </a:lnTo>
                <a:lnTo>
                  <a:pt x="218446" y="167748"/>
                </a:lnTo>
                <a:lnTo>
                  <a:pt x="226911" y="170242"/>
                </a:lnTo>
                <a:lnTo>
                  <a:pt x="245347" y="175270"/>
                </a:lnTo>
                <a:lnTo>
                  <a:pt x="255005" y="177796"/>
                </a:lnTo>
                <a:lnTo>
                  <a:pt x="263137" y="180327"/>
                </a:lnTo>
                <a:lnTo>
                  <a:pt x="270251" y="182861"/>
                </a:lnTo>
                <a:lnTo>
                  <a:pt x="276688" y="185397"/>
                </a:lnTo>
                <a:lnTo>
                  <a:pt x="281825" y="188781"/>
                </a:lnTo>
                <a:lnTo>
                  <a:pt x="289792" y="197057"/>
                </a:lnTo>
                <a:lnTo>
                  <a:pt x="296154" y="206379"/>
                </a:lnTo>
                <a:lnTo>
                  <a:pt x="299036" y="211236"/>
                </a:lnTo>
                <a:lnTo>
                  <a:pt x="300111" y="215320"/>
                </a:lnTo>
                <a:lnTo>
                  <a:pt x="299981" y="218890"/>
                </a:lnTo>
                <a:lnTo>
                  <a:pt x="297578" y="225960"/>
                </a:lnTo>
                <a:lnTo>
                  <a:pt x="293688" y="234748"/>
                </a:lnTo>
                <a:lnTo>
                  <a:pt x="286879" y="244297"/>
                </a:lnTo>
                <a:lnTo>
                  <a:pt x="282693" y="249214"/>
                </a:lnTo>
                <a:lnTo>
                  <a:pt x="276516" y="253339"/>
                </a:lnTo>
                <a:lnTo>
                  <a:pt x="269010" y="256936"/>
                </a:lnTo>
                <a:lnTo>
                  <a:pt x="260620" y="260180"/>
                </a:lnTo>
                <a:lnTo>
                  <a:pt x="252487" y="264036"/>
                </a:lnTo>
                <a:lnTo>
                  <a:pt x="244525" y="268301"/>
                </a:lnTo>
                <a:lnTo>
                  <a:pt x="236676" y="272837"/>
                </a:lnTo>
                <a:lnTo>
                  <a:pt x="227211" y="276707"/>
                </a:lnTo>
                <a:lnTo>
                  <a:pt x="216667" y="280135"/>
                </a:lnTo>
                <a:lnTo>
                  <a:pt x="183860" y="289003"/>
                </a:lnTo>
                <a:lnTo>
                  <a:pt x="173373" y="291719"/>
                </a:lnTo>
                <a:lnTo>
                  <a:pt x="161303" y="294375"/>
                </a:lnTo>
                <a:lnTo>
                  <a:pt x="121736" y="302160"/>
                </a:lnTo>
                <a:lnTo>
                  <a:pt x="98696" y="307278"/>
                </a:lnTo>
                <a:lnTo>
                  <a:pt x="86964" y="308982"/>
                </a:lnTo>
                <a:lnTo>
                  <a:pt x="74910" y="310117"/>
                </a:lnTo>
                <a:lnTo>
                  <a:pt x="52767" y="311379"/>
                </a:lnTo>
                <a:lnTo>
                  <a:pt x="37281" y="311940"/>
                </a:lnTo>
                <a:lnTo>
                  <a:pt x="19042" y="312256"/>
                </a:lnTo>
                <a:lnTo>
                  <a:pt x="14388" y="311454"/>
                </a:lnTo>
                <a:lnTo>
                  <a:pt x="6959" y="308305"/>
                </a:lnTo>
                <a:lnTo>
                  <a:pt x="0" y="3047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InkAnnotation100"/>
          <p:cNvSpPr/>
          <p:nvPr/>
        </p:nvSpPr>
        <p:spPr>
          <a:xfrm>
            <a:off x="3589200" y="1425600"/>
            <a:ext cx="360" cy="14400"/>
          </a:xfrm>
          <a:custGeom>
            <a:avLst/>
            <a:gdLst>
              <a:gd name="textAreaLeft" fmla="*/ 0 w 360"/>
              <a:gd name="textAreaRight" fmla="*/ 720 w 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" h="15241">
                <a:moveTo>
                  <a:pt x="0" y="0"/>
                </a:moveTo>
                <a:lnTo>
                  <a:pt x="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InkAnnotation101"/>
          <p:cNvSpPr/>
          <p:nvPr/>
        </p:nvSpPr>
        <p:spPr>
          <a:xfrm>
            <a:off x="3840120" y="1349280"/>
            <a:ext cx="198360" cy="6480"/>
          </a:xfrm>
          <a:custGeom>
            <a:avLst/>
            <a:gdLst>
              <a:gd name="textAreaLeft" fmla="*/ 0 w 198360"/>
              <a:gd name="textAreaRight" fmla="*/ 198720 w 198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98121" h="7594">
                <a:moveTo>
                  <a:pt x="0" y="0"/>
                </a:moveTo>
                <a:lnTo>
                  <a:pt x="11352" y="0"/>
                </a:lnTo>
                <a:lnTo>
                  <a:pt x="14341" y="847"/>
                </a:lnTo>
                <a:lnTo>
                  <a:pt x="18028" y="2258"/>
                </a:lnTo>
                <a:lnTo>
                  <a:pt x="22178" y="4045"/>
                </a:lnTo>
                <a:lnTo>
                  <a:pt x="28332" y="5237"/>
                </a:lnTo>
                <a:lnTo>
                  <a:pt x="35821" y="6031"/>
                </a:lnTo>
                <a:lnTo>
                  <a:pt x="44201" y="6561"/>
                </a:lnTo>
                <a:lnTo>
                  <a:pt x="53174" y="6914"/>
                </a:lnTo>
                <a:lnTo>
                  <a:pt x="72175" y="7306"/>
                </a:lnTo>
                <a:lnTo>
                  <a:pt x="142779" y="7593"/>
                </a:lnTo>
                <a:lnTo>
                  <a:pt x="154453" y="6755"/>
                </a:lnTo>
                <a:lnTo>
                  <a:pt x="165622" y="5350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InkAnnotation102"/>
          <p:cNvSpPr/>
          <p:nvPr/>
        </p:nvSpPr>
        <p:spPr>
          <a:xfrm>
            <a:off x="4106880" y="1279440"/>
            <a:ext cx="262080" cy="282600"/>
          </a:xfrm>
          <a:custGeom>
            <a:avLst/>
            <a:gdLst>
              <a:gd name="textAreaLeft" fmla="*/ 0 w 262080"/>
              <a:gd name="textAreaRight" fmla="*/ 262440 w 2620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62080" h="281904">
                <a:moveTo>
                  <a:pt x="60961" y="7592"/>
                </a:moveTo>
                <a:lnTo>
                  <a:pt x="80229" y="7592"/>
                </a:lnTo>
                <a:lnTo>
                  <a:pt x="81426" y="6745"/>
                </a:lnTo>
                <a:lnTo>
                  <a:pt x="82224" y="5334"/>
                </a:lnTo>
                <a:lnTo>
                  <a:pt x="82756" y="3547"/>
                </a:lnTo>
                <a:lnTo>
                  <a:pt x="83958" y="2355"/>
                </a:lnTo>
                <a:lnTo>
                  <a:pt x="85605" y="1561"/>
                </a:lnTo>
                <a:lnTo>
                  <a:pt x="89694" y="678"/>
                </a:lnTo>
                <a:lnTo>
                  <a:pt x="97602" y="181"/>
                </a:lnTo>
                <a:lnTo>
                  <a:pt x="115016" y="13"/>
                </a:lnTo>
                <a:lnTo>
                  <a:pt x="119857" y="0"/>
                </a:lnTo>
                <a:lnTo>
                  <a:pt x="125625" y="837"/>
                </a:lnTo>
                <a:lnTo>
                  <a:pt x="132010" y="2242"/>
                </a:lnTo>
                <a:lnTo>
                  <a:pt x="138807" y="4025"/>
                </a:lnTo>
                <a:lnTo>
                  <a:pt x="145878" y="6061"/>
                </a:lnTo>
                <a:lnTo>
                  <a:pt x="160508" y="10580"/>
                </a:lnTo>
                <a:lnTo>
                  <a:pt x="167965" y="12124"/>
                </a:lnTo>
                <a:lnTo>
                  <a:pt x="175477" y="13153"/>
                </a:lnTo>
                <a:lnTo>
                  <a:pt x="183026" y="13840"/>
                </a:lnTo>
                <a:lnTo>
                  <a:pt x="189751" y="15144"/>
                </a:lnTo>
                <a:lnTo>
                  <a:pt x="195927" y="16860"/>
                </a:lnTo>
                <a:lnTo>
                  <a:pt x="201738" y="18851"/>
                </a:lnTo>
                <a:lnTo>
                  <a:pt x="207305" y="20178"/>
                </a:lnTo>
                <a:lnTo>
                  <a:pt x="212711" y="21062"/>
                </a:lnTo>
                <a:lnTo>
                  <a:pt x="218007" y="21652"/>
                </a:lnTo>
                <a:lnTo>
                  <a:pt x="226150" y="24565"/>
                </a:lnTo>
                <a:lnTo>
                  <a:pt x="229507" y="26528"/>
                </a:lnTo>
                <a:lnTo>
                  <a:pt x="231745" y="28682"/>
                </a:lnTo>
                <a:lnTo>
                  <a:pt x="233237" y="30966"/>
                </a:lnTo>
                <a:lnTo>
                  <a:pt x="234232" y="33334"/>
                </a:lnTo>
                <a:lnTo>
                  <a:pt x="234048" y="35760"/>
                </a:lnTo>
                <a:lnTo>
                  <a:pt x="233078" y="38224"/>
                </a:lnTo>
                <a:lnTo>
                  <a:pt x="228897" y="44066"/>
                </a:lnTo>
                <a:lnTo>
                  <a:pt x="221395" y="52307"/>
                </a:lnTo>
                <a:lnTo>
                  <a:pt x="217023" y="56029"/>
                </a:lnTo>
                <a:lnTo>
                  <a:pt x="212416" y="59356"/>
                </a:lnTo>
                <a:lnTo>
                  <a:pt x="188809" y="74826"/>
                </a:lnTo>
                <a:lnTo>
                  <a:pt x="167139" y="89226"/>
                </a:lnTo>
                <a:lnTo>
                  <a:pt x="159686" y="93341"/>
                </a:lnTo>
                <a:lnTo>
                  <a:pt x="152177" y="96931"/>
                </a:lnTo>
                <a:lnTo>
                  <a:pt x="144632" y="100172"/>
                </a:lnTo>
                <a:lnTo>
                  <a:pt x="138754" y="104025"/>
                </a:lnTo>
                <a:lnTo>
                  <a:pt x="133990" y="108287"/>
                </a:lnTo>
                <a:lnTo>
                  <a:pt x="129967" y="112822"/>
                </a:lnTo>
                <a:lnTo>
                  <a:pt x="125591" y="116692"/>
                </a:lnTo>
                <a:lnTo>
                  <a:pt x="120981" y="120119"/>
                </a:lnTo>
                <a:lnTo>
                  <a:pt x="116214" y="123250"/>
                </a:lnTo>
                <a:lnTo>
                  <a:pt x="113036" y="126184"/>
                </a:lnTo>
                <a:lnTo>
                  <a:pt x="110918" y="128986"/>
                </a:lnTo>
                <a:lnTo>
                  <a:pt x="108563" y="134358"/>
                </a:lnTo>
                <a:lnTo>
                  <a:pt x="107518" y="139568"/>
                </a:lnTo>
                <a:lnTo>
                  <a:pt x="108085" y="142143"/>
                </a:lnTo>
                <a:lnTo>
                  <a:pt x="110973" y="147261"/>
                </a:lnTo>
                <a:lnTo>
                  <a:pt x="117337" y="152358"/>
                </a:lnTo>
                <a:lnTo>
                  <a:pt x="121405" y="154903"/>
                </a:lnTo>
                <a:lnTo>
                  <a:pt x="125810" y="157446"/>
                </a:lnTo>
                <a:lnTo>
                  <a:pt x="135220" y="162529"/>
                </a:lnTo>
                <a:lnTo>
                  <a:pt x="150038" y="170151"/>
                </a:lnTo>
                <a:lnTo>
                  <a:pt x="156752" y="172691"/>
                </a:lnTo>
                <a:lnTo>
                  <a:pt x="164615" y="175231"/>
                </a:lnTo>
                <a:lnTo>
                  <a:pt x="173243" y="177772"/>
                </a:lnTo>
                <a:lnTo>
                  <a:pt x="181536" y="179465"/>
                </a:lnTo>
                <a:lnTo>
                  <a:pt x="189604" y="180594"/>
                </a:lnTo>
                <a:lnTo>
                  <a:pt x="197523" y="181347"/>
                </a:lnTo>
                <a:lnTo>
                  <a:pt x="205342" y="183542"/>
                </a:lnTo>
                <a:lnTo>
                  <a:pt x="213095" y="186698"/>
                </a:lnTo>
                <a:lnTo>
                  <a:pt x="220804" y="190496"/>
                </a:lnTo>
                <a:lnTo>
                  <a:pt x="227636" y="193028"/>
                </a:lnTo>
                <a:lnTo>
                  <a:pt x="233884" y="194716"/>
                </a:lnTo>
                <a:lnTo>
                  <a:pt x="239743" y="195841"/>
                </a:lnTo>
                <a:lnTo>
                  <a:pt x="244495" y="198285"/>
                </a:lnTo>
                <a:lnTo>
                  <a:pt x="252034" y="205516"/>
                </a:lnTo>
                <a:lnTo>
                  <a:pt x="258207" y="212116"/>
                </a:lnTo>
                <a:lnTo>
                  <a:pt x="261038" y="215061"/>
                </a:lnTo>
                <a:lnTo>
                  <a:pt x="262079" y="217871"/>
                </a:lnTo>
                <a:lnTo>
                  <a:pt x="261926" y="220592"/>
                </a:lnTo>
                <a:lnTo>
                  <a:pt x="260977" y="223252"/>
                </a:lnTo>
                <a:lnTo>
                  <a:pt x="257666" y="228465"/>
                </a:lnTo>
                <a:lnTo>
                  <a:pt x="255598" y="231041"/>
                </a:lnTo>
                <a:lnTo>
                  <a:pt x="248784" y="236160"/>
                </a:lnTo>
                <a:lnTo>
                  <a:pt x="244596" y="238711"/>
                </a:lnTo>
                <a:lnTo>
                  <a:pt x="239264" y="241258"/>
                </a:lnTo>
                <a:lnTo>
                  <a:pt x="233170" y="243803"/>
                </a:lnTo>
                <a:lnTo>
                  <a:pt x="226567" y="246346"/>
                </a:lnTo>
                <a:lnTo>
                  <a:pt x="219625" y="249734"/>
                </a:lnTo>
                <a:lnTo>
                  <a:pt x="212456" y="253687"/>
                </a:lnTo>
                <a:lnTo>
                  <a:pt x="205138" y="258015"/>
                </a:lnTo>
                <a:lnTo>
                  <a:pt x="196872" y="261748"/>
                </a:lnTo>
                <a:lnTo>
                  <a:pt x="187975" y="265082"/>
                </a:lnTo>
                <a:lnTo>
                  <a:pt x="178657" y="268152"/>
                </a:lnTo>
                <a:lnTo>
                  <a:pt x="169905" y="270199"/>
                </a:lnTo>
                <a:lnTo>
                  <a:pt x="161530" y="271563"/>
                </a:lnTo>
                <a:lnTo>
                  <a:pt x="153406" y="272473"/>
                </a:lnTo>
                <a:lnTo>
                  <a:pt x="144605" y="273926"/>
                </a:lnTo>
                <a:lnTo>
                  <a:pt x="135350" y="275741"/>
                </a:lnTo>
                <a:lnTo>
                  <a:pt x="125793" y="277798"/>
                </a:lnTo>
                <a:lnTo>
                  <a:pt x="116035" y="279169"/>
                </a:lnTo>
                <a:lnTo>
                  <a:pt x="106144" y="280084"/>
                </a:lnTo>
                <a:lnTo>
                  <a:pt x="96162" y="280693"/>
                </a:lnTo>
                <a:lnTo>
                  <a:pt x="76041" y="281370"/>
                </a:lnTo>
                <a:lnTo>
                  <a:pt x="21999" y="281864"/>
                </a:lnTo>
                <a:lnTo>
                  <a:pt x="6415" y="281903"/>
                </a:lnTo>
                <a:lnTo>
                  <a:pt x="4277" y="281059"/>
                </a:lnTo>
                <a:lnTo>
                  <a:pt x="2852" y="279650"/>
                </a:lnTo>
                <a:lnTo>
                  <a:pt x="0" y="2742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InkAnnotation103"/>
          <p:cNvSpPr/>
          <p:nvPr/>
        </p:nvSpPr>
        <p:spPr>
          <a:xfrm>
            <a:off x="4535640" y="1387440"/>
            <a:ext cx="74520" cy="6480"/>
          </a:xfrm>
          <a:custGeom>
            <a:avLst/>
            <a:gdLst>
              <a:gd name="textAreaLeft" fmla="*/ 0 w 74520"/>
              <a:gd name="textAreaRight" fmla="*/ 74880 w 74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74972" h="7620">
                <a:moveTo>
                  <a:pt x="74971" y="0"/>
                </a:moveTo>
                <a:lnTo>
                  <a:pt x="63620" y="0"/>
                </a:lnTo>
                <a:lnTo>
                  <a:pt x="60630" y="847"/>
                </a:lnTo>
                <a:lnTo>
                  <a:pt x="56944" y="2258"/>
                </a:lnTo>
                <a:lnTo>
                  <a:pt x="52793" y="4045"/>
                </a:lnTo>
                <a:lnTo>
                  <a:pt x="48332" y="5237"/>
                </a:lnTo>
                <a:lnTo>
                  <a:pt x="43666" y="6031"/>
                </a:lnTo>
                <a:lnTo>
                  <a:pt x="38860" y="6561"/>
                </a:lnTo>
                <a:lnTo>
                  <a:pt x="33964" y="6914"/>
                </a:lnTo>
                <a:lnTo>
                  <a:pt x="29006" y="7149"/>
                </a:lnTo>
                <a:lnTo>
                  <a:pt x="16197" y="7481"/>
                </a:lnTo>
                <a:lnTo>
                  <a:pt x="0" y="7618"/>
                </a:lnTo>
                <a:lnTo>
                  <a:pt x="3181" y="7619"/>
                </a:lnTo>
                <a:lnTo>
                  <a:pt x="5097" y="6773"/>
                </a:lnTo>
                <a:lnTo>
                  <a:pt x="7222" y="5362"/>
                </a:lnTo>
                <a:lnTo>
                  <a:pt x="12670" y="1059"/>
                </a:lnTo>
                <a:lnTo>
                  <a:pt x="13963" y="706"/>
                </a:lnTo>
                <a:lnTo>
                  <a:pt x="15673" y="471"/>
                </a:lnTo>
                <a:lnTo>
                  <a:pt x="2163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InkAnnotation104"/>
          <p:cNvSpPr/>
          <p:nvPr/>
        </p:nvSpPr>
        <p:spPr>
          <a:xfrm>
            <a:off x="4754520" y="1311120"/>
            <a:ext cx="168480" cy="6480"/>
          </a:xfrm>
          <a:custGeom>
            <a:avLst/>
            <a:gdLst>
              <a:gd name="textAreaLeft" fmla="*/ 0 w 168480"/>
              <a:gd name="textAreaRight" fmla="*/ 168840 w 1684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7641" h="7621">
                <a:moveTo>
                  <a:pt x="0" y="0"/>
                </a:moveTo>
                <a:lnTo>
                  <a:pt x="39869" y="0"/>
                </a:lnTo>
                <a:lnTo>
                  <a:pt x="46899" y="847"/>
                </a:lnTo>
                <a:lnTo>
                  <a:pt x="54126" y="2258"/>
                </a:lnTo>
                <a:lnTo>
                  <a:pt x="61484" y="4045"/>
                </a:lnTo>
                <a:lnTo>
                  <a:pt x="68929" y="5237"/>
                </a:lnTo>
                <a:lnTo>
                  <a:pt x="76433" y="6031"/>
                </a:lnTo>
                <a:lnTo>
                  <a:pt x="83976" y="6561"/>
                </a:lnTo>
                <a:lnTo>
                  <a:pt x="92390" y="6914"/>
                </a:lnTo>
                <a:lnTo>
                  <a:pt x="110771" y="7306"/>
                </a:lnTo>
                <a:lnTo>
                  <a:pt x="16764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InkAnnotation105"/>
          <p:cNvSpPr/>
          <p:nvPr/>
        </p:nvSpPr>
        <p:spPr>
          <a:xfrm>
            <a:off x="5013360" y="1257480"/>
            <a:ext cx="231840" cy="280800"/>
          </a:xfrm>
          <a:custGeom>
            <a:avLst/>
            <a:gdLst>
              <a:gd name="textAreaLeft" fmla="*/ 0 w 231840"/>
              <a:gd name="textAreaRight" fmla="*/ 232200 w 2318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31644" h="281588">
                <a:moveTo>
                  <a:pt x="7620" y="0"/>
                </a:moveTo>
                <a:lnTo>
                  <a:pt x="91615" y="0"/>
                </a:lnTo>
                <a:lnTo>
                  <a:pt x="99176" y="847"/>
                </a:lnTo>
                <a:lnTo>
                  <a:pt x="106758" y="2258"/>
                </a:lnTo>
                <a:lnTo>
                  <a:pt x="114352" y="4045"/>
                </a:lnTo>
                <a:lnTo>
                  <a:pt x="121954" y="5237"/>
                </a:lnTo>
                <a:lnTo>
                  <a:pt x="129563" y="6031"/>
                </a:lnTo>
                <a:lnTo>
                  <a:pt x="137176" y="6561"/>
                </a:lnTo>
                <a:lnTo>
                  <a:pt x="143944" y="7761"/>
                </a:lnTo>
                <a:lnTo>
                  <a:pt x="150149" y="9407"/>
                </a:lnTo>
                <a:lnTo>
                  <a:pt x="155979" y="11351"/>
                </a:lnTo>
                <a:lnTo>
                  <a:pt x="160713" y="12648"/>
                </a:lnTo>
                <a:lnTo>
                  <a:pt x="164715" y="13512"/>
                </a:lnTo>
                <a:lnTo>
                  <a:pt x="168230" y="14088"/>
                </a:lnTo>
                <a:lnTo>
                  <a:pt x="174393" y="16986"/>
                </a:lnTo>
                <a:lnTo>
                  <a:pt x="177222" y="18944"/>
                </a:lnTo>
                <a:lnTo>
                  <a:pt x="179108" y="21096"/>
                </a:lnTo>
                <a:lnTo>
                  <a:pt x="180366" y="23377"/>
                </a:lnTo>
                <a:lnTo>
                  <a:pt x="181204" y="25745"/>
                </a:lnTo>
                <a:lnTo>
                  <a:pt x="180916" y="27323"/>
                </a:lnTo>
                <a:lnTo>
                  <a:pt x="179877" y="28376"/>
                </a:lnTo>
                <a:lnTo>
                  <a:pt x="175619" y="30391"/>
                </a:lnTo>
                <a:lnTo>
                  <a:pt x="168082" y="34110"/>
                </a:lnTo>
                <a:lnTo>
                  <a:pt x="163701" y="37133"/>
                </a:lnTo>
                <a:lnTo>
                  <a:pt x="159087" y="40842"/>
                </a:lnTo>
                <a:lnTo>
                  <a:pt x="154318" y="45008"/>
                </a:lnTo>
                <a:lnTo>
                  <a:pt x="148599" y="48632"/>
                </a:lnTo>
                <a:lnTo>
                  <a:pt x="142246" y="51895"/>
                </a:lnTo>
                <a:lnTo>
                  <a:pt x="129261" y="57778"/>
                </a:lnTo>
                <a:lnTo>
                  <a:pt x="117845" y="63215"/>
                </a:lnTo>
                <a:lnTo>
                  <a:pt x="111583" y="66696"/>
                </a:lnTo>
                <a:lnTo>
                  <a:pt x="104869" y="70711"/>
                </a:lnTo>
                <a:lnTo>
                  <a:pt x="97852" y="75081"/>
                </a:lnTo>
                <a:lnTo>
                  <a:pt x="91482" y="78841"/>
                </a:lnTo>
                <a:lnTo>
                  <a:pt x="85541" y="82194"/>
                </a:lnTo>
                <a:lnTo>
                  <a:pt x="79887" y="85276"/>
                </a:lnTo>
                <a:lnTo>
                  <a:pt x="75272" y="88177"/>
                </a:lnTo>
                <a:lnTo>
                  <a:pt x="71348" y="90958"/>
                </a:lnTo>
                <a:lnTo>
                  <a:pt x="67885" y="93659"/>
                </a:lnTo>
                <a:lnTo>
                  <a:pt x="65576" y="96306"/>
                </a:lnTo>
                <a:lnTo>
                  <a:pt x="64038" y="98917"/>
                </a:lnTo>
                <a:lnTo>
                  <a:pt x="63012" y="101505"/>
                </a:lnTo>
                <a:lnTo>
                  <a:pt x="63175" y="104923"/>
                </a:lnTo>
                <a:lnTo>
                  <a:pt x="65613" y="113237"/>
                </a:lnTo>
                <a:lnTo>
                  <a:pt x="68295" y="116978"/>
                </a:lnTo>
                <a:lnTo>
                  <a:pt x="71777" y="120319"/>
                </a:lnTo>
                <a:lnTo>
                  <a:pt x="75791" y="123392"/>
                </a:lnTo>
                <a:lnTo>
                  <a:pt x="81008" y="126288"/>
                </a:lnTo>
                <a:lnTo>
                  <a:pt x="87025" y="129066"/>
                </a:lnTo>
                <a:lnTo>
                  <a:pt x="93576" y="131764"/>
                </a:lnTo>
                <a:lnTo>
                  <a:pt x="101331" y="134409"/>
                </a:lnTo>
                <a:lnTo>
                  <a:pt x="109888" y="137019"/>
                </a:lnTo>
                <a:lnTo>
                  <a:pt x="118978" y="139606"/>
                </a:lnTo>
                <a:lnTo>
                  <a:pt x="127580" y="143024"/>
                </a:lnTo>
                <a:lnTo>
                  <a:pt x="135853" y="146996"/>
                </a:lnTo>
                <a:lnTo>
                  <a:pt x="143909" y="151337"/>
                </a:lnTo>
                <a:lnTo>
                  <a:pt x="152666" y="155078"/>
                </a:lnTo>
                <a:lnTo>
                  <a:pt x="161890" y="158419"/>
                </a:lnTo>
                <a:lnTo>
                  <a:pt x="171427" y="161493"/>
                </a:lnTo>
                <a:lnTo>
                  <a:pt x="179478" y="164388"/>
                </a:lnTo>
                <a:lnTo>
                  <a:pt x="186539" y="167166"/>
                </a:lnTo>
                <a:lnTo>
                  <a:pt x="192939" y="169864"/>
                </a:lnTo>
                <a:lnTo>
                  <a:pt x="198899" y="173356"/>
                </a:lnTo>
                <a:lnTo>
                  <a:pt x="204566" y="177377"/>
                </a:lnTo>
                <a:lnTo>
                  <a:pt x="210037" y="181752"/>
                </a:lnTo>
                <a:lnTo>
                  <a:pt x="214532" y="185514"/>
                </a:lnTo>
                <a:lnTo>
                  <a:pt x="218374" y="188870"/>
                </a:lnTo>
                <a:lnTo>
                  <a:pt x="224902" y="195702"/>
                </a:lnTo>
                <a:lnTo>
                  <a:pt x="230625" y="204383"/>
                </a:lnTo>
                <a:lnTo>
                  <a:pt x="231643" y="208222"/>
                </a:lnTo>
                <a:lnTo>
                  <a:pt x="231476" y="211628"/>
                </a:lnTo>
                <a:lnTo>
                  <a:pt x="230518" y="214745"/>
                </a:lnTo>
                <a:lnTo>
                  <a:pt x="227195" y="220467"/>
                </a:lnTo>
                <a:lnTo>
                  <a:pt x="222049" y="226679"/>
                </a:lnTo>
                <a:lnTo>
                  <a:pt x="218306" y="230706"/>
                </a:lnTo>
                <a:lnTo>
                  <a:pt x="214117" y="235084"/>
                </a:lnTo>
                <a:lnTo>
                  <a:pt x="208785" y="238849"/>
                </a:lnTo>
                <a:lnTo>
                  <a:pt x="202690" y="242206"/>
                </a:lnTo>
                <a:lnTo>
                  <a:pt x="184234" y="250976"/>
                </a:lnTo>
                <a:lnTo>
                  <a:pt x="178703" y="253677"/>
                </a:lnTo>
                <a:lnTo>
                  <a:pt x="171629" y="256325"/>
                </a:lnTo>
                <a:lnTo>
                  <a:pt x="163526" y="258937"/>
                </a:lnTo>
                <a:lnTo>
                  <a:pt x="146338" y="264096"/>
                </a:lnTo>
                <a:lnTo>
                  <a:pt x="130233" y="269212"/>
                </a:lnTo>
                <a:lnTo>
                  <a:pt x="121535" y="270915"/>
                </a:lnTo>
                <a:lnTo>
                  <a:pt x="112350" y="272050"/>
                </a:lnTo>
                <a:lnTo>
                  <a:pt x="102839" y="272807"/>
                </a:lnTo>
                <a:lnTo>
                  <a:pt x="93960" y="274158"/>
                </a:lnTo>
                <a:lnTo>
                  <a:pt x="85500" y="275905"/>
                </a:lnTo>
                <a:lnTo>
                  <a:pt x="77320" y="277917"/>
                </a:lnTo>
                <a:lnTo>
                  <a:pt x="69327" y="279258"/>
                </a:lnTo>
                <a:lnTo>
                  <a:pt x="61457" y="280152"/>
                </a:lnTo>
                <a:lnTo>
                  <a:pt x="53672" y="280748"/>
                </a:lnTo>
                <a:lnTo>
                  <a:pt x="45941" y="281145"/>
                </a:lnTo>
                <a:lnTo>
                  <a:pt x="30579" y="281587"/>
                </a:lnTo>
                <a:lnTo>
                  <a:pt x="23772" y="280858"/>
                </a:lnTo>
                <a:lnTo>
                  <a:pt x="17541" y="279525"/>
                </a:lnTo>
                <a:lnTo>
                  <a:pt x="1027" y="274625"/>
                </a:lnTo>
                <a:lnTo>
                  <a:pt x="684" y="273677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InkAnnotation106"/>
          <p:cNvSpPr/>
          <p:nvPr/>
        </p:nvSpPr>
        <p:spPr>
          <a:xfrm>
            <a:off x="5442120" y="1349280"/>
            <a:ext cx="74520" cy="38160"/>
          </a:xfrm>
          <a:custGeom>
            <a:avLst/>
            <a:gdLst>
              <a:gd name="textAreaLeft" fmla="*/ 0 w 74520"/>
              <a:gd name="textAreaRight" fmla="*/ 74520 w 74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4480" h="37969">
                <a:moveTo>
                  <a:pt x="66952" y="22756"/>
                </a:moveTo>
                <a:lnTo>
                  <a:pt x="74258" y="22756"/>
                </a:lnTo>
                <a:lnTo>
                  <a:pt x="74363" y="23603"/>
                </a:lnTo>
                <a:lnTo>
                  <a:pt x="74432" y="25014"/>
                </a:lnTo>
                <a:lnTo>
                  <a:pt x="74479" y="26801"/>
                </a:lnTo>
                <a:lnTo>
                  <a:pt x="73663" y="27993"/>
                </a:lnTo>
                <a:lnTo>
                  <a:pt x="72273" y="28787"/>
                </a:lnTo>
                <a:lnTo>
                  <a:pt x="70499" y="29317"/>
                </a:lnTo>
                <a:lnTo>
                  <a:pt x="67624" y="29670"/>
                </a:lnTo>
                <a:lnTo>
                  <a:pt x="64013" y="29905"/>
                </a:lnTo>
                <a:lnTo>
                  <a:pt x="59913" y="30062"/>
                </a:lnTo>
                <a:lnTo>
                  <a:pt x="56333" y="31013"/>
                </a:lnTo>
                <a:lnTo>
                  <a:pt x="53099" y="32494"/>
                </a:lnTo>
                <a:lnTo>
                  <a:pt x="50097" y="34328"/>
                </a:lnTo>
                <a:lnTo>
                  <a:pt x="46402" y="35551"/>
                </a:lnTo>
                <a:lnTo>
                  <a:pt x="42245" y="36366"/>
                </a:lnTo>
                <a:lnTo>
                  <a:pt x="37781" y="36909"/>
                </a:lnTo>
                <a:lnTo>
                  <a:pt x="33111" y="37271"/>
                </a:lnTo>
                <a:lnTo>
                  <a:pt x="28305" y="37513"/>
                </a:lnTo>
                <a:lnTo>
                  <a:pt x="15708" y="37853"/>
                </a:lnTo>
                <a:lnTo>
                  <a:pt x="3866" y="37968"/>
                </a:lnTo>
                <a:lnTo>
                  <a:pt x="2035" y="37131"/>
                </a:lnTo>
                <a:lnTo>
                  <a:pt x="814" y="35726"/>
                </a:lnTo>
                <a:lnTo>
                  <a:pt x="0" y="33942"/>
                </a:lnTo>
                <a:lnTo>
                  <a:pt x="1150" y="32754"/>
                </a:lnTo>
                <a:lnTo>
                  <a:pt x="3611" y="31961"/>
                </a:lnTo>
                <a:lnTo>
                  <a:pt x="6945" y="31433"/>
                </a:lnTo>
                <a:lnTo>
                  <a:pt x="10014" y="30234"/>
                </a:lnTo>
                <a:lnTo>
                  <a:pt x="12907" y="28588"/>
                </a:lnTo>
                <a:lnTo>
                  <a:pt x="15682" y="26644"/>
                </a:lnTo>
                <a:lnTo>
                  <a:pt x="18379" y="24501"/>
                </a:lnTo>
                <a:lnTo>
                  <a:pt x="21023" y="22226"/>
                </a:lnTo>
                <a:lnTo>
                  <a:pt x="23633" y="19863"/>
                </a:lnTo>
                <a:lnTo>
                  <a:pt x="27066" y="17441"/>
                </a:lnTo>
                <a:lnTo>
                  <a:pt x="31049" y="14979"/>
                </a:lnTo>
                <a:lnTo>
                  <a:pt x="41515" y="8990"/>
                </a:lnTo>
                <a:lnTo>
                  <a:pt x="43221" y="7652"/>
                </a:lnTo>
                <a:lnTo>
                  <a:pt x="45204" y="5913"/>
                </a:lnTo>
                <a:lnTo>
                  <a:pt x="51599" y="0"/>
                </a:lnTo>
                <a:lnTo>
                  <a:pt x="51637" y="812"/>
                </a:lnTo>
                <a:lnTo>
                  <a:pt x="51678" y="3972"/>
                </a:lnTo>
                <a:lnTo>
                  <a:pt x="50843" y="5153"/>
                </a:lnTo>
                <a:lnTo>
                  <a:pt x="49439" y="5941"/>
                </a:lnTo>
                <a:lnTo>
                  <a:pt x="47657" y="6466"/>
                </a:lnTo>
                <a:lnTo>
                  <a:pt x="45622" y="7663"/>
                </a:lnTo>
                <a:lnTo>
                  <a:pt x="43418" y="9307"/>
                </a:lnTo>
                <a:lnTo>
                  <a:pt x="41103" y="11250"/>
                </a:lnTo>
                <a:lnTo>
                  <a:pt x="38713" y="12545"/>
                </a:lnTo>
                <a:lnTo>
                  <a:pt x="36273" y="13409"/>
                </a:lnTo>
                <a:lnTo>
                  <a:pt x="33798" y="13985"/>
                </a:lnTo>
                <a:lnTo>
                  <a:pt x="31304" y="15215"/>
                </a:lnTo>
                <a:lnTo>
                  <a:pt x="28793" y="16882"/>
                </a:lnTo>
                <a:lnTo>
                  <a:pt x="26273" y="18840"/>
                </a:lnTo>
                <a:lnTo>
                  <a:pt x="24592" y="20992"/>
                </a:lnTo>
                <a:lnTo>
                  <a:pt x="23472" y="23273"/>
                </a:lnTo>
                <a:lnTo>
                  <a:pt x="21232" y="303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InkAnnotation107"/>
          <p:cNvSpPr/>
          <p:nvPr/>
        </p:nvSpPr>
        <p:spPr>
          <a:xfrm>
            <a:off x="5661000" y="1287360"/>
            <a:ext cx="168480" cy="23760"/>
          </a:xfrm>
          <a:custGeom>
            <a:avLst/>
            <a:gdLst>
              <a:gd name="textAreaLeft" fmla="*/ 0 w 168480"/>
              <a:gd name="textAreaRight" fmla="*/ 168840 w 1684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67641" h="22861">
                <a:moveTo>
                  <a:pt x="0" y="0"/>
                </a:moveTo>
                <a:lnTo>
                  <a:pt x="8090" y="4045"/>
                </a:lnTo>
                <a:lnTo>
                  <a:pt x="12167" y="5237"/>
                </a:lnTo>
                <a:lnTo>
                  <a:pt x="16578" y="6031"/>
                </a:lnTo>
                <a:lnTo>
                  <a:pt x="21212" y="6561"/>
                </a:lnTo>
                <a:lnTo>
                  <a:pt x="26841" y="7761"/>
                </a:lnTo>
                <a:lnTo>
                  <a:pt x="33134" y="9407"/>
                </a:lnTo>
                <a:lnTo>
                  <a:pt x="39869" y="11351"/>
                </a:lnTo>
                <a:lnTo>
                  <a:pt x="46899" y="12648"/>
                </a:lnTo>
                <a:lnTo>
                  <a:pt x="54126" y="13512"/>
                </a:lnTo>
                <a:lnTo>
                  <a:pt x="61484" y="14088"/>
                </a:lnTo>
                <a:lnTo>
                  <a:pt x="69777" y="14472"/>
                </a:lnTo>
                <a:lnTo>
                  <a:pt x="88020" y="14899"/>
                </a:lnTo>
                <a:lnTo>
                  <a:pt x="97627" y="15859"/>
                </a:lnTo>
                <a:lnTo>
                  <a:pt x="107418" y="17346"/>
                </a:lnTo>
                <a:lnTo>
                  <a:pt x="117332" y="19184"/>
                </a:lnTo>
                <a:lnTo>
                  <a:pt x="125635" y="20410"/>
                </a:lnTo>
                <a:lnTo>
                  <a:pt x="132863" y="21226"/>
                </a:lnTo>
                <a:lnTo>
                  <a:pt x="139375" y="21771"/>
                </a:lnTo>
                <a:lnTo>
                  <a:pt x="145410" y="22134"/>
                </a:lnTo>
                <a:lnTo>
                  <a:pt x="16764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InkAnnotation108"/>
          <p:cNvSpPr/>
          <p:nvPr/>
        </p:nvSpPr>
        <p:spPr>
          <a:xfrm>
            <a:off x="5927760" y="1235160"/>
            <a:ext cx="218880" cy="266760"/>
          </a:xfrm>
          <a:custGeom>
            <a:avLst/>
            <a:gdLst>
              <a:gd name="textAreaLeft" fmla="*/ 0 w 218880"/>
              <a:gd name="textAreaRight" fmla="*/ 219240 w 2188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18984" h="266701">
                <a:moveTo>
                  <a:pt x="7620" y="0"/>
                </a:moveTo>
                <a:lnTo>
                  <a:pt x="43731" y="0"/>
                </a:lnTo>
                <a:lnTo>
                  <a:pt x="49474" y="847"/>
                </a:lnTo>
                <a:lnTo>
                  <a:pt x="55843" y="2258"/>
                </a:lnTo>
                <a:lnTo>
                  <a:pt x="62628" y="4045"/>
                </a:lnTo>
                <a:lnTo>
                  <a:pt x="69692" y="5237"/>
                </a:lnTo>
                <a:lnTo>
                  <a:pt x="76941" y="6031"/>
                </a:lnTo>
                <a:lnTo>
                  <a:pt x="84314" y="6561"/>
                </a:lnTo>
                <a:lnTo>
                  <a:pt x="92616" y="6914"/>
                </a:lnTo>
                <a:lnTo>
                  <a:pt x="110872" y="7306"/>
                </a:lnTo>
                <a:lnTo>
                  <a:pt x="119634" y="8257"/>
                </a:lnTo>
                <a:lnTo>
                  <a:pt x="128017" y="9739"/>
                </a:lnTo>
                <a:lnTo>
                  <a:pt x="136145" y="11572"/>
                </a:lnTo>
                <a:lnTo>
                  <a:pt x="143256" y="13642"/>
                </a:lnTo>
                <a:lnTo>
                  <a:pt x="149690" y="15868"/>
                </a:lnTo>
                <a:lnTo>
                  <a:pt x="155674" y="18199"/>
                </a:lnTo>
                <a:lnTo>
                  <a:pt x="161355" y="19752"/>
                </a:lnTo>
                <a:lnTo>
                  <a:pt x="166838" y="20788"/>
                </a:lnTo>
                <a:lnTo>
                  <a:pt x="179711" y="22451"/>
                </a:lnTo>
                <a:lnTo>
                  <a:pt x="180767" y="23434"/>
                </a:lnTo>
                <a:lnTo>
                  <a:pt x="181472" y="24936"/>
                </a:lnTo>
                <a:lnTo>
                  <a:pt x="181942" y="26784"/>
                </a:lnTo>
                <a:lnTo>
                  <a:pt x="181407" y="28863"/>
                </a:lnTo>
                <a:lnTo>
                  <a:pt x="178557" y="33430"/>
                </a:lnTo>
                <a:lnTo>
                  <a:pt x="172191" y="40762"/>
                </a:lnTo>
                <a:lnTo>
                  <a:pt x="168135" y="43261"/>
                </a:lnTo>
                <a:lnTo>
                  <a:pt x="162890" y="45774"/>
                </a:lnTo>
                <a:lnTo>
                  <a:pt x="156853" y="48296"/>
                </a:lnTo>
                <a:lnTo>
                  <a:pt x="151136" y="50824"/>
                </a:lnTo>
                <a:lnTo>
                  <a:pt x="140267" y="55891"/>
                </a:lnTo>
                <a:lnTo>
                  <a:pt x="134151" y="58427"/>
                </a:lnTo>
                <a:lnTo>
                  <a:pt x="127534" y="60965"/>
                </a:lnTo>
                <a:lnTo>
                  <a:pt x="120583" y="63503"/>
                </a:lnTo>
                <a:lnTo>
                  <a:pt x="114255" y="66889"/>
                </a:lnTo>
                <a:lnTo>
                  <a:pt x="108344" y="70839"/>
                </a:lnTo>
                <a:lnTo>
                  <a:pt x="102709" y="75166"/>
                </a:lnTo>
                <a:lnTo>
                  <a:pt x="97259" y="78898"/>
                </a:lnTo>
                <a:lnTo>
                  <a:pt x="91933" y="82232"/>
                </a:lnTo>
                <a:lnTo>
                  <a:pt x="86689" y="85301"/>
                </a:lnTo>
                <a:lnTo>
                  <a:pt x="82346" y="88194"/>
                </a:lnTo>
                <a:lnTo>
                  <a:pt x="78604" y="90970"/>
                </a:lnTo>
                <a:lnTo>
                  <a:pt x="75263" y="93666"/>
                </a:lnTo>
                <a:lnTo>
                  <a:pt x="73035" y="96311"/>
                </a:lnTo>
                <a:lnTo>
                  <a:pt x="71551" y="98921"/>
                </a:lnTo>
                <a:lnTo>
                  <a:pt x="70560" y="101507"/>
                </a:lnTo>
                <a:lnTo>
                  <a:pt x="70747" y="104078"/>
                </a:lnTo>
                <a:lnTo>
                  <a:pt x="71718" y="106639"/>
                </a:lnTo>
                <a:lnTo>
                  <a:pt x="75055" y="112588"/>
                </a:lnTo>
                <a:lnTo>
                  <a:pt x="79360" y="120877"/>
                </a:lnTo>
                <a:lnTo>
                  <a:pt x="83387" y="124611"/>
                </a:lnTo>
                <a:lnTo>
                  <a:pt x="88611" y="127948"/>
                </a:lnTo>
                <a:lnTo>
                  <a:pt x="94634" y="131019"/>
                </a:lnTo>
                <a:lnTo>
                  <a:pt x="101189" y="133912"/>
                </a:lnTo>
                <a:lnTo>
                  <a:pt x="108100" y="136688"/>
                </a:lnTo>
                <a:lnTo>
                  <a:pt x="115247" y="139386"/>
                </a:lnTo>
                <a:lnTo>
                  <a:pt x="123398" y="142877"/>
                </a:lnTo>
                <a:lnTo>
                  <a:pt x="141486" y="151272"/>
                </a:lnTo>
                <a:lnTo>
                  <a:pt x="150203" y="155035"/>
                </a:lnTo>
                <a:lnTo>
                  <a:pt x="158556" y="158390"/>
                </a:lnTo>
                <a:lnTo>
                  <a:pt x="166664" y="161473"/>
                </a:lnTo>
                <a:lnTo>
                  <a:pt x="173763" y="165222"/>
                </a:lnTo>
                <a:lnTo>
                  <a:pt x="180189" y="169415"/>
                </a:lnTo>
                <a:lnTo>
                  <a:pt x="186166" y="173903"/>
                </a:lnTo>
                <a:lnTo>
                  <a:pt x="191844" y="177742"/>
                </a:lnTo>
                <a:lnTo>
                  <a:pt x="197323" y="181148"/>
                </a:lnTo>
                <a:lnTo>
                  <a:pt x="202668" y="184265"/>
                </a:lnTo>
                <a:lnTo>
                  <a:pt x="207079" y="188037"/>
                </a:lnTo>
                <a:lnTo>
                  <a:pt x="210866" y="192245"/>
                </a:lnTo>
                <a:lnTo>
                  <a:pt x="214238" y="196743"/>
                </a:lnTo>
                <a:lnTo>
                  <a:pt x="217983" y="203999"/>
                </a:lnTo>
                <a:lnTo>
                  <a:pt x="218983" y="207120"/>
                </a:lnTo>
                <a:lnTo>
                  <a:pt x="218802" y="210893"/>
                </a:lnTo>
                <a:lnTo>
                  <a:pt x="217835" y="215102"/>
                </a:lnTo>
                <a:lnTo>
                  <a:pt x="216343" y="219602"/>
                </a:lnTo>
                <a:lnTo>
                  <a:pt x="213655" y="223448"/>
                </a:lnTo>
                <a:lnTo>
                  <a:pt x="210170" y="226859"/>
                </a:lnTo>
                <a:lnTo>
                  <a:pt x="206154" y="229979"/>
                </a:lnTo>
                <a:lnTo>
                  <a:pt x="199433" y="235704"/>
                </a:lnTo>
                <a:lnTo>
                  <a:pt x="196456" y="238416"/>
                </a:lnTo>
                <a:lnTo>
                  <a:pt x="191930" y="241071"/>
                </a:lnTo>
                <a:lnTo>
                  <a:pt x="186373" y="243687"/>
                </a:lnTo>
                <a:lnTo>
                  <a:pt x="180129" y="246278"/>
                </a:lnTo>
                <a:lnTo>
                  <a:pt x="173426" y="248852"/>
                </a:lnTo>
                <a:lnTo>
                  <a:pt x="159205" y="253970"/>
                </a:lnTo>
                <a:lnTo>
                  <a:pt x="136919" y="261611"/>
                </a:lnTo>
                <a:lnTo>
                  <a:pt x="128532" y="263308"/>
                </a:lnTo>
                <a:lnTo>
                  <a:pt x="119555" y="264438"/>
                </a:lnTo>
                <a:lnTo>
                  <a:pt x="110183" y="265192"/>
                </a:lnTo>
                <a:lnTo>
                  <a:pt x="101396" y="265695"/>
                </a:lnTo>
                <a:lnTo>
                  <a:pt x="84858" y="266253"/>
                </a:lnTo>
                <a:lnTo>
                  <a:pt x="53545" y="266612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InkAnnotation109"/>
          <p:cNvSpPr/>
          <p:nvPr/>
        </p:nvSpPr>
        <p:spPr>
          <a:xfrm>
            <a:off x="2430360" y="1477800"/>
            <a:ext cx="182520" cy="8280"/>
          </a:xfrm>
          <a:custGeom>
            <a:avLst/>
            <a:gdLst>
              <a:gd name="textAreaLeft" fmla="*/ 0 w 182520"/>
              <a:gd name="textAreaRight" fmla="*/ 182880 w 18252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182881" h="7621">
                <a:moveTo>
                  <a:pt x="0" y="0"/>
                </a:moveTo>
                <a:lnTo>
                  <a:pt x="19442" y="0"/>
                </a:lnTo>
                <a:lnTo>
                  <a:pt x="25661" y="847"/>
                </a:lnTo>
                <a:lnTo>
                  <a:pt x="32348" y="2258"/>
                </a:lnTo>
                <a:lnTo>
                  <a:pt x="39345" y="4045"/>
                </a:lnTo>
                <a:lnTo>
                  <a:pt x="46550" y="5237"/>
                </a:lnTo>
                <a:lnTo>
                  <a:pt x="53893" y="6031"/>
                </a:lnTo>
                <a:lnTo>
                  <a:pt x="61329" y="6561"/>
                </a:lnTo>
                <a:lnTo>
                  <a:pt x="69672" y="6914"/>
                </a:lnTo>
                <a:lnTo>
                  <a:pt x="87974" y="7306"/>
                </a:lnTo>
                <a:lnTo>
                  <a:pt x="18288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InkAnnotation110"/>
          <p:cNvSpPr/>
          <p:nvPr/>
        </p:nvSpPr>
        <p:spPr>
          <a:xfrm>
            <a:off x="2543040" y="1554120"/>
            <a:ext cx="17640" cy="4680"/>
          </a:xfrm>
          <a:custGeom>
            <a:avLst/>
            <a:gdLst>
              <a:gd name="textAreaLeft" fmla="*/ 0 w 17640"/>
              <a:gd name="textAreaRight" fmla="*/ 18000 w 176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7761" h="4506">
                <a:moveTo>
                  <a:pt x="0" y="4505"/>
                </a:moveTo>
                <a:lnTo>
                  <a:pt x="177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InkAnnotation111"/>
          <p:cNvSpPr/>
          <p:nvPr/>
        </p:nvSpPr>
        <p:spPr>
          <a:xfrm>
            <a:off x="2919240" y="1173240"/>
            <a:ext cx="136800" cy="549360"/>
          </a:xfrm>
          <a:custGeom>
            <a:avLst/>
            <a:gdLst>
              <a:gd name="textAreaLeft" fmla="*/ 0 w 136800"/>
              <a:gd name="textAreaRight" fmla="*/ 137160 w 13680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36389" h="548641">
                <a:moveTo>
                  <a:pt x="136388" y="0"/>
                </a:moveTo>
                <a:lnTo>
                  <a:pt x="132344" y="4045"/>
                </a:lnTo>
                <a:lnTo>
                  <a:pt x="131151" y="6083"/>
                </a:lnTo>
                <a:lnTo>
                  <a:pt x="128628" y="12997"/>
                </a:lnTo>
                <a:lnTo>
                  <a:pt x="125037" y="17912"/>
                </a:lnTo>
                <a:lnTo>
                  <a:pt x="122894" y="20408"/>
                </a:lnTo>
                <a:lnTo>
                  <a:pt x="120619" y="22919"/>
                </a:lnTo>
                <a:lnTo>
                  <a:pt x="118255" y="25439"/>
                </a:lnTo>
                <a:lnTo>
                  <a:pt x="115833" y="28813"/>
                </a:lnTo>
                <a:lnTo>
                  <a:pt x="113371" y="32755"/>
                </a:lnTo>
                <a:lnTo>
                  <a:pt x="110883" y="37077"/>
                </a:lnTo>
                <a:lnTo>
                  <a:pt x="105862" y="46394"/>
                </a:lnTo>
                <a:lnTo>
                  <a:pt x="103337" y="51250"/>
                </a:lnTo>
                <a:lnTo>
                  <a:pt x="100808" y="57026"/>
                </a:lnTo>
                <a:lnTo>
                  <a:pt x="98275" y="63418"/>
                </a:lnTo>
                <a:lnTo>
                  <a:pt x="95739" y="70219"/>
                </a:lnTo>
                <a:lnTo>
                  <a:pt x="92356" y="77292"/>
                </a:lnTo>
                <a:lnTo>
                  <a:pt x="88407" y="84548"/>
                </a:lnTo>
                <a:lnTo>
                  <a:pt x="84080" y="91926"/>
                </a:lnTo>
                <a:lnTo>
                  <a:pt x="79503" y="100230"/>
                </a:lnTo>
                <a:lnTo>
                  <a:pt x="69902" y="118489"/>
                </a:lnTo>
                <a:lnTo>
                  <a:pt x="39829" y="177945"/>
                </a:lnTo>
                <a:lnTo>
                  <a:pt x="35609" y="188057"/>
                </a:lnTo>
                <a:lnTo>
                  <a:pt x="31949" y="198185"/>
                </a:lnTo>
                <a:lnTo>
                  <a:pt x="28662" y="208323"/>
                </a:lnTo>
                <a:lnTo>
                  <a:pt x="25624" y="219315"/>
                </a:lnTo>
                <a:lnTo>
                  <a:pt x="22752" y="230877"/>
                </a:lnTo>
                <a:lnTo>
                  <a:pt x="19991" y="242818"/>
                </a:lnTo>
                <a:lnTo>
                  <a:pt x="16457" y="255012"/>
                </a:lnTo>
                <a:lnTo>
                  <a:pt x="12407" y="267375"/>
                </a:lnTo>
                <a:lnTo>
                  <a:pt x="8014" y="279850"/>
                </a:lnTo>
                <a:lnTo>
                  <a:pt x="5086" y="291553"/>
                </a:lnTo>
                <a:lnTo>
                  <a:pt x="3133" y="302742"/>
                </a:lnTo>
                <a:lnTo>
                  <a:pt x="1832" y="313588"/>
                </a:lnTo>
                <a:lnTo>
                  <a:pt x="964" y="325052"/>
                </a:lnTo>
                <a:lnTo>
                  <a:pt x="385" y="336928"/>
                </a:lnTo>
                <a:lnTo>
                  <a:pt x="0" y="349079"/>
                </a:lnTo>
                <a:lnTo>
                  <a:pt x="589" y="360566"/>
                </a:lnTo>
                <a:lnTo>
                  <a:pt x="1829" y="371610"/>
                </a:lnTo>
                <a:lnTo>
                  <a:pt x="3502" y="382360"/>
                </a:lnTo>
                <a:lnTo>
                  <a:pt x="5464" y="392914"/>
                </a:lnTo>
                <a:lnTo>
                  <a:pt x="9902" y="413671"/>
                </a:lnTo>
                <a:lnTo>
                  <a:pt x="17160" y="444397"/>
                </a:lnTo>
                <a:lnTo>
                  <a:pt x="21343" y="454591"/>
                </a:lnTo>
                <a:lnTo>
                  <a:pt x="26671" y="464774"/>
                </a:lnTo>
                <a:lnTo>
                  <a:pt x="32764" y="474949"/>
                </a:lnTo>
                <a:lnTo>
                  <a:pt x="39365" y="484273"/>
                </a:lnTo>
                <a:lnTo>
                  <a:pt x="46306" y="493029"/>
                </a:lnTo>
                <a:lnTo>
                  <a:pt x="53474" y="501406"/>
                </a:lnTo>
                <a:lnTo>
                  <a:pt x="61638" y="509531"/>
                </a:lnTo>
                <a:lnTo>
                  <a:pt x="70469" y="517487"/>
                </a:lnTo>
                <a:lnTo>
                  <a:pt x="79742" y="525331"/>
                </a:lnTo>
                <a:lnTo>
                  <a:pt x="88464" y="531408"/>
                </a:lnTo>
                <a:lnTo>
                  <a:pt x="96819" y="536305"/>
                </a:lnTo>
                <a:lnTo>
                  <a:pt x="121148" y="5486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InkAnnotation112"/>
          <p:cNvSpPr/>
          <p:nvPr/>
        </p:nvSpPr>
        <p:spPr>
          <a:xfrm>
            <a:off x="6240600" y="1058760"/>
            <a:ext cx="118800" cy="563760"/>
          </a:xfrm>
          <a:custGeom>
            <a:avLst/>
            <a:gdLst>
              <a:gd name="textAreaLeft" fmla="*/ 0 w 118800"/>
              <a:gd name="textAreaRight" fmla="*/ 119160 w 11880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8364" h="563788">
                <a:moveTo>
                  <a:pt x="0" y="7527"/>
                </a:moveTo>
                <a:lnTo>
                  <a:pt x="0" y="0"/>
                </a:lnTo>
                <a:lnTo>
                  <a:pt x="0" y="3980"/>
                </a:lnTo>
                <a:lnTo>
                  <a:pt x="846" y="6009"/>
                </a:lnTo>
                <a:lnTo>
                  <a:pt x="4046" y="10521"/>
                </a:lnTo>
                <a:lnTo>
                  <a:pt x="5237" y="12910"/>
                </a:lnTo>
                <a:lnTo>
                  <a:pt x="6561" y="17822"/>
                </a:lnTo>
                <a:lnTo>
                  <a:pt x="8608" y="21163"/>
                </a:lnTo>
                <a:lnTo>
                  <a:pt x="11665" y="25085"/>
                </a:lnTo>
                <a:lnTo>
                  <a:pt x="15397" y="29392"/>
                </a:lnTo>
                <a:lnTo>
                  <a:pt x="19578" y="33957"/>
                </a:lnTo>
                <a:lnTo>
                  <a:pt x="28738" y="43545"/>
                </a:lnTo>
                <a:lnTo>
                  <a:pt x="33552" y="49319"/>
                </a:lnTo>
                <a:lnTo>
                  <a:pt x="38455" y="55708"/>
                </a:lnTo>
                <a:lnTo>
                  <a:pt x="43417" y="62508"/>
                </a:lnTo>
                <a:lnTo>
                  <a:pt x="47571" y="69581"/>
                </a:lnTo>
                <a:lnTo>
                  <a:pt x="51187" y="76836"/>
                </a:lnTo>
                <a:lnTo>
                  <a:pt x="54445" y="84213"/>
                </a:lnTo>
                <a:lnTo>
                  <a:pt x="59157" y="92518"/>
                </a:lnTo>
                <a:lnTo>
                  <a:pt x="64838" y="101441"/>
                </a:lnTo>
                <a:lnTo>
                  <a:pt x="71165" y="110776"/>
                </a:lnTo>
                <a:lnTo>
                  <a:pt x="77077" y="121233"/>
                </a:lnTo>
                <a:lnTo>
                  <a:pt x="82711" y="132438"/>
                </a:lnTo>
                <a:lnTo>
                  <a:pt x="88161" y="144141"/>
                </a:lnTo>
                <a:lnTo>
                  <a:pt x="92640" y="156176"/>
                </a:lnTo>
                <a:lnTo>
                  <a:pt x="96474" y="168433"/>
                </a:lnTo>
                <a:lnTo>
                  <a:pt x="105913" y="203652"/>
                </a:lnTo>
                <a:lnTo>
                  <a:pt x="108709" y="214477"/>
                </a:lnTo>
                <a:lnTo>
                  <a:pt x="110573" y="226774"/>
                </a:lnTo>
                <a:lnTo>
                  <a:pt x="111815" y="240051"/>
                </a:lnTo>
                <a:lnTo>
                  <a:pt x="112644" y="253983"/>
                </a:lnTo>
                <a:lnTo>
                  <a:pt x="114042" y="267505"/>
                </a:lnTo>
                <a:lnTo>
                  <a:pt x="115821" y="280752"/>
                </a:lnTo>
                <a:lnTo>
                  <a:pt x="117854" y="293817"/>
                </a:lnTo>
                <a:lnTo>
                  <a:pt x="118363" y="306760"/>
                </a:lnTo>
                <a:lnTo>
                  <a:pt x="117856" y="319623"/>
                </a:lnTo>
                <a:lnTo>
                  <a:pt x="116670" y="332431"/>
                </a:lnTo>
                <a:lnTo>
                  <a:pt x="115034" y="344356"/>
                </a:lnTo>
                <a:lnTo>
                  <a:pt x="113095" y="355693"/>
                </a:lnTo>
                <a:lnTo>
                  <a:pt x="110957" y="366638"/>
                </a:lnTo>
                <a:lnTo>
                  <a:pt x="107838" y="377321"/>
                </a:lnTo>
                <a:lnTo>
                  <a:pt x="104066" y="387830"/>
                </a:lnTo>
                <a:lnTo>
                  <a:pt x="99857" y="398222"/>
                </a:lnTo>
                <a:lnTo>
                  <a:pt x="94511" y="409384"/>
                </a:lnTo>
                <a:lnTo>
                  <a:pt x="88407" y="421058"/>
                </a:lnTo>
                <a:lnTo>
                  <a:pt x="81798" y="433074"/>
                </a:lnTo>
                <a:lnTo>
                  <a:pt x="75698" y="443625"/>
                </a:lnTo>
                <a:lnTo>
                  <a:pt x="64406" y="462122"/>
                </a:lnTo>
                <a:lnTo>
                  <a:pt x="48529" y="486815"/>
                </a:lnTo>
                <a:lnTo>
                  <a:pt x="17803" y="533239"/>
                </a:lnTo>
                <a:lnTo>
                  <a:pt x="13563" y="539189"/>
                </a:lnTo>
                <a:lnTo>
                  <a:pt x="9888" y="544001"/>
                </a:lnTo>
                <a:lnTo>
                  <a:pt x="6593" y="548057"/>
                </a:lnTo>
                <a:lnTo>
                  <a:pt x="2930" y="554820"/>
                </a:lnTo>
                <a:lnTo>
                  <a:pt x="0" y="5637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InkAnnotation113"/>
          <p:cNvSpPr/>
          <p:nvPr/>
        </p:nvSpPr>
        <p:spPr>
          <a:xfrm>
            <a:off x="2568600" y="1279440"/>
            <a:ext cx="243000" cy="38160"/>
          </a:xfrm>
          <a:custGeom>
            <a:avLst/>
            <a:gdLst>
              <a:gd name="textAreaLeft" fmla="*/ 0 w 243000"/>
              <a:gd name="textAreaRight" fmla="*/ 243360 w 2430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43841" h="38101">
                <a:moveTo>
                  <a:pt x="0" y="38100"/>
                </a:moveTo>
                <a:lnTo>
                  <a:pt x="4045" y="38100"/>
                </a:lnTo>
                <a:lnTo>
                  <a:pt x="6084" y="37253"/>
                </a:lnTo>
                <a:lnTo>
                  <a:pt x="8289" y="35842"/>
                </a:lnTo>
                <a:lnTo>
                  <a:pt x="10606" y="34055"/>
                </a:lnTo>
                <a:lnTo>
                  <a:pt x="13844" y="32863"/>
                </a:lnTo>
                <a:lnTo>
                  <a:pt x="17697" y="32069"/>
                </a:lnTo>
                <a:lnTo>
                  <a:pt x="21958" y="31539"/>
                </a:lnTo>
                <a:lnTo>
                  <a:pt x="26492" y="31186"/>
                </a:lnTo>
                <a:lnTo>
                  <a:pt x="31208" y="30951"/>
                </a:lnTo>
                <a:lnTo>
                  <a:pt x="36045" y="30794"/>
                </a:lnTo>
                <a:lnTo>
                  <a:pt x="40964" y="29843"/>
                </a:lnTo>
                <a:lnTo>
                  <a:pt x="45936" y="28362"/>
                </a:lnTo>
                <a:lnTo>
                  <a:pt x="50944" y="26528"/>
                </a:lnTo>
                <a:lnTo>
                  <a:pt x="55976" y="25305"/>
                </a:lnTo>
                <a:lnTo>
                  <a:pt x="61024" y="24490"/>
                </a:lnTo>
                <a:lnTo>
                  <a:pt x="66083" y="23947"/>
                </a:lnTo>
                <a:lnTo>
                  <a:pt x="71995" y="22738"/>
                </a:lnTo>
                <a:lnTo>
                  <a:pt x="78477" y="21085"/>
                </a:lnTo>
                <a:lnTo>
                  <a:pt x="85338" y="19137"/>
                </a:lnTo>
                <a:lnTo>
                  <a:pt x="91605" y="17838"/>
                </a:lnTo>
                <a:lnTo>
                  <a:pt x="97477" y="16972"/>
                </a:lnTo>
                <a:lnTo>
                  <a:pt x="103084" y="16395"/>
                </a:lnTo>
                <a:lnTo>
                  <a:pt x="108516" y="16010"/>
                </a:lnTo>
                <a:lnTo>
                  <a:pt x="113831" y="15753"/>
                </a:lnTo>
                <a:lnTo>
                  <a:pt x="119067" y="15582"/>
                </a:lnTo>
                <a:lnTo>
                  <a:pt x="125098" y="14622"/>
                </a:lnTo>
                <a:lnTo>
                  <a:pt x="131659" y="13135"/>
                </a:lnTo>
                <a:lnTo>
                  <a:pt x="138573" y="11296"/>
                </a:lnTo>
                <a:lnTo>
                  <a:pt x="144875" y="10071"/>
                </a:lnTo>
                <a:lnTo>
                  <a:pt x="150770" y="9254"/>
                </a:lnTo>
                <a:lnTo>
                  <a:pt x="156394" y="8709"/>
                </a:lnTo>
                <a:lnTo>
                  <a:pt x="161836" y="8346"/>
                </a:lnTo>
                <a:lnTo>
                  <a:pt x="167157" y="8104"/>
                </a:lnTo>
                <a:lnTo>
                  <a:pt x="172398" y="7943"/>
                </a:lnTo>
                <a:lnTo>
                  <a:pt x="178432" y="6989"/>
                </a:lnTo>
                <a:lnTo>
                  <a:pt x="184995" y="5506"/>
                </a:lnTo>
                <a:lnTo>
                  <a:pt x="191910" y="3671"/>
                </a:lnTo>
                <a:lnTo>
                  <a:pt x="198213" y="2447"/>
                </a:lnTo>
                <a:lnTo>
                  <a:pt x="204109" y="1632"/>
                </a:lnTo>
                <a:lnTo>
                  <a:pt x="209732" y="1088"/>
                </a:lnTo>
                <a:lnTo>
                  <a:pt x="214329" y="725"/>
                </a:lnTo>
                <a:lnTo>
                  <a:pt x="221692" y="322"/>
                </a:lnTo>
                <a:lnTo>
                  <a:pt x="230046" y="143"/>
                </a:lnTo>
                <a:lnTo>
                  <a:pt x="2438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InkAnnotation114"/>
          <p:cNvSpPr/>
          <p:nvPr/>
        </p:nvSpPr>
        <p:spPr>
          <a:xfrm>
            <a:off x="6561000" y="1363680"/>
            <a:ext cx="114480" cy="360"/>
          </a:xfrm>
          <a:custGeom>
            <a:avLst/>
            <a:gdLst>
              <a:gd name="textAreaLeft" fmla="*/ 0 w 114480"/>
              <a:gd name="textAreaRight" fmla="*/ 114840 w 1144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14301" h="1">
                <a:moveTo>
                  <a:pt x="0" y="0"/>
                </a:moveTo>
                <a:lnTo>
                  <a:pt x="1143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InkAnnotation115"/>
          <p:cNvSpPr/>
          <p:nvPr/>
        </p:nvSpPr>
        <p:spPr>
          <a:xfrm>
            <a:off x="6545160" y="1401840"/>
            <a:ext cx="152640" cy="7920"/>
          </a:xfrm>
          <a:custGeom>
            <a:avLst/>
            <a:gdLst>
              <a:gd name="textAreaLeft" fmla="*/ 0 w 152640"/>
              <a:gd name="textAreaRight" fmla="*/ 153000 w 1526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621">
                <a:moveTo>
                  <a:pt x="0" y="0"/>
                </a:moveTo>
                <a:lnTo>
                  <a:pt x="6561" y="6561"/>
                </a:lnTo>
                <a:lnTo>
                  <a:pt x="8608" y="6914"/>
                </a:lnTo>
                <a:lnTo>
                  <a:pt x="11665" y="7149"/>
                </a:lnTo>
                <a:lnTo>
                  <a:pt x="15396" y="7306"/>
                </a:lnTo>
                <a:lnTo>
                  <a:pt x="24059" y="7480"/>
                </a:lnTo>
                <a:lnTo>
                  <a:pt x="15240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InkAnnotation116"/>
          <p:cNvSpPr/>
          <p:nvPr/>
        </p:nvSpPr>
        <p:spPr>
          <a:xfrm>
            <a:off x="6880320" y="1273320"/>
            <a:ext cx="183960" cy="14040"/>
          </a:xfrm>
          <a:custGeom>
            <a:avLst/>
            <a:gdLst>
              <a:gd name="textAreaLeft" fmla="*/ 0 w 183960"/>
              <a:gd name="textAreaRight" fmla="*/ 184320 w 1839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82881" h="15241">
                <a:moveTo>
                  <a:pt x="0" y="0"/>
                </a:moveTo>
                <a:lnTo>
                  <a:pt x="21957" y="0"/>
                </a:lnTo>
                <a:lnTo>
                  <a:pt x="26491" y="847"/>
                </a:lnTo>
                <a:lnTo>
                  <a:pt x="31207" y="2258"/>
                </a:lnTo>
                <a:lnTo>
                  <a:pt x="36046" y="4045"/>
                </a:lnTo>
                <a:lnTo>
                  <a:pt x="41810" y="5237"/>
                </a:lnTo>
                <a:lnTo>
                  <a:pt x="48194" y="6031"/>
                </a:lnTo>
                <a:lnTo>
                  <a:pt x="54989" y="6561"/>
                </a:lnTo>
                <a:lnTo>
                  <a:pt x="62060" y="6914"/>
                </a:lnTo>
                <a:lnTo>
                  <a:pt x="76688" y="7306"/>
                </a:lnTo>
                <a:lnTo>
                  <a:pt x="152099" y="7612"/>
                </a:lnTo>
                <a:lnTo>
                  <a:pt x="158973" y="8461"/>
                </a:lnTo>
                <a:lnTo>
                  <a:pt x="165249" y="9874"/>
                </a:lnTo>
                <a:lnTo>
                  <a:pt x="18288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InkAnnotation117"/>
          <p:cNvSpPr/>
          <p:nvPr/>
        </p:nvSpPr>
        <p:spPr>
          <a:xfrm>
            <a:off x="7246800" y="1127160"/>
            <a:ext cx="166680" cy="374760"/>
          </a:xfrm>
          <a:custGeom>
            <a:avLst/>
            <a:gdLst>
              <a:gd name="textAreaLeft" fmla="*/ 0 w 166680"/>
              <a:gd name="textAreaRight" fmla="*/ 167040 w 16668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7407" h="373381">
                <a:moveTo>
                  <a:pt x="75966" y="0"/>
                </a:moveTo>
                <a:lnTo>
                  <a:pt x="69405" y="6561"/>
                </a:lnTo>
                <a:lnTo>
                  <a:pt x="68660" y="15397"/>
                </a:lnTo>
                <a:lnTo>
                  <a:pt x="66861" y="19578"/>
                </a:lnTo>
                <a:lnTo>
                  <a:pt x="63969" y="24059"/>
                </a:lnTo>
                <a:lnTo>
                  <a:pt x="60349" y="28739"/>
                </a:lnTo>
                <a:lnTo>
                  <a:pt x="57087" y="34399"/>
                </a:lnTo>
                <a:lnTo>
                  <a:pt x="54066" y="40713"/>
                </a:lnTo>
                <a:lnTo>
                  <a:pt x="51206" y="47462"/>
                </a:lnTo>
                <a:lnTo>
                  <a:pt x="48452" y="54501"/>
                </a:lnTo>
                <a:lnTo>
                  <a:pt x="43136" y="69096"/>
                </a:lnTo>
                <a:lnTo>
                  <a:pt x="39686" y="76544"/>
                </a:lnTo>
                <a:lnTo>
                  <a:pt x="35692" y="84050"/>
                </a:lnTo>
                <a:lnTo>
                  <a:pt x="31337" y="91593"/>
                </a:lnTo>
                <a:lnTo>
                  <a:pt x="27586" y="100009"/>
                </a:lnTo>
                <a:lnTo>
                  <a:pt x="24240" y="109006"/>
                </a:lnTo>
                <a:lnTo>
                  <a:pt x="21161" y="118391"/>
                </a:lnTo>
                <a:lnTo>
                  <a:pt x="17417" y="128034"/>
                </a:lnTo>
                <a:lnTo>
                  <a:pt x="13227" y="137849"/>
                </a:lnTo>
                <a:lnTo>
                  <a:pt x="8739" y="147780"/>
                </a:lnTo>
                <a:lnTo>
                  <a:pt x="5748" y="157786"/>
                </a:lnTo>
                <a:lnTo>
                  <a:pt x="3754" y="167844"/>
                </a:lnTo>
                <a:lnTo>
                  <a:pt x="2425" y="177936"/>
                </a:lnTo>
                <a:lnTo>
                  <a:pt x="1539" y="188051"/>
                </a:lnTo>
                <a:lnTo>
                  <a:pt x="948" y="198181"/>
                </a:lnTo>
                <a:lnTo>
                  <a:pt x="292" y="218467"/>
                </a:lnTo>
                <a:lnTo>
                  <a:pt x="0" y="238772"/>
                </a:lnTo>
                <a:lnTo>
                  <a:pt x="767" y="248081"/>
                </a:lnTo>
                <a:lnTo>
                  <a:pt x="2127" y="256828"/>
                </a:lnTo>
                <a:lnTo>
                  <a:pt x="3880" y="265198"/>
                </a:lnTo>
                <a:lnTo>
                  <a:pt x="7589" y="274166"/>
                </a:lnTo>
                <a:lnTo>
                  <a:pt x="12601" y="283531"/>
                </a:lnTo>
                <a:lnTo>
                  <a:pt x="18482" y="293160"/>
                </a:lnTo>
                <a:lnTo>
                  <a:pt x="24944" y="302120"/>
                </a:lnTo>
                <a:lnTo>
                  <a:pt x="31791" y="310634"/>
                </a:lnTo>
                <a:lnTo>
                  <a:pt x="38896" y="318849"/>
                </a:lnTo>
                <a:lnTo>
                  <a:pt x="47020" y="326019"/>
                </a:lnTo>
                <a:lnTo>
                  <a:pt x="55821" y="332493"/>
                </a:lnTo>
                <a:lnTo>
                  <a:pt x="65076" y="338502"/>
                </a:lnTo>
                <a:lnTo>
                  <a:pt x="75479" y="344202"/>
                </a:lnTo>
                <a:lnTo>
                  <a:pt x="86648" y="349694"/>
                </a:lnTo>
                <a:lnTo>
                  <a:pt x="98327" y="355050"/>
                </a:lnTo>
                <a:lnTo>
                  <a:pt x="109500" y="359467"/>
                </a:lnTo>
                <a:lnTo>
                  <a:pt x="120335" y="363258"/>
                </a:lnTo>
                <a:lnTo>
                  <a:pt x="130945" y="366632"/>
                </a:lnTo>
                <a:lnTo>
                  <a:pt x="139712" y="368881"/>
                </a:lnTo>
                <a:lnTo>
                  <a:pt x="147251" y="370381"/>
                </a:lnTo>
                <a:lnTo>
                  <a:pt x="167406" y="3733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InkAnnotation118"/>
          <p:cNvSpPr/>
          <p:nvPr/>
        </p:nvSpPr>
        <p:spPr>
          <a:xfrm>
            <a:off x="7445520" y="1127160"/>
            <a:ext cx="101520" cy="152280"/>
          </a:xfrm>
          <a:custGeom>
            <a:avLst/>
            <a:gdLst>
              <a:gd name="textAreaLeft" fmla="*/ 0 w 101520"/>
              <a:gd name="textAreaRight" fmla="*/ 101880 w 101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2501" h="152069">
                <a:moveTo>
                  <a:pt x="98722" y="15145"/>
                </a:moveTo>
                <a:lnTo>
                  <a:pt x="98722" y="11100"/>
                </a:lnTo>
                <a:lnTo>
                  <a:pt x="97876" y="9908"/>
                </a:lnTo>
                <a:lnTo>
                  <a:pt x="96464" y="9114"/>
                </a:lnTo>
                <a:lnTo>
                  <a:pt x="92161" y="7839"/>
                </a:lnTo>
                <a:lnTo>
                  <a:pt x="91809" y="6888"/>
                </a:lnTo>
                <a:lnTo>
                  <a:pt x="91312" y="2350"/>
                </a:lnTo>
                <a:lnTo>
                  <a:pt x="91196" y="992"/>
                </a:lnTo>
                <a:lnTo>
                  <a:pt x="90318" y="630"/>
                </a:lnTo>
                <a:lnTo>
                  <a:pt x="88886" y="388"/>
                </a:lnTo>
                <a:lnTo>
                  <a:pt x="87086" y="227"/>
                </a:lnTo>
                <a:lnTo>
                  <a:pt x="85038" y="120"/>
                </a:lnTo>
                <a:lnTo>
                  <a:pt x="80505" y="0"/>
                </a:lnTo>
                <a:lnTo>
                  <a:pt x="78111" y="1662"/>
                </a:lnTo>
                <a:lnTo>
                  <a:pt x="75668" y="4463"/>
                </a:lnTo>
                <a:lnTo>
                  <a:pt x="73194" y="8024"/>
                </a:lnTo>
                <a:lnTo>
                  <a:pt x="69850" y="12091"/>
                </a:lnTo>
                <a:lnTo>
                  <a:pt x="65928" y="16495"/>
                </a:lnTo>
                <a:lnTo>
                  <a:pt x="61619" y="21125"/>
                </a:lnTo>
                <a:lnTo>
                  <a:pt x="56208" y="25905"/>
                </a:lnTo>
                <a:lnTo>
                  <a:pt x="50060" y="30785"/>
                </a:lnTo>
                <a:lnTo>
                  <a:pt x="43420" y="35732"/>
                </a:lnTo>
                <a:lnTo>
                  <a:pt x="38148" y="40723"/>
                </a:lnTo>
                <a:lnTo>
                  <a:pt x="33787" y="45744"/>
                </a:lnTo>
                <a:lnTo>
                  <a:pt x="30033" y="50784"/>
                </a:lnTo>
                <a:lnTo>
                  <a:pt x="24989" y="56684"/>
                </a:lnTo>
                <a:lnTo>
                  <a:pt x="19087" y="63158"/>
                </a:lnTo>
                <a:lnTo>
                  <a:pt x="12612" y="70014"/>
                </a:lnTo>
                <a:lnTo>
                  <a:pt x="8296" y="76277"/>
                </a:lnTo>
                <a:lnTo>
                  <a:pt x="5419" y="82147"/>
                </a:lnTo>
                <a:lnTo>
                  <a:pt x="3500" y="87753"/>
                </a:lnTo>
                <a:lnTo>
                  <a:pt x="2221" y="93184"/>
                </a:lnTo>
                <a:lnTo>
                  <a:pt x="1369" y="98497"/>
                </a:lnTo>
                <a:lnTo>
                  <a:pt x="800" y="103733"/>
                </a:lnTo>
                <a:lnTo>
                  <a:pt x="421" y="108917"/>
                </a:lnTo>
                <a:lnTo>
                  <a:pt x="168" y="114066"/>
                </a:lnTo>
                <a:lnTo>
                  <a:pt x="0" y="119193"/>
                </a:lnTo>
                <a:lnTo>
                  <a:pt x="1581" y="123457"/>
                </a:lnTo>
                <a:lnTo>
                  <a:pt x="4328" y="127146"/>
                </a:lnTo>
                <a:lnTo>
                  <a:pt x="11897" y="134350"/>
                </a:lnTo>
                <a:lnTo>
                  <a:pt x="20904" y="143196"/>
                </a:lnTo>
                <a:lnTo>
                  <a:pt x="25677" y="146232"/>
                </a:lnTo>
                <a:lnTo>
                  <a:pt x="30552" y="148257"/>
                </a:lnTo>
                <a:lnTo>
                  <a:pt x="35496" y="149606"/>
                </a:lnTo>
                <a:lnTo>
                  <a:pt x="41330" y="150506"/>
                </a:lnTo>
                <a:lnTo>
                  <a:pt x="47762" y="151106"/>
                </a:lnTo>
                <a:lnTo>
                  <a:pt x="54589" y="151505"/>
                </a:lnTo>
                <a:lnTo>
                  <a:pt x="66691" y="151950"/>
                </a:lnTo>
                <a:lnTo>
                  <a:pt x="72287" y="152068"/>
                </a:lnTo>
                <a:lnTo>
                  <a:pt x="77713" y="151300"/>
                </a:lnTo>
                <a:lnTo>
                  <a:pt x="83023" y="149942"/>
                </a:lnTo>
                <a:lnTo>
                  <a:pt x="88256" y="148190"/>
                </a:lnTo>
                <a:lnTo>
                  <a:pt x="91746" y="146175"/>
                </a:lnTo>
                <a:lnTo>
                  <a:pt x="94071" y="143985"/>
                </a:lnTo>
                <a:lnTo>
                  <a:pt x="95622" y="141678"/>
                </a:lnTo>
                <a:lnTo>
                  <a:pt x="97502" y="138447"/>
                </a:lnTo>
                <a:lnTo>
                  <a:pt x="99603" y="134600"/>
                </a:lnTo>
                <a:lnTo>
                  <a:pt x="101849" y="130341"/>
                </a:lnTo>
                <a:lnTo>
                  <a:pt x="102500" y="125809"/>
                </a:lnTo>
                <a:lnTo>
                  <a:pt x="102088" y="121094"/>
                </a:lnTo>
                <a:lnTo>
                  <a:pt x="100966" y="116258"/>
                </a:lnTo>
                <a:lnTo>
                  <a:pt x="100218" y="111340"/>
                </a:lnTo>
                <a:lnTo>
                  <a:pt x="99720" y="106369"/>
                </a:lnTo>
                <a:lnTo>
                  <a:pt x="99387" y="101361"/>
                </a:lnTo>
                <a:lnTo>
                  <a:pt x="98319" y="96329"/>
                </a:lnTo>
                <a:lnTo>
                  <a:pt x="96761" y="91281"/>
                </a:lnTo>
                <a:lnTo>
                  <a:pt x="94874" y="86222"/>
                </a:lnTo>
                <a:lnTo>
                  <a:pt x="91924" y="82003"/>
                </a:lnTo>
                <a:lnTo>
                  <a:pt x="88264" y="78344"/>
                </a:lnTo>
                <a:lnTo>
                  <a:pt x="84130" y="75058"/>
                </a:lnTo>
                <a:lnTo>
                  <a:pt x="80528" y="72020"/>
                </a:lnTo>
                <a:lnTo>
                  <a:pt x="77279" y="69148"/>
                </a:lnTo>
                <a:lnTo>
                  <a:pt x="74267" y="66387"/>
                </a:lnTo>
                <a:lnTo>
                  <a:pt x="71412" y="64547"/>
                </a:lnTo>
                <a:lnTo>
                  <a:pt x="68664" y="63319"/>
                </a:lnTo>
                <a:lnTo>
                  <a:pt x="65982" y="62501"/>
                </a:lnTo>
                <a:lnTo>
                  <a:pt x="63349" y="61956"/>
                </a:lnTo>
                <a:lnTo>
                  <a:pt x="60748" y="61592"/>
                </a:lnTo>
                <a:lnTo>
                  <a:pt x="53003" y="608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InkAnnotation119"/>
          <p:cNvSpPr/>
          <p:nvPr/>
        </p:nvSpPr>
        <p:spPr>
          <a:xfrm>
            <a:off x="7429680" y="1281240"/>
            <a:ext cx="114120" cy="110880"/>
          </a:xfrm>
          <a:custGeom>
            <a:avLst/>
            <a:gdLst>
              <a:gd name="textAreaLeft" fmla="*/ 0 w 114120"/>
              <a:gd name="textAreaRight" fmla="*/ 114480 w 11412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13258" h="112302">
                <a:moveTo>
                  <a:pt x="75653" y="14755"/>
                </a:moveTo>
                <a:lnTo>
                  <a:pt x="64081" y="14755"/>
                </a:lnTo>
                <a:lnTo>
                  <a:pt x="62012" y="15602"/>
                </a:lnTo>
                <a:lnTo>
                  <a:pt x="59785" y="17013"/>
                </a:lnTo>
                <a:lnTo>
                  <a:pt x="57455" y="18800"/>
                </a:lnTo>
                <a:lnTo>
                  <a:pt x="55054" y="20838"/>
                </a:lnTo>
                <a:lnTo>
                  <a:pt x="52607" y="23044"/>
                </a:lnTo>
                <a:lnTo>
                  <a:pt x="50129" y="25361"/>
                </a:lnTo>
                <a:lnTo>
                  <a:pt x="46784" y="27752"/>
                </a:lnTo>
                <a:lnTo>
                  <a:pt x="42860" y="30193"/>
                </a:lnTo>
                <a:lnTo>
                  <a:pt x="38551" y="32667"/>
                </a:lnTo>
                <a:lnTo>
                  <a:pt x="34832" y="35163"/>
                </a:lnTo>
                <a:lnTo>
                  <a:pt x="31506" y="37674"/>
                </a:lnTo>
                <a:lnTo>
                  <a:pt x="28440" y="40194"/>
                </a:lnTo>
                <a:lnTo>
                  <a:pt x="24705" y="43568"/>
                </a:lnTo>
                <a:lnTo>
                  <a:pt x="16039" y="51832"/>
                </a:lnTo>
                <a:lnTo>
                  <a:pt x="5683" y="61959"/>
                </a:lnTo>
                <a:lnTo>
                  <a:pt x="3607" y="65698"/>
                </a:lnTo>
                <a:lnTo>
                  <a:pt x="2223" y="69884"/>
                </a:lnTo>
                <a:lnTo>
                  <a:pt x="1299" y="74367"/>
                </a:lnTo>
                <a:lnTo>
                  <a:pt x="684" y="78203"/>
                </a:lnTo>
                <a:lnTo>
                  <a:pt x="274" y="81607"/>
                </a:lnTo>
                <a:lnTo>
                  <a:pt x="0" y="84723"/>
                </a:lnTo>
                <a:lnTo>
                  <a:pt x="665" y="87647"/>
                </a:lnTo>
                <a:lnTo>
                  <a:pt x="1953" y="90443"/>
                </a:lnTo>
                <a:lnTo>
                  <a:pt x="3660" y="93154"/>
                </a:lnTo>
                <a:lnTo>
                  <a:pt x="6492" y="95808"/>
                </a:lnTo>
                <a:lnTo>
                  <a:pt x="10072" y="98423"/>
                </a:lnTo>
                <a:lnTo>
                  <a:pt x="14153" y="101014"/>
                </a:lnTo>
                <a:lnTo>
                  <a:pt x="18566" y="103588"/>
                </a:lnTo>
                <a:lnTo>
                  <a:pt x="23202" y="106150"/>
                </a:lnTo>
                <a:lnTo>
                  <a:pt x="27984" y="108705"/>
                </a:lnTo>
                <a:lnTo>
                  <a:pt x="33715" y="110408"/>
                </a:lnTo>
                <a:lnTo>
                  <a:pt x="40074" y="111544"/>
                </a:lnTo>
                <a:lnTo>
                  <a:pt x="46854" y="112301"/>
                </a:lnTo>
                <a:lnTo>
                  <a:pt x="53914" y="111959"/>
                </a:lnTo>
                <a:lnTo>
                  <a:pt x="61160" y="110884"/>
                </a:lnTo>
                <a:lnTo>
                  <a:pt x="68531" y="109321"/>
                </a:lnTo>
                <a:lnTo>
                  <a:pt x="75139" y="107432"/>
                </a:lnTo>
                <a:lnTo>
                  <a:pt x="81237" y="105327"/>
                </a:lnTo>
                <a:lnTo>
                  <a:pt x="86995" y="103076"/>
                </a:lnTo>
                <a:lnTo>
                  <a:pt x="91681" y="100729"/>
                </a:lnTo>
                <a:lnTo>
                  <a:pt x="95652" y="98318"/>
                </a:lnTo>
                <a:lnTo>
                  <a:pt x="99146" y="95864"/>
                </a:lnTo>
                <a:lnTo>
                  <a:pt x="102321" y="92534"/>
                </a:lnTo>
                <a:lnTo>
                  <a:pt x="105286" y="88621"/>
                </a:lnTo>
                <a:lnTo>
                  <a:pt x="108108" y="84319"/>
                </a:lnTo>
                <a:lnTo>
                  <a:pt x="109989" y="79758"/>
                </a:lnTo>
                <a:lnTo>
                  <a:pt x="111244" y="75023"/>
                </a:lnTo>
                <a:lnTo>
                  <a:pt x="112081" y="70174"/>
                </a:lnTo>
                <a:lnTo>
                  <a:pt x="112638" y="65248"/>
                </a:lnTo>
                <a:lnTo>
                  <a:pt x="113010" y="60270"/>
                </a:lnTo>
                <a:lnTo>
                  <a:pt x="113257" y="55258"/>
                </a:lnTo>
                <a:lnTo>
                  <a:pt x="112576" y="50224"/>
                </a:lnTo>
                <a:lnTo>
                  <a:pt x="111275" y="45174"/>
                </a:lnTo>
                <a:lnTo>
                  <a:pt x="109561" y="40114"/>
                </a:lnTo>
                <a:lnTo>
                  <a:pt x="107572" y="35048"/>
                </a:lnTo>
                <a:lnTo>
                  <a:pt x="105399" y="29977"/>
                </a:lnTo>
                <a:lnTo>
                  <a:pt x="103104" y="24903"/>
                </a:lnTo>
                <a:lnTo>
                  <a:pt x="100727" y="20674"/>
                </a:lnTo>
                <a:lnTo>
                  <a:pt x="98296" y="17007"/>
                </a:lnTo>
                <a:lnTo>
                  <a:pt x="95828" y="13717"/>
                </a:lnTo>
                <a:lnTo>
                  <a:pt x="93337" y="10676"/>
                </a:lnTo>
                <a:lnTo>
                  <a:pt x="90829" y="7803"/>
                </a:lnTo>
                <a:lnTo>
                  <a:pt x="88310" y="5040"/>
                </a:lnTo>
                <a:lnTo>
                  <a:pt x="84938" y="3198"/>
                </a:lnTo>
                <a:lnTo>
                  <a:pt x="80996" y="1971"/>
                </a:lnTo>
                <a:lnTo>
                  <a:pt x="76675" y="1152"/>
                </a:lnTo>
                <a:lnTo>
                  <a:pt x="72948" y="606"/>
                </a:lnTo>
                <a:lnTo>
                  <a:pt x="69616" y="243"/>
                </a:lnTo>
                <a:lnTo>
                  <a:pt x="66549" y="0"/>
                </a:lnTo>
                <a:lnTo>
                  <a:pt x="63657" y="685"/>
                </a:lnTo>
                <a:lnTo>
                  <a:pt x="60882" y="1988"/>
                </a:lnTo>
                <a:lnTo>
                  <a:pt x="52793" y="71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InkAnnotation120"/>
          <p:cNvSpPr/>
          <p:nvPr/>
        </p:nvSpPr>
        <p:spPr>
          <a:xfrm>
            <a:off x="7674120" y="1127160"/>
            <a:ext cx="37800" cy="236520"/>
          </a:xfrm>
          <a:custGeom>
            <a:avLst/>
            <a:gdLst>
              <a:gd name="textAreaLeft" fmla="*/ 0 w 37800"/>
              <a:gd name="textAreaRight" fmla="*/ 38160 w 378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7971" h="236221">
                <a:moveTo>
                  <a:pt x="37970" y="0"/>
                </a:moveTo>
                <a:lnTo>
                  <a:pt x="37970" y="14651"/>
                </a:lnTo>
                <a:lnTo>
                  <a:pt x="37124" y="19081"/>
                </a:lnTo>
                <a:lnTo>
                  <a:pt x="35712" y="23727"/>
                </a:lnTo>
                <a:lnTo>
                  <a:pt x="33925" y="28518"/>
                </a:lnTo>
                <a:lnTo>
                  <a:pt x="27365" y="47397"/>
                </a:lnTo>
                <a:lnTo>
                  <a:pt x="25820" y="54458"/>
                </a:lnTo>
                <a:lnTo>
                  <a:pt x="24790" y="61705"/>
                </a:lnTo>
                <a:lnTo>
                  <a:pt x="24104" y="69077"/>
                </a:lnTo>
                <a:lnTo>
                  <a:pt x="22799" y="76531"/>
                </a:lnTo>
                <a:lnTo>
                  <a:pt x="21083" y="84041"/>
                </a:lnTo>
                <a:lnTo>
                  <a:pt x="9814" y="127186"/>
                </a:lnTo>
                <a:lnTo>
                  <a:pt x="4855" y="143734"/>
                </a:lnTo>
                <a:lnTo>
                  <a:pt x="3193" y="151703"/>
                </a:lnTo>
                <a:lnTo>
                  <a:pt x="2086" y="159555"/>
                </a:lnTo>
                <a:lnTo>
                  <a:pt x="1348" y="167330"/>
                </a:lnTo>
                <a:lnTo>
                  <a:pt x="855" y="174207"/>
                </a:lnTo>
                <a:lnTo>
                  <a:pt x="527" y="180485"/>
                </a:lnTo>
                <a:lnTo>
                  <a:pt x="163" y="191975"/>
                </a:lnTo>
                <a:lnTo>
                  <a:pt x="0" y="202727"/>
                </a:lnTo>
                <a:lnTo>
                  <a:pt x="804" y="207118"/>
                </a:lnTo>
                <a:lnTo>
                  <a:pt x="2186" y="210892"/>
                </a:lnTo>
                <a:lnTo>
                  <a:pt x="8177" y="222507"/>
                </a:lnTo>
                <a:lnTo>
                  <a:pt x="13741" y="233511"/>
                </a:lnTo>
                <a:lnTo>
                  <a:pt x="15044" y="234414"/>
                </a:lnTo>
                <a:lnTo>
                  <a:pt x="16759" y="235016"/>
                </a:lnTo>
                <a:lnTo>
                  <a:pt x="22731" y="236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InkAnnotation121"/>
          <p:cNvSpPr/>
          <p:nvPr/>
        </p:nvSpPr>
        <p:spPr>
          <a:xfrm>
            <a:off x="7802640" y="1036800"/>
            <a:ext cx="133200" cy="380880"/>
          </a:xfrm>
          <a:custGeom>
            <a:avLst/>
            <a:gdLst>
              <a:gd name="textAreaLeft" fmla="*/ 0 w 133200"/>
              <a:gd name="textAreaRight" fmla="*/ 133560 w 133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32567" h="381001">
                <a:moveTo>
                  <a:pt x="0" y="0"/>
                </a:moveTo>
                <a:lnTo>
                  <a:pt x="4046" y="0"/>
                </a:lnTo>
                <a:lnTo>
                  <a:pt x="6083" y="1693"/>
                </a:lnTo>
                <a:lnTo>
                  <a:pt x="8288" y="4515"/>
                </a:lnTo>
                <a:lnTo>
                  <a:pt x="13867" y="13122"/>
                </a:lnTo>
                <a:lnTo>
                  <a:pt x="16018" y="15521"/>
                </a:lnTo>
                <a:lnTo>
                  <a:pt x="22923" y="22703"/>
                </a:lnTo>
                <a:lnTo>
                  <a:pt x="40376" y="40311"/>
                </a:lnTo>
                <a:lnTo>
                  <a:pt x="46390" y="47194"/>
                </a:lnTo>
                <a:lnTo>
                  <a:pt x="52094" y="54323"/>
                </a:lnTo>
                <a:lnTo>
                  <a:pt x="57589" y="61615"/>
                </a:lnTo>
                <a:lnTo>
                  <a:pt x="62945" y="69863"/>
                </a:lnTo>
                <a:lnTo>
                  <a:pt x="68211" y="78749"/>
                </a:lnTo>
                <a:lnTo>
                  <a:pt x="73413" y="88059"/>
                </a:lnTo>
                <a:lnTo>
                  <a:pt x="79422" y="97653"/>
                </a:lnTo>
                <a:lnTo>
                  <a:pt x="85968" y="107435"/>
                </a:lnTo>
                <a:lnTo>
                  <a:pt x="92873" y="117343"/>
                </a:lnTo>
                <a:lnTo>
                  <a:pt x="99168" y="128182"/>
                </a:lnTo>
                <a:lnTo>
                  <a:pt x="105059" y="139642"/>
                </a:lnTo>
                <a:lnTo>
                  <a:pt x="110679" y="151514"/>
                </a:lnTo>
                <a:lnTo>
                  <a:pt x="115273" y="162816"/>
                </a:lnTo>
                <a:lnTo>
                  <a:pt x="119181" y="173738"/>
                </a:lnTo>
                <a:lnTo>
                  <a:pt x="122634" y="184405"/>
                </a:lnTo>
                <a:lnTo>
                  <a:pt x="125783" y="195750"/>
                </a:lnTo>
                <a:lnTo>
                  <a:pt x="128729" y="207547"/>
                </a:lnTo>
                <a:lnTo>
                  <a:pt x="131539" y="219645"/>
                </a:lnTo>
                <a:lnTo>
                  <a:pt x="132566" y="231096"/>
                </a:lnTo>
                <a:lnTo>
                  <a:pt x="132404" y="242118"/>
                </a:lnTo>
                <a:lnTo>
                  <a:pt x="131449" y="252852"/>
                </a:lnTo>
                <a:lnTo>
                  <a:pt x="129966" y="263395"/>
                </a:lnTo>
                <a:lnTo>
                  <a:pt x="128131" y="273810"/>
                </a:lnTo>
                <a:lnTo>
                  <a:pt x="126061" y="284140"/>
                </a:lnTo>
                <a:lnTo>
                  <a:pt x="122987" y="293566"/>
                </a:lnTo>
                <a:lnTo>
                  <a:pt x="119245" y="302391"/>
                </a:lnTo>
                <a:lnTo>
                  <a:pt x="115056" y="310814"/>
                </a:lnTo>
                <a:lnTo>
                  <a:pt x="110571" y="318969"/>
                </a:lnTo>
                <a:lnTo>
                  <a:pt x="105887" y="326946"/>
                </a:lnTo>
                <a:lnTo>
                  <a:pt x="101071" y="334804"/>
                </a:lnTo>
                <a:lnTo>
                  <a:pt x="95321" y="340889"/>
                </a:lnTo>
                <a:lnTo>
                  <a:pt x="88947" y="345793"/>
                </a:lnTo>
                <a:lnTo>
                  <a:pt x="82158" y="349909"/>
                </a:lnTo>
                <a:lnTo>
                  <a:pt x="75939" y="354346"/>
                </a:lnTo>
                <a:lnTo>
                  <a:pt x="70099" y="358997"/>
                </a:lnTo>
                <a:lnTo>
                  <a:pt x="64512" y="363792"/>
                </a:lnTo>
                <a:lnTo>
                  <a:pt x="59094" y="367834"/>
                </a:lnTo>
                <a:lnTo>
                  <a:pt x="53790" y="371376"/>
                </a:lnTo>
                <a:lnTo>
                  <a:pt x="48560" y="374584"/>
                </a:lnTo>
                <a:lnTo>
                  <a:pt x="44225" y="376723"/>
                </a:lnTo>
                <a:lnTo>
                  <a:pt x="40491" y="378149"/>
                </a:lnTo>
                <a:lnTo>
                  <a:pt x="30480" y="3810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InkAnnotation122"/>
          <p:cNvSpPr/>
          <p:nvPr/>
        </p:nvSpPr>
        <p:spPr>
          <a:xfrm>
            <a:off x="8137440" y="1211400"/>
            <a:ext cx="92160" cy="15840"/>
          </a:xfrm>
          <a:custGeom>
            <a:avLst/>
            <a:gdLst>
              <a:gd name="textAreaLeft" fmla="*/ 0 w 92160"/>
              <a:gd name="textAreaRight" fmla="*/ 92520 w 92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1441" h="15241">
                <a:moveTo>
                  <a:pt x="0" y="0"/>
                </a:moveTo>
                <a:lnTo>
                  <a:pt x="8090" y="0"/>
                </a:lnTo>
                <a:lnTo>
                  <a:pt x="10474" y="847"/>
                </a:lnTo>
                <a:lnTo>
                  <a:pt x="12063" y="2258"/>
                </a:lnTo>
                <a:lnTo>
                  <a:pt x="13122" y="4045"/>
                </a:lnTo>
                <a:lnTo>
                  <a:pt x="15521" y="5237"/>
                </a:lnTo>
                <a:lnTo>
                  <a:pt x="18815" y="6031"/>
                </a:lnTo>
                <a:lnTo>
                  <a:pt x="22703" y="6561"/>
                </a:lnTo>
                <a:lnTo>
                  <a:pt x="26989" y="6914"/>
                </a:lnTo>
                <a:lnTo>
                  <a:pt x="31540" y="7149"/>
                </a:lnTo>
                <a:lnTo>
                  <a:pt x="36266" y="7306"/>
                </a:lnTo>
                <a:lnTo>
                  <a:pt x="42804" y="8257"/>
                </a:lnTo>
                <a:lnTo>
                  <a:pt x="50549" y="9738"/>
                </a:lnTo>
                <a:lnTo>
                  <a:pt x="59100" y="11572"/>
                </a:lnTo>
                <a:lnTo>
                  <a:pt x="66493" y="12795"/>
                </a:lnTo>
                <a:lnTo>
                  <a:pt x="73116" y="13610"/>
                </a:lnTo>
                <a:lnTo>
                  <a:pt x="9144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InkAnnotation123"/>
          <p:cNvSpPr/>
          <p:nvPr/>
        </p:nvSpPr>
        <p:spPr>
          <a:xfrm>
            <a:off x="8153280" y="1333440"/>
            <a:ext cx="84240" cy="15840"/>
          </a:xfrm>
          <a:custGeom>
            <a:avLst/>
            <a:gdLst>
              <a:gd name="textAreaLeft" fmla="*/ 0 w 84240"/>
              <a:gd name="textAreaRight" fmla="*/ 84600 w 84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820" h="15241">
                <a:moveTo>
                  <a:pt x="0" y="0"/>
                </a:moveTo>
                <a:lnTo>
                  <a:pt x="10606" y="0"/>
                </a:lnTo>
                <a:lnTo>
                  <a:pt x="12151" y="847"/>
                </a:lnTo>
                <a:lnTo>
                  <a:pt x="13180" y="2258"/>
                </a:lnTo>
                <a:lnTo>
                  <a:pt x="13867" y="4045"/>
                </a:lnTo>
                <a:lnTo>
                  <a:pt x="16017" y="5237"/>
                </a:lnTo>
                <a:lnTo>
                  <a:pt x="19144" y="6031"/>
                </a:lnTo>
                <a:lnTo>
                  <a:pt x="22923" y="6561"/>
                </a:lnTo>
                <a:lnTo>
                  <a:pt x="27983" y="6914"/>
                </a:lnTo>
                <a:lnTo>
                  <a:pt x="33895" y="7149"/>
                </a:lnTo>
                <a:lnTo>
                  <a:pt x="40376" y="7306"/>
                </a:lnTo>
                <a:lnTo>
                  <a:pt x="46390" y="8258"/>
                </a:lnTo>
                <a:lnTo>
                  <a:pt x="52093" y="9738"/>
                </a:lnTo>
                <a:lnTo>
                  <a:pt x="57589" y="11572"/>
                </a:lnTo>
                <a:lnTo>
                  <a:pt x="62945" y="12795"/>
                </a:lnTo>
                <a:lnTo>
                  <a:pt x="68210" y="13610"/>
                </a:lnTo>
                <a:lnTo>
                  <a:pt x="83819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InkAnnotation124"/>
          <p:cNvSpPr/>
          <p:nvPr/>
        </p:nvSpPr>
        <p:spPr>
          <a:xfrm>
            <a:off x="8420040" y="1203480"/>
            <a:ext cx="130320" cy="7920"/>
          </a:xfrm>
          <a:custGeom>
            <a:avLst/>
            <a:gdLst>
              <a:gd name="textAreaLeft" fmla="*/ 0 w 130320"/>
              <a:gd name="textAreaRight" fmla="*/ 130680 w 130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9541" h="7621">
                <a:moveTo>
                  <a:pt x="0" y="0"/>
                </a:moveTo>
                <a:lnTo>
                  <a:pt x="73122" y="0"/>
                </a:lnTo>
                <a:lnTo>
                  <a:pt x="82615" y="847"/>
                </a:lnTo>
                <a:lnTo>
                  <a:pt x="92329" y="2258"/>
                </a:lnTo>
                <a:lnTo>
                  <a:pt x="102193" y="4045"/>
                </a:lnTo>
                <a:lnTo>
                  <a:pt x="109616" y="5237"/>
                </a:lnTo>
                <a:lnTo>
                  <a:pt x="115411" y="6031"/>
                </a:lnTo>
                <a:lnTo>
                  <a:pt x="12954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InkAnnotation125"/>
          <p:cNvSpPr/>
          <p:nvPr/>
        </p:nvSpPr>
        <p:spPr>
          <a:xfrm>
            <a:off x="8664480" y="1074600"/>
            <a:ext cx="120600" cy="152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20501" h="152220">
                <a:moveTo>
                  <a:pt x="75618" y="7611"/>
                </a:moveTo>
                <a:lnTo>
                  <a:pt x="75618" y="0"/>
                </a:lnTo>
                <a:lnTo>
                  <a:pt x="71572" y="4039"/>
                </a:lnTo>
                <a:lnTo>
                  <a:pt x="69535" y="6923"/>
                </a:lnTo>
                <a:lnTo>
                  <a:pt x="67329" y="10539"/>
                </a:lnTo>
                <a:lnTo>
                  <a:pt x="65012" y="14643"/>
                </a:lnTo>
                <a:lnTo>
                  <a:pt x="60927" y="19072"/>
                </a:lnTo>
                <a:lnTo>
                  <a:pt x="55664" y="23719"/>
                </a:lnTo>
                <a:lnTo>
                  <a:pt x="49616" y="28509"/>
                </a:lnTo>
                <a:lnTo>
                  <a:pt x="43890" y="33397"/>
                </a:lnTo>
                <a:lnTo>
                  <a:pt x="38378" y="38348"/>
                </a:lnTo>
                <a:lnTo>
                  <a:pt x="33012" y="43343"/>
                </a:lnTo>
                <a:lnTo>
                  <a:pt x="27741" y="49212"/>
                </a:lnTo>
                <a:lnTo>
                  <a:pt x="22533" y="55665"/>
                </a:lnTo>
                <a:lnTo>
                  <a:pt x="17367" y="62507"/>
                </a:lnTo>
                <a:lnTo>
                  <a:pt x="13078" y="69608"/>
                </a:lnTo>
                <a:lnTo>
                  <a:pt x="9371" y="76883"/>
                </a:lnTo>
                <a:lnTo>
                  <a:pt x="6054" y="84272"/>
                </a:lnTo>
                <a:lnTo>
                  <a:pt x="3842" y="90892"/>
                </a:lnTo>
                <a:lnTo>
                  <a:pt x="2367" y="96998"/>
                </a:lnTo>
                <a:lnTo>
                  <a:pt x="1384" y="102763"/>
                </a:lnTo>
                <a:lnTo>
                  <a:pt x="729" y="108299"/>
                </a:lnTo>
                <a:lnTo>
                  <a:pt x="292" y="113683"/>
                </a:lnTo>
                <a:lnTo>
                  <a:pt x="0" y="118966"/>
                </a:lnTo>
                <a:lnTo>
                  <a:pt x="1500" y="124181"/>
                </a:lnTo>
                <a:lnTo>
                  <a:pt x="4193" y="129351"/>
                </a:lnTo>
                <a:lnTo>
                  <a:pt x="7682" y="134491"/>
                </a:lnTo>
                <a:lnTo>
                  <a:pt x="11700" y="138764"/>
                </a:lnTo>
                <a:lnTo>
                  <a:pt x="16073" y="142460"/>
                </a:lnTo>
                <a:lnTo>
                  <a:pt x="20681" y="145770"/>
                </a:lnTo>
                <a:lnTo>
                  <a:pt x="26294" y="147977"/>
                </a:lnTo>
                <a:lnTo>
                  <a:pt x="32575" y="149448"/>
                </a:lnTo>
                <a:lnTo>
                  <a:pt x="39303" y="150429"/>
                </a:lnTo>
                <a:lnTo>
                  <a:pt x="46327" y="151083"/>
                </a:lnTo>
                <a:lnTo>
                  <a:pt x="53550" y="151519"/>
                </a:lnTo>
                <a:lnTo>
                  <a:pt x="68350" y="152004"/>
                </a:lnTo>
                <a:lnTo>
                  <a:pt x="83394" y="152219"/>
                </a:lnTo>
                <a:lnTo>
                  <a:pt x="89269" y="151430"/>
                </a:lnTo>
                <a:lnTo>
                  <a:pt x="94032" y="150057"/>
                </a:lnTo>
                <a:lnTo>
                  <a:pt x="98054" y="148295"/>
                </a:lnTo>
                <a:lnTo>
                  <a:pt x="107038" y="144079"/>
                </a:lnTo>
                <a:lnTo>
                  <a:pt x="111804" y="141770"/>
                </a:lnTo>
                <a:lnTo>
                  <a:pt x="114982" y="138537"/>
                </a:lnTo>
                <a:lnTo>
                  <a:pt x="117101" y="134688"/>
                </a:lnTo>
                <a:lnTo>
                  <a:pt x="118514" y="130429"/>
                </a:lnTo>
                <a:lnTo>
                  <a:pt x="119455" y="125897"/>
                </a:lnTo>
                <a:lnTo>
                  <a:pt x="120083" y="121181"/>
                </a:lnTo>
                <a:lnTo>
                  <a:pt x="120500" y="116345"/>
                </a:lnTo>
                <a:lnTo>
                  <a:pt x="119933" y="111427"/>
                </a:lnTo>
                <a:lnTo>
                  <a:pt x="118708" y="106455"/>
                </a:lnTo>
                <a:lnTo>
                  <a:pt x="117045" y="101447"/>
                </a:lnTo>
                <a:lnTo>
                  <a:pt x="115089" y="96415"/>
                </a:lnTo>
                <a:lnTo>
                  <a:pt x="112939" y="91367"/>
                </a:lnTo>
                <a:lnTo>
                  <a:pt x="110658" y="86308"/>
                </a:lnTo>
                <a:lnTo>
                  <a:pt x="108292" y="82089"/>
                </a:lnTo>
                <a:lnTo>
                  <a:pt x="105867" y="78430"/>
                </a:lnTo>
                <a:lnTo>
                  <a:pt x="103404" y="75144"/>
                </a:lnTo>
                <a:lnTo>
                  <a:pt x="100068" y="72106"/>
                </a:lnTo>
                <a:lnTo>
                  <a:pt x="96152" y="69234"/>
                </a:lnTo>
                <a:lnTo>
                  <a:pt x="91848" y="66473"/>
                </a:lnTo>
                <a:lnTo>
                  <a:pt x="87284" y="64633"/>
                </a:lnTo>
                <a:lnTo>
                  <a:pt x="82549" y="63405"/>
                </a:lnTo>
                <a:lnTo>
                  <a:pt x="77698" y="62587"/>
                </a:lnTo>
                <a:lnTo>
                  <a:pt x="72772" y="62042"/>
                </a:lnTo>
                <a:lnTo>
                  <a:pt x="67794" y="61678"/>
                </a:lnTo>
                <a:lnTo>
                  <a:pt x="62782" y="61436"/>
                </a:lnTo>
                <a:lnTo>
                  <a:pt x="57748" y="62121"/>
                </a:lnTo>
                <a:lnTo>
                  <a:pt x="52698" y="63424"/>
                </a:lnTo>
                <a:lnTo>
                  <a:pt x="47637" y="65140"/>
                </a:lnTo>
                <a:lnTo>
                  <a:pt x="43418" y="67130"/>
                </a:lnTo>
                <a:lnTo>
                  <a:pt x="39758" y="69304"/>
                </a:lnTo>
                <a:lnTo>
                  <a:pt x="29898" y="7619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InkAnnotation126"/>
          <p:cNvSpPr/>
          <p:nvPr/>
        </p:nvSpPr>
        <p:spPr>
          <a:xfrm>
            <a:off x="8666280" y="1241280"/>
            <a:ext cx="126720" cy="128880"/>
          </a:xfrm>
          <a:custGeom>
            <a:avLst/>
            <a:gdLst>
              <a:gd name="textAreaLeft" fmla="*/ 0 w 126720"/>
              <a:gd name="textAreaRight" fmla="*/ 127080 w 12672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27454" h="127895">
                <a:moveTo>
                  <a:pt x="59362" y="0"/>
                </a:moveTo>
                <a:lnTo>
                  <a:pt x="55316" y="0"/>
                </a:lnTo>
                <a:lnTo>
                  <a:pt x="53279" y="847"/>
                </a:lnTo>
                <a:lnTo>
                  <a:pt x="51073" y="2258"/>
                </a:lnTo>
                <a:lnTo>
                  <a:pt x="48756" y="4045"/>
                </a:lnTo>
                <a:lnTo>
                  <a:pt x="46364" y="6083"/>
                </a:lnTo>
                <a:lnTo>
                  <a:pt x="43923" y="8289"/>
                </a:lnTo>
                <a:lnTo>
                  <a:pt x="38954" y="12997"/>
                </a:lnTo>
                <a:lnTo>
                  <a:pt x="33922" y="17912"/>
                </a:lnTo>
                <a:lnTo>
                  <a:pt x="30549" y="22101"/>
                </a:lnTo>
                <a:lnTo>
                  <a:pt x="26607" y="27434"/>
                </a:lnTo>
                <a:lnTo>
                  <a:pt x="22285" y="33530"/>
                </a:lnTo>
                <a:lnTo>
                  <a:pt x="18557" y="39286"/>
                </a:lnTo>
                <a:lnTo>
                  <a:pt x="15225" y="44817"/>
                </a:lnTo>
                <a:lnTo>
                  <a:pt x="12157" y="50198"/>
                </a:lnTo>
                <a:lnTo>
                  <a:pt x="9265" y="56325"/>
                </a:lnTo>
                <a:lnTo>
                  <a:pt x="6491" y="62950"/>
                </a:lnTo>
                <a:lnTo>
                  <a:pt x="3794" y="69907"/>
                </a:lnTo>
                <a:lnTo>
                  <a:pt x="1997" y="76238"/>
                </a:lnTo>
                <a:lnTo>
                  <a:pt x="799" y="82152"/>
                </a:lnTo>
                <a:lnTo>
                  <a:pt x="0" y="87788"/>
                </a:lnTo>
                <a:lnTo>
                  <a:pt x="314" y="93239"/>
                </a:lnTo>
                <a:lnTo>
                  <a:pt x="1370" y="98566"/>
                </a:lnTo>
                <a:lnTo>
                  <a:pt x="2920" y="103810"/>
                </a:lnTo>
                <a:lnTo>
                  <a:pt x="5648" y="108154"/>
                </a:lnTo>
                <a:lnTo>
                  <a:pt x="9158" y="111896"/>
                </a:lnTo>
                <a:lnTo>
                  <a:pt x="13194" y="115237"/>
                </a:lnTo>
                <a:lnTo>
                  <a:pt x="17576" y="118311"/>
                </a:lnTo>
                <a:lnTo>
                  <a:pt x="22191" y="121208"/>
                </a:lnTo>
                <a:lnTo>
                  <a:pt x="26961" y="123985"/>
                </a:lnTo>
                <a:lnTo>
                  <a:pt x="32681" y="125837"/>
                </a:lnTo>
                <a:lnTo>
                  <a:pt x="39035" y="127071"/>
                </a:lnTo>
                <a:lnTo>
                  <a:pt x="45811" y="127894"/>
                </a:lnTo>
                <a:lnTo>
                  <a:pt x="52867" y="127596"/>
                </a:lnTo>
                <a:lnTo>
                  <a:pt x="60112" y="126551"/>
                </a:lnTo>
                <a:lnTo>
                  <a:pt x="67482" y="125007"/>
                </a:lnTo>
                <a:lnTo>
                  <a:pt x="74088" y="123131"/>
                </a:lnTo>
                <a:lnTo>
                  <a:pt x="80186" y="121034"/>
                </a:lnTo>
                <a:lnTo>
                  <a:pt x="85944" y="118789"/>
                </a:lnTo>
                <a:lnTo>
                  <a:pt x="91476" y="116446"/>
                </a:lnTo>
                <a:lnTo>
                  <a:pt x="102139" y="111585"/>
                </a:lnTo>
                <a:lnTo>
                  <a:pt x="106506" y="107410"/>
                </a:lnTo>
                <a:lnTo>
                  <a:pt x="110264" y="102087"/>
                </a:lnTo>
                <a:lnTo>
                  <a:pt x="116698" y="90245"/>
                </a:lnTo>
                <a:lnTo>
                  <a:pt x="122380" y="79338"/>
                </a:lnTo>
                <a:lnTo>
                  <a:pt x="124234" y="73212"/>
                </a:lnTo>
                <a:lnTo>
                  <a:pt x="125470" y="66588"/>
                </a:lnTo>
                <a:lnTo>
                  <a:pt x="126294" y="59632"/>
                </a:lnTo>
                <a:lnTo>
                  <a:pt x="126843" y="53301"/>
                </a:lnTo>
                <a:lnTo>
                  <a:pt x="127209" y="47388"/>
                </a:lnTo>
                <a:lnTo>
                  <a:pt x="127453" y="41752"/>
                </a:lnTo>
                <a:lnTo>
                  <a:pt x="126770" y="36301"/>
                </a:lnTo>
                <a:lnTo>
                  <a:pt x="125467" y="30974"/>
                </a:lnTo>
                <a:lnTo>
                  <a:pt x="123752" y="25729"/>
                </a:lnTo>
                <a:lnTo>
                  <a:pt x="121761" y="21386"/>
                </a:lnTo>
                <a:lnTo>
                  <a:pt x="119589" y="17644"/>
                </a:lnTo>
                <a:lnTo>
                  <a:pt x="117293" y="14303"/>
                </a:lnTo>
                <a:lnTo>
                  <a:pt x="114915" y="12075"/>
                </a:lnTo>
                <a:lnTo>
                  <a:pt x="112484" y="10590"/>
                </a:lnTo>
                <a:lnTo>
                  <a:pt x="110016" y="9600"/>
                </a:lnTo>
                <a:lnTo>
                  <a:pt x="107525" y="8940"/>
                </a:lnTo>
                <a:lnTo>
                  <a:pt x="105017" y="8500"/>
                </a:lnTo>
                <a:lnTo>
                  <a:pt x="102499" y="8207"/>
                </a:lnTo>
                <a:lnTo>
                  <a:pt x="99973" y="8011"/>
                </a:lnTo>
                <a:lnTo>
                  <a:pt x="97443" y="7881"/>
                </a:lnTo>
                <a:lnTo>
                  <a:pt x="89842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InkAnnotation127"/>
          <p:cNvSpPr/>
          <p:nvPr/>
        </p:nvSpPr>
        <p:spPr>
          <a:xfrm>
            <a:off x="8923320" y="1104840"/>
            <a:ext cx="38160" cy="220680"/>
          </a:xfrm>
          <a:custGeom>
            <a:avLst/>
            <a:gdLst>
              <a:gd name="textAreaLeft" fmla="*/ 0 w 38160"/>
              <a:gd name="textAreaRight" fmla="*/ 38520 w 381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8101" h="220981">
                <a:moveTo>
                  <a:pt x="38100" y="0"/>
                </a:moveTo>
                <a:lnTo>
                  <a:pt x="34055" y="4045"/>
                </a:lnTo>
                <a:lnTo>
                  <a:pt x="32864" y="6084"/>
                </a:lnTo>
                <a:lnTo>
                  <a:pt x="32069" y="8289"/>
                </a:lnTo>
                <a:lnTo>
                  <a:pt x="31539" y="10606"/>
                </a:lnTo>
                <a:lnTo>
                  <a:pt x="30340" y="13844"/>
                </a:lnTo>
                <a:lnTo>
                  <a:pt x="28694" y="17696"/>
                </a:lnTo>
                <a:lnTo>
                  <a:pt x="26750" y="21957"/>
                </a:lnTo>
                <a:lnTo>
                  <a:pt x="24606" y="27338"/>
                </a:lnTo>
                <a:lnTo>
                  <a:pt x="19967" y="40090"/>
                </a:lnTo>
                <a:lnTo>
                  <a:pt x="18392" y="47047"/>
                </a:lnTo>
                <a:lnTo>
                  <a:pt x="17341" y="54225"/>
                </a:lnTo>
                <a:lnTo>
                  <a:pt x="16641" y="61550"/>
                </a:lnTo>
                <a:lnTo>
                  <a:pt x="16174" y="69820"/>
                </a:lnTo>
                <a:lnTo>
                  <a:pt x="15655" y="88040"/>
                </a:lnTo>
                <a:lnTo>
                  <a:pt x="14670" y="97640"/>
                </a:lnTo>
                <a:lnTo>
                  <a:pt x="13166" y="107427"/>
                </a:lnTo>
                <a:lnTo>
                  <a:pt x="11318" y="117338"/>
                </a:lnTo>
                <a:lnTo>
                  <a:pt x="10085" y="128179"/>
                </a:lnTo>
                <a:lnTo>
                  <a:pt x="9263" y="139639"/>
                </a:lnTo>
                <a:lnTo>
                  <a:pt x="8715" y="151513"/>
                </a:lnTo>
                <a:lnTo>
                  <a:pt x="7504" y="162815"/>
                </a:lnTo>
                <a:lnTo>
                  <a:pt x="5849" y="173737"/>
                </a:lnTo>
                <a:lnTo>
                  <a:pt x="3899" y="184405"/>
                </a:lnTo>
                <a:lnTo>
                  <a:pt x="2600" y="193210"/>
                </a:lnTo>
                <a:lnTo>
                  <a:pt x="1733" y="200773"/>
                </a:lnTo>
                <a:lnTo>
                  <a:pt x="0" y="220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InkAnnotation128"/>
          <p:cNvSpPr/>
          <p:nvPr/>
        </p:nvSpPr>
        <p:spPr>
          <a:xfrm>
            <a:off x="2781360" y="2720880"/>
            <a:ext cx="236520" cy="14400"/>
          </a:xfrm>
          <a:custGeom>
            <a:avLst/>
            <a:gdLst>
              <a:gd name="textAreaLeft" fmla="*/ 0 w 236520"/>
              <a:gd name="textAreaRight" fmla="*/ 236880 w 2365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36221" h="14919">
                <a:moveTo>
                  <a:pt x="0" y="14918"/>
                </a:moveTo>
                <a:lnTo>
                  <a:pt x="10606" y="14918"/>
                </a:lnTo>
                <a:lnTo>
                  <a:pt x="13844" y="14071"/>
                </a:lnTo>
                <a:lnTo>
                  <a:pt x="17696" y="12661"/>
                </a:lnTo>
                <a:lnTo>
                  <a:pt x="21958" y="10873"/>
                </a:lnTo>
                <a:lnTo>
                  <a:pt x="27338" y="9681"/>
                </a:lnTo>
                <a:lnTo>
                  <a:pt x="33466" y="8887"/>
                </a:lnTo>
                <a:lnTo>
                  <a:pt x="40090" y="8357"/>
                </a:lnTo>
                <a:lnTo>
                  <a:pt x="47894" y="8004"/>
                </a:lnTo>
                <a:lnTo>
                  <a:pt x="65595" y="7612"/>
                </a:lnTo>
                <a:lnTo>
                  <a:pt x="75057" y="6661"/>
                </a:lnTo>
                <a:lnTo>
                  <a:pt x="84751" y="5180"/>
                </a:lnTo>
                <a:lnTo>
                  <a:pt x="94601" y="3346"/>
                </a:lnTo>
                <a:lnTo>
                  <a:pt x="105401" y="2123"/>
                </a:lnTo>
                <a:lnTo>
                  <a:pt x="116834" y="1308"/>
                </a:lnTo>
                <a:lnTo>
                  <a:pt x="139980" y="403"/>
                </a:lnTo>
                <a:lnTo>
                  <a:pt x="161556" y="0"/>
                </a:lnTo>
                <a:lnTo>
                  <a:pt x="172050" y="740"/>
                </a:lnTo>
                <a:lnTo>
                  <a:pt x="182434" y="2079"/>
                </a:lnTo>
                <a:lnTo>
                  <a:pt x="192742" y="3819"/>
                </a:lnTo>
                <a:lnTo>
                  <a:pt x="202155" y="4979"/>
                </a:lnTo>
                <a:lnTo>
                  <a:pt x="210970" y="5752"/>
                </a:lnTo>
                <a:lnTo>
                  <a:pt x="236220" y="72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InkAnnotation129"/>
          <p:cNvSpPr/>
          <p:nvPr/>
        </p:nvSpPr>
        <p:spPr>
          <a:xfrm>
            <a:off x="2849400" y="2803680"/>
            <a:ext cx="236880" cy="31680"/>
          </a:xfrm>
          <a:custGeom>
            <a:avLst/>
            <a:gdLst>
              <a:gd name="textAreaLeft" fmla="*/ 0 w 236880"/>
              <a:gd name="textAreaRight" fmla="*/ 237240 w 2368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36221" h="3048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6083" y="7760"/>
                </a:lnTo>
                <a:lnTo>
                  <a:pt x="8289" y="9407"/>
                </a:lnTo>
                <a:lnTo>
                  <a:pt x="10606" y="11352"/>
                </a:lnTo>
                <a:lnTo>
                  <a:pt x="14691" y="12648"/>
                </a:lnTo>
                <a:lnTo>
                  <a:pt x="19954" y="13512"/>
                </a:lnTo>
                <a:lnTo>
                  <a:pt x="26002" y="14088"/>
                </a:lnTo>
                <a:lnTo>
                  <a:pt x="32575" y="15319"/>
                </a:lnTo>
                <a:lnTo>
                  <a:pt x="39497" y="16986"/>
                </a:lnTo>
                <a:lnTo>
                  <a:pt x="46651" y="18944"/>
                </a:lnTo>
                <a:lnTo>
                  <a:pt x="54807" y="20249"/>
                </a:lnTo>
                <a:lnTo>
                  <a:pt x="63631" y="21120"/>
                </a:lnTo>
                <a:lnTo>
                  <a:pt x="72901" y="21700"/>
                </a:lnTo>
                <a:lnTo>
                  <a:pt x="92232" y="22344"/>
                </a:lnTo>
                <a:lnTo>
                  <a:pt x="136282" y="22758"/>
                </a:lnTo>
                <a:lnTo>
                  <a:pt x="169167" y="22830"/>
                </a:lnTo>
                <a:lnTo>
                  <a:pt x="179665" y="23686"/>
                </a:lnTo>
                <a:lnTo>
                  <a:pt x="190050" y="25105"/>
                </a:lnTo>
                <a:lnTo>
                  <a:pt x="200360" y="26896"/>
                </a:lnTo>
                <a:lnTo>
                  <a:pt x="208927" y="28091"/>
                </a:lnTo>
                <a:lnTo>
                  <a:pt x="216331" y="28887"/>
                </a:lnTo>
                <a:lnTo>
                  <a:pt x="236220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InkAnnotation130"/>
          <p:cNvSpPr/>
          <p:nvPr/>
        </p:nvSpPr>
        <p:spPr>
          <a:xfrm>
            <a:off x="3421080" y="2712960"/>
            <a:ext cx="144360" cy="7920"/>
          </a:xfrm>
          <a:custGeom>
            <a:avLst/>
            <a:gdLst>
              <a:gd name="textAreaLeft" fmla="*/ 0 w 144360"/>
              <a:gd name="textAreaRight" fmla="*/ 144720 w 144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0" h="7621">
                <a:moveTo>
                  <a:pt x="0" y="7620"/>
                </a:moveTo>
                <a:lnTo>
                  <a:pt x="130233" y="7620"/>
                </a:lnTo>
                <a:lnTo>
                  <a:pt x="133389" y="6774"/>
                </a:lnTo>
                <a:lnTo>
                  <a:pt x="136339" y="5362"/>
                </a:lnTo>
                <a:lnTo>
                  <a:pt x="1447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InkAnnotation131"/>
          <p:cNvSpPr/>
          <p:nvPr/>
        </p:nvSpPr>
        <p:spPr>
          <a:xfrm>
            <a:off x="3651120" y="2590920"/>
            <a:ext cx="227160" cy="220680"/>
          </a:xfrm>
          <a:custGeom>
            <a:avLst/>
            <a:gdLst>
              <a:gd name="textAreaLeft" fmla="*/ 0 w 227160"/>
              <a:gd name="textAreaRight" fmla="*/ 227520 w 2271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26955" h="220950">
                <a:moveTo>
                  <a:pt x="28835" y="30449"/>
                </a:moveTo>
                <a:lnTo>
                  <a:pt x="28835" y="26404"/>
                </a:lnTo>
                <a:lnTo>
                  <a:pt x="29681" y="25212"/>
                </a:lnTo>
                <a:lnTo>
                  <a:pt x="31091" y="24418"/>
                </a:lnTo>
                <a:lnTo>
                  <a:pt x="32879" y="23888"/>
                </a:lnTo>
                <a:lnTo>
                  <a:pt x="37123" y="21042"/>
                </a:lnTo>
                <a:lnTo>
                  <a:pt x="41832" y="16955"/>
                </a:lnTo>
                <a:lnTo>
                  <a:pt x="46746" y="12316"/>
                </a:lnTo>
                <a:lnTo>
                  <a:pt x="49243" y="10740"/>
                </a:lnTo>
                <a:lnTo>
                  <a:pt x="54273" y="8990"/>
                </a:lnTo>
                <a:lnTo>
                  <a:pt x="57647" y="7676"/>
                </a:lnTo>
                <a:lnTo>
                  <a:pt x="61589" y="5954"/>
                </a:lnTo>
                <a:lnTo>
                  <a:pt x="65911" y="3959"/>
                </a:lnTo>
                <a:lnTo>
                  <a:pt x="72971" y="1742"/>
                </a:lnTo>
                <a:lnTo>
                  <a:pt x="79777" y="757"/>
                </a:lnTo>
                <a:lnTo>
                  <a:pt x="83963" y="495"/>
                </a:lnTo>
                <a:lnTo>
                  <a:pt x="88446" y="319"/>
                </a:lnTo>
                <a:lnTo>
                  <a:pt x="97945" y="125"/>
                </a:lnTo>
                <a:lnTo>
                  <a:pt x="113793" y="0"/>
                </a:lnTo>
                <a:lnTo>
                  <a:pt x="116801" y="836"/>
                </a:lnTo>
                <a:lnTo>
                  <a:pt x="122399" y="4023"/>
                </a:lnTo>
                <a:lnTo>
                  <a:pt x="124232" y="6059"/>
                </a:lnTo>
                <a:lnTo>
                  <a:pt x="125452" y="8262"/>
                </a:lnTo>
                <a:lnTo>
                  <a:pt x="126266" y="10578"/>
                </a:lnTo>
                <a:lnTo>
                  <a:pt x="127656" y="12122"/>
                </a:lnTo>
                <a:lnTo>
                  <a:pt x="129428" y="13151"/>
                </a:lnTo>
                <a:lnTo>
                  <a:pt x="131457" y="13837"/>
                </a:lnTo>
                <a:lnTo>
                  <a:pt x="131962" y="15988"/>
                </a:lnTo>
                <a:lnTo>
                  <a:pt x="131453" y="19115"/>
                </a:lnTo>
                <a:lnTo>
                  <a:pt x="130267" y="22893"/>
                </a:lnTo>
                <a:lnTo>
                  <a:pt x="128949" y="29349"/>
                </a:lnTo>
                <a:lnTo>
                  <a:pt x="128597" y="32255"/>
                </a:lnTo>
                <a:lnTo>
                  <a:pt x="127516" y="35040"/>
                </a:lnTo>
                <a:lnTo>
                  <a:pt x="124057" y="40392"/>
                </a:lnTo>
                <a:lnTo>
                  <a:pt x="121950" y="43851"/>
                </a:lnTo>
                <a:lnTo>
                  <a:pt x="119698" y="47850"/>
                </a:lnTo>
                <a:lnTo>
                  <a:pt x="117350" y="52210"/>
                </a:lnTo>
                <a:lnTo>
                  <a:pt x="114091" y="56810"/>
                </a:lnTo>
                <a:lnTo>
                  <a:pt x="110225" y="61569"/>
                </a:lnTo>
                <a:lnTo>
                  <a:pt x="105955" y="66436"/>
                </a:lnTo>
                <a:lnTo>
                  <a:pt x="101415" y="71374"/>
                </a:lnTo>
                <a:lnTo>
                  <a:pt x="91854" y="81375"/>
                </a:lnTo>
                <a:lnTo>
                  <a:pt x="76952" y="96526"/>
                </a:lnTo>
                <a:lnTo>
                  <a:pt x="71072" y="101594"/>
                </a:lnTo>
                <a:lnTo>
                  <a:pt x="64613" y="106666"/>
                </a:lnTo>
                <a:lnTo>
                  <a:pt x="57767" y="111740"/>
                </a:lnTo>
                <a:lnTo>
                  <a:pt x="51510" y="116817"/>
                </a:lnTo>
                <a:lnTo>
                  <a:pt x="45644" y="121894"/>
                </a:lnTo>
                <a:lnTo>
                  <a:pt x="40041" y="126972"/>
                </a:lnTo>
                <a:lnTo>
                  <a:pt x="29300" y="137130"/>
                </a:lnTo>
                <a:lnTo>
                  <a:pt x="12651" y="153404"/>
                </a:lnTo>
                <a:lnTo>
                  <a:pt x="9579" y="157292"/>
                </a:lnTo>
                <a:lnTo>
                  <a:pt x="6684" y="161578"/>
                </a:lnTo>
                <a:lnTo>
                  <a:pt x="3907" y="166128"/>
                </a:lnTo>
                <a:lnTo>
                  <a:pt x="2056" y="170855"/>
                </a:lnTo>
                <a:lnTo>
                  <a:pt x="822" y="175700"/>
                </a:lnTo>
                <a:lnTo>
                  <a:pt x="0" y="180623"/>
                </a:lnTo>
                <a:lnTo>
                  <a:pt x="298" y="184752"/>
                </a:lnTo>
                <a:lnTo>
                  <a:pt x="1343" y="188351"/>
                </a:lnTo>
                <a:lnTo>
                  <a:pt x="4763" y="194608"/>
                </a:lnTo>
                <a:lnTo>
                  <a:pt x="9105" y="200211"/>
                </a:lnTo>
                <a:lnTo>
                  <a:pt x="16114" y="205523"/>
                </a:lnTo>
                <a:lnTo>
                  <a:pt x="20354" y="208125"/>
                </a:lnTo>
                <a:lnTo>
                  <a:pt x="25721" y="210706"/>
                </a:lnTo>
                <a:lnTo>
                  <a:pt x="31839" y="213274"/>
                </a:lnTo>
                <a:lnTo>
                  <a:pt x="38457" y="215832"/>
                </a:lnTo>
                <a:lnTo>
                  <a:pt x="46257" y="217538"/>
                </a:lnTo>
                <a:lnTo>
                  <a:pt x="54842" y="218675"/>
                </a:lnTo>
                <a:lnTo>
                  <a:pt x="63953" y="219433"/>
                </a:lnTo>
                <a:lnTo>
                  <a:pt x="73413" y="219938"/>
                </a:lnTo>
                <a:lnTo>
                  <a:pt x="92956" y="220500"/>
                </a:lnTo>
                <a:lnTo>
                  <a:pt x="163491" y="220923"/>
                </a:lnTo>
                <a:lnTo>
                  <a:pt x="226954" y="22094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InkAnnotation132"/>
          <p:cNvSpPr/>
          <p:nvPr/>
        </p:nvSpPr>
        <p:spPr>
          <a:xfrm>
            <a:off x="4048200" y="2720880"/>
            <a:ext cx="36360" cy="6480"/>
          </a:xfrm>
          <a:custGeom>
            <a:avLst/>
            <a:gdLst>
              <a:gd name="textAreaLeft" fmla="*/ 0 w 36360"/>
              <a:gd name="textAreaRight" fmla="*/ 36720 w 36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6947" h="7621">
                <a:moveTo>
                  <a:pt x="21706" y="0"/>
                </a:moveTo>
                <a:lnTo>
                  <a:pt x="0" y="0"/>
                </a:lnTo>
                <a:lnTo>
                  <a:pt x="9553" y="0"/>
                </a:lnTo>
                <a:lnTo>
                  <a:pt x="13604" y="847"/>
                </a:lnTo>
                <a:lnTo>
                  <a:pt x="18845" y="2258"/>
                </a:lnTo>
                <a:lnTo>
                  <a:pt x="-2859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InkAnnotation133"/>
          <p:cNvSpPr/>
          <p:nvPr/>
        </p:nvSpPr>
        <p:spPr>
          <a:xfrm>
            <a:off x="4237200" y="2590920"/>
            <a:ext cx="144360" cy="7920"/>
          </a:xfrm>
          <a:custGeom>
            <a:avLst/>
            <a:gdLst>
              <a:gd name="textAreaLeft" fmla="*/ 0 w 144360"/>
              <a:gd name="textAreaRight" fmla="*/ 144720 w 144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1" h="7621">
                <a:moveTo>
                  <a:pt x="0" y="7620"/>
                </a:moveTo>
                <a:lnTo>
                  <a:pt x="4045" y="7620"/>
                </a:lnTo>
                <a:lnTo>
                  <a:pt x="6084" y="6773"/>
                </a:lnTo>
                <a:lnTo>
                  <a:pt x="8289" y="5362"/>
                </a:lnTo>
                <a:lnTo>
                  <a:pt x="10606" y="3575"/>
                </a:lnTo>
                <a:lnTo>
                  <a:pt x="12997" y="2383"/>
                </a:lnTo>
                <a:lnTo>
                  <a:pt x="15439" y="1589"/>
                </a:lnTo>
                <a:lnTo>
                  <a:pt x="17912" y="1059"/>
                </a:lnTo>
                <a:lnTo>
                  <a:pt x="20409" y="706"/>
                </a:lnTo>
                <a:lnTo>
                  <a:pt x="22919" y="471"/>
                </a:lnTo>
                <a:lnTo>
                  <a:pt x="25439" y="314"/>
                </a:lnTo>
                <a:lnTo>
                  <a:pt x="32756" y="140"/>
                </a:lnTo>
                <a:lnTo>
                  <a:pt x="79563" y="0"/>
                </a:lnTo>
                <a:lnTo>
                  <a:pt x="84369" y="846"/>
                </a:lnTo>
                <a:lnTo>
                  <a:pt x="88419" y="2258"/>
                </a:lnTo>
                <a:lnTo>
                  <a:pt x="91966" y="4045"/>
                </a:lnTo>
                <a:lnTo>
                  <a:pt x="96024" y="5237"/>
                </a:lnTo>
                <a:lnTo>
                  <a:pt x="100423" y="6031"/>
                </a:lnTo>
                <a:lnTo>
                  <a:pt x="105048" y="6561"/>
                </a:lnTo>
                <a:lnTo>
                  <a:pt x="109826" y="6914"/>
                </a:lnTo>
                <a:lnTo>
                  <a:pt x="114704" y="7149"/>
                </a:lnTo>
                <a:lnTo>
                  <a:pt x="124640" y="7411"/>
                </a:lnTo>
                <a:lnTo>
                  <a:pt x="14478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InkAnnotation134"/>
          <p:cNvSpPr/>
          <p:nvPr/>
        </p:nvSpPr>
        <p:spPr>
          <a:xfrm>
            <a:off x="4491000" y="2560680"/>
            <a:ext cx="293760" cy="231840"/>
          </a:xfrm>
          <a:custGeom>
            <a:avLst/>
            <a:gdLst>
              <a:gd name="textAreaLeft" fmla="*/ 0 w 293760"/>
              <a:gd name="textAreaRight" fmla="*/ 294120 w 2937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94220" h="232590">
                <a:moveTo>
                  <a:pt x="50379" y="15144"/>
                </a:moveTo>
                <a:lnTo>
                  <a:pt x="54424" y="15144"/>
                </a:lnTo>
                <a:lnTo>
                  <a:pt x="56463" y="14298"/>
                </a:lnTo>
                <a:lnTo>
                  <a:pt x="64246" y="8583"/>
                </a:lnTo>
                <a:lnTo>
                  <a:pt x="67267" y="7995"/>
                </a:lnTo>
                <a:lnTo>
                  <a:pt x="69258" y="7838"/>
                </a:lnTo>
                <a:lnTo>
                  <a:pt x="75985" y="5406"/>
                </a:lnTo>
                <a:lnTo>
                  <a:pt x="83773" y="2349"/>
                </a:lnTo>
                <a:lnTo>
                  <a:pt x="90057" y="991"/>
                </a:lnTo>
                <a:lnTo>
                  <a:pt x="94611" y="629"/>
                </a:lnTo>
                <a:lnTo>
                  <a:pt x="100187" y="387"/>
                </a:lnTo>
                <a:lnTo>
                  <a:pt x="117912" y="47"/>
                </a:lnTo>
                <a:lnTo>
                  <a:pt x="123342" y="0"/>
                </a:lnTo>
                <a:lnTo>
                  <a:pt x="129501" y="814"/>
                </a:lnTo>
                <a:lnTo>
                  <a:pt x="136147" y="2205"/>
                </a:lnTo>
                <a:lnTo>
                  <a:pt x="143118" y="3978"/>
                </a:lnTo>
                <a:lnTo>
                  <a:pt x="148611" y="5160"/>
                </a:lnTo>
                <a:lnTo>
                  <a:pt x="156973" y="6473"/>
                </a:lnTo>
                <a:lnTo>
                  <a:pt x="160389" y="7670"/>
                </a:lnTo>
                <a:lnTo>
                  <a:pt x="166441" y="11258"/>
                </a:lnTo>
                <a:lnTo>
                  <a:pt x="174609" y="18038"/>
                </a:lnTo>
                <a:lnTo>
                  <a:pt x="175532" y="21307"/>
                </a:lnTo>
                <a:lnTo>
                  <a:pt x="175301" y="25179"/>
                </a:lnTo>
                <a:lnTo>
                  <a:pt x="174301" y="29454"/>
                </a:lnTo>
                <a:lnTo>
                  <a:pt x="170931" y="36462"/>
                </a:lnTo>
                <a:lnTo>
                  <a:pt x="165764" y="43245"/>
                </a:lnTo>
                <a:lnTo>
                  <a:pt x="162016" y="47425"/>
                </a:lnTo>
                <a:lnTo>
                  <a:pt x="153336" y="56585"/>
                </a:lnTo>
                <a:lnTo>
                  <a:pt x="143833" y="66300"/>
                </a:lnTo>
                <a:lnTo>
                  <a:pt x="137235" y="71261"/>
                </a:lnTo>
                <a:lnTo>
                  <a:pt x="129449" y="76262"/>
                </a:lnTo>
                <a:lnTo>
                  <a:pt x="120873" y="81290"/>
                </a:lnTo>
                <a:lnTo>
                  <a:pt x="104569" y="91391"/>
                </a:lnTo>
                <a:lnTo>
                  <a:pt x="96666" y="96456"/>
                </a:lnTo>
                <a:lnTo>
                  <a:pt x="88011" y="101525"/>
                </a:lnTo>
                <a:lnTo>
                  <a:pt x="78853" y="106598"/>
                </a:lnTo>
                <a:lnTo>
                  <a:pt x="69362" y="111673"/>
                </a:lnTo>
                <a:lnTo>
                  <a:pt x="60494" y="117597"/>
                </a:lnTo>
                <a:lnTo>
                  <a:pt x="52043" y="124086"/>
                </a:lnTo>
                <a:lnTo>
                  <a:pt x="43869" y="130952"/>
                </a:lnTo>
                <a:lnTo>
                  <a:pt x="36726" y="137223"/>
                </a:lnTo>
                <a:lnTo>
                  <a:pt x="24273" y="148706"/>
                </a:lnTo>
                <a:lnTo>
                  <a:pt x="7743" y="164691"/>
                </a:lnTo>
                <a:lnTo>
                  <a:pt x="4175" y="169875"/>
                </a:lnTo>
                <a:lnTo>
                  <a:pt x="1796" y="175025"/>
                </a:lnTo>
                <a:lnTo>
                  <a:pt x="211" y="180151"/>
                </a:lnTo>
                <a:lnTo>
                  <a:pt x="0" y="185262"/>
                </a:lnTo>
                <a:lnTo>
                  <a:pt x="707" y="190363"/>
                </a:lnTo>
                <a:lnTo>
                  <a:pt x="2024" y="195456"/>
                </a:lnTo>
                <a:lnTo>
                  <a:pt x="4596" y="199699"/>
                </a:lnTo>
                <a:lnTo>
                  <a:pt x="11969" y="206671"/>
                </a:lnTo>
                <a:lnTo>
                  <a:pt x="17999" y="209715"/>
                </a:lnTo>
                <a:lnTo>
                  <a:pt x="25406" y="212591"/>
                </a:lnTo>
                <a:lnTo>
                  <a:pt x="33730" y="215355"/>
                </a:lnTo>
                <a:lnTo>
                  <a:pt x="42667" y="218045"/>
                </a:lnTo>
                <a:lnTo>
                  <a:pt x="61627" y="223291"/>
                </a:lnTo>
                <a:lnTo>
                  <a:pt x="72271" y="225029"/>
                </a:lnTo>
                <a:lnTo>
                  <a:pt x="83601" y="226187"/>
                </a:lnTo>
                <a:lnTo>
                  <a:pt x="95386" y="226959"/>
                </a:lnTo>
                <a:lnTo>
                  <a:pt x="107478" y="228321"/>
                </a:lnTo>
                <a:lnTo>
                  <a:pt x="119772" y="230075"/>
                </a:lnTo>
                <a:lnTo>
                  <a:pt x="132201" y="232092"/>
                </a:lnTo>
                <a:lnTo>
                  <a:pt x="144720" y="232589"/>
                </a:lnTo>
                <a:lnTo>
                  <a:pt x="157300" y="232074"/>
                </a:lnTo>
                <a:lnTo>
                  <a:pt x="169919" y="230884"/>
                </a:lnTo>
                <a:lnTo>
                  <a:pt x="182566" y="230090"/>
                </a:lnTo>
                <a:lnTo>
                  <a:pt x="207907" y="229209"/>
                </a:lnTo>
                <a:lnTo>
                  <a:pt x="247348" y="228643"/>
                </a:lnTo>
                <a:lnTo>
                  <a:pt x="294219" y="22850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InkAnnotation135"/>
          <p:cNvSpPr/>
          <p:nvPr/>
        </p:nvSpPr>
        <p:spPr>
          <a:xfrm>
            <a:off x="4894200" y="2674800"/>
            <a:ext cx="50760" cy="14400"/>
          </a:xfrm>
          <a:custGeom>
            <a:avLst/>
            <a:gdLst>
              <a:gd name="textAreaLeft" fmla="*/ 0 w 50760"/>
              <a:gd name="textAreaRight" fmla="*/ 51120 w 50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51523" h="15148">
                <a:moveTo>
                  <a:pt x="-14014" y="7527"/>
                </a:moveTo>
                <a:lnTo>
                  <a:pt x="-14014" y="0"/>
                </a:lnTo>
                <a:lnTo>
                  <a:pt x="-14014" y="7216"/>
                </a:lnTo>
                <a:lnTo>
                  <a:pt x="-14861" y="7320"/>
                </a:lnTo>
                <a:lnTo>
                  <a:pt x="-16272" y="7389"/>
                </a:lnTo>
                <a:lnTo>
                  <a:pt x="-20097" y="7466"/>
                </a:lnTo>
                <a:lnTo>
                  <a:pt x="0" y="7527"/>
                </a:lnTo>
                <a:lnTo>
                  <a:pt x="-14025" y="7527"/>
                </a:lnTo>
                <a:lnTo>
                  <a:pt x="-24621" y="7527"/>
                </a:lnTo>
                <a:lnTo>
                  <a:pt x="-26165" y="8374"/>
                </a:lnTo>
                <a:lnTo>
                  <a:pt x="-27195" y="9785"/>
                </a:lnTo>
                <a:lnTo>
                  <a:pt x="-29253" y="151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InkAnnotation136"/>
          <p:cNvSpPr/>
          <p:nvPr/>
        </p:nvSpPr>
        <p:spPr>
          <a:xfrm>
            <a:off x="5159520" y="2568600"/>
            <a:ext cx="196560" cy="182520"/>
          </a:xfrm>
          <a:custGeom>
            <a:avLst/>
            <a:gdLst>
              <a:gd name="textAreaLeft" fmla="*/ 0 w 196560"/>
              <a:gd name="textAreaRight" fmla="*/ 196920 w 1965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98120" h="182779">
                <a:moveTo>
                  <a:pt x="0" y="22758"/>
                </a:moveTo>
                <a:lnTo>
                  <a:pt x="0" y="18713"/>
                </a:lnTo>
                <a:lnTo>
                  <a:pt x="846" y="17521"/>
                </a:lnTo>
                <a:lnTo>
                  <a:pt x="2257" y="16727"/>
                </a:lnTo>
                <a:lnTo>
                  <a:pt x="6560" y="15452"/>
                </a:lnTo>
                <a:lnTo>
                  <a:pt x="11351" y="15231"/>
                </a:lnTo>
                <a:lnTo>
                  <a:pt x="13494" y="14354"/>
                </a:lnTo>
                <a:lnTo>
                  <a:pt x="18133" y="11121"/>
                </a:lnTo>
                <a:lnTo>
                  <a:pt x="23017" y="9119"/>
                </a:lnTo>
                <a:lnTo>
                  <a:pt x="25504" y="8586"/>
                </a:lnTo>
                <a:lnTo>
                  <a:pt x="29703" y="7383"/>
                </a:lnTo>
                <a:lnTo>
                  <a:pt x="41140" y="3789"/>
                </a:lnTo>
                <a:lnTo>
                  <a:pt x="46900" y="2492"/>
                </a:lnTo>
                <a:lnTo>
                  <a:pt x="52434" y="1628"/>
                </a:lnTo>
                <a:lnTo>
                  <a:pt x="57815" y="1051"/>
                </a:lnTo>
                <a:lnTo>
                  <a:pt x="63096" y="667"/>
                </a:lnTo>
                <a:lnTo>
                  <a:pt x="68311" y="411"/>
                </a:lnTo>
                <a:lnTo>
                  <a:pt x="79466" y="126"/>
                </a:lnTo>
                <a:lnTo>
                  <a:pt x="92892" y="0"/>
                </a:lnTo>
                <a:lnTo>
                  <a:pt x="99181" y="812"/>
                </a:lnTo>
                <a:lnTo>
                  <a:pt x="105067" y="2201"/>
                </a:lnTo>
                <a:lnTo>
                  <a:pt x="110684" y="3973"/>
                </a:lnTo>
                <a:lnTo>
                  <a:pt x="115276" y="5155"/>
                </a:lnTo>
                <a:lnTo>
                  <a:pt x="119183" y="5943"/>
                </a:lnTo>
                <a:lnTo>
                  <a:pt x="122635" y="6468"/>
                </a:lnTo>
                <a:lnTo>
                  <a:pt x="128729" y="7052"/>
                </a:lnTo>
                <a:lnTo>
                  <a:pt x="131538" y="7207"/>
                </a:lnTo>
                <a:lnTo>
                  <a:pt x="133413" y="8158"/>
                </a:lnTo>
                <a:lnTo>
                  <a:pt x="134661" y="9638"/>
                </a:lnTo>
                <a:lnTo>
                  <a:pt x="135494" y="11471"/>
                </a:lnTo>
                <a:lnTo>
                  <a:pt x="136419" y="15766"/>
                </a:lnTo>
                <a:lnTo>
                  <a:pt x="136666" y="18097"/>
                </a:lnTo>
                <a:lnTo>
                  <a:pt x="135983" y="20497"/>
                </a:lnTo>
                <a:lnTo>
                  <a:pt x="132967" y="25422"/>
                </a:lnTo>
                <a:lnTo>
                  <a:pt x="128805" y="30433"/>
                </a:lnTo>
                <a:lnTo>
                  <a:pt x="126510" y="32955"/>
                </a:lnTo>
                <a:lnTo>
                  <a:pt x="119444" y="40273"/>
                </a:lnTo>
                <a:lnTo>
                  <a:pt x="115189" y="44594"/>
                </a:lnTo>
                <a:lnTo>
                  <a:pt x="109813" y="49169"/>
                </a:lnTo>
                <a:lnTo>
                  <a:pt x="103688" y="53912"/>
                </a:lnTo>
                <a:lnTo>
                  <a:pt x="97065" y="58767"/>
                </a:lnTo>
                <a:lnTo>
                  <a:pt x="82932" y="68678"/>
                </a:lnTo>
                <a:lnTo>
                  <a:pt x="75608" y="73691"/>
                </a:lnTo>
                <a:lnTo>
                  <a:pt x="69032" y="77880"/>
                </a:lnTo>
                <a:lnTo>
                  <a:pt x="62954" y="81520"/>
                </a:lnTo>
                <a:lnTo>
                  <a:pt x="57209" y="84793"/>
                </a:lnTo>
                <a:lnTo>
                  <a:pt x="50839" y="88668"/>
                </a:lnTo>
                <a:lnTo>
                  <a:pt x="36988" y="97489"/>
                </a:lnTo>
                <a:lnTo>
                  <a:pt x="31432" y="102212"/>
                </a:lnTo>
                <a:lnTo>
                  <a:pt x="26881" y="107054"/>
                </a:lnTo>
                <a:lnTo>
                  <a:pt x="23000" y="111976"/>
                </a:lnTo>
                <a:lnTo>
                  <a:pt x="19566" y="116950"/>
                </a:lnTo>
                <a:lnTo>
                  <a:pt x="16431" y="121959"/>
                </a:lnTo>
                <a:lnTo>
                  <a:pt x="13494" y="126992"/>
                </a:lnTo>
                <a:lnTo>
                  <a:pt x="11536" y="132041"/>
                </a:lnTo>
                <a:lnTo>
                  <a:pt x="10230" y="137100"/>
                </a:lnTo>
                <a:lnTo>
                  <a:pt x="9360" y="142166"/>
                </a:lnTo>
                <a:lnTo>
                  <a:pt x="9626" y="146390"/>
                </a:lnTo>
                <a:lnTo>
                  <a:pt x="10650" y="150053"/>
                </a:lnTo>
                <a:lnTo>
                  <a:pt x="12180" y="153341"/>
                </a:lnTo>
                <a:lnTo>
                  <a:pt x="14894" y="156380"/>
                </a:lnTo>
                <a:lnTo>
                  <a:pt x="18396" y="159253"/>
                </a:lnTo>
                <a:lnTo>
                  <a:pt x="22423" y="162015"/>
                </a:lnTo>
                <a:lnTo>
                  <a:pt x="26802" y="164703"/>
                </a:lnTo>
                <a:lnTo>
                  <a:pt x="31415" y="167341"/>
                </a:lnTo>
                <a:lnTo>
                  <a:pt x="36183" y="169947"/>
                </a:lnTo>
                <a:lnTo>
                  <a:pt x="41901" y="172530"/>
                </a:lnTo>
                <a:lnTo>
                  <a:pt x="48254" y="175100"/>
                </a:lnTo>
                <a:lnTo>
                  <a:pt x="55029" y="177659"/>
                </a:lnTo>
                <a:lnTo>
                  <a:pt x="62933" y="179366"/>
                </a:lnTo>
                <a:lnTo>
                  <a:pt x="71588" y="180503"/>
                </a:lnTo>
                <a:lnTo>
                  <a:pt x="80745" y="181261"/>
                </a:lnTo>
                <a:lnTo>
                  <a:pt x="90236" y="181767"/>
                </a:lnTo>
                <a:lnTo>
                  <a:pt x="109813" y="182329"/>
                </a:lnTo>
                <a:lnTo>
                  <a:pt x="159625" y="182739"/>
                </a:lnTo>
                <a:lnTo>
                  <a:pt x="198119" y="1827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InkAnnotation137"/>
          <p:cNvSpPr/>
          <p:nvPr/>
        </p:nvSpPr>
        <p:spPr>
          <a:xfrm>
            <a:off x="4975200" y="2583000"/>
            <a:ext cx="31680" cy="360"/>
          </a:xfrm>
          <a:custGeom>
            <a:avLst/>
            <a:gdLst>
              <a:gd name="textAreaLeft" fmla="*/ 0 w 31680"/>
              <a:gd name="textAreaRight" fmla="*/ 32040 w 316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0482" h="1">
                <a:moveTo>
                  <a:pt x="0" y="0"/>
                </a:moveTo>
                <a:lnTo>
                  <a:pt x="3048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InkAnnotation138"/>
          <p:cNvSpPr/>
          <p:nvPr/>
        </p:nvSpPr>
        <p:spPr>
          <a:xfrm>
            <a:off x="5442120" y="2666880"/>
            <a:ext cx="90360" cy="30240"/>
          </a:xfrm>
          <a:custGeom>
            <a:avLst/>
            <a:gdLst>
              <a:gd name="textAreaLeft" fmla="*/ 0 w 90360"/>
              <a:gd name="textAreaRight" fmla="*/ 90720 w 90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9743" h="30472">
                <a:moveTo>
                  <a:pt x="74574" y="0"/>
                </a:moveTo>
                <a:lnTo>
                  <a:pt x="74574" y="11572"/>
                </a:lnTo>
                <a:lnTo>
                  <a:pt x="72881" y="12795"/>
                </a:lnTo>
                <a:lnTo>
                  <a:pt x="70059" y="13610"/>
                </a:lnTo>
                <a:lnTo>
                  <a:pt x="66483" y="14153"/>
                </a:lnTo>
                <a:lnTo>
                  <a:pt x="63254" y="15362"/>
                </a:lnTo>
                <a:lnTo>
                  <a:pt x="60254" y="17015"/>
                </a:lnTo>
                <a:lnTo>
                  <a:pt x="57407" y="18963"/>
                </a:lnTo>
                <a:lnTo>
                  <a:pt x="54662" y="20262"/>
                </a:lnTo>
                <a:lnTo>
                  <a:pt x="51987" y="21128"/>
                </a:lnTo>
                <a:lnTo>
                  <a:pt x="49356" y="21705"/>
                </a:lnTo>
                <a:lnTo>
                  <a:pt x="45908" y="22090"/>
                </a:lnTo>
                <a:lnTo>
                  <a:pt x="41917" y="22347"/>
                </a:lnTo>
                <a:lnTo>
                  <a:pt x="37563" y="22518"/>
                </a:lnTo>
                <a:lnTo>
                  <a:pt x="28209" y="22708"/>
                </a:lnTo>
                <a:lnTo>
                  <a:pt x="0" y="22857"/>
                </a:lnTo>
                <a:lnTo>
                  <a:pt x="305" y="22011"/>
                </a:lnTo>
                <a:lnTo>
                  <a:pt x="1354" y="20601"/>
                </a:lnTo>
                <a:lnTo>
                  <a:pt x="2901" y="18814"/>
                </a:lnTo>
                <a:lnTo>
                  <a:pt x="4779" y="17623"/>
                </a:lnTo>
                <a:lnTo>
                  <a:pt x="6877" y="16828"/>
                </a:lnTo>
                <a:lnTo>
                  <a:pt x="9123" y="16299"/>
                </a:lnTo>
                <a:lnTo>
                  <a:pt x="13160" y="15099"/>
                </a:lnTo>
                <a:lnTo>
                  <a:pt x="24419" y="11509"/>
                </a:lnTo>
                <a:lnTo>
                  <a:pt x="29284" y="10212"/>
                </a:lnTo>
                <a:lnTo>
                  <a:pt x="33374" y="9348"/>
                </a:lnTo>
                <a:lnTo>
                  <a:pt x="36947" y="8772"/>
                </a:lnTo>
                <a:lnTo>
                  <a:pt x="41870" y="8388"/>
                </a:lnTo>
                <a:lnTo>
                  <a:pt x="47691" y="8132"/>
                </a:lnTo>
                <a:lnTo>
                  <a:pt x="67194" y="7721"/>
                </a:lnTo>
                <a:lnTo>
                  <a:pt x="89742" y="7620"/>
                </a:lnTo>
                <a:lnTo>
                  <a:pt x="85747" y="11665"/>
                </a:lnTo>
                <a:lnTo>
                  <a:pt x="83716" y="12857"/>
                </a:lnTo>
                <a:lnTo>
                  <a:pt x="81515" y="13651"/>
                </a:lnTo>
                <a:lnTo>
                  <a:pt x="79202" y="14181"/>
                </a:lnTo>
                <a:lnTo>
                  <a:pt x="75966" y="15380"/>
                </a:lnTo>
                <a:lnTo>
                  <a:pt x="72115" y="17027"/>
                </a:lnTo>
                <a:lnTo>
                  <a:pt x="67855" y="18971"/>
                </a:lnTo>
                <a:lnTo>
                  <a:pt x="64167" y="20267"/>
                </a:lnTo>
                <a:lnTo>
                  <a:pt x="60863" y="21132"/>
                </a:lnTo>
                <a:lnTo>
                  <a:pt x="57814" y="21708"/>
                </a:lnTo>
                <a:lnTo>
                  <a:pt x="54934" y="22939"/>
                </a:lnTo>
                <a:lnTo>
                  <a:pt x="52167" y="24605"/>
                </a:lnTo>
                <a:lnTo>
                  <a:pt x="49476" y="26563"/>
                </a:lnTo>
                <a:lnTo>
                  <a:pt x="46835" y="27869"/>
                </a:lnTo>
                <a:lnTo>
                  <a:pt x="44228" y="28740"/>
                </a:lnTo>
                <a:lnTo>
                  <a:pt x="41643" y="29320"/>
                </a:lnTo>
                <a:lnTo>
                  <a:pt x="39074" y="29706"/>
                </a:lnTo>
                <a:lnTo>
                  <a:pt x="36513" y="29964"/>
                </a:lnTo>
                <a:lnTo>
                  <a:pt x="29302" y="30450"/>
                </a:lnTo>
                <a:lnTo>
                  <a:pt x="33032" y="30471"/>
                </a:lnTo>
                <a:lnTo>
                  <a:pt x="35026" y="29627"/>
                </a:lnTo>
                <a:lnTo>
                  <a:pt x="37201" y="28218"/>
                </a:lnTo>
                <a:lnTo>
                  <a:pt x="39499" y="26432"/>
                </a:lnTo>
                <a:lnTo>
                  <a:pt x="41877" y="25241"/>
                </a:lnTo>
                <a:lnTo>
                  <a:pt x="44309" y="24448"/>
                </a:lnTo>
                <a:lnTo>
                  <a:pt x="51714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InkAnnotation139"/>
          <p:cNvSpPr/>
          <p:nvPr/>
        </p:nvSpPr>
        <p:spPr>
          <a:xfrm>
            <a:off x="5638680" y="2583000"/>
            <a:ext cx="84240" cy="360"/>
          </a:xfrm>
          <a:custGeom>
            <a:avLst/>
            <a:gdLst>
              <a:gd name="textAreaLeft" fmla="*/ 0 w 84240"/>
              <a:gd name="textAreaRight" fmla="*/ 84600 w 84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83821" h="1">
                <a:moveTo>
                  <a:pt x="0" y="0"/>
                </a:moveTo>
                <a:lnTo>
                  <a:pt x="838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InkAnnotation140"/>
          <p:cNvSpPr/>
          <p:nvPr/>
        </p:nvSpPr>
        <p:spPr>
          <a:xfrm>
            <a:off x="5854680" y="2498760"/>
            <a:ext cx="195120" cy="190440"/>
          </a:xfrm>
          <a:custGeom>
            <a:avLst/>
            <a:gdLst>
              <a:gd name="textAreaLeft" fmla="*/ 0 w 195120"/>
              <a:gd name="textAreaRight" fmla="*/ 195480 w 1951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96039" h="190335">
                <a:moveTo>
                  <a:pt x="36018" y="37976"/>
                </a:moveTo>
                <a:lnTo>
                  <a:pt x="54151" y="19843"/>
                </a:lnTo>
                <a:lnTo>
                  <a:pt x="57420" y="18267"/>
                </a:lnTo>
                <a:lnTo>
                  <a:pt x="61293" y="17217"/>
                </a:lnTo>
                <a:lnTo>
                  <a:pt x="65568" y="16517"/>
                </a:lnTo>
                <a:lnTo>
                  <a:pt x="70112" y="15203"/>
                </a:lnTo>
                <a:lnTo>
                  <a:pt x="74834" y="13481"/>
                </a:lnTo>
                <a:lnTo>
                  <a:pt x="79675" y="11486"/>
                </a:lnTo>
                <a:lnTo>
                  <a:pt x="84596" y="9309"/>
                </a:lnTo>
                <a:lnTo>
                  <a:pt x="94580" y="4633"/>
                </a:lnTo>
                <a:lnTo>
                  <a:pt x="99612" y="3047"/>
                </a:lnTo>
                <a:lnTo>
                  <a:pt x="104661" y="1990"/>
                </a:lnTo>
                <a:lnTo>
                  <a:pt x="109720" y="1285"/>
                </a:lnTo>
                <a:lnTo>
                  <a:pt x="114786" y="816"/>
                </a:lnTo>
                <a:lnTo>
                  <a:pt x="119857" y="503"/>
                </a:lnTo>
                <a:lnTo>
                  <a:pt x="129160" y="154"/>
                </a:lnTo>
                <a:lnTo>
                  <a:pt x="136117" y="0"/>
                </a:lnTo>
                <a:lnTo>
                  <a:pt x="139157" y="805"/>
                </a:lnTo>
                <a:lnTo>
                  <a:pt x="144793" y="3958"/>
                </a:lnTo>
                <a:lnTo>
                  <a:pt x="150121" y="5924"/>
                </a:lnTo>
                <a:lnTo>
                  <a:pt x="152727" y="6448"/>
                </a:lnTo>
                <a:lnTo>
                  <a:pt x="154463" y="7644"/>
                </a:lnTo>
                <a:lnTo>
                  <a:pt x="155622" y="9288"/>
                </a:lnTo>
                <a:lnTo>
                  <a:pt x="156394" y="11231"/>
                </a:lnTo>
                <a:lnTo>
                  <a:pt x="156062" y="13372"/>
                </a:lnTo>
                <a:lnTo>
                  <a:pt x="153435" y="18010"/>
                </a:lnTo>
                <a:lnTo>
                  <a:pt x="151550" y="21279"/>
                </a:lnTo>
                <a:lnTo>
                  <a:pt x="147197" y="29426"/>
                </a:lnTo>
                <a:lnTo>
                  <a:pt x="144004" y="33123"/>
                </a:lnTo>
                <a:lnTo>
                  <a:pt x="140182" y="36434"/>
                </a:lnTo>
                <a:lnTo>
                  <a:pt x="135940" y="39488"/>
                </a:lnTo>
                <a:lnTo>
                  <a:pt x="131419" y="43217"/>
                </a:lnTo>
                <a:lnTo>
                  <a:pt x="126712" y="47397"/>
                </a:lnTo>
                <a:lnTo>
                  <a:pt x="121880" y="51877"/>
                </a:lnTo>
                <a:lnTo>
                  <a:pt x="116120" y="55710"/>
                </a:lnTo>
                <a:lnTo>
                  <a:pt x="109739" y="59112"/>
                </a:lnTo>
                <a:lnTo>
                  <a:pt x="102946" y="62227"/>
                </a:lnTo>
                <a:lnTo>
                  <a:pt x="95876" y="65997"/>
                </a:lnTo>
                <a:lnTo>
                  <a:pt x="88624" y="70203"/>
                </a:lnTo>
                <a:lnTo>
                  <a:pt x="81248" y="74701"/>
                </a:lnTo>
                <a:lnTo>
                  <a:pt x="73792" y="80239"/>
                </a:lnTo>
                <a:lnTo>
                  <a:pt x="66281" y="86472"/>
                </a:lnTo>
                <a:lnTo>
                  <a:pt x="58733" y="93166"/>
                </a:lnTo>
                <a:lnTo>
                  <a:pt x="51161" y="99323"/>
                </a:lnTo>
                <a:lnTo>
                  <a:pt x="43574" y="105121"/>
                </a:lnTo>
                <a:lnTo>
                  <a:pt x="35976" y="110679"/>
                </a:lnTo>
                <a:lnTo>
                  <a:pt x="29216" y="116078"/>
                </a:lnTo>
                <a:lnTo>
                  <a:pt x="23017" y="121371"/>
                </a:lnTo>
                <a:lnTo>
                  <a:pt x="12459" y="130921"/>
                </a:lnTo>
                <a:lnTo>
                  <a:pt x="4945" y="137987"/>
                </a:lnTo>
                <a:lnTo>
                  <a:pt x="2603" y="141903"/>
                </a:lnTo>
                <a:lnTo>
                  <a:pt x="1041" y="146208"/>
                </a:lnTo>
                <a:lnTo>
                  <a:pt x="0" y="150771"/>
                </a:lnTo>
                <a:lnTo>
                  <a:pt x="153" y="155506"/>
                </a:lnTo>
                <a:lnTo>
                  <a:pt x="1101" y="160356"/>
                </a:lnTo>
                <a:lnTo>
                  <a:pt x="2580" y="165282"/>
                </a:lnTo>
                <a:lnTo>
                  <a:pt x="5260" y="169414"/>
                </a:lnTo>
                <a:lnTo>
                  <a:pt x="8739" y="173015"/>
                </a:lnTo>
                <a:lnTo>
                  <a:pt x="12752" y="176262"/>
                </a:lnTo>
                <a:lnTo>
                  <a:pt x="17121" y="179273"/>
                </a:lnTo>
                <a:lnTo>
                  <a:pt x="21726" y="182128"/>
                </a:lnTo>
                <a:lnTo>
                  <a:pt x="26490" y="184877"/>
                </a:lnTo>
                <a:lnTo>
                  <a:pt x="33053" y="186710"/>
                </a:lnTo>
                <a:lnTo>
                  <a:pt x="40814" y="187932"/>
                </a:lnTo>
                <a:lnTo>
                  <a:pt x="49376" y="188747"/>
                </a:lnTo>
                <a:lnTo>
                  <a:pt x="58470" y="189290"/>
                </a:lnTo>
                <a:lnTo>
                  <a:pt x="77606" y="189894"/>
                </a:lnTo>
                <a:lnTo>
                  <a:pt x="112248" y="190281"/>
                </a:lnTo>
                <a:lnTo>
                  <a:pt x="131140" y="190334"/>
                </a:lnTo>
                <a:lnTo>
                  <a:pt x="139226" y="189501"/>
                </a:lnTo>
                <a:lnTo>
                  <a:pt x="146310" y="188100"/>
                </a:lnTo>
                <a:lnTo>
                  <a:pt x="152726" y="186319"/>
                </a:lnTo>
                <a:lnTo>
                  <a:pt x="159543" y="185131"/>
                </a:lnTo>
                <a:lnTo>
                  <a:pt x="166628" y="184339"/>
                </a:lnTo>
                <a:lnTo>
                  <a:pt x="179581" y="183460"/>
                </a:lnTo>
                <a:lnTo>
                  <a:pt x="196038" y="1827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InkAnnotation141"/>
          <p:cNvSpPr/>
          <p:nvPr/>
        </p:nvSpPr>
        <p:spPr>
          <a:xfrm>
            <a:off x="6297480" y="2606760"/>
            <a:ext cx="49320" cy="27000"/>
          </a:xfrm>
          <a:custGeom>
            <a:avLst/>
            <a:gdLst>
              <a:gd name="textAreaLeft" fmla="*/ 0 w 49320"/>
              <a:gd name="textAreaRight" fmla="*/ 49680 w 493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9853" h="27042">
                <a:moveTo>
                  <a:pt x="11801" y="0"/>
                </a:moveTo>
                <a:lnTo>
                  <a:pt x="450" y="0"/>
                </a:lnTo>
                <a:lnTo>
                  <a:pt x="0" y="847"/>
                </a:lnTo>
                <a:lnTo>
                  <a:pt x="547" y="2258"/>
                </a:lnTo>
                <a:lnTo>
                  <a:pt x="1758" y="4045"/>
                </a:lnTo>
                <a:lnTo>
                  <a:pt x="3413" y="5237"/>
                </a:lnTo>
                <a:lnTo>
                  <a:pt x="5362" y="6031"/>
                </a:lnTo>
                <a:lnTo>
                  <a:pt x="7508" y="6561"/>
                </a:lnTo>
                <a:lnTo>
                  <a:pt x="10632" y="7761"/>
                </a:lnTo>
                <a:lnTo>
                  <a:pt x="14409" y="9407"/>
                </a:lnTo>
                <a:lnTo>
                  <a:pt x="18620" y="11351"/>
                </a:lnTo>
                <a:lnTo>
                  <a:pt x="23120" y="12648"/>
                </a:lnTo>
                <a:lnTo>
                  <a:pt x="27815" y="13512"/>
                </a:lnTo>
                <a:lnTo>
                  <a:pt x="32637" y="14088"/>
                </a:lnTo>
                <a:lnTo>
                  <a:pt x="-28837" y="14472"/>
                </a:lnTo>
                <a:lnTo>
                  <a:pt x="-25284" y="14728"/>
                </a:lnTo>
                <a:lnTo>
                  <a:pt x="-15684" y="15237"/>
                </a:lnTo>
                <a:lnTo>
                  <a:pt x="-22199" y="21801"/>
                </a:lnTo>
                <a:lnTo>
                  <a:pt x="-22551" y="23000"/>
                </a:lnTo>
                <a:lnTo>
                  <a:pt x="-22785" y="24647"/>
                </a:lnTo>
                <a:lnTo>
                  <a:pt x="-22942" y="26591"/>
                </a:lnTo>
                <a:lnTo>
                  <a:pt x="-23046" y="27041"/>
                </a:lnTo>
                <a:lnTo>
                  <a:pt x="-23116" y="26494"/>
                </a:lnTo>
                <a:lnTo>
                  <a:pt x="-23254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InkAnnotation142"/>
          <p:cNvSpPr/>
          <p:nvPr/>
        </p:nvSpPr>
        <p:spPr>
          <a:xfrm>
            <a:off x="6499080" y="2530440"/>
            <a:ext cx="198720" cy="14400"/>
          </a:xfrm>
          <a:custGeom>
            <a:avLst/>
            <a:gdLst>
              <a:gd name="textAreaLeft" fmla="*/ 0 w 198720"/>
              <a:gd name="textAreaRight" fmla="*/ 199080 w 1987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8121" h="15241">
                <a:moveTo>
                  <a:pt x="0" y="0"/>
                </a:moveTo>
                <a:lnTo>
                  <a:pt x="68855" y="0"/>
                </a:lnTo>
                <a:lnTo>
                  <a:pt x="77231" y="847"/>
                </a:lnTo>
                <a:lnTo>
                  <a:pt x="86200" y="2258"/>
                </a:lnTo>
                <a:lnTo>
                  <a:pt x="95567" y="4045"/>
                </a:lnTo>
                <a:lnTo>
                  <a:pt x="104351" y="5237"/>
                </a:lnTo>
                <a:lnTo>
                  <a:pt x="112747" y="6031"/>
                </a:lnTo>
                <a:lnTo>
                  <a:pt x="120885" y="6561"/>
                </a:lnTo>
                <a:lnTo>
                  <a:pt x="128850" y="6914"/>
                </a:lnTo>
                <a:lnTo>
                  <a:pt x="144473" y="7306"/>
                </a:lnTo>
                <a:lnTo>
                  <a:pt x="152196" y="8257"/>
                </a:lnTo>
                <a:lnTo>
                  <a:pt x="159884" y="9738"/>
                </a:lnTo>
                <a:lnTo>
                  <a:pt x="167549" y="11572"/>
                </a:lnTo>
                <a:lnTo>
                  <a:pt x="174353" y="12795"/>
                </a:lnTo>
                <a:lnTo>
                  <a:pt x="180582" y="13610"/>
                </a:lnTo>
                <a:lnTo>
                  <a:pt x="19812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InkAnnotation143"/>
          <p:cNvSpPr/>
          <p:nvPr/>
        </p:nvSpPr>
        <p:spPr>
          <a:xfrm>
            <a:off x="6753240" y="2484360"/>
            <a:ext cx="203040" cy="182520"/>
          </a:xfrm>
          <a:custGeom>
            <a:avLst/>
            <a:gdLst>
              <a:gd name="textAreaLeft" fmla="*/ 0 w 203040"/>
              <a:gd name="textAreaRight" fmla="*/ 203400 w 2030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03778" h="182881">
                <a:moveTo>
                  <a:pt x="5658" y="30480"/>
                </a:moveTo>
                <a:lnTo>
                  <a:pt x="5658" y="26435"/>
                </a:lnTo>
                <a:lnTo>
                  <a:pt x="6505" y="25243"/>
                </a:lnTo>
                <a:lnTo>
                  <a:pt x="7916" y="24449"/>
                </a:lnTo>
                <a:lnTo>
                  <a:pt x="12219" y="23174"/>
                </a:lnTo>
                <a:lnTo>
                  <a:pt x="17009" y="18908"/>
                </a:lnTo>
                <a:lnTo>
                  <a:pt x="19999" y="17685"/>
                </a:lnTo>
                <a:lnTo>
                  <a:pt x="23685" y="16870"/>
                </a:lnTo>
                <a:lnTo>
                  <a:pt x="27836" y="16327"/>
                </a:lnTo>
                <a:lnTo>
                  <a:pt x="31450" y="15118"/>
                </a:lnTo>
                <a:lnTo>
                  <a:pt x="37724" y="11517"/>
                </a:lnTo>
                <a:lnTo>
                  <a:pt x="43334" y="9352"/>
                </a:lnTo>
                <a:lnTo>
                  <a:pt x="49789" y="7963"/>
                </a:lnTo>
                <a:lnTo>
                  <a:pt x="54952" y="7722"/>
                </a:lnTo>
                <a:lnTo>
                  <a:pt x="66535" y="7621"/>
                </a:lnTo>
                <a:lnTo>
                  <a:pt x="66617" y="7620"/>
                </a:lnTo>
                <a:lnTo>
                  <a:pt x="66617" y="3575"/>
                </a:lnTo>
                <a:lnTo>
                  <a:pt x="67464" y="2383"/>
                </a:lnTo>
                <a:lnTo>
                  <a:pt x="68874" y="1589"/>
                </a:lnTo>
                <a:lnTo>
                  <a:pt x="72701" y="706"/>
                </a:lnTo>
                <a:lnTo>
                  <a:pt x="77224" y="314"/>
                </a:lnTo>
                <a:lnTo>
                  <a:pt x="84314" y="140"/>
                </a:lnTo>
                <a:lnTo>
                  <a:pt x="163082" y="0"/>
                </a:lnTo>
                <a:lnTo>
                  <a:pt x="164793" y="847"/>
                </a:lnTo>
                <a:lnTo>
                  <a:pt x="168954" y="4046"/>
                </a:lnTo>
                <a:lnTo>
                  <a:pt x="169555" y="6084"/>
                </a:lnTo>
                <a:lnTo>
                  <a:pt x="169109" y="8289"/>
                </a:lnTo>
                <a:lnTo>
                  <a:pt x="166356" y="12998"/>
                </a:lnTo>
                <a:lnTo>
                  <a:pt x="162310" y="17913"/>
                </a:lnTo>
                <a:lnTo>
                  <a:pt x="160046" y="21255"/>
                </a:lnTo>
                <a:lnTo>
                  <a:pt x="157689" y="25177"/>
                </a:lnTo>
                <a:lnTo>
                  <a:pt x="155272" y="29485"/>
                </a:lnTo>
                <a:lnTo>
                  <a:pt x="151968" y="33203"/>
                </a:lnTo>
                <a:lnTo>
                  <a:pt x="148070" y="36529"/>
                </a:lnTo>
                <a:lnTo>
                  <a:pt x="143779" y="39593"/>
                </a:lnTo>
                <a:lnTo>
                  <a:pt x="125604" y="51995"/>
                </a:lnTo>
                <a:lnTo>
                  <a:pt x="119489" y="57524"/>
                </a:lnTo>
                <a:lnTo>
                  <a:pt x="113718" y="63749"/>
                </a:lnTo>
                <a:lnTo>
                  <a:pt x="108178" y="70439"/>
                </a:lnTo>
                <a:lnTo>
                  <a:pt x="101945" y="75746"/>
                </a:lnTo>
                <a:lnTo>
                  <a:pt x="95249" y="80131"/>
                </a:lnTo>
                <a:lnTo>
                  <a:pt x="88245" y="83901"/>
                </a:lnTo>
                <a:lnTo>
                  <a:pt x="81036" y="88107"/>
                </a:lnTo>
                <a:lnTo>
                  <a:pt x="66252" y="97297"/>
                </a:lnTo>
                <a:lnTo>
                  <a:pt x="59601" y="102118"/>
                </a:lnTo>
                <a:lnTo>
                  <a:pt x="53473" y="107025"/>
                </a:lnTo>
                <a:lnTo>
                  <a:pt x="47694" y="111990"/>
                </a:lnTo>
                <a:lnTo>
                  <a:pt x="42149" y="116994"/>
                </a:lnTo>
                <a:lnTo>
                  <a:pt x="31471" y="127068"/>
                </a:lnTo>
                <a:lnTo>
                  <a:pt x="26254" y="131279"/>
                </a:lnTo>
                <a:lnTo>
                  <a:pt x="21082" y="134933"/>
                </a:lnTo>
                <a:lnTo>
                  <a:pt x="15941" y="138215"/>
                </a:lnTo>
                <a:lnTo>
                  <a:pt x="11666" y="141250"/>
                </a:lnTo>
                <a:lnTo>
                  <a:pt x="7970" y="144120"/>
                </a:lnTo>
                <a:lnTo>
                  <a:pt x="4660" y="146880"/>
                </a:lnTo>
                <a:lnTo>
                  <a:pt x="2453" y="149567"/>
                </a:lnTo>
                <a:lnTo>
                  <a:pt x="980" y="152205"/>
                </a:lnTo>
                <a:lnTo>
                  <a:pt x="0" y="154810"/>
                </a:lnTo>
                <a:lnTo>
                  <a:pt x="193" y="156547"/>
                </a:lnTo>
                <a:lnTo>
                  <a:pt x="1168" y="157704"/>
                </a:lnTo>
                <a:lnTo>
                  <a:pt x="2664" y="158476"/>
                </a:lnTo>
                <a:lnTo>
                  <a:pt x="8816" y="163608"/>
                </a:lnTo>
                <a:lnTo>
                  <a:pt x="11150" y="164952"/>
                </a:lnTo>
                <a:lnTo>
                  <a:pt x="16001" y="166445"/>
                </a:lnTo>
                <a:lnTo>
                  <a:pt x="20978" y="167109"/>
                </a:lnTo>
                <a:lnTo>
                  <a:pt x="23492" y="167286"/>
                </a:lnTo>
                <a:lnTo>
                  <a:pt x="26861" y="168251"/>
                </a:lnTo>
                <a:lnTo>
                  <a:pt x="30800" y="169740"/>
                </a:lnTo>
                <a:lnTo>
                  <a:pt x="35119" y="171580"/>
                </a:lnTo>
                <a:lnTo>
                  <a:pt x="40539" y="172807"/>
                </a:lnTo>
                <a:lnTo>
                  <a:pt x="46692" y="173625"/>
                </a:lnTo>
                <a:lnTo>
                  <a:pt x="53334" y="174170"/>
                </a:lnTo>
                <a:lnTo>
                  <a:pt x="60301" y="174533"/>
                </a:lnTo>
                <a:lnTo>
                  <a:pt x="74817" y="174937"/>
                </a:lnTo>
                <a:lnTo>
                  <a:pt x="171680" y="175258"/>
                </a:lnTo>
                <a:lnTo>
                  <a:pt x="176452" y="176105"/>
                </a:lnTo>
                <a:lnTo>
                  <a:pt x="181327" y="177517"/>
                </a:lnTo>
                <a:lnTo>
                  <a:pt x="186270" y="179305"/>
                </a:lnTo>
                <a:lnTo>
                  <a:pt x="190413" y="180496"/>
                </a:lnTo>
                <a:lnTo>
                  <a:pt x="194020" y="181291"/>
                </a:lnTo>
                <a:lnTo>
                  <a:pt x="203777" y="1828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InkAnnotation144"/>
          <p:cNvSpPr/>
          <p:nvPr/>
        </p:nvSpPr>
        <p:spPr>
          <a:xfrm>
            <a:off x="7180200" y="2552760"/>
            <a:ext cx="81000" cy="30240"/>
          </a:xfrm>
          <a:custGeom>
            <a:avLst/>
            <a:gdLst>
              <a:gd name="textAreaLeft" fmla="*/ 0 w 81000"/>
              <a:gd name="textAreaRight" fmla="*/ 81360 w 810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81081" h="30480">
                <a:moveTo>
                  <a:pt x="67039" y="7619"/>
                </a:moveTo>
                <a:lnTo>
                  <a:pt x="67039" y="313"/>
                </a:lnTo>
                <a:lnTo>
                  <a:pt x="69298" y="139"/>
                </a:lnTo>
                <a:lnTo>
                  <a:pt x="73601" y="27"/>
                </a:lnTo>
                <a:lnTo>
                  <a:pt x="71931" y="11"/>
                </a:lnTo>
                <a:lnTo>
                  <a:pt x="68006" y="1"/>
                </a:lnTo>
                <a:lnTo>
                  <a:pt x="67684" y="847"/>
                </a:lnTo>
                <a:lnTo>
                  <a:pt x="67469" y="2258"/>
                </a:lnTo>
                <a:lnTo>
                  <a:pt x="67326" y="4045"/>
                </a:lnTo>
                <a:lnTo>
                  <a:pt x="66384" y="5236"/>
                </a:lnTo>
                <a:lnTo>
                  <a:pt x="64909" y="6030"/>
                </a:lnTo>
                <a:lnTo>
                  <a:pt x="63078" y="6560"/>
                </a:lnTo>
                <a:lnTo>
                  <a:pt x="61013" y="7760"/>
                </a:lnTo>
                <a:lnTo>
                  <a:pt x="58788" y="9406"/>
                </a:lnTo>
                <a:lnTo>
                  <a:pt x="56459" y="11350"/>
                </a:lnTo>
                <a:lnTo>
                  <a:pt x="53213" y="13493"/>
                </a:lnTo>
                <a:lnTo>
                  <a:pt x="49355" y="15769"/>
                </a:lnTo>
                <a:lnTo>
                  <a:pt x="45089" y="18132"/>
                </a:lnTo>
                <a:lnTo>
                  <a:pt x="40553" y="19708"/>
                </a:lnTo>
                <a:lnTo>
                  <a:pt x="35835" y="20758"/>
                </a:lnTo>
                <a:lnTo>
                  <a:pt x="30997" y="21458"/>
                </a:lnTo>
                <a:lnTo>
                  <a:pt x="26924" y="22772"/>
                </a:lnTo>
                <a:lnTo>
                  <a:pt x="23362" y="24494"/>
                </a:lnTo>
                <a:lnTo>
                  <a:pt x="20142" y="26489"/>
                </a:lnTo>
                <a:lnTo>
                  <a:pt x="17148" y="27819"/>
                </a:lnTo>
                <a:lnTo>
                  <a:pt x="14305" y="28706"/>
                </a:lnTo>
                <a:lnTo>
                  <a:pt x="11563" y="29297"/>
                </a:lnTo>
                <a:lnTo>
                  <a:pt x="8889" y="29691"/>
                </a:lnTo>
                <a:lnTo>
                  <a:pt x="6259" y="29953"/>
                </a:lnTo>
                <a:lnTo>
                  <a:pt x="3660" y="30129"/>
                </a:lnTo>
                <a:lnTo>
                  <a:pt x="1926" y="29399"/>
                </a:lnTo>
                <a:lnTo>
                  <a:pt x="771" y="28066"/>
                </a:lnTo>
                <a:lnTo>
                  <a:pt x="0" y="26330"/>
                </a:lnTo>
                <a:lnTo>
                  <a:pt x="333" y="25173"/>
                </a:lnTo>
                <a:lnTo>
                  <a:pt x="1403" y="24402"/>
                </a:lnTo>
                <a:lnTo>
                  <a:pt x="2962" y="23887"/>
                </a:lnTo>
                <a:lnTo>
                  <a:pt x="4847" y="23544"/>
                </a:lnTo>
                <a:lnTo>
                  <a:pt x="6952" y="23316"/>
                </a:lnTo>
                <a:lnTo>
                  <a:pt x="9202" y="23164"/>
                </a:lnTo>
                <a:lnTo>
                  <a:pt x="11548" y="22215"/>
                </a:lnTo>
                <a:lnTo>
                  <a:pt x="13958" y="20736"/>
                </a:lnTo>
                <a:lnTo>
                  <a:pt x="16412" y="18904"/>
                </a:lnTo>
                <a:lnTo>
                  <a:pt x="19742" y="16836"/>
                </a:lnTo>
                <a:lnTo>
                  <a:pt x="23653" y="14610"/>
                </a:lnTo>
                <a:lnTo>
                  <a:pt x="27955" y="12280"/>
                </a:lnTo>
                <a:lnTo>
                  <a:pt x="31671" y="9880"/>
                </a:lnTo>
                <a:lnTo>
                  <a:pt x="34993" y="7433"/>
                </a:lnTo>
                <a:lnTo>
                  <a:pt x="38056" y="4955"/>
                </a:lnTo>
                <a:lnTo>
                  <a:pt x="41791" y="3303"/>
                </a:lnTo>
                <a:lnTo>
                  <a:pt x="45973" y="2202"/>
                </a:lnTo>
                <a:lnTo>
                  <a:pt x="50456" y="1468"/>
                </a:lnTo>
                <a:lnTo>
                  <a:pt x="54290" y="978"/>
                </a:lnTo>
                <a:lnTo>
                  <a:pt x="57693" y="651"/>
                </a:lnTo>
                <a:lnTo>
                  <a:pt x="60809" y="434"/>
                </a:lnTo>
                <a:lnTo>
                  <a:pt x="63732" y="289"/>
                </a:lnTo>
                <a:lnTo>
                  <a:pt x="73053" y="37"/>
                </a:lnTo>
                <a:lnTo>
                  <a:pt x="81080" y="2"/>
                </a:lnTo>
                <a:lnTo>
                  <a:pt x="77879" y="0"/>
                </a:lnTo>
                <a:lnTo>
                  <a:pt x="76806" y="846"/>
                </a:lnTo>
                <a:lnTo>
                  <a:pt x="76090" y="2257"/>
                </a:lnTo>
                <a:lnTo>
                  <a:pt x="75613" y="4044"/>
                </a:lnTo>
                <a:lnTo>
                  <a:pt x="74448" y="6083"/>
                </a:lnTo>
                <a:lnTo>
                  <a:pt x="72825" y="8288"/>
                </a:lnTo>
                <a:lnTo>
                  <a:pt x="70897" y="10605"/>
                </a:lnTo>
                <a:lnTo>
                  <a:pt x="68764" y="12150"/>
                </a:lnTo>
                <a:lnTo>
                  <a:pt x="66497" y="13179"/>
                </a:lnTo>
                <a:lnTo>
                  <a:pt x="64137" y="13866"/>
                </a:lnTo>
                <a:lnTo>
                  <a:pt x="61718" y="15170"/>
                </a:lnTo>
                <a:lnTo>
                  <a:pt x="59259" y="16886"/>
                </a:lnTo>
                <a:lnTo>
                  <a:pt x="56772" y="18877"/>
                </a:lnTo>
                <a:lnTo>
                  <a:pt x="54269" y="21051"/>
                </a:lnTo>
                <a:lnTo>
                  <a:pt x="51751" y="23347"/>
                </a:lnTo>
                <a:lnTo>
                  <a:pt x="49228" y="25724"/>
                </a:lnTo>
                <a:lnTo>
                  <a:pt x="45852" y="27309"/>
                </a:lnTo>
                <a:lnTo>
                  <a:pt x="41908" y="28366"/>
                </a:lnTo>
                <a:lnTo>
                  <a:pt x="37585" y="29070"/>
                </a:lnTo>
                <a:lnTo>
                  <a:pt x="33857" y="29540"/>
                </a:lnTo>
                <a:lnTo>
                  <a:pt x="30524" y="29853"/>
                </a:lnTo>
                <a:lnTo>
                  <a:pt x="23137" y="30355"/>
                </a:lnTo>
                <a:lnTo>
                  <a:pt x="19871" y="30424"/>
                </a:lnTo>
                <a:lnTo>
                  <a:pt x="13807" y="30478"/>
                </a:lnTo>
                <a:lnTo>
                  <a:pt x="17777" y="30479"/>
                </a:lnTo>
                <a:lnTo>
                  <a:pt x="18958" y="29632"/>
                </a:lnTo>
                <a:lnTo>
                  <a:pt x="19745" y="28221"/>
                </a:lnTo>
                <a:lnTo>
                  <a:pt x="20269" y="26434"/>
                </a:lnTo>
                <a:lnTo>
                  <a:pt x="21467" y="25242"/>
                </a:lnTo>
                <a:lnTo>
                  <a:pt x="23110" y="24448"/>
                </a:lnTo>
                <a:lnTo>
                  <a:pt x="28940" y="228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InkAnnotation145"/>
          <p:cNvSpPr/>
          <p:nvPr/>
        </p:nvSpPr>
        <p:spPr>
          <a:xfrm>
            <a:off x="7429680" y="2476440"/>
            <a:ext cx="168120" cy="7920"/>
          </a:xfrm>
          <a:custGeom>
            <a:avLst/>
            <a:gdLst>
              <a:gd name="textAreaLeft" fmla="*/ 0 w 168120"/>
              <a:gd name="textAreaRight" fmla="*/ 168480 w 168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7641" h="7621">
                <a:moveTo>
                  <a:pt x="0" y="0"/>
                </a:moveTo>
                <a:lnTo>
                  <a:pt x="42386" y="0"/>
                </a:lnTo>
                <a:lnTo>
                  <a:pt x="49423" y="847"/>
                </a:lnTo>
                <a:lnTo>
                  <a:pt x="57502" y="2258"/>
                </a:lnTo>
                <a:lnTo>
                  <a:pt x="66275" y="4045"/>
                </a:lnTo>
                <a:lnTo>
                  <a:pt x="74663" y="5237"/>
                </a:lnTo>
                <a:lnTo>
                  <a:pt x="82796" y="6031"/>
                </a:lnTo>
                <a:lnTo>
                  <a:pt x="90757" y="6561"/>
                </a:lnTo>
                <a:lnTo>
                  <a:pt x="99452" y="6914"/>
                </a:lnTo>
                <a:lnTo>
                  <a:pt x="127022" y="7411"/>
                </a:lnTo>
                <a:lnTo>
                  <a:pt x="16764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InkAnnotation146"/>
          <p:cNvSpPr/>
          <p:nvPr/>
        </p:nvSpPr>
        <p:spPr>
          <a:xfrm>
            <a:off x="7780320" y="2384280"/>
            <a:ext cx="198360" cy="266760"/>
          </a:xfrm>
          <a:custGeom>
            <a:avLst/>
            <a:gdLst>
              <a:gd name="textAreaLeft" fmla="*/ 0 w 198360"/>
              <a:gd name="textAreaRight" fmla="*/ 198720 w 198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7632" h="266574">
                <a:moveTo>
                  <a:pt x="22371" y="60833"/>
                </a:moveTo>
                <a:lnTo>
                  <a:pt x="15810" y="54272"/>
                </a:lnTo>
                <a:lnTo>
                  <a:pt x="16303" y="53073"/>
                </a:lnTo>
                <a:lnTo>
                  <a:pt x="21044" y="47339"/>
                </a:lnTo>
                <a:lnTo>
                  <a:pt x="25450" y="42700"/>
                </a:lnTo>
                <a:lnTo>
                  <a:pt x="32692" y="35329"/>
                </a:lnTo>
                <a:lnTo>
                  <a:pt x="37682" y="28049"/>
                </a:lnTo>
                <a:lnTo>
                  <a:pt x="40199" y="23737"/>
                </a:lnTo>
                <a:lnTo>
                  <a:pt x="43570" y="20862"/>
                </a:lnTo>
                <a:lnTo>
                  <a:pt x="47510" y="18946"/>
                </a:lnTo>
                <a:lnTo>
                  <a:pt x="51831" y="17668"/>
                </a:lnTo>
                <a:lnTo>
                  <a:pt x="70047" y="11825"/>
                </a:lnTo>
                <a:lnTo>
                  <a:pt x="75322" y="9534"/>
                </a:lnTo>
                <a:lnTo>
                  <a:pt x="79685" y="7161"/>
                </a:lnTo>
                <a:lnTo>
                  <a:pt x="83440" y="4732"/>
                </a:lnTo>
                <a:lnTo>
                  <a:pt x="88484" y="3112"/>
                </a:lnTo>
                <a:lnTo>
                  <a:pt x="94386" y="2032"/>
                </a:lnTo>
                <a:lnTo>
                  <a:pt x="100861" y="1313"/>
                </a:lnTo>
                <a:lnTo>
                  <a:pt x="106872" y="833"/>
                </a:lnTo>
                <a:lnTo>
                  <a:pt x="112571" y="513"/>
                </a:lnTo>
                <a:lnTo>
                  <a:pt x="122574" y="158"/>
                </a:lnTo>
                <a:lnTo>
                  <a:pt x="129841" y="0"/>
                </a:lnTo>
                <a:lnTo>
                  <a:pt x="133812" y="804"/>
                </a:lnTo>
                <a:lnTo>
                  <a:pt x="138151" y="2187"/>
                </a:lnTo>
                <a:lnTo>
                  <a:pt x="142738" y="3956"/>
                </a:lnTo>
                <a:lnTo>
                  <a:pt x="146644" y="5135"/>
                </a:lnTo>
                <a:lnTo>
                  <a:pt x="150092" y="5921"/>
                </a:lnTo>
                <a:lnTo>
                  <a:pt x="153239" y="6445"/>
                </a:lnTo>
                <a:lnTo>
                  <a:pt x="155336" y="8488"/>
                </a:lnTo>
                <a:lnTo>
                  <a:pt x="156734" y="11543"/>
                </a:lnTo>
                <a:lnTo>
                  <a:pt x="157666" y="15273"/>
                </a:lnTo>
                <a:lnTo>
                  <a:pt x="160960" y="21675"/>
                </a:lnTo>
                <a:lnTo>
                  <a:pt x="163024" y="24568"/>
                </a:lnTo>
                <a:lnTo>
                  <a:pt x="165317" y="32298"/>
                </a:lnTo>
                <a:lnTo>
                  <a:pt x="165928" y="36729"/>
                </a:lnTo>
                <a:lnTo>
                  <a:pt x="165489" y="42224"/>
                </a:lnTo>
                <a:lnTo>
                  <a:pt x="164349" y="48427"/>
                </a:lnTo>
                <a:lnTo>
                  <a:pt x="162745" y="55102"/>
                </a:lnTo>
                <a:lnTo>
                  <a:pt x="159980" y="61246"/>
                </a:lnTo>
                <a:lnTo>
                  <a:pt x="156443" y="67035"/>
                </a:lnTo>
                <a:lnTo>
                  <a:pt x="152392" y="72588"/>
                </a:lnTo>
                <a:lnTo>
                  <a:pt x="143376" y="85531"/>
                </a:lnTo>
                <a:lnTo>
                  <a:pt x="123790" y="114536"/>
                </a:lnTo>
                <a:lnTo>
                  <a:pt x="117924" y="122035"/>
                </a:lnTo>
                <a:lnTo>
                  <a:pt x="111474" y="129574"/>
                </a:lnTo>
                <a:lnTo>
                  <a:pt x="104632" y="137140"/>
                </a:lnTo>
                <a:lnTo>
                  <a:pt x="97533" y="143878"/>
                </a:lnTo>
                <a:lnTo>
                  <a:pt x="90259" y="150063"/>
                </a:lnTo>
                <a:lnTo>
                  <a:pt x="82869" y="155880"/>
                </a:lnTo>
                <a:lnTo>
                  <a:pt x="75404" y="162298"/>
                </a:lnTo>
                <a:lnTo>
                  <a:pt x="67886" y="169116"/>
                </a:lnTo>
                <a:lnTo>
                  <a:pt x="60335" y="176202"/>
                </a:lnTo>
                <a:lnTo>
                  <a:pt x="53607" y="181772"/>
                </a:lnTo>
                <a:lnTo>
                  <a:pt x="47429" y="186332"/>
                </a:lnTo>
                <a:lnTo>
                  <a:pt x="41616" y="190219"/>
                </a:lnTo>
                <a:lnTo>
                  <a:pt x="36048" y="195350"/>
                </a:lnTo>
                <a:lnTo>
                  <a:pt x="30642" y="201311"/>
                </a:lnTo>
                <a:lnTo>
                  <a:pt x="25345" y="207825"/>
                </a:lnTo>
                <a:lnTo>
                  <a:pt x="20967" y="213014"/>
                </a:lnTo>
                <a:lnTo>
                  <a:pt x="17203" y="217321"/>
                </a:lnTo>
                <a:lnTo>
                  <a:pt x="10761" y="224363"/>
                </a:lnTo>
                <a:lnTo>
                  <a:pt x="5075" y="230315"/>
                </a:lnTo>
                <a:lnTo>
                  <a:pt x="3221" y="233088"/>
                </a:lnTo>
                <a:lnTo>
                  <a:pt x="1159" y="238426"/>
                </a:lnTo>
                <a:lnTo>
                  <a:pt x="0" y="246192"/>
                </a:lnTo>
                <a:lnTo>
                  <a:pt x="683" y="247906"/>
                </a:lnTo>
                <a:lnTo>
                  <a:pt x="1986" y="249048"/>
                </a:lnTo>
                <a:lnTo>
                  <a:pt x="3701" y="249810"/>
                </a:lnTo>
                <a:lnTo>
                  <a:pt x="7864" y="252914"/>
                </a:lnTo>
                <a:lnTo>
                  <a:pt x="10160" y="254927"/>
                </a:lnTo>
                <a:lnTo>
                  <a:pt x="13384" y="256269"/>
                </a:lnTo>
                <a:lnTo>
                  <a:pt x="17226" y="257164"/>
                </a:lnTo>
                <a:lnTo>
                  <a:pt x="21481" y="257760"/>
                </a:lnTo>
                <a:lnTo>
                  <a:pt x="26011" y="258158"/>
                </a:lnTo>
                <a:lnTo>
                  <a:pt x="30724" y="258423"/>
                </a:lnTo>
                <a:lnTo>
                  <a:pt x="35560" y="258599"/>
                </a:lnTo>
                <a:lnTo>
                  <a:pt x="54501" y="258848"/>
                </a:lnTo>
                <a:lnTo>
                  <a:pt x="128035" y="258950"/>
                </a:lnTo>
                <a:lnTo>
                  <a:pt x="135147" y="259798"/>
                </a:lnTo>
                <a:lnTo>
                  <a:pt x="141582" y="261210"/>
                </a:lnTo>
                <a:lnTo>
                  <a:pt x="147564" y="262997"/>
                </a:lnTo>
                <a:lnTo>
                  <a:pt x="154094" y="264189"/>
                </a:lnTo>
                <a:lnTo>
                  <a:pt x="160987" y="264984"/>
                </a:lnTo>
                <a:lnTo>
                  <a:pt x="173726" y="265867"/>
                </a:lnTo>
                <a:lnTo>
                  <a:pt x="182209" y="266259"/>
                </a:lnTo>
                <a:lnTo>
                  <a:pt x="188801" y="266434"/>
                </a:lnTo>
                <a:lnTo>
                  <a:pt x="197631" y="2665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InkAnnotation147"/>
          <p:cNvSpPr/>
          <p:nvPr/>
        </p:nvSpPr>
        <p:spPr>
          <a:xfrm>
            <a:off x="8115480" y="2454120"/>
            <a:ext cx="114120" cy="14400"/>
          </a:xfrm>
          <a:custGeom>
            <a:avLst/>
            <a:gdLst>
              <a:gd name="textAreaLeft" fmla="*/ 0 w 114120"/>
              <a:gd name="textAreaRight" fmla="*/ 114480 w 1141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14301" h="15241">
                <a:moveTo>
                  <a:pt x="0" y="0"/>
                </a:moveTo>
                <a:lnTo>
                  <a:pt x="8090" y="0"/>
                </a:lnTo>
                <a:lnTo>
                  <a:pt x="11320" y="847"/>
                </a:lnTo>
                <a:lnTo>
                  <a:pt x="14320" y="2258"/>
                </a:lnTo>
                <a:lnTo>
                  <a:pt x="17166" y="4045"/>
                </a:lnTo>
                <a:lnTo>
                  <a:pt x="21604" y="5237"/>
                </a:lnTo>
                <a:lnTo>
                  <a:pt x="27104" y="6031"/>
                </a:lnTo>
                <a:lnTo>
                  <a:pt x="33309" y="6561"/>
                </a:lnTo>
                <a:lnTo>
                  <a:pt x="39986" y="7761"/>
                </a:lnTo>
                <a:lnTo>
                  <a:pt x="46978" y="9407"/>
                </a:lnTo>
                <a:lnTo>
                  <a:pt x="54178" y="11351"/>
                </a:lnTo>
                <a:lnTo>
                  <a:pt x="61519" y="12648"/>
                </a:lnTo>
                <a:lnTo>
                  <a:pt x="68953" y="13512"/>
                </a:lnTo>
                <a:lnTo>
                  <a:pt x="76449" y="14088"/>
                </a:lnTo>
                <a:lnTo>
                  <a:pt x="83139" y="14472"/>
                </a:lnTo>
                <a:lnTo>
                  <a:pt x="95088" y="14899"/>
                </a:lnTo>
                <a:lnTo>
                  <a:pt x="11430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InkAnnotation148"/>
          <p:cNvSpPr/>
          <p:nvPr/>
        </p:nvSpPr>
        <p:spPr>
          <a:xfrm>
            <a:off x="8169120" y="2544840"/>
            <a:ext cx="152640" cy="7920"/>
          </a:xfrm>
          <a:custGeom>
            <a:avLst/>
            <a:gdLst>
              <a:gd name="textAreaLeft" fmla="*/ 0 w 152640"/>
              <a:gd name="textAreaRight" fmla="*/ 153000 w 1526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528">
                <a:moveTo>
                  <a:pt x="0" y="0"/>
                </a:moveTo>
                <a:lnTo>
                  <a:pt x="10605" y="0"/>
                </a:lnTo>
                <a:lnTo>
                  <a:pt x="13843" y="847"/>
                </a:lnTo>
                <a:lnTo>
                  <a:pt x="17696" y="2258"/>
                </a:lnTo>
                <a:lnTo>
                  <a:pt x="21957" y="4046"/>
                </a:lnTo>
                <a:lnTo>
                  <a:pt x="26491" y="5237"/>
                </a:lnTo>
                <a:lnTo>
                  <a:pt x="31207" y="6032"/>
                </a:lnTo>
                <a:lnTo>
                  <a:pt x="36044" y="6561"/>
                </a:lnTo>
                <a:lnTo>
                  <a:pt x="41811" y="6914"/>
                </a:lnTo>
                <a:lnTo>
                  <a:pt x="54987" y="7306"/>
                </a:lnTo>
                <a:lnTo>
                  <a:pt x="80734" y="7527"/>
                </a:lnTo>
                <a:lnTo>
                  <a:pt x="89382" y="6712"/>
                </a:lnTo>
                <a:lnTo>
                  <a:pt x="97687" y="5321"/>
                </a:lnTo>
                <a:lnTo>
                  <a:pt x="105766" y="3548"/>
                </a:lnTo>
                <a:lnTo>
                  <a:pt x="112843" y="2365"/>
                </a:lnTo>
                <a:lnTo>
                  <a:pt x="119255" y="1577"/>
                </a:lnTo>
                <a:lnTo>
                  <a:pt x="125224" y="1051"/>
                </a:lnTo>
                <a:lnTo>
                  <a:pt x="130896" y="701"/>
                </a:lnTo>
                <a:lnTo>
                  <a:pt x="1524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InkAnnotation149"/>
          <p:cNvSpPr/>
          <p:nvPr/>
        </p:nvSpPr>
        <p:spPr>
          <a:xfrm>
            <a:off x="8497800" y="2340000"/>
            <a:ext cx="204840" cy="255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03755" h="255528">
                <a:moveTo>
                  <a:pt x="119933" y="0"/>
                </a:moveTo>
                <a:lnTo>
                  <a:pt x="115889" y="0"/>
                </a:lnTo>
                <a:lnTo>
                  <a:pt x="114697" y="847"/>
                </a:lnTo>
                <a:lnTo>
                  <a:pt x="113903" y="2258"/>
                </a:lnTo>
                <a:lnTo>
                  <a:pt x="113373" y="4045"/>
                </a:lnTo>
                <a:lnTo>
                  <a:pt x="108269" y="10547"/>
                </a:lnTo>
                <a:lnTo>
                  <a:pt x="104538" y="14651"/>
                </a:lnTo>
                <a:lnTo>
                  <a:pt x="100356" y="19928"/>
                </a:lnTo>
                <a:lnTo>
                  <a:pt x="95876" y="25985"/>
                </a:lnTo>
                <a:lnTo>
                  <a:pt x="91195" y="32563"/>
                </a:lnTo>
                <a:lnTo>
                  <a:pt x="85535" y="39489"/>
                </a:lnTo>
                <a:lnTo>
                  <a:pt x="79220" y="46646"/>
                </a:lnTo>
                <a:lnTo>
                  <a:pt x="65432" y="61372"/>
                </a:lnTo>
                <a:lnTo>
                  <a:pt x="50838" y="76383"/>
                </a:lnTo>
                <a:lnTo>
                  <a:pt x="44236" y="84789"/>
                </a:lnTo>
                <a:lnTo>
                  <a:pt x="38141" y="93779"/>
                </a:lnTo>
                <a:lnTo>
                  <a:pt x="26854" y="111953"/>
                </a:lnTo>
                <a:lnTo>
                  <a:pt x="16193" y="128497"/>
                </a:lnTo>
                <a:lnTo>
                  <a:pt x="11827" y="137311"/>
                </a:lnTo>
                <a:lnTo>
                  <a:pt x="8069" y="146575"/>
                </a:lnTo>
                <a:lnTo>
                  <a:pt x="4716" y="156136"/>
                </a:lnTo>
                <a:lnTo>
                  <a:pt x="2482" y="164204"/>
                </a:lnTo>
                <a:lnTo>
                  <a:pt x="993" y="171276"/>
                </a:lnTo>
                <a:lnTo>
                  <a:pt x="0" y="177684"/>
                </a:lnTo>
                <a:lnTo>
                  <a:pt x="184" y="184496"/>
                </a:lnTo>
                <a:lnTo>
                  <a:pt x="1154" y="191578"/>
                </a:lnTo>
                <a:lnTo>
                  <a:pt x="2647" y="198839"/>
                </a:lnTo>
                <a:lnTo>
                  <a:pt x="5335" y="204526"/>
                </a:lnTo>
                <a:lnTo>
                  <a:pt x="8822" y="209164"/>
                </a:lnTo>
                <a:lnTo>
                  <a:pt x="12838" y="213102"/>
                </a:lnTo>
                <a:lnTo>
                  <a:pt x="18057" y="216575"/>
                </a:lnTo>
                <a:lnTo>
                  <a:pt x="24076" y="219737"/>
                </a:lnTo>
                <a:lnTo>
                  <a:pt x="30628" y="222691"/>
                </a:lnTo>
                <a:lnTo>
                  <a:pt x="37536" y="226354"/>
                </a:lnTo>
                <a:lnTo>
                  <a:pt x="44682" y="230489"/>
                </a:lnTo>
                <a:lnTo>
                  <a:pt x="51986" y="234940"/>
                </a:lnTo>
                <a:lnTo>
                  <a:pt x="60242" y="237907"/>
                </a:lnTo>
                <a:lnTo>
                  <a:pt x="69133" y="239884"/>
                </a:lnTo>
                <a:lnTo>
                  <a:pt x="78447" y="241203"/>
                </a:lnTo>
                <a:lnTo>
                  <a:pt x="87195" y="241235"/>
                </a:lnTo>
                <a:lnTo>
                  <a:pt x="95568" y="240410"/>
                </a:lnTo>
                <a:lnTo>
                  <a:pt x="103690" y="239013"/>
                </a:lnTo>
                <a:lnTo>
                  <a:pt x="111645" y="237236"/>
                </a:lnTo>
                <a:lnTo>
                  <a:pt x="119487" y="235204"/>
                </a:lnTo>
                <a:lnTo>
                  <a:pt x="127256" y="233003"/>
                </a:lnTo>
                <a:lnTo>
                  <a:pt x="134976" y="229842"/>
                </a:lnTo>
                <a:lnTo>
                  <a:pt x="142662" y="226041"/>
                </a:lnTo>
                <a:lnTo>
                  <a:pt x="150325" y="221814"/>
                </a:lnTo>
                <a:lnTo>
                  <a:pt x="156282" y="218150"/>
                </a:lnTo>
                <a:lnTo>
                  <a:pt x="161099" y="214860"/>
                </a:lnTo>
                <a:lnTo>
                  <a:pt x="165157" y="211820"/>
                </a:lnTo>
                <a:lnTo>
                  <a:pt x="167863" y="208100"/>
                </a:lnTo>
                <a:lnTo>
                  <a:pt x="169667" y="203927"/>
                </a:lnTo>
                <a:lnTo>
                  <a:pt x="170870" y="199451"/>
                </a:lnTo>
                <a:lnTo>
                  <a:pt x="171671" y="194774"/>
                </a:lnTo>
                <a:lnTo>
                  <a:pt x="172205" y="189963"/>
                </a:lnTo>
                <a:lnTo>
                  <a:pt x="172561" y="185062"/>
                </a:lnTo>
                <a:lnTo>
                  <a:pt x="172958" y="177359"/>
                </a:lnTo>
                <a:lnTo>
                  <a:pt x="173063" y="174119"/>
                </a:lnTo>
                <a:lnTo>
                  <a:pt x="172286" y="171113"/>
                </a:lnTo>
                <a:lnTo>
                  <a:pt x="169166" y="165515"/>
                </a:lnTo>
                <a:lnTo>
                  <a:pt x="167148" y="163683"/>
                </a:lnTo>
                <a:lnTo>
                  <a:pt x="164957" y="162462"/>
                </a:lnTo>
                <a:lnTo>
                  <a:pt x="162649" y="161648"/>
                </a:lnTo>
                <a:lnTo>
                  <a:pt x="159417" y="161105"/>
                </a:lnTo>
                <a:lnTo>
                  <a:pt x="155570" y="160744"/>
                </a:lnTo>
                <a:lnTo>
                  <a:pt x="151311" y="160503"/>
                </a:lnTo>
                <a:lnTo>
                  <a:pt x="142064" y="160235"/>
                </a:lnTo>
                <a:lnTo>
                  <a:pt x="137227" y="160163"/>
                </a:lnTo>
                <a:lnTo>
                  <a:pt x="132309" y="160962"/>
                </a:lnTo>
                <a:lnTo>
                  <a:pt x="127337" y="162341"/>
                </a:lnTo>
                <a:lnTo>
                  <a:pt x="122329" y="164108"/>
                </a:lnTo>
                <a:lnTo>
                  <a:pt x="117298" y="166132"/>
                </a:lnTo>
                <a:lnTo>
                  <a:pt x="112249" y="168328"/>
                </a:lnTo>
                <a:lnTo>
                  <a:pt x="107190" y="170639"/>
                </a:lnTo>
                <a:lnTo>
                  <a:pt x="103818" y="173873"/>
                </a:lnTo>
                <a:lnTo>
                  <a:pt x="101569" y="177722"/>
                </a:lnTo>
                <a:lnTo>
                  <a:pt x="100072" y="181981"/>
                </a:lnTo>
                <a:lnTo>
                  <a:pt x="99072" y="186514"/>
                </a:lnTo>
                <a:lnTo>
                  <a:pt x="98406" y="191229"/>
                </a:lnTo>
                <a:lnTo>
                  <a:pt x="97962" y="196066"/>
                </a:lnTo>
                <a:lnTo>
                  <a:pt x="97665" y="200984"/>
                </a:lnTo>
                <a:lnTo>
                  <a:pt x="97337" y="210964"/>
                </a:lnTo>
                <a:lnTo>
                  <a:pt x="98095" y="215996"/>
                </a:lnTo>
                <a:lnTo>
                  <a:pt x="99449" y="221044"/>
                </a:lnTo>
                <a:lnTo>
                  <a:pt x="101197" y="226103"/>
                </a:lnTo>
                <a:lnTo>
                  <a:pt x="104902" y="230322"/>
                </a:lnTo>
                <a:lnTo>
                  <a:pt x="109913" y="233981"/>
                </a:lnTo>
                <a:lnTo>
                  <a:pt x="115793" y="237268"/>
                </a:lnTo>
                <a:lnTo>
                  <a:pt x="122253" y="240305"/>
                </a:lnTo>
                <a:lnTo>
                  <a:pt x="129100" y="243177"/>
                </a:lnTo>
                <a:lnTo>
                  <a:pt x="136205" y="245938"/>
                </a:lnTo>
                <a:lnTo>
                  <a:pt x="143482" y="247779"/>
                </a:lnTo>
                <a:lnTo>
                  <a:pt x="150872" y="249006"/>
                </a:lnTo>
                <a:lnTo>
                  <a:pt x="158339" y="249824"/>
                </a:lnTo>
                <a:lnTo>
                  <a:pt x="165011" y="251216"/>
                </a:lnTo>
                <a:lnTo>
                  <a:pt x="171151" y="252991"/>
                </a:lnTo>
                <a:lnTo>
                  <a:pt x="176939" y="255021"/>
                </a:lnTo>
                <a:lnTo>
                  <a:pt x="182491" y="255527"/>
                </a:lnTo>
                <a:lnTo>
                  <a:pt x="187885" y="255018"/>
                </a:lnTo>
                <a:lnTo>
                  <a:pt x="203754" y="2514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InkAnnotation150"/>
          <p:cNvSpPr/>
          <p:nvPr/>
        </p:nvSpPr>
        <p:spPr>
          <a:xfrm>
            <a:off x="8790120" y="2270160"/>
            <a:ext cx="147600" cy="138240"/>
          </a:xfrm>
          <a:custGeom>
            <a:avLst/>
            <a:gdLst>
              <a:gd name="textAreaLeft" fmla="*/ 0 w 147600"/>
              <a:gd name="textAreaRight" fmla="*/ 147960 w 14760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48935" h="137026">
                <a:moveTo>
                  <a:pt x="42255" y="15144"/>
                </a:moveTo>
                <a:lnTo>
                  <a:pt x="42255" y="11099"/>
                </a:lnTo>
                <a:lnTo>
                  <a:pt x="43102" y="9907"/>
                </a:lnTo>
                <a:lnTo>
                  <a:pt x="44513" y="9113"/>
                </a:lnTo>
                <a:lnTo>
                  <a:pt x="48816" y="7838"/>
                </a:lnTo>
                <a:lnTo>
                  <a:pt x="49169" y="6887"/>
                </a:lnTo>
                <a:lnTo>
                  <a:pt x="49561" y="3572"/>
                </a:lnTo>
                <a:lnTo>
                  <a:pt x="49866" y="0"/>
                </a:lnTo>
                <a:lnTo>
                  <a:pt x="49872" y="3978"/>
                </a:lnTo>
                <a:lnTo>
                  <a:pt x="49026" y="5160"/>
                </a:lnTo>
                <a:lnTo>
                  <a:pt x="47616" y="5948"/>
                </a:lnTo>
                <a:lnTo>
                  <a:pt x="45828" y="6473"/>
                </a:lnTo>
                <a:lnTo>
                  <a:pt x="44637" y="8517"/>
                </a:lnTo>
                <a:lnTo>
                  <a:pt x="43843" y="11573"/>
                </a:lnTo>
                <a:lnTo>
                  <a:pt x="43313" y="15303"/>
                </a:lnTo>
                <a:lnTo>
                  <a:pt x="42114" y="18637"/>
                </a:lnTo>
                <a:lnTo>
                  <a:pt x="40468" y="21706"/>
                </a:lnTo>
                <a:lnTo>
                  <a:pt x="38524" y="24599"/>
                </a:lnTo>
                <a:lnTo>
                  <a:pt x="36381" y="28221"/>
                </a:lnTo>
                <a:lnTo>
                  <a:pt x="34105" y="32328"/>
                </a:lnTo>
                <a:lnTo>
                  <a:pt x="29319" y="41408"/>
                </a:lnTo>
                <a:lnTo>
                  <a:pt x="16824" y="66058"/>
                </a:lnTo>
                <a:lnTo>
                  <a:pt x="15141" y="71100"/>
                </a:lnTo>
                <a:lnTo>
                  <a:pt x="14018" y="76155"/>
                </a:lnTo>
                <a:lnTo>
                  <a:pt x="13271" y="81218"/>
                </a:lnTo>
                <a:lnTo>
                  <a:pt x="11925" y="86286"/>
                </a:lnTo>
                <a:lnTo>
                  <a:pt x="10181" y="91359"/>
                </a:lnTo>
                <a:lnTo>
                  <a:pt x="8172" y="96434"/>
                </a:lnTo>
                <a:lnTo>
                  <a:pt x="6834" y="100664"/>
                </a:lnTo>
                <a:lnTo>
                  <a:pt x="5941" y="104331"/>
                </a:lnTo>
                <a:lnTo>
                  <a:pt x="5346" y="107622"/>
                </a:lnTo>
                <a:lnTo>
                  <a:pt x="4102" y="110663"/>
                </a:lnTo>
                <a:lnTo>
                  <a:pt x="2426" y="113536"/>
                </a:lnTo>
                <a:lnTo>
                  <a:pt x="462" y="116299"/>
                </a:lnTo>
                <a:lnTo>
                  <a:pt x="0" y="118987"/>
                </a:lnTo>
                <a:lnTo>
                  <a:pt x="538" y="121626"/>
                </a:lnTo>
                <a:lnTo>
                  <a:pt x="1744" y="124232"/>
                </a:lnTo>
                <a:lnTo>
                  <a:pt x="2547" y="126816"/>
                </a:lnTo>
                <a:lnTo>
                  <a:pt x="3083" y="129385"/>
                </a:lnTo>
                <a:lnTo>
                  <a:pt x="4092" y="136615"/>
                </a:lnTo>
                <a:lnTo>
                  <a:pt x="8643" y="136864"/>
                </a:lnTo>
                <a:lnTo>
                  <a:pt x="20724" y="137005"/>
                </a:lnTo>
                <a:lnTo>
                  <a:pt x="25361" y="137025"/>
                </a:lnTo>
                <a:lnTo>
                  <a:pt x="30145" y="136191"/>
                </a:lnTo>
                <a:lnTo>
                  <a:pt x="35028" y="134789"/>
                </a:lnTo>
                <a:lnTo>
                  <a:pt x="45816" y="130973"/>
                </a:lnTo>
                <a:lnTo>
                  <a:pt x="59078" y="126455"/>
                </a:lnTo>
                <a:lnTo>
                  <a:pt x="66171" y="124911"/>
                </a:lnTo>
                <a:lnTo>
                  <a:pt x="73438" y="123882"/>
                </a:lnTo>
                <a:lnTo>
                  <a:pt x="80823" y="123196"/>
                </a:lnTo>
                <a:lnTo>
                  <a:pt x="88286" y="121892"/>
                </a:lnTo>
                <a:lnTo>
                  <a:pt x="95802" y="120176"/>
                </a:lnTo>
                <a:lnTo>
                  <a:pt x="103353" y="118185"/>
                </a:lnTo>
                <a:lnTo>
                  <a:pt x="110927" y="116011"/>
                </a:lnTo>
                <a:lnTo>
                  <a:pt x="126115" y="111339"/>
                </a:lnTo>
                <a:lnTo>
                  <a:pt x="132028" y="108907"/>
                </a:lnTo>
                <a:lnTo>
                  <a:pt x="136817" y="106439"/>
                </a:lnTo>
                <a:lnTo>
                  <a:pt x="148934" y="989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InkAnnotation151"/>
          <p:cNvSpPr/>
          <p:nvPr/>
        </p:nvSpPr>
        <p:spPr>
          <a:xfrm>
            <a:off x="8899560" y="2263680"/>
            <a:ext cx="84240" cy="365400"/>
          </a:xfrm>
          <a:custGeom>
            <a:avLst/>
            <a:gdLst>
              <a:gd name="textAreaLeft" fmla="*/ 0 w 84240"/>
              <a:gd name="textAreaRight" fmla="*/ 84600 w 842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83821" h="365761">
                <a:moveTo>
                  <a:pt x="83820" y="0"/>
                </a:moveTo>
                <a:lnTo>
                  <a:pt x="83820" y="4045"/>
                </a:lnTo>
                <a:lnTo>
                  <a:pt x="82974" y="6083"/>
                </a:lnTo>
                <a:lnTo>
                  <a:pt x="81562" y="8289"/>
                </a:lnTo>
                <a:lnTo>
                  <a:pt x="79776" y="10606"/>
                </a:lnTo>
                <a:lnTo>
                  <a:pt x="78583" y="12997"/>
                </a:lnTo>
                <a:lnTo>
                  <a:pt x="77259" y="17912"/>
                </a:lnTo>
                <a:lnTo>
                  <a:pt x="76671" y="25176"/>
                </a:lnTo>
                <a:lnTo>
                  <a:pt x="75563" y="34896"/>
                </a:lnTo>
                <a:lnTo>
                  <a:pt x="74083" y="41044"/>
                </a:lnTo>
                <a:lnTo>
                  <a:pt x="72248" y="47682"/>
                </a:lnTo>
                <a:lnTo>
                  <a:pt x="67952" y="61832"/>
                </a:lnTo>
                <a:lnTo>
                  <a:pt x="65622" y="69161"/>
                </a:lnTo>
                <a:lnTo>
                  <a:pt x="64068" y="77434"/>
                </a:lnTo>
                <a:lnTo>
                  <a:pt x="63032" y="86336"/>
                </a:lnTo>
                <a:lnTo>
                  <a:pt x="62342" y="95657"/>
                </a:lnTo>
                <a:lnTo>
                  <a:pt x="60188" y="105258"/>
                </a:lnTo>
                <a:lnTo>
                  <a:pt x="57058" y="115045"/>
                </a:lnTo>
                <a:lnTo>
                  <a:pt x="53279" y="124957"/>
                </a:lnTo>
                <a:lnTo>
                  <a:pt x="49912" y="135798"/>
                </a:lnTo>
                <a:lnTo>
                  <a:pt x="46822" y="147258"/>
                </a:lnTo>
                <a:lnTo>
                  <a:pt x="43915" y="159132"/>
                </a:lnTo>
                <a:lnTo>
                  <a:pt x="40283" y="171281"/>
                </a:lnTo>
                <a:lnTo>
                  <a:pt x="36169" y="183614"/>
                </a:lnTo>
                <a:lnTo>
                  <a:pt x="31732" y="196069"/>
                </a:lnTo>
                <a:lnTo>
                  <a:pt x="28775" y="208606"/>
                </a:lnTo>
                <a:lnTo>
                  <a:pt x="26803" y="221198"/>
                </a:lnTo>
                <a:lnTo>
                  <a:pt x="25489" y="233825"/>
                </a:lnTo>
                <a:lnTo>
                  <a:pt x="21770" y="261402"/>
                </a:lnTo>
                <a:lnTo>
                  <a:pt x="19593" y="275868"/>
                </a:lnTo>
                <a:lnTo>
                  <a:pt x="14916" y="303230"/>
                </a:lnTo>
                <a:lnTo>
                  <a:pt x="12485" y="316453"/>
                </a:lnTo>
                <a:lnTo>
                  <a:pt x="10016" y="327809"/>
                </a:lnTo>
                <a:lnTo>
                  <a:pt x="7524" y="337919"/>
                </a:lnTo>
                <a:lnTo>
                  <a:pt x="0" y="3657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InkAnnotation152"/>
          <p:cNvSpPr/>
          <p:nvPr/>
        </p:nvSpPr>
        <p:spPr>
          <a:xfrm>
            <a:off x="3421080" y="2233440"/>
            <a:ext cx="792000" cy="379440"/>
          </a:xfrm>
          <a:custGeom>
            <a:avLst/>
            <a:gdLst>
              <a:gd name="textAreaLeft" fmla="*/ 0 w 792000"/>
              <a:gd name="textAreaRight" fmla="*/ 792360 w 79200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792481" h="380205">
                <a:moveTo>
                  <a:pt x="0" y="380204"/>
                </a:moveTo>
                <a:lnTo>
                  <a:pt x="0" y="376159"/>
                </a:lnTo>
                <a:lnTo>
                  <a:pt x="846" y="374120"/>
                </a:lnTo>
                <a:lnTo>
                  <a:pt x="6083" y="367207"/>
                </a:lnTo>
                <a:lnTo>
                  <a:pt x="15438" y="357285"/>
                </a:lnTo>
                <a:lnTo>
                  <a:pt x="20408" y="351391"/>
                </a:lnTo>
                <a:lnTo>
                  <a:pt x="25439" y="343127"/>
                </a:lnTo>
                <a:lnTo>
                  <a:pt x="33031" y="333000"/>
                </a:lnTo>
                <a:lnTo>
                  <a:pt x="35847" y="327333"/>
                </a:lnTo>
                <a:lnTo>
                  <a:pt x="36598" y="324637"/>
                </a:lnTo>
                <a:lnTo>
                  <a:pt x="39690" y="319383"/>
                </a:lnTo>
                <a:lnTo>
                  <a:pt x="46191" y="309407"/>
                </a:lnTo>
                <a:lnTo>
                  <a:pt x="51009" y="300479"/>
                </a:lnTo>
                <a:lnTo>
                  <a:pt x="55973" y="290866"/>
                </a:lnTo>
                <a:lnTo>
                  <a:pt x="63258" y="283207"/>
                </a:lnTo>
                <a:lnTo>
                  <a:pt x="67572" y="279979"/>
                </a:lnTo>
                <a:lnTo>
                  <a:pt x="74623" y="271878"/>
                </a:lnTo>
                <a:lnTo>
                  <a:pt x="80579" y="262632"/>
                </a:lnTo>
                <a:lnTo>
                  <a:pt x="86048" y="252879"/>
                </a:lnTo>
                <a:lnTo>
                  <a:pt x="93887" y="237868"/>
                </a:lnTo>
                <a:lnTo>
                  <a:pt x="101276" y="227761"/>
                </a:lnTo>
                <a:lnTo>
                  <a:pt x="110205" y="217625"/>
                </a:lnTo>
                <a:lnTo>
                  <a:pt x="119817" y="207476"/>
                </a:lnTo>
                <a:lnTo>
                  <a:pt x="127477" y="197320"/>
                </a:lnTo>
                <a:lnTo>
                  <a:pt x="134549" y="187162"/>
                </a:lnTo>
                <a:lnTo>
                  <a:pt x="143337" y="177003"/>
                </a:lnTo>
                <a:lnTo>
                  <a:pt x="152887" y="166844"/>
                </a:lnTo>
                <a:lnTo>
                  <a:pt x="182922" y="136364"/>
                </a:lnTo>
                <a:lnTo>
                  <a:pt x="218442" y="100804"/>
                </a:lnTo>
                <a:lnTo>
                  <a:pt x="233680" y="89609"/>
                </a:lnTo>
                <a:lnTo>
                  <a:pt x="243840" y="81435"/>
                </a:lnTo>
                <a:lnTo>
                  <a:pt x="254846" y="72158"/>
                </a:lnTo>
                <a:lnTo>
                  <a:pt x="268205" y="62390"/>
                </a:lnTo>
                <a:lnTo>
                  <a:pt x="285961" y="51416"/>
                </a:lnTo>
                <a:lnTo>
                  <a:pt x="298967" y="43294"/>
                </a:lnTo>
                <a:lnTo>
                  <a:pt x="318312" y="31459"/>
                </a:lnTo>
                <a:lnTo>
                  <a:pt x="340018" y="19874"/>
                </a:lnTo>
                <a:lnTo>
                  <a:pt x="359544" y="12008"/>
                </a:lnTo>
                <a:lnTo>
                  <a:pt x="377371" y="8360"/>
                </a:lnTo>
                <a:lnTo>
                  <a:pt x="409038" y="1891"/>
                </a:lnTo>
                <a:lnTo>
                  <a:pt x="428630" y="0"/>
                </a:lnTo>
                <a:lnTo>
                  <a:pt x="450146" y="287"/>
                </a:lnTo>
                <a:lnTo>
                  <a:pt x="471761" y="4511"/>
                </a:lnTo>
                <a:lnTo>
                  <a:pt x="490113" y="6985"/>
                </a:lnTo>
                <a:lnTo>
                  <a:pt x="504001" y="10564"/>
                </a:lnTo>
                <a:lnTo>
                  <a:pt x="526100" y="21385"/>
                </a:lnTo>
                <a:lnTo>
                  <a:pt x="544689" y="31270"/>
                </a:lnTo>
                <a:lnTo>
                  <a:pt x="557891" y="39138"/>
                </a:lnTo>
                <a:lnTo>
                  <a:pt x="564967" y="43607"/>
                </a:lnTo>
                <a:lnTo>
                  <a:pt x="577345" y="55345"/>
                </a:lnTo>
                <a:lnTo>
                  <a:pt x="583017" y="62031"/>
                </a:lnTo>
                <a:lnTo>
                  <a:pt x="596092" y="71718"/>
                </a:lnTo>
                <a:lnTo>
                  <a:pt x="603134" y="75487"/>
                </a:lnTo>
                <a:lnTo>
                  <a:pt x="608676" y="80539"/>
                </a:lnTo>
                <a:lnTo>
                  <a:pt x="613218" y="86448"/>
                </a:lnTo>
                <a:lnTo>
                  <a:pt x="617091" y="92926"/>
                </a:lnTo>
                <a:lnTo>
                  <a:pt x="622215" y="99785"/>
                </a:lnTo>
                <a:lnTo>
                  <a:pt x="628170" y="106898"/>
                </a:lnTo>
                <a:lnTo>
                  <a:pt x="634679" y="114180"/>
                </a:lnTo>
                <a:lnTo>
                  <a:pt x="646429" y="126787"/>
                </a:lnTo>
                <a:lnTo>
                  <a:pt x="667768" y="148677"/>
                </a:lnTo>
                <a:lnTo>
                  <a:pt x="672932" y="154733"/>
                </a:lnTo>
                <a:lnTo>
                  <a:pt x="678068" y="161310"/>
                </a:lnTo>
                <a:lnTo>
                  <a:pt x="683186" y="168235"/>
                </a:lnTo>
                <a:lnTo>
                  <a:pt x="689137" y="175391"/>
                </a:lnTo>
                <a:lnTo>
                  <a:pt x="695645" y="182702"/>
                </a:lnTo>
                <a:lnTo>
                  <a:pt x="708802" y="196752"/>
                </a:lnTo>
                <a:lnTo>
                  <a:pt x="731046" y="219569"/>
                </a:lnTo>
                <a:lnTo>
                  <a:pt x="741470" y="230917"/>
                </a:lnTo>
                <a:lnTo>
                  <a:pt x="746619" y="237499"/>
                </a:lnTo>
                <a:lnTo>
                  <a:pt x="751746" y="244428"/>
                </a:lnTo>
                <a:lnTo>
                  <a:pt x="756858" y="250740"/>
                </a:lnTo>
                <a:lnTo>
                  <a:pt x="767052" y="262268"/>
                </a:lnTo>
                <a:lnTo>
                  <a:pt x="774970" y="270779"/>
                </a:lnTo>
                <a:lnTo>
                  <a:pt x="784187" y="280331"/>
                </a:lnTo>
                <a:lnTo>
                  <a:pt x="792480" y="2887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InkAnnotation153"/>
          <p:cNvSpPr/>
          <p:nvPr/>
        </p:nvSpPr>
        <p:spPr>
          <a:xfrm>
            <a:off x="4137120" y="2143080"/>
            <a:ext cx="723960" cy="341280"/>
          </a:xfrm>
          <a:custGeom>
            <a:avLst/>
            <a:gdLst>
              <a:gd name="textAreaLeft" fmla="*/ 0 w 723960"/>
              <a:gd name="textAreaRight" fmla="*/ 724320 w 7239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723901" h="341488">
                <a:moveTo>
                  <a:pt x="0" y="128127"/>
                </a:moveTo>
                <a:lnTo>
                  <a:pt x="4045" y="124082"/>
                </a:lnTo>
                <a:lnTo>
                  <a:pt x="20427" y="114260"/>
                </a:lnTo>
                <a:lnTo>
                  <a:pt x="34274" y="105204"/>
                </a:lnTo>
                <a:lnTo>
                  <a:pt x="54464" y="91796"/>
                </a:lnTo>
                <a:lnTo>
                  <a:pt x="76533" y="81144"/>
                </a:lnTo>
                <a:lnTo>
                  <a:pt x="91588" y="73097"/>
                </a:lnTo>
                <a:lnTo>
                  <a:pt x="106746" y="64722"/>
                </a:lnTo>
                <a:lnTo>
                  <a:pt x="121949" y="58178"/>
                </a:lnTo>
                <a:lnTo>
                  <a:pt x="137173" y="50190"/>
                </a:lnTo>
                <a:lnTo>
                  <a:pt x="151559" y="41842"/>
                </a:lnTo>
                <a:lnTo>
                  <a:pt x="170025" y="32382"/>
                </a:lnTo>
                <a:lnTo>
                  <a:pt x="191206" y="24217"/>
                </a:lnTo>
                <a:lnTo>
                  <a:pt x="212723" y="17282"/>
                </a:lnTo>
                <a:lnTo>
                  <a:pt x="230199" y="14004"/>
                </a:lnTo>
                <a:lnTo>
                  <a:pt x="246948" y="8047"/>
                </a:lnTo>
                <a:lnTo>
                  <a:pt x="267621" y="1766"/>
                </a:lnTo>
                <a:lnTo>
                  <a:pt x="282349" y="0"/>
                </a:lnTo>
                <a:lnTo>
                  <a:pt x="295104" y="1473"/>
                </a:lnTo>
                <a:lnTo>
                  <a:pt x="307264" y="4103"/>
                </a:lnTo>
                <a:lnTo>
                  <a:pt x="328390" y="6430"/>
                </a:lnTo>
                <a:lnTo>
                  <a:pt x="349889" y="12106"/>
                </a:lnTo>
                <a:lnTo>
                  <a:pt x="375011" y="21609"/>
                </a:lnTo>
                <a:lnTo>
                  <a:pt x="388498" y="27446"/>
                </a:lnTo>
                <a:lnTo>
                  <a:pt x="400137" y="35684"/>
                </a:lnTo>
                <a:lnTo>
                  <a:pt x="413212" y="44990"/>
                </a:lnTo>
                <a:lnTo>
                  <a:pt x="442302" y="64762"/>
                </a:lnTo>
                <a:lnTo>
                  <a:pt x="449808" y="70644"/>
                </a:lnTo>
                <a:lnTo>
                  <a:pt x="457352" y="77105"/>
                </a:lnTo>
                <a:lnTo>
                  <a:pt x="464921" y="83952"/>
                </a:lnTo>
                <a:lnTo>
                  <a:pt x="473354" y="91057"/>
                </a:lnTo>
                <a:lnTo>
                  <a:pt x="491755" y="105725"/>
                </a:lnTo>
                <a:lnTo>
                  <a:pt x="500557" y="113192"/>
                </a:lnTo>
                <a:lnTo>
                  <a:pt x="508964" y="120711"/>
                </a:lnTo>
                <a:lnTo>
                  <a:pt x="525079" y="135838"/>
                </a:lnTo>
                <a:lnTo>
                  <a:pt x="540708" y="151027"/>
                </a:lnTo>
                <a:lnTo>
                  <a:pt x="549279" y="158634"/>
                </a:lnTo>
                <a:lnTo>
                  <a:pt x="558379" y="166245"/>
                </a:lnTo>
                <a:lnTo>
                  <a:pt x="567833" y="173859"/>
                </a:lnTo>
                <a:lnTo>
                  <a:pt x="576675" y="181475"/>
                </a:lnTo>
                <a:lnTo>
                  <a:pt x="585110" y="189093"/>
                </a:lnTo>
                <a:lnTo>
                  <a:pt x="593273" y="196711"/>
                </a:lnTo>
                <a:lnTo>
                  <a:pt x="601255" y="205176"/>
                </a:lnTo>
                <a:lnTo>
                  <a:pt x="609117" y="214207"/>
                </a:lnTo>
                <a:lnTo>
                  <a:pt x="616898" y="223613"/>
                </a:lnTo>
                <a:lnTo>
                  <a:pt x="623778" y="232425"/>
                </a:lnTo>
                <a:lnTo>
                  <a:pt x="630059" y="240839"/>
                </a:lnTo>
                <a:lnTo>
                  <a:pt x="635939" y="248988"/>
                </a:lnTo>
                <a:lnTo>
                  <a:pt x="642400" y="256961"/>
                </a:lnTo>
                <a:lnTo>
                  <a:pt x="649247" y="264817"/>
                </a:lnTo>
                <a:lnTo>
                  <a:pt x="656351" y="272593"/>
                </a:lnTo>
                <a:lnTo>
                  <a:pt x="671018" y="288008"/>
                </a:lnTo>
                <a:lnTo>
                  <a:pt x="678486" y="295674"/>
                </a:lnTo>
                <a:lnTo>
                  <a:pt x="685157" y="303325"/>
                </a:lnTo>
                <a:lnTo>
                  <a:pt x="691298" y="310966"/>
                </a:lnTo>
                <a:lnTo>
                  <a:pt x="697086" y="318600"/>
                </a:lnTo>
                <a:lnTo>
                  <a:pt x="702637" y="324535"/>
                </a:lnTo>
                <a:lnTo>
                  <a:pt x="708031" y="329339"/>
                </a:lnTo>
                <a:lnTo>
                  <a:pt x="723900" y="3414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InkAnnotation154"/>
          <p:cNvSpPr/>
          <p:nvPr/>
        </p:nvSpPr>
        <p:spPr>
          <a:xfrm>
            <a:off x="4784760" y="2301840"/>
            <a:ext cx="38160" cy="6480"/>
          </a:xfrm>
          <a:custGeom>
            <a:avLst/>
            <a:gdLst>
              <a:gd name="textAreaLeft" fmla="*/ 0 w 38160"/>
              <a:gd name="textAreaRight" fmla="*/ 38520 w 38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8101" h="7621">
                <a:moveTo>
                  <a:pt x="0" y="7620"/>
                </a:moveTo>
                <a:lnTo>
                  <a:pt x="10606" y="7620"/>
                </a:lnTo>
                <a:lnTo>
                  <a:pt x="14691" y="6773"/>
                </a:lnTo>
                <a:lnTo>
                  <a:pt x="19954" y="5362"/>
                </a:lnTo>
                <a:lnTo>
                  <a:pt x="-274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InkAnnotation155"/>
          <p:cNvSpPr/>
          <p:nvPr/>
        </p:nvSpPr>
        <p:spPr>
          <a:xfrm>
            <a:off x="4884840" y="2149560"/>
            <a:ext cx="631800" cy="304560"/>
          </a:xfrm>
          <a:custGeom>
            <a:avLst/>
            <a:gdLst>
              <a:gd name="textAreaLeft" fmla="*/ 0 w 631800"/>
              <a:gd name="textAreaRight" fmla="*/ 631800 w 631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632461" h="304696">
                <a:moveTo>
                  <a:pt x="0" y="137055"/>
                </a:moveTo>
                <a:lnTo>
                  <a:pt x="21212" y="126449"/>
                </a:lnTo>
                <a:lnTo>
                  <a:pt x="28618" y="123875"/>
                </a:lnTo>
                <a:lnTo>
                  <a:pt x="48363" y="118177"/>
                </a:lnTo>
                <a:lnTo>
                  <a:pt x="64392" y="111449"/>
                </a:lnTo>
                <a:lnTo>
                  <a:pt x="82805" y="103661"/>
                </a:lnTo>
                <a:lnTo>
                  <a:pt x="102278" y="97378"/>
                </a:lnTo>
                <a:lnTo>
                  <a:pt x="122221" y="91763"/>
                </a:lnTo>
                <a:lnTo>
                  <a:pt x="132281" y="89080"/>
                </a:lnTo>
                <a:lnTo>
                  <a:pt x="142374" y="85599"/>
                </a:lnTo>
                <a:lnTo>
                  <a:pt x="152489" y="81584"/>
                </a:lnTo>
                <a:lnTo>
                  <a:pt x="162620" y="77214"/>
                </a:lnTo>
                <a:lnTo>
                  <a:pt x="172760" y="73455"/>
                </a:lnTo>
                <a:lnTo>
                  <a:pt x="182907" y="70101"/>
                </a:lnTo>
                <a:lnTo>
                  <a:pt x="193058" y="67019"/>
                </a:lnTo>
                <a:lnTo>
                  <a:pt x="203212" y="63271"/>
                </a:lnTo>
                <a:lnTo>
                  <a:pt x="213368" y="59079"/>
                </a:lnTo>
                <a:lnTo>
                  <a:pt x="232837" y="50752"/>
                </a:lnTo>
                <a:lnTo>
                  <a:pt x="249957" y="44229"/>
                </a:lnTo>
                <a:lnTo>
                  <a:pt x="268290" y="36250"/>
                </a:lnTo>
                <a:lnTo>
                  <a:pt x="286880" y="27906"/>
                </a:lnTo>
                <a:lnTo>
                  <a:pt x="303609" y="21376"/>
                </a:lnTo>
                <a:lnTo>
                  <a:pt x="321769" y="15651"/>
                </a:lnTo>
                <a:lnTo>
                  <a:pt x="340282" y="11131"/>
                </a:lnTo>
                <a:lnTo>
                  <a:pt x="356976" y="9122"/>
                </a:lnTo>
                <a:lnTo>
                  <a:pt x="372863" y="5972"/>
                </a:lnTo>
                <a:lnTo>
                  <a:pt x="387543" y="2596"/>
                </a:lnTo>
                <a:lnTo>
                  <a:pt x="406176" y="695"/>
                </a:lnTo>
                <a:lnTo>
                  <a:pt x="420129" y="251"/>
                </a:lnTo>
                <a:lnTo>
                  <a:pt x="442265" y="0"/>
                </a:lnTo>
                <a:lnTo>
                  <a:pt x="455077" y="2199"/>
                </a:lnTo>
                <a:lnTo>
                  <a:pt x="471811" y="8198"/>
                </a:lnTo>
                <a:lnTo>
                  <a:pt x="482320" y="13745"/>
                </a:lnTo>
                <a:lnTo>
                  <a:pt x="492636" y="21855"/>
                </a:lnTo>
                <a:lnTo>
                  <a:pt x="500607" y="31104"/>
                </a:lnTo>
                <a:lnTo>
                  <a:pt x="503919" y="35941"/>
                </a:lnTo>
                <a:lnTo>
                  <a:pt x="508666" y="41706"/>
                </a:lnTo>
                <a:lnTo>
                  <a:pt x="514371" y="48089"/>
                </a:lnTo>
                <a:lnTo>
                  <a:pt x="520713" y="54884"/>
                </a:lnTo>
                <a:lnTo>
                  <a:pt x="525789" y="61955"/>
                </a:lnTo>
                <a:lnTo>
                  <a:pt x="530020" y="69208"/>
                </a:lnTo>
                <a:lnTo>
                  <a:pt x="533686" y="76583"/>
                </a:lnTo>
                <a:lnTo>
                  <a:pt x="536977" y="84887"/>
                </a:lnTo>
                <a:lnTo>
                  <a:pt x="540019" y="93810"/>
                </a:lnTo>
                <a:lnTo>
                  <a:pt x="548344" y="120291"/>
                </a:lnTo>
                <a:lnTo>
                  <a:pt x="550982" y="128419"/>
                </a:lnTo>
                <a:lnTo>
                  <a:pt x="554435" y="137224"/>
                </a:lnTo>
                <a:lnTo>
                  <a:pt x="558430" y="146481"/>
                </a:lnTo>
                <a:lnTo>
                  <a:pt x="562787" y="156039"/>
                </a:lnTo>
                <a:lnTo>
                  <a:pt x="566538" y="164951"/>
                </a:lnTo>
                <a:lnTo>
                  <a:pt x="569885" y="173432"/>
                </a:lnTo>
                <a:lnTo>
                  <a:pt x="575863" y="189630"/>
                </a:lnTo>
                <a:lnTo>
                  <a:pt x="589185" y="228394"/>
                </a:lnTo>
                <a:lnTo>
                  <a:pt x="596872" y="251325"/>
                </a:lnTo>
                <a:lnTo>
                  <a:pt x="600268" y="258108"/>
                </a:lnTo>
                <a:lnTo>
                  <a:pt x="604225" y="264324"/>
                </a:lnTo>
                <a:lnTo>
                  <a:pt x="608556" y="270161"/>
                </a:lnTo>
                <a:lnTo>
                  <a:pt x="612291" y="275746"/>
                </a:lnTo>
                <a:lnTo>
                  <a:pt x="615628" y="281162"/>
                </a:lnTo>
                <a:lnTo>
                  <a:pt x="618699" y="286466"/>
                </a:lnTo>
                <a:lnTo>
                  <a:pt x="624368" y="294618"/>
                </a:lnTo>
                <a:lnTo>
                  <a:pt x="632460" y="3046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InkAnnotation156"/>
          <p:cNvSpPr/>
          <p:nvPr/>
        </p:nvSpPr>
        <p:spPr>
          <a:xfrm>
            <a:off x="5540400" y="2122560"/>
            <a:ext cx="958680" cy="338040"/>
          </a:xfrm>
          <a:custGeom>
            <a:avLst/>
            <a:gdLst>
              <a:gd name="textAreaLeft" fmla="*/ 0 w 958680"/>
              <a:gd name="textAreaRight" fmla="*/ 959040 w 9586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960120" h="338871">
                <a:moveTo>
                  <a:pt x="0" y="186470"/>
                </a:moveTo>
                <a:lnTo>
                  <a:pt x="6560" y="186470"/>
                </a:lnTo>
                <a:lnTo>
                  <a:pt x="13494" y="191707"/>
                </a:lnTo>
                <a:lnTo>
                  <a:pt x="36557" y="199982"/>
                </a:lnTo>
                <a:lnTo>
                  <a:pt x="49778" y="201198"/>
                </a:lnTo>
                <a:lnTo>
                  <a:pt x="62763" y="200636"/>
                </a:lnTo>
                <a:lnTo>
                  <a:pt x="91796" y="195634"/>
                </a:lnTo>
                <a:lnTo>
                  <a:pt x="114405" y="192290"/>
                </a:lnTo>
                <a:lnTo>
                  <a:pt x="148845" y="183574"/>
                </a:lnTo>
                <a:lnTo>
                  <a:pt x="166060" y="176434"/>
                </a:lnTo>
                <a:lnTo>
                  <a:pt x="183870" y="168463"/>
                </a:lnTo>
                <a:lnTo>
                  <a:pt x="205898" y="162098"/>
                </a:lnTo>
                <a:lnTo>
                  <a:pt x="227541" y="154189"/>
                </a:lnTo>
                <a:lnTo>
                  <a:pt x="248449" y="145030"/>
                </a:lnTo>
                <a:lnTo>
                  <a:pt x="269030" y="135314"/>
                </a:lnTo>
                <a:lnTo>
                  <a:pt x="299658" y="120324"/>
                </a:lnTo>
                <a:lnTo>
                  <a:pt x="322270" y="110223"/>
                </a:lnTo>
                <a:lnTo>
                  <a:pt x="345584" y="100089"/>
                </a:lnTo>
                <a:lnTo>
                  <a:pt x="367234" y="89941"/>
                </a:lnTo>
                <a:lnTo>
                  <a:pt x="388146" y="82044"/>
                </a:lnTo>
                <a:lnTo>
                  <a:pt x="408729" y="74018"/>
                </a:lnTo>
                <a:lnTo>
                  <a:pt x="418959" y="68322"/>
                </a:lnTo>
                <a:lnTo>
                  <a:pt x="429165" y="61985"/>
                </a:lnTo>
                <a:lnTo>
                  <a:pt x="449538" y="52685"/>
                </a:lnTo>
                <a:lnTo>
                  <a:pt x="469034" y="44884"/>
                </a:lnTo>
                <a:lnTo>
                  <a:pt x="486166" y="35771"/>
                </a:lnTo>
                <a:lnTo>
                  <a:pt x="514136" y="25167"/>
                </a:lnTo>
                <a:lnTo>
                  <a:pt x="563526" y="8780"/>
                </a:lnTo>
                <a:lnTo>
                  <a:pt x="586635" y="5128"/>
                </a:lnTo>
                <a:lnTo>
                  <a:pt x="609568" y="0"/>
                </a:lnTo>
                <a:lnTo>
                  <a:pt x="624825" y="19"/>
                </a:lnTo>
                <a:lnTo>
                  <a:pt x="647695" y="2532"/>
                </a:lnTo>
                <a:lnTo>
                  <a:pt x="662937" y="3966"/>
                </a:lnTo>
                <a:lnTo>
                  <a:pt x="685799" y="9534"/>
                </a:lnTo>
                <a:lnTo>
                  <a:pt x="701039" y="14134"/>
                </a:lnTo>
                <a:lnTo>
                  <a:pt x="714021" y="21258"/>
                </a:lnTo>
                <a:lnTo>
                  <a:pt x="726282" y="29223"/>
                </a:lnTo>
                <a:lnTo>
                  <a:pt x="746618" y="39313"/>
                </a:lnTo>
                <a:lnTo>
                  <a:pt x="758268" y="47972"/>
                </a:lnTo>
                <a:lnTo>
                  <a:pt x="763745" y="53498"/>
                </a:lnTo>
                <a:lnTo>
                  <a:pt x="769090" y="59722"/>
                </a:lnTo>
                <a:lnTo>
                  <a:pt x="774346" y="66411"/>
                </a:lnTo>
                <a:lnTo>
                  <a:pt x="780390" y="73411"/>
                </a:lnTo>
                <a:lnTo>
                  <a:pt x="786960" y="80617"/>
                </a:lnTo>
                <a:lnTo>
                  <a:pt x="793880" y="87962"/>
                </a:lnTo>
                <a:lnTo>
                  <a:pt x="799340" y="95398"/>
                </a:lnTo>
                <a:lnTo>
                  <a:pt x="803826" y="102895"/>
                </a:lnTo>
                <a:lnTo>
                  <a:pt x="807664" y="110433"/>
                </a:lnTo>
                <a:lnTo>
                  <a:pt x="811915" y="117999"/>
                </a:lnTo>
                <a:lnTo>
                  <a:pt x="816444" y="125582"/>
                </a:lnTo>
                <a:lnTo>
                  <a:pt x="825990" y="140782"/>
                </a:lnTo>
                <a:lnTo>
                  <a:pt x="850963" y="178854"/>
                </a:lnTo>
                <a:lnTo>
                  <a:pt x="855175" y="187319"/>
                </a:lnTo>
                <a:lnTo>
                  <a:pt x="858830" y="196350"/>
                </a:lnTo>
                <a:lnTo>
                  <a:pt x="862113" y="205756"/>
                </a:lnTo>
                <a:lnTo>
                  <a:pt x="865995" y="214568"/>
                </a:lnTo>
                <a:lnTo>
                  <a:pt x="870277" y="222982"/>
                </a:lnTo>
                <a:lnTo>
                  <a:pt x="874824" y="231131"/>
                </a:lnTo>
                <a:lnTo>
                  <a:pt x="880395" y="238257"/>
                </a:lnTo>
                <a:lnTo>
                  <a:pt x="886650" y="244702"/>
                </a:lnTo>
                <a:lnTo>
                  <a:pt x="893360" y="250691"/>
                </a:lnTo>
                <a:lnTo>
                  <a:pt x="898680" y="257224"/>
                </a:lnTo>
                <a:lnTo>
                  <a:pt x="903073" y="264119"/>
                </a:lnTo>
                <a:lnTo>
                  <a:pt x="906848" y="271256"/>
                </a:lnTo>
                <a:lnTo>
                  <a:pt x="911058" y="278554"/>
                </a:lnTo>
                <a:lnTo>
                  <a:pt x="915558" y="285960"/>
                </a:lnTo>
                <a:lnTo>
                  <a:pt x="920252" y="293436"/>
                </a:lnTo>
                <a:lnTo>
                  <a:pt x="929982" y="304002"/>
                </a:lnTo>
                <a:lnTo>
                  <a:pt x="939951" y="312366"/>
                </a:lnTo>
                <a:lnTo>
                  <a:pt x="950026" y="321728"/>
                </a:lnTo>
                <a:lnTo>
                  <a:pt x="955633" y="329276"/>
                </a:lnTo>
                <a:lnTo>
                  <a:pt x="960119" y="33887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InkAnnotation157"/>
          <p:cNvSpPr/>
          <p:nvPr/>
        </p:nvSpPr>
        <p:spPr>
          <a:xfrm>
            <a:off x="6416640" y="2019240"/>
            <a:ext cx="928800" cy="351000"/>
          </a:xfrm>
          <a:custGeom>
            <a:avLst/>
            <a:gdLst>
              <a:gd name="textAreaLeft" fmla="*/ 0 w 928800"/>
              <a:gd name="textAreaRight" fmla="*/ 929160 w 92880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929641" h="350417">
                <a:moveTo>
                  <a:pt x="0" y="312316"/>
                </a:moveTo>
                <a:lnTo>
                  <a:pt x="0" y="305755"/>
                </a:lnTo>
                <a:lnTo>
                  <a:pt x="6083" y="298822"/>
                </a:lnTo>
                <a:lnTo>
                  <a:pt x="10605" y="294183"/>
                </a:lnTo>
                <a:lnTo>
                  <a:pt x="28949" y="281790"/>
                </a:lnTo>
                <a:lnTo>
                  <a:pt x="39903" y="271945"/>
                </a:lnTo>
                <a:lnTo>
                  <a:pt x="44382" y="267622"/>
                </a:lnTo>
                <a:lnTo>
                  <a:pt x="56132" y="260561"/>
                </a:lnTo>
                <a:lnTo>
                  <a:pt x="74769" y="251826"/>
                </a:lnTo>
                <a:lnTo>
                  <a:pt x="85724" y="245638"/>
                </a:lnTo>
                <a:lnTo>
                  <a:pt x="102258" y="232635"/>
                </a:lnTo>
                <a:lnTo>
                  <a:pt x="115722" y="222997"/>
                </a:lnTo>
                <a:lnTo>
                  <a:pt x="132429" y="213070"/>
                </a:lnTo>
                <a:lnTo>
                  <a:pt x="150297" y="203013"/>
                </a:lnTo>
                <a:lnTo>
                  <a:pt x="166705" y="192899"/>
                </a:lnTo>
                <a:lnTo>
                  <a:pt x="174637" y="186985"/>
                </a:lnTo>
                <a:lnTo>
                  <a:pt x="182465" y="180502"/>
                </a:lnTo>
                <a:lnTo>
                  <a:pt x="190223" y="173640"/>
                </a:lnTo>
                <a:lnTo>
                  <a:pt x="197935" y="167372"/>
                </a:lnTo>
                <a:lnTo>
                  <a:pt x="205616" y="161500"/>
                </a:lnTo>
                <a:lnTo>
                  <a:pt x="213278" y="155892"/>
                </a:lnTo>
                <a:lnTo>
                  <a:pt x="228563" y="145145"/>
                </a:lnTo>
                <a:lnTo>
                  <a:pt x="281937" y="109144"/>
                </a:lnTo>
                <a:lnTo>
                  <a:pt x="289558" y="103208"/>
                </a:lnTo>
                <a:lnTo>
                  <a:pt x="297179" y="96710"/>
                </a:lnTo>
                <a:lnTo>
                  <a:pt x="304799" y="89839"/>
                </a:lnTo>
                <a:lnTo>
                  <a:pt x="320040" y="79946"/>
                </a:lnTo>
                <a:lnTo>
                  <a:pt x="335279" y="71880"/>
                </a:lnTo>
                <a:lnTo>
                  <a:pt x="350520" y="62651"/>
                </a:lnTo>
                <a:lnTo>
                  <a:pt x="363502" y="52905"/>
                </a:lnTo>
                <a:lnTo>
                  <a:pt x="369335" y="47935"/>
                </a:lnTo>
                <a:lnTo>
                  <a:pt x="384845" y="40156"/>
                </a:lnTo>
                <a:lnTo>
                  <a:pt x="408104" y="31016"/>
                </a:lnTo>
                <a:lnTo>
                  <a:pt x="431133" y="20342"/>
                </a:lnTo>
                <a:lnTo>
                  <a:pt x="451988" y="10928"/>
                </a:lnTo>
                <a:lnTo>
                  <a:pt x="472414" y="5932"/>
                </a:lnTo>
                <a:lnTo>
                  <a:pt x="485414" y="1684"/>
                </a:lnTo>
                <a:lnTo>
                  <a:pt x="501438" y="249"/>
                </a:lnTo>
                <a:lnTo>
                  <a:pt x="515934" y="0"/>
                </a:lnTo>
                <a:lnTo>
                  <a:pt x="520062" y="812"/>
                </a:lnTo>
                <a:lnTo>
                  <a:pt x="532771" y="5941"/>
                </a:lnTo>
                <a:lnTo>
                  <a:pt x="539048" y="7663"/>
                </a:lnTo>
                <a:lnTo>
                  <a:pt x="561749" y="18030"/>
                </a:lnTo>
                <a:lnTo>
                  <a:pt x="565846" y="21298"/>
                </a:lnTo>
                <a:lnTo>
                  <a:pt x="572656" y="29446"/>
                </a:lnTo>
                <a:lnTo>
                  <a:pt x="580762" y="36454"/>
                </a:lnTo>
                <a:lnTo>
                  <a:pt x="590010" y="43237"/>
                </a:lnTo>
                <a:lnTo>
                  <a:pt x="599764" y="51897"/>
                </a:lnTo>
                <a:lnTo>
                  <a:pt x="609745" y="61389"/>
                </a:lnTo>
                <a:lnTo>
                  <a:pt x="619824" y="72100"/>
                </a:lnTo>
                <a:lnTo>
                  <a:pt x="624882" y="78512"/>
                </a:lnTo>
                <a:lnTo>
                  <a:pt x="629948" y="85327"/>
                </a:lnTo>
                <a:lnTo>
                  <a:pt x="635019" y="91563"/>
                </a:lnTo>
                <a:lnTo>
                  <a:pt x="640092" y="97414"/>
                </a:lnTo>
                <a:lnTo>
                  <a:pt x="645168" y="103008"/>
                </a:lnTo>
                <a:lnTo>
                  <a:pt x="657581" y="115997"/>
                </a:lnTo>
                <a:lnTo>
                  <a:pt x="702231" y="161081"/>
                </a:lnTo>
                <a:lnTo>
                  <a:pt x="708607" y="168312"/>
                </a:lnTo>
                <a:lnTo>
                  <a:pt x="714551" y="175674"/>
                </a:lnTo>
                <a:lnTo>
                  <a:pt x="720208" y="183121"/>
                </a:lnTo>
                <a:lnTo>
                  <a:pt x="726518" y="190626"/>
                </a:lnTo>
                <a:lnTo>
                  <a:pt x="733265" y="198170"/>
                </a:lnTo>
                <a:lnTo>
                  <a:pt x="740303" y="205738"/>
                </a:lnTo>
                <a:lnTo>
                  <a:pt x="747535" y="212477"/>
                </a:lnTo>
                <a:lnTo>
                  <a:pt x="754897" y="218664"/>
                </a:lnTo>
                <a:lnTo>
                  <a:pt x="779651" y="237718"/>
                </a:lnTo>
                <a:lnTo>
                  <a:pt x="789007" y="244804"/>
                </a:lnTo>
                <a:lnTo>
                  <a:pt x="806176" y="257193"/>
                </a:lnTo>
                <a:lnTo>
                  <a:pt x="814311" y="262868"/>
                </a:lnTo>
                <a:lnTo>
                  <a:pt x="822274" y="269190"/>
                </a:lnTo>
                <a:lnTo>
                  <a:pt x="830122" y="275945"/>
                </a:lnTo>
                <a:lnTo>
                  <a:pt x="837895" y="282989"/>
                </a:lnTo>
                <a:lnTo>
                  <a:pt x="845617" y="289378"/>
                </a:lnTo>
                <a:lnTo>
                  <a:pt x="853304" y="295331"/>
                </a:lnTo>
                <a:lnTo>
                  <a:pt x="860970" y="300993"/>
                </a:lnTo>
                <a:lnTo>
                  <a:pt x="876259" y="311799"/>
                </a:lnTo>
                <a:lnTo>
                  <a:pt x="890675" y="321400"/>
                </a:lnTo>
                <a:lnTo>
                  <a:pt x="907465" y="331565"/>
                </a:lnTo>
                <a:lnTo>
                  <a:pt x="918177" y="339939"/>
                </a:lnTo>
                <a:lnTo>
                  <a:pt x="929640" y="3504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InkAnnotation158"/>
          <p:cNvSpPr/>
          <p:nvPr/>
        </p:nvSpPr>
        <p:spPr>
          <a:xfrm>
            <a:off x="2606760" y="4145040"/>
            <a:ext cx="196920" cy="7920"/>
          </a:xfrm>
          <a:custGeom>
            <a:avLst/>
            <a:gdLst>
              <a:gd name="textAreaLeft" fmla="*/ 0 w 196920"/>
              <a:gd name="textAreaRight" fmla="*/ 197280 w 196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4045" y="7620"/>
                </a:lnTo>
                <a:lnTo>
                  <a:pt x="6084" y="6774"/>
                </a:lnTo>
                <a:lnTo>
                  <a:pt x="8289" y="5363"/>
                </a:lnTo>
                <a:lnTo>
                  <a:pt x="10606" y="3575"/>
                </a:lnTo>
                <a:lnTo>
                  <a:pt x="13844" y="2383"/>
                </a:lnTo>
                <a:lnTo>
                  <a:pt x="17697" y="1589"/>
                </a:lnTo>
                <a:lnTo>
                  <a:pt x="21958" y="1059"/>
                </a:lnTo>
                <a:lnTo>
                  <a:pt x="28185" y="706"/>
                </a:lnTo>
                <a:lnTo>
                  <a:pt x="44136" y="314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InkAnnotation159"/>
          <p:cNvSpPr/>
          <p:nvPr/>
        </p:nvSpPr>
        <p:spPr>
          <a:xfrm>
            <a:off x="2629080" y="4183200"/>
            <a:ext cx="152280" cy="29880"/>
          </a:xfrm>
          <a:custGeom>
            <a:avLst/>
            <a:gdLst>
              <a:gd name="textAreaLeft" fmla="*/ 0 w 152280"/>
              <a:gd name="textAreaRight" fmla="*/ 152640 w 15228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52401" h="30481">
                <a:moveTo>
                  <a:pt x="0" y="30480"/>
                </a:moveTo>
                <a:lnTo>
                  <a:pt x="4045" y="30480"/>
                </a:lnTo>
                <a:lnTo>
                  <a:pt x="6083" y="29633"/>
                </a:lnTo>
                <a:lnTo>
                  <a:pt x="8289" y="28223"/>
                </a:lnTo>
                <a:lnTo>
                  <a:pt x="10606" y="26435"/>
                </a:lnTo>
                <a:lnTo>
                  <a:pt x="14691" y="25243"/>
                </a:lnTo>
                <a:lnTo>
                  <a:pt x="19954" y="24449"/>
                </a:lnTo>
                <a:lnTo>
                  <a:pt x="26002" y="23919"/>
                </a:lnTo>
                <a:lnTo>
                  <a:pt x="33422" y="22719"/>
                </a:lnTo>
                <a:lnTo>
                  <a:pt x="41755" y="21073"/>
                </a:lnTo>
                <a:lnTo>
                  <a:pt x="50697" y="19129"/>
                </a:lnTo>
                <a:lnTo>
                  <a:pt x="59198" y="17833"/>
                </a:lnTo>
                <a:lnTo>
                  <a:pt x="67405" y="16968"/>
                </a:lnTo>
                <a:lnTo>
                  <a:pt x="75417" y="16392"/>
                </a:lnTo>
                <a:lnTo>
                  <a:pt x="83298" y="15161"/>
                </a:lnTo>
                <a:lnTo>
                  <a:pt x="91092" y="13494"/>
                </a:lnTo>
                <a:lnTo>
                  <a:pt x="98828" y="11536"/>
                </a:lnTo>
                <a:lnTo>
                  <a:pt x="106525" y="9384"/>
                </a:lnTo>
                <a:lnTo>
                  <a:pt x="121851" y="4735"/>
                </a:lnTo>
                <a:lnTo>
                  <a:pt x="128648" y="3157"/>
                </a:lnTo>
                <a:lnTo>
                  <a:pt x="134872" y="2104"/>
                </a:lnTo>
                <a:lnTo>
                  <a:pt x="1524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InkAnnotation160"/>
          <p:cNvSpPr/>
          <p:nvPr/>
        </p:nvSpPr>
        <p:spPr>
          <a:xfrm>
            <a:off x="2887560" y="3878280"/>
            <a:ext cx="290520" cy="360"/>
          </a:xfrm>
          <a:custGeom>
            <a:avLst/>
            <a:gdLst>
              <a:gd name="textAreaLeft" fmla="*/ 0 w 290520"/>
              <a:gd name="textAreaRight" fmla="*/ 290880 w 2905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89561" h="1">
                <a:moveTo>
                  <a:pt x="0" y="0"/>
                </a:moveTo>
                <a:lnTo>
                  <a:pt x="2895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InkAnnotation161"/>
          <p:cNvSpPr/>
          <p:nvPr/>
        </p:nvSpPr>
        <p:spPr>
          <a:xfrm>
            <a:off x="3378240" y="3605040"/>
            <a:ext cx="203040" cy="379440"/>
          </a:xfrm>
          <a:custGeom>
            <a:avLst/>
            <a:gdLst>
              <a:gd name="textAreaLeft" fmla="*/ 0 w 203040"/>
              <a:gd name="textAreaRight" fmla="*/ 203400 w 2030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203163" h="380233">
                <a:moveTo>
                  <a:pt x="172827" y="75432"/>
                </a:moveTo>
                <a:lnTo>
                  <a:pt x="176872" y="71387"/>
                </a:lnTo>
                <a:lnTo>
                  <a:pt x="178064" y="69348"/>
                </a:lnTo>
                <a:lnTo>
                  <a:pt x="179388" y="64826"/>
                </a:lnTo>
                <a:lnTo>
                  <a:pt x="180133" y="57520"/>
                </a:lnTo>
                <a:lnTo>
                  <a:pt x="181084" y="55024"/>
                </a:lnTo>
                <a:lnTo>
                  <a:pt x="184400" y="49993"/>
                </a:lnTo>
                <a:lnTo>
                  <a:pt x="186437" y="42677"/>
                </a:lnTo>
                <a:lnTo>
                  <a:pt x="187584" y="31296"/>
                </a:lnTo>
                <a:lnTo>
                  <a:pt x="187972" y="19865"/>
                </a:lnTo>
                <a:lnTo>
                  <a:pt x="186310" y="16374"/>
                </a:lnTo>
                <a:lnTo>
                  <a:pt x="183509" y="12353"/>
                </a:lnTo>
                <a:lnTo>
                  <a:pt x="179949" y="7979"/>
                </a:lnTo>
                <a:lnTo>
                  <a:pt x="176728" y="5064"/>
                </a:lnTo>
                <a:lnTo>
                  <a:pt x="173734" y="3120"/>
                </a:lnTo>
                <a:lnTo>
                  <a:pt x="170892" y="1824"/>
                </a:lnTo>
                <a:lnTo>
                  <a:pt x="165610" y="960"/>
                </a:lnTo>
                <a:lnTo>
                  <a:pt x="158702" y="384"/>
                </a:lnTo>
                <a:lnTo>
                  <a:pt x="150711" y="0"/>
                </a:lnTo>
                <a:lnTo>
                  <a:pt x="142843" y="591"/>
                </a:lnTo>
                <a:lnTo>
                  <a:pt x="135057" y="1831"/>
                </a:lnTo>
                <a:lnTo>
                  <a:pt x="118787" y="5468"/>
                </a:lnTo>
                <a:lnTo>
                  <a:pt x="100267" y="9906"/>
                </a:lnTo>
                <a:lnTo>
                  <a:pt x="90587" y="13967"/>
                </a:lnTo>
                <a:lnTo>
                  <a:pt x="80747" y="19216"/>
                </a:lnTo>
                <a:lnTo>
                  <a:pt x="61629" y="30974"/>
                </a:lnTo>
                <a:lnTo>
                  <a:pt x="36586" y="47113"/>
                </a:lnTo>
                <a:lnTo>
                  <a:pt x="20836" y="57483"/>
                </a:lnTo>
                <a:lnTo>
                  <a:pt x="14772" y="63466"/>
                </a:lnTo>
                <a:lnTo>
                  <a:pt x="9884" y="69995"/>
                </a:lnTo>
                <a:lnTo>
                  <a:pt x="5779" y="76887"/>
                </a:lnTo>
                <a:lnTo>
                  <a:pt x="1217" y="86803"/>
                </a:lnTo>
                <a:lnTo>
                  <a:pt x="0" y="90633"/>
                </a:lnTo>
                <a:lnTo>
                  <a:pt x="36" y="94879"/>
                </a:lnTo>
                <a:lnTo>
                  <a:pt x="2333" y="104113"/>
                </a:lnTo>
                <a:lnTo>
                  <a:pt x="4978" y="108099"/>
                </a:lnTo>
                <a:lnTo>
                  <a:pt x="8434" y="111603"/>
                </a:lnTo>
                <a:lnTo>
                  <a:pt x="12432" y="114786"/>
                </a:lnTo>
                <a:lnTo>
                  <a:pt x="17637" y="117755"/>
                </a:lnTo>
                <a:lnTo>
                  <a:pt x="23647" y="120581"/>
                </a:lnTo>
                <a:lnTo>
                  <a:pt x="30194" y="123311"/>
                </a:lnTo>
                <a:lnTo>
                  <a:pt x="37945" y="125131"/>
                </a:lnTo>
                <a:lnTo>
                  <a:pt x="46499" y="126345"/>
                </a:lnTo>
                <a:lnTo>
                  <a:pt x="55588" y="127154"/>
                </a:lnTo>
                <a:lnTo>
                  <a:pt x="65034" y="126847"/>
                </a:lnTo>
                <a:lnTo>
                  <a:pt x="74719" y="125795"/>
                </a:lnTo>
                <a:lnTo>
                  <a:pt x="84561" y="124247"/>
                </a:lnTo>
                <a:lnTo>
                  <a:pt x="93664" y="122369"/>
                </a:lnTo>
                <a:lnTo>
                  <a:pt x="102271" y="120270"/>
                </a:lnTo>
                <a:lnTo>
                  <a:pt x="128779" y="113271"/>
                </a:lnTo>
                <a:lnTo>
                  <a:pt x="138382" y="110818"/>
                </a:lnTo>
                <a:lnTo>
                  <a:pt x="146477" y="107489"/>
                </a:lnTo>
                <a:lnTo>
                  <a:pt x="153567" y="103577"/>
                </a:lnTo>
                <a:lnTo>
                  <a:pt x="159987" y="99275"/>
                </a:lnTo>
                <a:lnTo>
                  <a:pt x="165960" y="95561"/>
                </a:lnTo>
                <a:lnTo>
                  <a:pt x="171636" y="92238"/>
                </a:lnTo>
                <a:lnTo>
                  <a:pt x="177113" y="89176"/>
                </a:lnTo>
                <a:lnTo>
                  <a:pt x="181611" y="86288"/>
                </a:lnTo>
                <a:lnTo>
                  <a:pt x="185457" y="83516"/>
                </a:lnTo>
                <a:lnTo>
                  <a:pt x="188867" y="80821"/>
                </a:lnTo>
                <a:lnTo>
                  <a:pt x="194914" y="75569"/>
                </a:lnTo>
                <a:lnTo>
                  <a:pt x="203162" y="67947"/>
                </a:lnTo>
                <a:lnTo>
                  <a:pt x="199218" y="71897"/>
                </a:lnTo>
                <a:lnTo>
                  <a:pt x="194999" y="78376"/>
                </a:lnTo>
                <a:lnTo>
                  <a:pt x="190302" y="86901"/>
                </a:lnTo>
                <a:lnTo>
                  <a:pt x="185391" y="96334"/>
                </a:lnTo>
                <a:lnTo>
                  <a:pt x="182897" y="102066"/>
                </a:lnTo>
                <a:lnTo>
                  <a:pt x="180387" y="108429"/>
                </a:lnTo>
                <a:lnTo>
                  <a:pt x="175340" y="122270"/>
                </a:lnTo>
                <a:lnTo>
                  <a:pt x="170275" y="136889"/>
                </a:lnTo>
                <a:lnTo>
                  <a:pt x="167739" y="145190"/>
                </a:lnTo>
                <a:lnTo>
                  <a:pt x="162664" y="163444"/>
                </a:lnTo>
                <a:lnTo>
                  <a:pt x="155046" y="192762"/>
                </a:lnTo>
                <a:lnTo>
                  <a:pt x="153353" y="202758"/>
                </a:lnTo>
                <a:lnTo>
                  <a:pt x="152224" y="212810"/>
                </a:lnTo>
                <a:lnTo>
                  <a:pt x="151472" y="222897"/>
                </a:lnTo>
                <a:lnTo>
                  <a:pt x="150970" y="233009"/>
                </a:lnTo>
                <a:lnTo>
                  <a:pt x="150413" y="253275"/>
                </a:lnTo>
                <a:lnTo>
                  <a:pt x="150099" y="283725"/>
                </a:lnTo>
                <a:lnTo>
                  <a:pt x="150902" y="293034"/>
                </a:lnTo>
                <a:lnTo>
                  <a:pt x="152283" y="301780"/>
                </a:lnTo>
                <a:lnTo>
                  <a:pt x="154051" y="310150"/>
                </a:lnTo>
                <a:lnTo>
                  <a:pt x="155230" y="318271"/>
                </a:lnTo>
                <a:lnTo>
                  <a:pt x="156016" y="326225"/>
                </a:lnTo>
                <a:lnTo>
                  <a:pt x="156540" y="334067"/>
                </a:lnTo>
                <a:lnTo>
                  <a:pt x="157735" y="340989"/>
                </a:lnTo>
                <a:lnTo>
                  <a:pt x="159379" y="347296"/>
                </a:lnTo>
                <a:lnTo>
                  <a:pt x="162617" y="357974"/>
                </a:lnTo>
                <a:lnTo>
                  <a:pt x="164056" y="365542"/>
                </a:lnTo>
                <a:lnTo>
                  <a:pt x="166953" y="371727"/>
                </a:lnTo>
                <a:lnTo>
                  <a:pt x="172827" y="38023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InkAnnotation162"/>
          <p:cNvSpPr/>
          <p:nvPr/>
        </p:nvSpPr>
        <p:spPr>
          <a:xfrm>
            <a:off x="3238560" y="4046400"/>
            <a:ext cx="503280" cy="22320"/>
          </a:xfrm>
          <a:custGeom>
            <a:avLst/>
            <a:gdLst>
              <a:gd name="textAreaLeft" fmla="*/ 0 w 503280"/>
              <a:gd name="textAreaRight" fmla="*/ 503640 w 503280"/>
              <a:gd name="textAreaTop" fmla="*/ 0 h 22320"/>
              <a:gd name="textAreaBottom" fmla="*/ 22320 h 22320"/>
            </a:gdLst>
            <a:ahLst/>
            <a:rect l="textAreaLeft" t="textAreaTop" r="textAreaRight" b="textAreaBottom"/>
            <a:pathLst>
              <a:path w="502921" h="22852">
                <a:moveTo>
                  <a:pt x="0" y="7612"/>
                </a:moveTo>
                <a:lnTo>
                  <a:pt x="14651" y="7612"/>
                </a:lnTo>
                <a:lnTo>
                  <a:pt x="19081" y="6765"/>
                </a:lnTo>
                <a:lnTo>
                  <a:pt x="23727" y="5354"/>
                </a:lnTo>
                <a:lnTo>
                  <a:pt x="28518" y="3566"/>
                </a:lnTo>
                <a:lnTo>
                  <a:pt x="35945" y="2374"/>
                </a:lnTo>
                <a:lnTo>
                  <a:pt x="45130" y="1580"/>
                </a:lnTo>
                <a:lnTo>
                  <a:pt x="55487" y="1050"/>
                </a:lnTo>
                <a:lnTo>
                  <a:pt x="78283" y="462"/>
                </a:lnTo>
                <a:lnTo>
                  <a:pt x="217888" y="0"/>
                </a:lnTo>
                <a:lnTo>
                  <a:pt x="235005" y="843"/>
                </a:lnTo>
                <a:lnTo>
                  <a:pt x="252344" y="2253"/>
                </a:lnTo>
                <a:lnTo>
                  <a:pt x="269829" y="4039"/>
                </a:lnTo>
                <a:lnTo>
                  <a:pt x="286566" y="5230"/>
                </a:lnTo>
                <a:lnTo>
                  <a:pt x="302804" y="6023"/>
                </a:lnTo>
                <a:lnTo>
                  <a:pt x="318710" y="6553"/>
                </a:lnTo>
                <a:lnTo>
                  <a:pt x="334393" y="7752"/>
                </a:lnTo>
                <a:lnTo>
                  <a:pt x="349929" y="9399"/>
                </a:lnTo>
                <a:lnTo>
                  <a:pt x="365366" y="11343"/>
                </a:lnTo>
                <a:lnTo>
                  <a:pt x="379890" y="12639"/>
                </a:lnTo>
                <a:lnTo>
                  <a:pt x="393807" y="13503"/>
                </a:lnTo>
                <a:lnTo>
                  <a:pt x="407318" y="14079"/>
                </a:lnTo>
                <a:lnTo>
                  <a:pt x="419712" y="15310"/>
                </a:lnTo>
                <a:lnTo>
                  <a:pt x="431362" y="16977"/>
                </a:lnTo>
                <a:lnTo>
                  <a:pt x="442514" y="18935"/>
                </a:lnTo>
                <a:lnTo>
                  <a:pt x="451643" y="20241"/>
                </a:lnTo>
                <a:lnTo>
                  <a:pt x="459423" y="21111"/>
                </a:lnTo>
                <a:lnTo>
                  <a:pt x="466301" y="21691"/>
                </a:lnTo>
                <a:lnTo>
                  <a:pt x="478461" y="22336"/>
                </a:lnTo>
                <a:lnTo>
                  <a:pt x="492568" y="22699"/>
                </a:lnTo>
                <a:lnTo>
                  <a:pt x="502920" y="228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InkAnnotation163"/>
          <p:cNvSpPr/>
          <p:nvPr/>
        </p:nvSpPr>
        <p:spPr>
          <a:xfrm>
            <a:off x="3244680" y="4160880"/>
            <a:ext cx="130320" cy="266760"/>
          </a:xfrm>
          <a:custGeom>
            <a:avLst/>
            <a:gdLst>
              <a:gd name="textAreaLeft" fmla="*/ 0 w 130320"/>
              <a:gd name="textAreaRight" fmla="*/ 130680 w 1303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30805" h="266701">
                <a:moveTo>
                  <a:pt x="130804" y="0"/>
                </a:moveTo>
                <a:lnTo>
                  <a:pt x="130804" y="11352"/>
                </a:lnTo>
                <a:lnTo>
                  <a:pt x="129957" y="13495"/>
                </a:lnTo>
                <a:lnTo>
                  <a:pt x="126759" y="18133"/>
                </a:lnTo>
                <a:lnTo>
                  <a:pt x="124773" y="23018"/>
                </a:lnTo>
                <a:lnTo>
                  <a:pt x="123043" y="29704"/>
                </a:lnTo>
                <a:lnTo>
                  <a:pt x="119453" y="41142"/>
                </a:lnTo>
                <a:lnTo>
                  <a:pt x="117309" y="46901"/>
                </a:lnTo>
                <a:lnTo>
                  <a:pt x="115034" y="52434"/>
                </a:lnTo>
                <a:lnTo>
                  <a:pt x="112671" y="57817"/>
                </a:lnTo>
                <a:lnTo>
                  <a:pt x="109402" y="63945"/>
                </a:lnTo>
                <a:lnTo>
                  <a:pt x="105529" y="70570"/>
                </a:lnTo>
                <a:lnTo>
                  <a:pt x="96711" y="84705"/>
                </a:lnTo>
                <a:lnTo>
                  <a:pt x="87147" y="99454"/>
                </a:lnTo>
                <a:lnTo>
                  <a:pt x="81379" y="107789"/>
                </a:lnTo>
                <a:lnTo>
                  <a:pt x="61126" y="135701"/>
                </a:lnTo>
                <a:lnTo>
                  <a:pt x="46496" y="155421"/>
                </a:lnTo>
                <a:lnTo>
                  <a:pt x="39885" y="165421"/>
                </a:lnTo>
                <a:lnTo>
                  <a:pt x="33785" y="175474"/>
                </a:lnTo>
                <a:lnTo>
                  <a:pt x="28025" y="185563"/>
                </a:lnTo>
                <a:lnTo>
                  <a:pt x="23338" y="194828"/>
                </a:lnTo>
                <a:lnTo>
                  <a:pt x="19366" y="203546"/>
                </a:lnTo>
                <a:lnTo>
                  <a:pt x="15872" y="211898"/>
                </a:lnTo>
                <a:lnTo>
                  <a:pt x="11849" y="219159"/>
                </a:lnTo>
                <a:lnTo>
                  <a:pt x="7474" y="225693"/>
                </a:lnTo>
                <a:lnTo>
                  <a:pt x="2865" y="231742"/>
                </a:lnTo>
                <a:lnTo>
                  <a:pt x="637" y="236621"/>
                </a:lnTo>
                <a:lnTo>
                  <a:pt x="0" y="240721"/>
                </a:lnTo>
                <a:lnTo>
                  <a:pt x="421" y="244301"/>
                </a:lnTo>
                <a:lnTo>
                  <a:pt x="1549" y="247534"/>
                </a:lnTo>
                <a:lnTo>
                  <a:pt x="5060" y="253384"/>
                </a:lnTo>
                <a:lnTo>
                  <a:pt x="7184" y="258807"/>
                </a:lnTo>
                <a:lnTo>
                  <a:pt x="7751" y="261438"/>
                </a:lnTo>
                <a:lnTo>
                  <a:pt x="8975" y="263192"/>
                </a:lnTo>
                <a:lnTo>
                  <a:pt x="10638" y="264361"/>
                </a:lnTo>
                <a:lnTo>
                  <a:pt x="16504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InkAnnotation164"/>
          <p:cNvSpPr/>
          <p:nvPr/>
        </p:nvSpPr>
        <p:spPr>
          <a:xfrm>
            <a:off x="3467160" y="4199040"/>
            <a:ext cx="158760" cy="263520"/>
          </a:xfrm>
          <a:custGeom>
            <a:avLst/>
            <a:gdLst>
              <a:gd name="textAreaLeft" fmla="*/ 0 w 158760"/>
              <a:gd name="textAreaRight" fmla="*/ 159120 w 158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57475" h="263492">
                <a:moveTo>
                  <a:pt x="52857" y="14918"/>
                </a:moveTo>
                <a:lnTo>
                  <a:pt x="67775" y="0"/>
                </a:lnTo>
                <a:lnTo>
                  <a:pt x="63956" y="7864"/>
                </a:lnTo>
                <a:lnTo>
                  <a:pt x="62796" y="11908"/>
                </a:lnTo>
                <a:lnTo>
                  <a:pt x="62023" y="16298"/>
                </a:lnTo>
                <a:lnTo>
                  <a:pt x="61508" y="20918"/>
                </a:lnTo>
                <a:lnTo>
                  <a:pt x="59471" y="25691"/>
                </a:lnTo>
                <a:lnTo>
                  <a:pt x="56419" y="30567"/>
                </a:lnTo>
                <a:lnTo>
                  <a:pt x="52692" y="35511"/>
                </a:lnTo>
                <a:lnTo>
                  <a:pt x="48514" y="42193"/>
                </a:lnTo>
                <a:lnTo>
                  <a:pt x="44035" y="50035"/>
                </a:lnTo>
                <a:lnTo>
                  <a:pt x="34542" y="67779"/>
                </a:lnTo>
                <a:lnTo>
                  <a:pt x="24680" y="86954"/>
                </a:lnTo>
                <a:lnTo>
                  <a:pt x="20525" y="96808"/>
                </a:lnTo>
                <a:lnTo>
                  <a:pt x="16909" y="106765"/>
                </a:lnTo>
                <a:lnTo>
                  <a:pt x="13652" y="116790"/>
                </a:lnTo>
                <a:lnTo>
                  <a:pt x="10633" y="126859"/>
                </a:lnTo>
                <a:lnTo>
                  <a:pt x="5022" y="147078"/>
                </a:lnTo>
                <a:lnTo>
                  <a:pt x="3187" y="157211"/>
                </a:lnTo>
                <a:lnTo>
                  <a:pt x="1964" y="167354"/>
                </a:lnTo>
                <a:lnTo>
                  <a:pt x="1149" y="177502"/>
                </a:lnTo>
                <a:lnTo>
                  <a:pt x="605" y="186807"/>
                </a:lnTo>
                <a:lnTo>
                  <a:pt x="0" y="203920"/>
                </a:lnTo>
                <a:lnTo>
                  <a:pt x="1533" y="211193"/>
                </a:lnTo>
                <a:lnTo>
                  <a:pt x="4247" y="217735"/>
                </a:lnTo>
                <a:lnTo>
                  <a:pt x="7751" y="223789"/>
                </a:lnTo>
                <a:lnTo>
                  <a:pt x="11779" y="229518"/>
                </a:lnTo>
                <a:lnTo>
                  <a:pt x="16158" y="235032"/>
                </a:lnTo>
                <a:lnTo>
                  <a:pt x="20771" y="240401"/>
                </a:lnTo>
                <a:lnTo>
                  <a:pt x="25540" y="245673"/>
                </a:lnTo>
                <a:lnTo>
                  <a:pt x="35354" y="256047"/>
                </a:lnTo>
                <a:lnTo>
                  <a:pt x="41188" y="259491"/>
                </a:lnTo>
                <a:lnTo>
                  <a:pt x="47618" y="261786"/>
                </a:lnTo>
                <a:lnTo>
                  <a:pt x="54444" y="263317"/>
                </a:lnTo>
                <a:lnTo>
                  <a:pt x="62382" y="263491"/>
                </a:lnTo>
                <a:lnTo>
                  <a:pt x="71060" y="262760"/>
                </a:lnTo>
                <a:lnTo>
                  <a:pt x="80233" y="261426"/>
                </a:lnTo>
                <a:lnTo>
                  <a:pt x="88041" y="259690"/>
                </a:lnTo>
                <a:lnTo>
                  <a:pt x="94939" y="257686"/>
                </a:lnTo>
                <a:lnTo>
                  <a:pt x="101231" y="255503"/>
                </a:lnTo>
                <a:lnTo>
                  <a:pt x="107967" y="251508"/>
                </a:lnTo>
                <a:lnTo>
                  <a:pt x="114997" y="246305"/>
                </a:lnTo>
                <a:lnTo>
                  <a:pt x="122223" y="240296"/>
                </a:lnTo>
                <a:lnTo>
                  <a:pt x="128734" y="234597"/>
                </a:lnTo>
                <a:lnTo>
                  <a:pt x="134769" y="229104"/>
                </a:lnTo>
                <a:lnTo>
                  <a:pt x="140484" y="223749"/>
                </a:lnTo>
                <a:lnTo>
                  <a:pt x="145142" y="218485"/>
                </a:lnTo>
                <a:lnTo>
                  <a:pt x="149094" y="213282"/>
                </a:lnTo>
                <a:lnTo>
                  <a:pt x="152575" y="208121"/>
                </a:lnTo>
                <a:lnTo>
                  <a:pt x="154895" y="202140"/>
                </a:lnTo>
                <a:lnTo>
                  <a:pt x="156442" y="195613"/>
                </a:lnTo>
                <a:lnTo>
                  <a:pt x="157474" y="188721"/>
                </a:lnTo>
                <a:lnTo>
                  <a:pt x="157315" y="183280"/>
                </a:lnTo>
                <a:lnTo>
                  <a:pt x="156362" y="178806"/>
                </a:lnTo>
                <a:lnTo>
                  <a:pt x="153046" y="171577"/>
                </a:lnTo>
                <a:lnTo>
                  <a:pt x="148750" y="165542"/>
                </a:lnTo>
                <a:lnTo>
                  <a:pt x="144018" y="160038"/>
                </a:lnTo>
                <a:lnTo>
                  <a:pt x="141571" y="157384"/>
                </a:lnTo>
                <a:lnTo>
                  <a:pt x="138247" y="155615"/>
                </a:lnTo>
                <a:lnTo>
                  <a:pt x="134336" y="154436"/>
                </a:lnTo>
                <a:lnTo>
                  <a:pt x="130037" y="153650"/>
                </a:lnTo>
                <a:lnTo>
                  <a:pt x="125476" y="153126"/>
                </a:lnTo>
                <a:lnTo>
                  <a:pt x="120743" y="152776"/>
                </a:lnTo>
                <a:lnTo>
                  <a:pt x="115895" y="152544"/>
                </a:lnTo>
                <a:lnTo>
                  <a:pt x="111816" y="154082"/>
                </a:lnTo>
                <a:lnTo>
                  <a:pt x="108249" y="156801"/>
                </a:lnTo>
                <a:lnTo>
                  <a:pt x="105025" y="160306"/>
                </a:lnTo>
                <a:lnTo>
                  <a:pt x="102029" y="164337"/>
                </a:lnTo>
                <a:lnTo>
                  <a:pt x="99185" y="168717"/>
                </a:lnTo>
                <a:lnTo>
                  <a:pt x="96442" y="173331"/>
                </a:lnTo>
                <a:lnTo>
                  <a:pt x="94614" y="178100"/>
                </a:lnTo>
                <a:lnTo>
                  <a:pt x="93395" y="182973"/>
                </a:lnTo>
                <a:lnTo>
                  <a:pt x="92582" y="187914"/>
                </a:lnTo>
                <a:lnTo>
                  <a:pt x="92887" y="192902"/>
                </a:lnTo>
                <a:lnTo>
                  <a:pt x="93937" y="197921"/>
                </a:lnTo>
                <a:lnTo>
                  <a:pt x="95483" y="202960"/>
                </a:lnTo>
                <a:lnTo>
                  <a:pt x="98208" y="208859"/>
                </a:lnTo>
                <a:lnTo>
                  <a:pt x="101717" y="215332"/>
                </a:lnTo>
                <a:lnTo>
                  <a:pt x="105751" y="222187"/>
                </a:lnTo>
                <a:lnTo>
                  <a:pt x="110133" y="227604"/>
                </a:lnTo>
                <a:lnTo>
                  <a:pt x="114747" y="232062"/>
                </a:lnTo>
                <a:lnTo>
                  <a:pt x="129057" y="2435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InkAnnotation165"/>
          <p:cNvSpPr/>
          <p:nvPr/>
        </p:nvSpPr>
        <p:spPr>
          <a:xfrm>
            <a:off x="3056040" y="5288040"/>
            <a:ext cx="228600" cy="360"/>
          </a:xfrm>
          <a:custGeom>
            <a:avLst/>
            <a:gdLst>
              <a:gd name="textAreaLeft" fmla="*/ 0 w 228600"/>
              <a:gd name="textAreaRight" fmla="*/ 228960 w 2286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601" h="1">
                <a:moveTo>
                  <a:pt x="0" y="0"/>
                </a:move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InkAnnotation166"/>
          <p:cNvSpPr/>
          <p:nvPr/>
        </p:nvSpPr>
        <p:spPr>
          <a:xfrm>
            <a:off x="3040200" y="5342040"/>
            <a:ext cx="176040" cy="7920"/>
          </a:xfrm>
          <a:custGeom>
            <a:avLst/>
            <a:gdLst>
              <a:gd name="textAreaLeft" fmla="*/ 0 w 176040"/>
              <a:gd name="textAreaRight" fmla="*/ 176400 w 176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5261" h="7621">
                <a:moveTo>
                  <a:pt x="0" y="0"/>
                </a:moveTo>
                <a:lnTo>
                  <a:pt x="0" y="7593"/>
                </a:lnTo>
                <a:lnTo>
                  <a:pt x="137946" y="7620"/>
                </a:lnTo>
                <a:lnTo>
                  <a:pt x="141918" y="6774"/>
                </a:lnTo>
                <a:lnTo>
                  <a:pt x="146258" y="5363"/>
                </a:lnTo>
                <a:lnTo>
                  <a:pt x="150846" y="3575"/>
                </a:lnTo>
                <a:lnTo>
                  <a:pt x="154751" y="2383"/>
                </a:lnTo>
                <a:lnTo>
                  <a:pt x="158200" y="1589"/>
                </a:lnTo>
                <a:lnTo>
                  <a:pt x="165776" y="314"/>
                </a:lnTo>
                <a:lnTo>
                  <a:pt x="169069" y="140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InkAnnotation167"/>
          <p:cNvSpPr/>
          <p:nvPr/>
        </p:nvSpPr>
        <p:spPr>
          <a:xfrm>
            <a:off x="3390840" y="5295960"/>
            <a:ext cx="92160" cy="7920"/>
          </a:xfrm>
          <a:custGeom>
            <a:avLst/>
            <a:gdLst>
              <a:gd name="textAreaLeft" fmla="*/ 0 w 92160"/>
              <a:gd name="textAreaRight" fmla="*/ 92520 w 92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91441" h="7621">
                <a:moveTo>
                  <a:pt x="0" y="7620"/>
                </a:moveTo>
                <a:lnTo>
                  <a:pt x="7306" y="7620"/>
                </a:lnTo>
                <a:lnTo>
                  <a:pt x="8257" y="6774"/>
                </a:lnTo>
                <a:lnTo>
                  <a:pt x="11573" y="3575"/>
                </a:lnTo>
                <a:lnTo>
                  <a:pt x="13641" y="2384"/>
                </a:lnTo>
                <a:lnTo>
                  <a:pt x="15868" y="1589"/>
                </a:lnTo>
                <a:lnTo>
                  <a:pt x="18199" y="1059"/>
                </a:lnTo>
                <a:lnTo>
                  <a:pt x="20599" y="706"/>
                </a:lnTo>
                <a:lnTo>
                  <a:pt x="23046" y="471"/>
                </a:lnTo>
                <a:lnTo>
                  <a:pt x="25524" y="314"/>
                </a:lnTo>
                <a:lnTo>
                  <a:pt x="30535" y="140"/>
                </a:lnTo>
                <a:lnTo>
                  <a:pt x="40651" y="28"/>
                </a:lnTo>
                <a:lnTo>
                  <a:pt x="914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InkAnnotation168"/>
          <p:cNvSpPr/>
          <p:nvPr/>
        </p:nvSpPr>
        <p:spPr>
          <a:xfrm>
            <a:off x="3382920" y="5257800"/>
            <a:ext cx="138240" cy="7920"/>
          </a:xfrm>
          <a:custGeom>
            <a:avLst/>
            <a:gdLst>
              <a:gd name="textAreaLeft" fmla="*/ 0 w 138240"/>
              <a:gd name="textAreaRight" fmla="*/ 138600 w 138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37161" h="7621">
                <a:moveTo>
                  <a:pt x="0" y="0"/>
                </a:moveTo>
                <a:lnTo>
                  <a:pt x="0" y="7620"/>
                </a:lnTo>
                <a:lnTo>
                  <a:pt x="13716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InkAnnotation169"/>
          <p:cNvSpPr/>
          <p:nvPr/>
        </p:nvSpPr>
        <p:spPr>
          <a:xfrm>
            <a:off x="3611520" y="5059440"/>
            <a:ext cx="114480" cy="663480"/>
          </a:xfrm>
          <a:custGeom>
            <a:avLst/>
            <a:gdLst>
              <a:gd name="textAreaLeft" fmla="*/ 0 w 114480"/>
              <a:gd name="textAreaRight" fmla="*/ 114840 w 11448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14168" h="662941">
                <a:moveTo>
                  <a:pt x="83687" y="0"/>
                </a:moveTo>
                <a:lnTo>
                  <a:pt x="83687" y="4045"/>
                </a:lnTo>
                <a:lnTo>
                  <a:pt x="81994" y="6930"/>
                </a:lnTo>
                <a:lnTo>
                  <a:pt x="79172" y="10546"/>
                </a:lnTo>
                <a:lnTo>
                  <a:pt x="75596" y="14651"/>
                </a:lnTo>
                <a:lnTo>
                  <a:pt x="73213" y="18234"/>
                </a:lnTo>
                <a:lnTo>
                  <a:pt x="70566" y="24473"/>
                </a:lnTo>
                <a:lnTo>
                  <a:pt x="67131" y="32326"/>
                </a:lnTo>
                <a:lnTo>
                  <a:pt x="65030" y="36791"/>
                </a:lnTo>
                <a:lnTo>
                  <a:pt x="62782" y="42307"/>
                </a:lnTo>
                <a:lnTo>
                  <a:pt x="60437" y="48524"/>
                </a:lnTo>
                <a:lnTo>
                  <a:pt x="55574" y="62207"/>
                </a:lnTo>
                <a:lnTo>
                  <a:pt x="50590" y="76754"/>
                </a:lnTo>
                <a:lnTo>
                  <a:pt x="47230" y="84189"/>
                </a:lnTo>
                <a:lnTo>
                  <a:pt x="43295" y="91687"/>
                </a:lnTo>
                <a:lnTo>
                  <a:pt x="38979" y="99224"/>
                </a:lnTo>
                <a:lnTo>
                  <a:pt x="35255" y="106790"/>
                </a:lnTo>
                <a:lnTo>
                  <a:pt x="31926" y="114373"/>
                </a:lnTo>
                <a:lnTo>
                  <a:pt x="28860" y="121969"/>
                </a:lnTo>
                <a:lnTo>
                  <a:pt x="25969" y="130419"/>
                </a:lnTo>
                <a:lnTo>
                  <a:pt x="23195" y="139439"/>
                </a:lnTo>
                <a:lnTo>
                  <a:pt x="17855" y="158493"/>
                </a:lnTo>
                <a:lnTo>
                  <a:pt x="4974" y="208414"/>
                </a:lnTo>
                <a:lnTo>
                  <a:pt x="3272" y="219376"/>
                </a:lnTo>
                <a:lnTo>
                  <a:pt x="2137" y="230917"/>
                </a:lnTo>
                <a:lnTo>
                  <a:pt x="1380" y="242845"/>
                </a:lnTo>
                <a:lnTo>
                  <a:pt x="540" y="265129"/>
                </a:lnTo>
                <a:lnTo>
                  <a:pt x="66" y="298972"/>
                </a:lnTo>
                <a:lnTo>
                  <a:pt x="0" y="311075"/>
                </a:lnTo>
                <a:lnTo>
                  <a:pt x="803" y="323377"/>
                </a:lnTo>
                <a:lnTo>
                  <a:pt x="2184" y="335811"/>
                </a:lnTo>
                <a:lnTo>
                  <a:pt x="3952" y="348334"/>
                </a:lnTo>
                <a:lnTo>
                  <a:pt x="8174" y="373537"/>
                </a:lnTo>
                <a:lnTo>
                  <a:pt x="10484" y="386185"/>
                </a:lnTo>
                <a:lnTo>
                  <a:pt x="13719" y="399696"/>
                </a:lnTo>
                <a:lnTo>
                  <a:pt x="17569" y="413785"/>
                </a:lnTo>
                <a:lnTo>
                  <a:pt x="21828" y="428256"/>
                </a:lnTo>
                <a:lnTo>
                  <a:pt x="26361" y="442138"/>
                </a:lnTo>
                <a:lnTo>
                  <a:pt x="31076" y="455625"/>
                </a:lnTo>
                <a:lnTo>
                  <a:pt x="40831" y="481900"/>
                </a:lnTo>
                <a:lnTo>
                  <a:pt x="55843" y="521340"/>
                </a:lnTo>
                <a:lnTo>
                  <a:pt x="65950" y="550054"/>
                </a:lnTo>
                <a:lnTo>
                  <a:pt x="71015" y="563129"/>
                </a:lnTo>
                <a:lnTo>
                  <a:pt x="76086" y="575233"/>
                </a:lnTo>
                <a:lnTo>
                  <a:pt x="86236" y="598559"/>
                </a:lnTo>
                <a:lnTo>
                  <a:pt x="100623" y="632952"/>
                </a:lnTo>
                <a:lnTo>
                  <a:pt x="114167" y="6629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InkAnnotation170"/>
          <p:cNvSpPr/>
          <p:nvPr/>
        </p:nvSpPr>
        <p:spPr>
          <a:xfrm>
            <a:off x="3726000" y="5334120"/>
            <a:ext cx="214200" cy="7920"/>
          </a:xfrm>
          <a:custGeom>
            <a:avLst/>
            <a:gdLst>
              <a:gd name="textAreaLeft" fmla="*/ 0 w 214200"/>
              <a:gd name="textAreaRight" fmla="*/ 214560 w 214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13362" h="7621">
                <a:moveTo>
                  <a:pt x="0" y="7620"/>
                </a:moveTo>
                <a:lnTo>
                  <a:pt x="6561" y="1059"/>
                </a:lnTo>
                <a:lnTo>
                  <a:pt x="8608" y="706"/>
                </a:lnTo>
                <a:lnTo>
                  <a:pt x="11665" y="471"/>
                </a:lnTo>
                <a:lnTo>
                  <a:pt x="15397" y="314"/>
                </a:lnTo>
                <a:lnTo>
                  <a:pt x="24058" y="140"/>
                </a:lnTo>
                <a:lnTo>
                  <a:pt x="77726" y="2"/>
                </a:lnTo>
                <a:lnTo>
                  <a:pt x="83991" y="849"/>
                </a:lnTo>
                <a:lnTo>
                  <a:pt x="89861" y="2259"/>
                </a:lnTo>
                <a:lnTo>
                  <a:pt x="95467" y="4046"/>
                </a:lnTo>
                <a:lnTo>
                  <a:pt x="101744" y="5237"/>
                </a:lnTo>
                <a:lnTo>
                  <a:pt x="108470" y="6032"/>
                </a:lnTo>
                <a:lnTo>
                  <a:pt x="115493" y="6561"/>
                </a:lnTo>
                <a:lnTo>
                  <a:pt x="121869" y="6914"/>
                </a:lnTo>
                <a:lnTo>
                  <a:pt x="133468" y="7307"/>
                </a:lnTo>
                <a:lnTo>
                  <a:pt x="154713" y="7558"/>
                </a:lnTo>
                <a:lnTo>
                  <a:pt x="180310" y="7612"/>
                </a:lnTo>
                <a:lnTo>
                  <a:pt x="184553" y="6768"/>
                </a:lnTo>
                <a:lnTo>
                  <a:pt x="188229" y="5359"/>
                </a:lnTo>
                <a:lnTo>
                  <a:pt x="191527" y="3572"/>
                </a:lnTo>
                <a:lnTo>
                  <a:pt x="194571" y="2382"/>
                </a:lnTo>
                <a:lnTo>
                  <a:pt x="197447" y="1588"/>
                </a:lnTo>
                <a:lnTo>
                  <a:pt x="200212" y="1058"/>
                </a:lnTo>
                <a:lnTo>
                  <a:pt x="202901" y="706"/>
                </a:lnTo>
                <a:lnTo>
                  <a:pt x="205542" y="471"/>
                </a:lnTo>
                <a:lnTo>
                  <a:pt x="21336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InkAnnotation171"/>
          <p:cNvSpPr/>
          <p:nvPr/>
        </p:nvSpPr>
        <p:spPr>
          <a:xfrm>
            <a:off x="4046400" y="5165640"/>
            <a:ext cx="204840" cy="160560"/>
          </a:xfrm>
          <a:custGeom>
            <a:avLst/>
            <a:gdLst>
              <a:gd name="textAreaLeft" fmla="*/ 0 w 204840"/>
              <a:gd name="textAreaRight" fmla="*/ 205200 w 20484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05603" h="159928">
                <a:moveTo>
                  <a:pt x="91303" y="7527"/>
                </a:moveTo>
                <a:lnTo>
                  <a:pt x="95347" y="7527"/>
                </a:lnTo>
                <a:lnTo>
                  <a:pt x="96540" y="6680"/>
                </a:lnTo>
                <a:lnTo>
                  <a:pt x="97333" y="5269"/>
                </a:lnTo>
                <a:lnTo>
                  <a:pt x="98895" y="0"/>
                </a:lnTo>
                <a:lnTo>
                  <a:pt x="98922" y="7215"/>
                </a:lnTo>
                <a:lnTo>
                  <a:pt x="94406" y="9646"/>
                </a:lnTo>
                <a:lnTo>
                  <a:pt x="90831" y="11480"/>
                </a:lnTo>
                <a:lnTo>
                  <a:pt x="84602" y="15775"/>
                </a:lnTo>
                <a:lnTo>
                  <a:pt x="79011" y="20506"/>
                </a:lnTo>
                <a:lnTo>
                  <a:pt x="73704" y="25431"/>
                </a:lnTo>
                <a:lnTo>
                  <a:pt x="70257" y="27930"/>
                </a:lnTo>
                <a:lnTo>
                  <a:pt x="66265" y="30442"/>
                </a:lnTo>
                <a:lnTo>
                  <a:pt x="61911" y="32963"/>
                </a:lnTo>
                <a:lnTo>
                  <a:pt x="58162" y="35491"/>
                </a:lnTo>
                <a:lnTo>
                  <a:pt x="54815" y="38023"/>
                </a:lnTo>
                <a:lnTo>
                  <a:pt x="51738" y="40557"/>
                </a:lnTo>
                <a:lnTo>
                  <a:pt x="47146" y="43094"/>
                </a:lnTo>
                <a:lnTo>
                  <a:pt x="41545" y="45632"/>
                </a:lnTo>
                <a:lnTo>
                  <a:pt x="35271" y="48170"/>
                </a:lnTo>
                <a:lnTo>
                  <a:pt x="30241" y="50709"/>
                </a:lnTo>
                <a:lnTo>
                  <a:pt x="26042" y="53249"/>
                </a:lnTo>
                <a:lnTo>
                  <a:pt x="22396" y="55788"/>
                </a:lnTo>
                <a:lnTo>
                  <a:pt x="19117" y="58328"/>
                </a:lnTo>
                <a:lnTo>
                  <a:pt x="16087" y="60867"/>
                </a:lnTo>
                <a:lnTo>
                  <a:pt x="13218" y="63407"/>
                </a:lnTo>
                <a:lnTo>
                  <a:pt x="7774" y="68487"/>
                </a:lnTo>
                <a:lnTo>
                  <a:pt x="5136" y="71027"/>
                </a:lnTo>
                <a:lnTo>
                  <a:pt x="3378" y="73567"/>
                </a:lnTo>
                <a:lnTo>
                  <a:pt x="2206" y="76107"/>
                </a:lnTo>
                <a:lnTo>
                  <a:pt x="1425" y="78647"/>
                </a:lnTo>
                <a:lnTo>
                  <a:pt x="904" y="81187"/>
                </a:lnTo>
                <a:lnTo>
                  <a:pt x="557" y="83727"/>
                </a:lnTo>
                <a:lnTo>
                  <a:pt x="326" y="86267"/>
                </a:lnTo>
                <a:lnTo>
                  <a:pt x="171" y="88807"/>
                </a:lnTo>
                <a:lnTo>
                  <a:pt x="0" y="93887"/>
                </a:lnTo>
                <a:lnTo>
                  <a:pt x="1648" y="97274"/>
                </a:lnTo>
                <a:lnTo>
                  <a:pt x="4439" y="101225"/>
                </a:lnTo>
                <a:lnTo>
                  <a:pt x="7994" y="105552"/>
                </a:lnTo>
                <a:lnTo>
                  <a:pt x="12057" y="109284"/>
                </a:lnTo>
                <a:lnTo>
                  <a:pt x="16459" y="112618"/>
                </a:lnTo>
                <a:lnTo>
                  <a:pt x="21086" y="115688"/>
                </a:lnTo>
                <a:lnTo>
                  <a:pt x="25866" y="118581"/>
                </a:lnTo>
                <a:lnTo>
                  <a:pt x="30744" y="121356"/>
                </a:lnTo>
                <a:lnTo>
                  <a:pt x="35691" y="124053"/>
                </a:lnTo>
                <a:lnTo>
                  <a:pt x="41527" y="126698"/>
                </a:lnTo>
                <a:lnTo>
                  <a:pt x="47959" y="129307"/>
                </a:lnTo>
                <a:lnTo>
                  <a:pt x="54787" y="131894"/>
                </a:lnTo>
                <a:lnTo>
                  <a:pt x="62726" y="134465"/>
                </a:lnTo>
                <a:lnTo>
                  <a:pt x="71405" y="137026"/>
                </a:lnTo>
                <a:lnTo>
                  <a:pt x="80577" y="139579"/>
                </a:lnTo>
                <a:lnTo>
                  <a:pt x="97542" y="144674"/>
                </a:lnTo>
                <a:lnTo>
                  <a:pt x="105623" y="147219"/>
                </a:lnTo>
                <a:lnTo>
                  <a:pt x="113549" y="148915"/>
                </a:lnTo>
                <a:lnTo>
                  <a:pt x="121373" y="150046"/>
                </a:lnTo>
                <a:lnTo>
                  <a:pt x="129129" y="150800"/>
                </a:lnTo>
                <a:lnTo>
                  <a:pt x="135994" y="152148"/>
                </a:lnTo>
                <a:lnTo>
                  <a:pt x="142263" y="153895"/>
                </a:lnTo>
                <a:lnTo>
                  <a:pt x="148136" y="155905"/>
                </a:lnTo>
                <a:lnTo>
                  <a:pt x="154592" y="157246"/>
                </a:lnTo>
                <a:lnTo>
                  <a:pt x="161435" y="158140"/>
                </a:lnTo>
                <a:lnTo>
                  <a:pt x="168537" y="158736"/>
                </a:lnTo>
                <a:lnTo>
                  <a:pt x="174965" y="159133"/>
                </a:lnTo>
                <a:lnTo>
                  <a:pt x="186624" y="159574"/>
                </a:lnTo>
                <a:lnTo>
                  <a:pt x="205602" y="1599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InkAnnotation172"/>
          <p:cNvSpPr/>
          <p:nvPr/>
        </p:nvSpPr>
        <p:spPr>
          <a:xfrm>
            <a:off x="4199040" y="5181480"/>
            <a:ext cx="128520" cy="320760"/>
          </a:xfrm>
          <a:custGeom>
            <a:avLst/>
            <a:gdLst>
              <a:gd name="textAreaLeft" fmla="*/ 0 w 128520"/>
              <a:gd name="textAreaRight" fmla="*/ 128880 w 12852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129541" h="320041">
                <a:moveTo>
                  <a:pt x="129540" y="0"/>
                </a:moveTo>
                <a:lnTo>
                  <a:pt x="125495" y="0"/>
                </a:lnTo>
                <a:lnTo>
                  <a:pt x="123456" y="846"/>
                </a:lnTo>
                <a:lnTo>
                  <a:pt x="121251" y="2258"/>
                </a:lnTo>
                <a:lnTo>
                  <a:pt x="115673" y="6561"/>
                </a:lnTo>
                <a:lnTo>
                  <a:pt x="112653" y="11665"/>
                </a:lnTo>
                <a:lnTo>
                  <a:pt x="108488" y="19578"/>
                </a:lnTo>
                <a:lnTo>
                  <a:pt x="103815" y="28739"/>
                </a:lnTo>
                <a:lnTo>
                  <a:pt x="101383" y="32706"/>
                </a:lnTo>
                <a:lnTo>
                  <a:pt x="98915" y="36198"/>
                </a:lnTo>
                <a:lnTo>
                  <a:pt x="96424" y="39372"/>
                </a:lnTo>
                <a:lnTo>
                  <a:pt x="93916" y="44028"/>
                </a:lnTo>
                <a:lnTo>
                  <a:pt x="91397" y="49672"/>
                </a:lnTo>
                <a:lnTo>
                  <a:pt x="88871" y="55975"/>
                </a:lnTo>
                <a:lnTo>
                  <a:pt x="85495" y="61870"/>
                </a:lnTo>
                <a:lnTo>
                  <a:pt x="81549" y="67494"/>
                </a:lnTo>
                <a:lnTo>
                  <a:pt x="77227" y="72935"/>
                </a:lnTo>
                <a:lnTo>
                  <a:pt x="73498" y="79104"/>
                </a:lnTo>
                <a:lnTo>
                  <a:pt x="70166" y="85756"/>
                </a:lnTo>
                <a:lnTo>
                  <a:pt x="67097" y="92731"/>
                </a:lnTo>
                <a:lnTo>
                  <a:pt x="63358" y="99921"/>
                </a:lnTo>
                <a:lnTo>
                  <a:pt x="59172" y="107254"/>
                </a:lnTo>
                <a:lnTo>
                  <a:pt x="54688" y="114683"/>
                </a:lnTo>
                <a:lnTo>
                  <a:pt x="50852" y="122175"/>
                </a:lnTo>
                <a:lnTo>
                  <a:pt x="47449" y="129710"/>
                </a:lnTo>
                <a:lnTo>
                  <a:pt x="44333" y="137273"/>
                </a:lnTo>
                <a:lnTo>
                  <a:pt x="41408" y="145702"/>
                </a:lnTo>
                <a:lnTo>
                  <a:pt x="38612" y="154708"/>
                </a:lnTo>
                <a:lnTo>
                  <a:pt x="35902" y="164099"/>
                </a:lnTo>
                <a:lnTo>
                  <a:pt x="32401" y="172899"/>
                </a:lnTo>
                <a:lnTo>
                  <a:pt x="28375" y="181306"/>
                </a:lnTo>
                <a:lnTo>
                  <a:pt x="23996" y="189451"/>
                </a:lnTo>
                <a:lnTo>
                  <a:pt x="20231" y="197421"/>
                </a:lnTo>
                <a:lnTo>
                  <a:pt x="16874" y="205274"/>
                </a:lnTo>
                <a:lnTo>
                  <a:pt x="13790" y="213049"/>
                </a:lnTo>
                <a:lnTo>
                  <a:pt x="11733" y="220773"/>
                </a:lnTo>
                <a:lnTo>
                  <a:pt x="10362" y="228462"/>
                </a:lnTo>
                <a:lnTo>
                  <a:pt x="9448" y="236128"/>
                </a:lnTo>
                <a:lnTo>
                  <a:pt x="8839" y="242932"/>
                </a:lnTo>
                <a:lnTo>
                  <a:pt x="8433" y="249162"/>
                </a:lnTo>
                <a:lnTo>
                  <a:pt x="8162" y="255008"/>
                </a:lnTo>
                <a:lnTo>
                  <a:pt x="7135" y="260598"/>
                </a:lnTo>
                <a:lnTo>
                  <a:pt x="5603" y="266019"/>
                </a:lnTo>
                <a:lnTo>
                  <a:pt x="3736" y="271326"/>
                </a:lnTo>
                <a:lnTo>
                  <a:pt x="2491" y="276558"/>
                </a:lnTo>
                <a:lnTo>
                  <a:pt x="1661" y="281738"/>
                </a:lnTo>
                <a:lnTo>
                  <a:pt x="738" y="291164"/>
                </a:lnTo>
                <a:lnTo>
                  <a:pt x="328" y="298175"/>
                </a:lnTo>
                <a:lnTo>
                  <a:pt x="97" y="306882"/>
                </a:lnTo>
                <a:lnTo>
                  <a:pt x="0" y="3200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0265"/>
          <p:cNvSpPr/>
          <p:nvPr/>
        </p:nvSpPr>
        <p:spPr>
          <a:xfrm>
            <a:off x="4422600" y="5410080"/>
            <a:ext cx="6480" cy="360"/>
          </a:xfrm>
          <a:custGeom>
            <a:avLst/>
            <a:gdLst>
              <a:gd name="textAreaLeft" fmla="*/ 0 w 6480"/>
              <a:gd name="textAreaRight" fmla="*/ 6840 w 64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18" h="1">
                <a:moveTo>
                  <a:pt x="4390" y="0"/>
                </a:moveTo>
                <a:lnTo>
                  <a:pt x="0" y="0"/>
                </a:lnTo>
                <a:lnTo>
                  <a:pt x="6317" y="0"/>
                </a:lnTo>
                <a:lnTo>
                  <a:pt x="439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InkAnnotation174"/>
          <p:cNvSpPr/>
          <p:nvPr/>
        </p:nvSpPr>
        <p:spPr>
          <a:xfrm>
            <a:off x="4556160" y="5241960"/>
            <a:ext cx="114120" cy="7920"/>
          </a:xfrm>
          <a:custGeom>
            <a:avLst/>
            <a:gdLst>
              <a:gd name="textAreaLeft" fmla="*/ 0 w 114120"/>
              <a:gd name="textAreaRight" fmla="*/ 114480 w 114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14301" h="7621">
                <a:moveTo>
                  <a:pt x="0" y="7620"/>
                </a:moveTo>
                <a:lnTo>
                  <a:pt x="24473" y="7620"/>
                </a:lnTo>
                <a:lnTo>
                  <a:pt x="28168" y="6773"/>
                </a:lnTo>
                <a:lnTo>
                  <a:pt x="32326" y="5362"/>
                </a:lnTo>
                <a:lnTo>
                  <a:pt x="36791" y="3575"/>
                </a:lnTo>
                <a:lnTo>
                  <a:pt x="42307" y="2383"/>
                </a:lnTo>
                <a:lnTo>
                  <a:pt x="48524" y="1589"/>
                </a:lnTo>
                <a:lnTo>
                  <a:pt x="55210" y="1059"/>
                </a:lnTo>
                <a:lnTo>
                  <a:pt x="62206" y="706"/>
                </a:lnTo>
                <a:lnTo>
                  <a:pt x="76754" y="314"/>
                </a:lnTo>
                <a:lnTo>
                  <a:pt x="100052" y="41"/>
                </a:lnTo>
                <a:lnTo>
                  <a:pt x="1143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InkAnnotation175"/>
          <p:cNvSpPr/>
          <p:nvPr/>
        </p:nvSpPr>
        <p:spPr>
          <a:xfrm>
            <a:off x="4762440" y="5151600"/>
            <a:ext cx="212760" cy="174600"/>
          </a:xfrm>
          <a:custGeom>
            <a:avLst/>
            <a:gdLst>
              <a:gd name="textAreaLeft" fmla="*/ 0 w 212760"/>
              <a:gd name="textAreaRight" fmla="*/ 213120 w 212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3008" h="175261">
                <a:moveTo>
                  <a:pt x="60608" y="0"/>
                </a:moveTo>
                <a:lnTo>
                  <a:pt x="19964" y="40643"/>
                </a:lnTo>
                <a:lnTo>
                  <a:pt x="17425" y="44029"/>
                </a:lnTo>
                <a:lnTo>
                  <a:pt x="14886" y="47980"/>
                </a:lnTo>
                <a:lnTo>
                  <a:pt x="12346" y="52307"/>
                </a:lnTo>
                <a:lnTo>
                  <a:pt x="10653" y="56038"/>
                </a:lnTo>
                <a:lnTo>
                  <a:pt x="9525" y="59372"/>
                </a:lnTo>
                <a:lnTo>
                  <a:pt x="8773" y="62442"/>
                </a:lnTo>
                <a:lnTo>
                  <a:pt x="7424" y="65334"/>
                </a:lnTo>
                <a:lnTo>
                  <a:pt x="3668" y="70807"/>
                </a:lnTo>
                <a:lnTo>
                  <a:pt x="1434" y="76061"/>
                </a:lnTo>
                <a:lnTo>
                  <a:pt x="838" y="78647"/>
                </a:lnTo>
                <a:lnTo>
                  <a:pt x="442" y="82065"/>
                </a:lnTo>
                <a:lnTo>
                  <a:pt x="177" y="86036"/>
                </a:lnTo>
                <a:lnTo>
                  <a:pt x="0" y="90378"/>
                </a:lnTo>
                <a:lnTo>
                  <a:pt x="730" y="94118"/>
                </a:lnTo>
                <a:lnTo>
                  <a:pt x="2062" y="97459"/>
                </a:lnTo>
                <a:lnTo>
                  <a:pt x="3798" y="100533"/>
                </a:lnTo>
                <a:lnTo>
                  <a:pt x="5801" y="103429"/>
                </a:lnTo>
                <a:lnTo>
                  <a:pt x="10284" y="108904"/>
                </a:lnTo>
                <a:lnTo>
                  <a:pt x="13512" y="111549"/>
                </a:lnTo>
                <a:lnTo>
                  <a:pt x="17357" y="114160"/>
                </a:lnTo>
                <a:lnTo>
                  <a:pt x="21614" y="116746"/>
                </a:lnTo>
                <a:lnTo>
                  <a:pt x="25299" y="119318"/>
                </a:lnTo>
                <a:lnTo>
                  <a:pt x="31650" y="124432"/>
                </a:lnTo>
                <a:lnTo>
                  <a:pt x="36222" y="126981"/>
                </a:lnTo>
                <a:lnTo>
                  <a:pt x="41811" y="129527"/>
                </a:lnTo>
                <a:lnTo>
                  <a:pt x="48077" y="132072"/>
                </a:lnTo>
                <a:lnTo>
                  <a:pt x="53947" y="134615"/>
                </a:lnTo>
                <a:lnTo>
                  <a:pt x="64985" y="139698"/>
                </a:lnTo>
                <a:lnTo>
                  <a:pt x="71146" y="141392"/>
                </a:lnTo>
                <a:lnTo>
                  <a:pt x="77793" y="142521"/>
                </a:lnTo>
                <a:lnTo>
                  <a:pt x="84764" y="143274"/>
                </a:lnTo>
                <a:lnTo>
                  <a:pt x="91952" y="144623"/>
                </a:lnTo>
                <a:lnTo>
                  <a:pt x="99284" y="146368"/>
                </a:lnTo>
                <a:lnTo>
                  <a:pt x="106712" y="148379"/>
                </a:lnTo>
                <a:lnTo>
                  <a:pt x="113356" y="150566"/>
                </a:lnTo>
                <a:lnTo>
                  <a:pt x="119480" y="152871"/>
                </a:lnTo>
                <a:lnTo>
                  <a:pt x="125256" y="155254"/>
                </a:lnTo>
                <a:lnTo>
                  <a:pt x="131646" y="156842"/>
                </a:lnTo>
                <a:lnTo>
                  <a:pt x="138447" y="157902"/>
                </a:lnTo>
                <a:lnTo>
                  <a:pt x="145520" y="158608"/>
                </a:lnTo>
                <a:lnTo>
                  <a:pt x="151082" y="159925"/>
                </a:lnTo>
                <a:lnTo>
                  <a:pt x="155637" y="161650"/>
                </a:lnTo>
                <a:lnTo>
                  <a:pt x="159521" y="163647"/>
                </a:lnTo>
                <a:lnTo>
                  <a:pt x="163802" y="164978"/>
                </a:lnTo>
                <a:lnTo>
                  <a:pt x="168351" y="165865"/>
                </a:lnTo>
                <a:lnTo>
                  <a:pt x="173076" y="166457"/>
                </a:lnTo>
                <a:lnTo>
                  <a:pt x="177073" y="167698"/>
                </a:lnTo>
                <a:lnTo>
                  <a:pt x="180584" y="169372"/>
                </a:lnTo>
                <a:lnTo>
                  <a:pt x="186743" y="172643"/>
                </a:lnTo>
                <a:lnTo>
                  <a:pt x="192303" y="174097"/>
                </a:lnTo>
                <a:lnTo>
                  <a:pt x="197597" y="174743"/>
                </a:lnTo>
                <a:lnTo>
                  <a:pt x="203848" y="175158"/>
                </a:lnTo>
                <a:lnTo>
                  <a:pt x="206961" y="175215"/>
                </a:lnTo>
                <a:lnTo>
                  <a:pt x="213007" y="1752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InkAnnotation176"/>
          <p:cNvSpPr/>
          <p:nvPr/>
        </p:nvSpPr>
        <p:spPr>
          <a:xfrm>
            <a:off x="4915080" y="5181480"/>
            <a:ext cx="106200" cy="266760"/>
          </a:xfrm>
          <a:custGeom>
            <a:avLst/>
            <a:gdLst>
              <a:gd name="textAreaLeft" fmla="*/ 0 w 106200"/>
              <a:gd name="textAreaRight" fmla="*/ 106560 w 1062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06235" h="266701">
                <a:moveTo>
                  <a:pt x="106234" y="0"/>
                </a:moveTo>
                <a:lnTo>
                  <a:pt x="106234" y="4045"/>
                </a:lnTo>
                <a:lnTo>
                  <a:pt x="103976" y="10546"/>
                </a:lnTo>
                <a:lnTo>
                  <a:pt x="102189" y="14651"/>
                </a:lnTo>
                <a:lnTo>
                  <a:pt x="100151" y="18234"/>
                </a:lnTo>
                <a:lnTo>
                  <a:pt x="97946" y="21470"/>
                </a:lnTo>
                <a:lnTo>
                  <a:pt x="95628" y="24473"/>
                </a:lnTo>
                <a:lnTo>
                  <a:pt x="93237" y="28168"/>
                </a:lnTo>
                <a:lnTo>
                  <a:pt x="90796" y="32326"/>
                </a:lnTo>
                <a:lnTo>
                  <a:pt x="88322" y="36791"/>
                </a:lnTo>
                <a:lnTo>
                  <a:pt x="83315" y="46267"/>
                </a:lnTo>
                <a:lnTo>
                  <a:pt x="80795" y="51165"/>
                </a:lnTo>
                <a:lnTo>
                  <a:pt x="78268" y="56970"/>
                </a:lnTo>
                <a:lnTo>
                  <a:pt x="75737" y="63380"/>
                </a:lnTo>
                <a:lnTo>
                  <a:pt x="73203" y="70193"/>
                </a:lnTo>
                <a:lnTo>
                  <a:pt x="70666" y="76429"/>
                </a:lnTo>
                <a:lnTo>
                  <a:pt x="68129" y="82279"/>
                </a:lnTo>
                <a:lnTo>
                  <a:pt x="65591" y="87873"/>
                </a:lnTo>
                <a:lnTo>
                  <a:pt x="63052" y="94142"/>
                </a:lnTo>
                <a:lnTo>
                  <a:pt x="60512" y="100861"/>
                </a:lnTo>
                <a:lnTo>
                  <a:pt x="57973" y="107881"/>
                </a:lnTo>
                <a:lnTo>
                  <a:pt x="54587" y="114254"/>
                </a:lnTo>
                <a:lnTo>
                  <a:pt x="50635" y="120196"/>
                </a:lnTo>
                <a:lnTo>
                  <a:pt x="46308" y="125851"/>
                </a:lnTo>
                <a:lnTo>
                  <a:pt x="42577" y="132161"/>
                </a:lnTo>
                <a:lnTo>
                  <a:pt x="39243" y="138907"/>
                </a:lnTo>
                <a:lnTo>
                  <a:pt x="36173" y="145945"/>
                </a:lnTo>
                <a:lnTo>
                  <a:pt x="33280" y="153177"/>
                </a:lnTo>
                <a:lnTo>
                  <a:pt x="27808" y="167985"/>
                </a:lnTo>
                <a:lnTo>
                  <a:pt x="19966" y="190602"/>
                </a:lnTo>
                <a:lnTo>
                  <a:pt x="17396" y="197341"/>
                </a:lnTo>
                <a:lnTo>
                  <a:pt x="14835" y="203528"/>
                </a:lnTo>
                <a:lnTo>
                  <a:pt x="12282" y="209345"/>
                </a:lnTo>
                <a:lnTo>
                  <a:pt x="7186" y="220325"/>
                </a:lnTo>
                <a:lnTo>
                  <a:pt x="4642" y="225623"/>
                </a:lnTo>
                <a:lnTo>
                  <a:pt x="2946" y="230849"/>
                </a:lnTo>
                <a:lnTo>
                  <a:pt x="1815" y="236026"/>
                </a:lnTo>
                <a:lnTo>
                  <a:pt x="1061" y="241171"/>
                </a:lnTo>
                <a:lnTo>
                  <a:pt x="224" y="249144"/>
                </a:lnTo>
                <a:lnTo>
                  <a:pt x="0" y="252457"/>
                </a:lnTo>
                <a:lnTo>
                  <a:pt x="698" y="255511"/>
                </a:lnTo>
                <a:lnTo>
                  <a:pt x="3731" y="261163"/>
                </a:lnTo>
                <a:lnTo>
                  <a:pt x="7174" y="266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InkAnnotation177"/>
          <p:cNvSpPr/>
          <p:nvPr/>
        </p:nvSpPr>
        <p:spPr>
          <a:xfrm>
            <a:off x="5135400" y="53262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621" h="7621">
                <a:moveTo>
                  <a:pt x="7620" y="0"/>
                </a:moveTo>
                <a:lnTo>
                  <a:pt x="3575" y="0"/>
                </a:lnTo>
                <a:lnTo>
                  <a:pt x="2383" y="846"/>
                </a:lnTo>
                <a:lnTo>
                  <a:pt x="1589" y="2258"/>
                </a:lnTo>
                <a:lnTo>
                  <a:pt x="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InkAnnotation178"/>
          <p:cNvSpPr/>
          <p:nvPr/>
        </p:nvSpPr>
        <p:spPr>
          <a:xfrm>
            <a:off x="5273640" y="5211720"/>
            <a:ext cx="152280" cy="15840"/>
          </a:xfrm>
          <a:custGeom>
            <a:avLst/>
            <a:gdLst>
              <a:gd name="textAreaLeft" fmla="*/ 0 w 152280"/>
              <a:gd name="textAreaRight" fmla="*/ 152640 w 152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2401" h="15241">
                <a:moveTo>
                  <a:pt x="0" y="0"/>
                </a:moveTo>
                <a:lnTo>
                  <a:pt x="77965" y="0"/>
                </a:lnTo>
                <a:lnTo>
                  <a:pt x="84150" y="846"/>
                </a:lnTo>
                <a:lnTo>
                  <a:pt x="89967" y="2258"/>
                </a:lnTo>
                <a:lnTo>
                  <a:pt x="95537" y="4045"/>
                </a:lnTo>
                <a:lnTo>
                  <a:pt x="100945" y="5237"/>
                </a:lnTo>
                <a:lnTo>
                  <a:pt x="106243" y="6032"/>
                </a:lnTo>
                <a:lnTo>
                  <a:pt x="111468" y="6561"/>
                </a:lnTo>
                <a:lnTo>
                  <a:pt x="116646" y="6914"/>
                </a:lnTo>
                <a:lnTo>
                  <a:pt x="121790" y="7149"/>
                </a:lnTo>
                <a:lnTo>
                  <a:pt x="126913" y="7306"/>
                </a:lnTo>
                <a:lnTo>
                  <a:pt x="132022" y="8257"/>
                </a:lnTo>
                <a:lnTo>
                  <a:pt x="137121" y="9738"/>
                </a:lnTo>
                <a:lnTo>
                  <a:pt x="15240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InkAnnotation179"/>
          <p:cNvSpPr/>
          <p:nvPr/>
        </p:nvSpPr>
        <p:spPr>
          <a:xfrm>
            <a:off x="5464080" y="5159520"/>
            <a:ext cx="220680" cy="112680"/>
          </a:xfrm>
          <a:custGeom>
            <a:avLst/>
            <a:gdLst>
              <a:gd name="textAreaLeft" fmla="*/ 0 w 220680"/>
              <a:gd name="textAreaRight" fmla="*/ 221040 w 2206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20504" h="113109">
                <a:moveTo>
                  <a:pt x="90963" y="0"/>
                </a:moveTo>
                <a:lnTo>
                  <a:pt x="86918" y="4045"/>
                </a:lnTo>
                <a:lnTo>
                  <a:pt x="84880" y="5237"/>
                </a:lnTo>
                <a:lnTo>
                  <a:pt x="80357" y="6561"/>
                </a:lnTo>
                <a:lnTo>
                  <a:pt x="75525" y="9407"/>
                </a:lnTo>
                <a:lnTo>
                  <a:pt x="73051" y="11351"/>
                </a:lnTo>
                <a:lnTo>
                  <a:pt x="69708" y="12648"/>
                </a:lnTo>
                <a:lnTo>
                  <a:pt x="65787" y="13512"/>
                </a:lnTo>
                <a:lnTo>
                  <a:pt x="61479" y="14088"/>
                </a:lnTo>
                <a:lnTo>
                  <a:pt x="56913" y="15319"/>
                </a:lnTo>
                <a:lnTo>
                  <a:pt x="52177" y="16986"/>
                </a:lnTo>
                <a:lnTo>
                  <a:pt x="47326" y="18944"/>
                </a:lnTo>
                <a:lnTo>
                  <a:pt x="43245" y="21096"/>
                </a:lnTo>
                <a:lnTo>
                  <a:pt x="39677" y="23377"/>
                </a:lnTo>
                <a:lnTo>
                  <a:pt x="36453" y="25745"/>
                </a:lnTo>
                <a:lnTo>
                  <a:pt x="32610" y="28170"/>
                </a:lnTo>
                <a:lnTo>
                  <a:pt x="28354" y="30634"/>
                </a:lnTo>
                <a:lnTo>
                  <a:pt x="23824" y="33122"/>
                </a:lnTo>
                <a:lnTo>
                  <a:pt x="19957" y="35628"/>
                </a:lnTo>
                <a:lnTo>
                  <a:pt x="16532" y="38146"/>
                </a:lnTo>
                <a:lnTo>
                  <a:pt x="13402" y="40671"/>
                </a:lnTo>
                <a:lnTo>
                  <a:pt x="10470" y="43200"/>
                </a:lnTo>
                <a:lnTo>
                  <a:pt x="7667" y="45733"/>
                </a:lnTo>
                <a:lnTo>
                  <a:pt x="4952" y="48269"/>
                </a:lnTo>
                <a:lnTo>
                  <a:pt x="3143" y="50806"/>
                </a:lnTo>
                <a:lnTo>
                  <a:pt x="1936" y="53344"/>
                </a:lnTo>
                <a:lnTo>
                  <a:pt x="1132" y="55883"/>
                </a:lnTo>
                <a:lnTo>
                  <a:pt x="596" y="58422"/>
                </a:lnTo>
                <a:lnTo>
                  <a:pt x="238" y="60962"/>
                </a:lnTo>
                <a:lnTo>
                  <a:pt x="0" y="63501"/>
                </a:lnTo>
                <a:lnTo>
                  <a:pt x="687" y="66041"/>
                </a:lnTo>
                <a:lnTo>
                  <a:pt x="1993" y="68580"/>
                </a:lnTo>
                <a:lnTo>
                  <a:pt x="3709" y="71120"/>
                </a:lnTo>
                <a:lnTo>
                  <a:pt x="5701" y="73660"/>
                </a:lnTo>
                <a:lnTo>
                  <a:pt x="7875" y="76200"/>
                </a:lnTo>
                <a:lnTo>
                  <a:pt x="10171" y="78740"/>
                </a:lnTo>
                <a:lnTo>
                  <a:pt x="13395" y="81280"/>
                </a:lnTo>
                <a:lnTo>
                  <a:pt x="17238" y="83820"/>
                </a:lnTo>
                <a:lnTo>
                  <a:pt x="21493" y="86360"/>
                </a:lnTo>
                <a:lnTo>
                  <a:pt x="26870" y="88900"/>
                </a:lnTo>
                <a:lnTo>
                  <a:pt x="32994" y="91440"/>
                </a:lnTo>
                <a:lnTo>
                  <a:pt x="39617" y="93980"/>
                </a:lnTo>
                <a:lnTo>
                  <a:pt x="53749" y="99060"/>
                </a:lnTo>
                <a:lnTo>
                  <a:pt x="61074" y="101600"/>
                </a:lnTo>
                <a:lnTo>
                  <a:pt x="69344" y="103293"/>
                </a:lnTo>
                <a:lnTo>
                  <a:pt x="78244" y="104422"/>
                </a:lnTo>
                <a:lnTo>
                  <a:pt x="87563" y="105175"/>
                </a:lnTo>
                <a:lnTo>
                  <a:pt x="96317" y="106523"/>
                </a:lnTo>
                <a:lnTo>
                  <a:pt x="104692" y="108269"/>
                </a:lnTo>
                <a:lnTo>
                  <a:pt x="112815" y="110279"/>
                </a:lnTo>
                <a:lnTo>
                  <a:pt x="119925" y="111619"/>
                </a:lnTo>
                <a:lnTo>
                  <a:pt x="126358" y="112513"/>
                </a:lnTo>
                <a:lnTo>
                  <a:pt x="132340" y="113108"/>
                </a:lnTo>
                <a:lnTo>
                  <a:pt x="138021" y="112659"/>
                </a:lnTo>
                <a:lnTo>
                  <a:pt x="143501" y="111513"/>
                </a:lnTo>
                <a:lnTo>
                  <a:pt x="148849" y="109902"/>
                </a:lnTo>
                <a:lnTo>
                  <a:pt x="154107" y="108828"/>
                </a:lnTo>
                <a:lnTo>
                  <a:pt x="159306" y="108112"/>
                </a:lnTo>
                <a:lnTo>
                  <a:pt x="164465" y="107635"/>
                </a:lnTo>
                <a:lnTo>
                  <a:pt x="169597" y="106470"/>
                </a:lnTo>
                <a:lnTo>
                  <a:pt x="174713" y="104846"/>
                </a:lnTo>
                <a:lnTo>
                  <a:pt x="179817" y="102918"/>
                </a:lnTo>
                <a:lnTo>
                  <a:pt x="184066" y="101632"/>
                </a:lnTo>
                <a:lnTo>
                  <a:pt x="187745" y="100774"/>
                </a:lnTo>
                <a:lnTo>
                  <a:pt x="191044" y="100203"/>
                </a:lnTo>
                <a:lnTo>
                  <a:pt x="194938" y="98976"/>
                </a:lnTo>
                <a:lnTo>
                  <a:pt x="199226" y="97310"/>
                </a:lnTo>
                <a:lnTo>
                  <a:pt x="210185" y="92600"/>
                </a:lnTo>
                <a:lnTo>
                  <a:pt x="213941" y="91955"/>
                </a:lnTo>
                <a:lnTo>
                  <a:pt x="220503" y="914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InkAnnotation180"/>
          <p:cNvSpPr/>
          <p:nvPr/>
        </p:nvSpPr>
        <p:spPr>
          <a:xfrm>
            <a:off x="5654520" y="5083200"/>
            <a:ext cx="90720" cy="357120"/>
          </a:xfrm>
          <a:custGeom>
            <a:avLst/>
            <a:gdLst/>
            <a:ahLst/>
            <a:rect l="l" t="t" r="r" b="b"/>
            <a:pathLst>
              <a:path w="91440" h="358141">
                <a:moveTo>
                  <a:pt x="91439" y="0"/>
                </a:moveTo>
                <a:lnTo>
                  <a:pt x="80088" y="11351"/>
                </a:lnTo>
                <a:lnTo>
                  <a:pt x="77945" y="14341"/>
                </a:lnTo>
                <a:lnTo>
                  <a:pt x="75669" y="18027"/>
                </a:lnTo>
                <a:lnTo>
                  <a:pt x="73307" y="22178"/>
                </a:lnTo>
                <a:lnTo>
                  <a:pt x="70680" y="31306"/>
                </a:lnTo>
                <a:lnTo>
                  <a:pt x="68666" y="41854"/>
                </a:lnTo>
                <a:lnTo>
                  <a:pt x="66944" y="48222"/>
                </a:lnTo>
                <a:lnTo>
                  <a:pt x="62772" y="62072"/>
                </a:lnTo>
                <a:lnTo>
                  <a:pt x="43151" y="121963"/>
                </a:lnTo>
                <a:lnTo>
                  <a:pt x="40621" y="130415"/>
                </a:lnTo>
                <a:lnTo>
                  <a:pt x="33013" y="157645"/>
                </a:lnTo>
                <a:lnTo>
                  <a:pt x="25398" y="183023"/>
                </a:lnTo>
                <a:lnTo>
                  <a:pt x="17779" y="211615"/>
                </a:lnTo>
                <a:lnTo>
                  <a:pt x="12699" y="231493"/>
                </a:lnTo>
                <a:lnTo>
                  <a:pt x="10159" y="240689"/>
                </a:lnTo>
                <a:lnTo>
                  <a:pt x="5079" y="257680"/>
                </a:lnTo>
                <a:lnTo>
                  <a:pt x="3386" y="265766"/>
                </a:lnTo>
                <a:lnTo>
                  <a:pt x="2257" y="273698"/>
                </a:lnTo>
                <a:lnTo>
                  <a:pt x="1504" y="281525"/>
                </a:lnTo>
                <a:lnTo>
                  <a:pt x="1003" y="289283"/>
                </a:lnTo>
                <a:lnTo>
                  <a:pt x="668" y="296996"/>
                </a:lnTo>
                <a:lnTo>
                  <a:pt x="296" y="312338"/>
                </a:lnTo>
                <a:lnTo>
                  <a:pt x="0" y="358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InkAnnotation181"/>
          <p:cNvSpPr/>
          <p:nvPr/>
        </p:nvSpPr>
        <p:spPr>
          <a:xfrm>
            <a:off x="5753160" y="4952880"/>
            <a:ext cx="220680" cy="601920"/>
          </a:xfrm>
          <a:custGeom>
            <a:avLst/>
            <a:gdLst>
              <a:gd name="textAreaLeft" fmla="*/ 0 w 220680"/>
              <a:gd name="textAreaRight" fmla="*/ 221040 w 22068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220954" h="601981">
                <a:moveTo>
                  <a:pt x="213360" y="0"/>
                </a:moveTo>
                <a:lnTo>
                  <a:pt x="213360" y="4045"/>
                </a:lnTo>
                <a:lnTo>
                  <a:pt x="219392" y="21470"/>
                </a:lnTo>
                <a:lnTo>
                  <a:pt x="220510" y="36841"/>
                </a:lnTo>
                <a:lnTo>
                  <a:pt x="220840" y="62845"/>
                </a:lnTo>
                <a:lnTo>
                  <a:pt x="220953" y="106017"/>
                </a:lnTo>
                <a:lnTo>
                  <a:pt x="220115" y="119785"/>
                </a:lnTo>
                <a:lnTo>
                  <a:pt x="218710" y="134890"/>
                </a:lnTo>
                <a:lnTo>
                  <a:pt x="216927" y="150887"/>
                </a:lnTo>
                <a:lnTo>
                  <a:pt x="215738" y="166631"/>
                </a:lnTo>
                <a:lnTo>
                  <a:pt x="214945" y="182207"/>
                </a:lnTo>
                <a:lnTo>
                  <a:pt x="214417" y="197672"/>
                </a:lnTo>
                <a:lnTo>
                  <a:pt x="212371" y="213908"/>
                </a:lnTo>
                <a:lnTo>
                  <a:pt x="209314" y="230658"/>
                </a:lnTo>
                <a:lnTo>
                  <a:pt x="205583" y="247752"/>
                </a:lnTo>
                <a:lnTo>
                  <a:pt x="199179" y="280292"/>
                </a:lnTo>
                <a:lnTo>
                  <a:pt x="196286" y="296082"/>
                </a:lnTo>
                <a:lnTo>
                  <a:pt x="192664" y="312534"/>
                </a:lnTo>
                <a:lnTo>
                  <a:pt x="184124" y="346620"/>
                </a:lnTo>
                <a:lnTo>
                  <a:pt x="178629" y="362313"/>
                </a:lnTo>
                <a:lnTo>
                  <a:pt x="172426" y="377009"/>
                </a:lnTo>
                <a:lnTo>
                  <a:pt x="151561" y="420175"/>
                </a:lnTo>
                <a:lnTo>
                  <a:pt x="144220" y="435057"/>
                </a:lnTo>
                <a:lnTo>
                  <a:pt x="135940" y="449211"/>
                </a:lnTo>
                <a:lnTo>
                  <a:pt x="127034" y="462881"/>
                </a:lnTo>
                <a:lnTo>
                  <a:pt x="117709" y="476227"/>
                </a:lnTo>
                <a:lnTo>
                  <a:pt x="108953" y="489358"/>
                </a:lnTo>
                <a:lnTo>
                  <a:pt x="92451" y="515237"/>
                </a:lnTo>
                <a:lnTo>
                  <a:pt x="83647" y="526371"/>
                </a:lnTo>
                <a:lnTo>
                  <a:pt x="74392" y="536334"/>
                </a:lnTo>
                <a:lnTo>
                  <a:pt x="64834" y="545516"/>
                </a:lnTo>
                <a:lnTo>
                  <a:pt x="55923" y="553331"/>
                </a:lnTo>
                <a:lnTo>
                  <a:pt x="47442" y="560234"/>
                </a:lnTo>
                <a:lnTo>
                  <a:pt x="39248" y="566529"/>
                </a:lnTo>
                <a:lnTo>
                  <a:pt x="32092" y="572419"/>
                </a:lnTo>
                <a:lnTo>
                  <a:pt x="25628" y="578040"/>
                </a:lnTo>
                <a:lnTo>
                  <a:pt x="14777" y="587953"/>
                </a:lnTo>
                <a:lnTo>
                  <a:pt x="0" y="601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InkAnnotation182"/>
          <p:cNvSpPr/>
          <p:nvPr/>
        </p:nvSpPr>
        <p:spPr>
          <a:xfrm>
            <a:off x="3962520" y="4876920"/>
            <a:ext cx="198360" cy="190440"/>
          </a:xfrm>
          <a:custGeom>
            <a:avLst/>
            <a:gdLst>
              <a:gd name="textAreaLeft" fmla="*/ 0 w 198360"/>
              <a:gd name="textAreaRight" fmla="*/ 198720 w 1983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98121" h="190501">
                <a:moveTo>
                  <a:pt x="0" y="190500"/>
                </a:moveTo>
                <a:lnTo>
                  <a:pt x="24473" y="166027"/>
                </a:lnTo>
                <a:lnTo>
                  <a:pt x="28168" y="161485"/>
                </a:lnTo>
                <a:lnTo>
                  <a:pt x="32326" y="155917"/>
                </a:lnTo>
                <a:lnTo>
                  <a:pt x="36791" y="149665"/>
                </a:lnTo>
                <a:lnTo>
                  <a:pt x="41461" y="143803"/>
                </a:lnTo>
                <a:lnTo>
                  <a:pt x="46267" y="138202"/>
                </a:lnTo>
                <a:lnTo>
                  <a:pt x="51165" y="132775"/>
                </a:lnTo>
                <a:lnTo>
                  <a:pt x="63380" y="119971"/>
                </a:lnTo>
                <a:lnTo>
                  <a:pt x="70193" y="113001"/>
                </a:lnTo>
                <a:lnTo>
                  <a:pt x="77275" y="106661"/>
                </a:lnTo>
                <a:lnTo>
                  <a:pt x="84537" y="100740"/>
                </a:lnTo>
                <a:lnTo>
                  <a:pt x="91918" y="95100"/>
                </a:lnTo>
                <a:lnTo>
                  <a:pt x="99379" y="88800"/>
                </a:lnTo>
                <a:lnTo>
                  <a:pt x="106893" y="82060"/>
                </a:lnTo>
                <a:lnTo>
                  <a:pt x="114442" y="75027"/>
                </a:lnTo>
                <a:lnTo>
                  <a:pt x="122015" y="68645"/>
                </a:lnTo>
                <a:lnTo>
                  <a:pt x="129603" y="62696"/>
                </a:lnTo>
                <a:lnTo>
                  <a:pt x="137202" y="57038"/>
                </a:lnTo>
                <a:lnTo>
                  <a:pt x="143961" y="50725"/>
                </a:lnTo>
                <a:lnTo>
                  <a:pt x="150161" y="43977"/>
                </a:lnTo>
                <a:lnTo>
                  <a:pt x="155987" y="36938"/>
                </a:lnTo>
                <a:lnTo>
                  <a:pt x="162411" y="30552"/>
                </a:lnTo>
                <a:lnTo>
                  <a:pt x="169234" y="24601"/>
                </a:lnTo>
                <a:lnTo>
                  <a:pt x="176324" y="18941"/>
                </a:lnTo>
                <a:lnTo>
                  <a:pt x="181895" y="14320"/>
                </a:lnTo>
                <a:lnTo>
                  <a:pt x="186457" y="10394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InkAnnotation183"/>
          <p:cNvSpPr/>
          <p:nvPr/>
        </p:nvSpPr>
        <p:spPr>
          <a:xfrm>
            <a:off x="4221000" y="4800600"/>
            <a:ext cx="358920" cy="479520"/>
          </a:xfrm>
          <a:custGeom>
            <a:avLst/>
            <a:gdLst>
              <a:gd name="textAreaLeft" fmla="*/ 0 w 358920"/>
              <a:gd name="textAreaRight" fmla="*/ 359280 w 35892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358141" h="479717">
                <a:moveTo>
                  <a:pt x="0" y="22516"/>
                </a:moveTo>
                <a:lnTo>
                  <a:pt x="4045" y="22516"/>
                </a:lnTo>
                <a:lnTo>
                  <a:pt x="6083" y="21669"/>
                </a:lnTo>
                <a:lnTo>
                  <a:pt x="12997" y="17279"/>
                </a:lnTo>
                <a:lnTo>
                  <a:pt x="21254" y="14755"/>
                </a:lnTo>
                <a:lnTo>
                  <a:pt x="29485" y="11165"/>
                </a:lnTo>
                <a:lnTo>
                  <a:pt x="36529" y="9004"/>
                </a:lnTo>
                <a:lnTo>
                  <a:pt x="43328" y="7197"/>
                </a:lnTo>
                <a:lnTo>
                  <a:pt x="51995" y="3572"/>
                </a:lnTo>
                <a:lnTo>
                  <a:pt x="61491" y="1396"/>
                </a:lnTo>
                <a:lnTo>
                  <a:pt x="71356" y="430"/>
                </a:lnTo>
                <a:lnTo>
                  <a:pt x="81385" y="0"/>
                </a:lnTo>
                <a:lnTo>
                  <a:pt x="91487" y="2067"/>
                </a:lnTo>
                <a:lnTo>
                  <a:pt x="101621" y="5807"/>
                </a:lnTo>
                <a:lnTo>
                  <a:pt x="111769" y="10292"/>
                </a:lnTo>
                <a:lnTo>
                  <a:pt x="127003" y="17577"/>
                </a:lnTo>
                <a:lnTo>
                  <a:pt x="134903" y="22579"/>
                </a:lnTo>
                <a:lnTo>
                  <a:pt x="138196" y="25098"/>
                </a:lnTo>
                <a:lnTo>
                  <a:pt x="146369" y="34670"/>
                </a:lnTo>
                <a:lnTo>
                  <a:pt x="155646" y="46545"/>
                </a:lnTo>
                <a:lnTo>
                  <a:pt x="165415" y="57466"/>
                </a:lnTo>
                <a:lnTo>
                  <a:pt x="173142" y="67965"/>
                </a:lnTo>
                <a:lnTo>
                  <a:pt x="179398" y="78276"/>
                </a:lnTo>
                <a:lnTo>
                  <a:pt x="185002" y="88503"/>
                </a:lnTo>
                <a:lnTo>
                  <a:pt x="192572" y="100950"/>
                </a:lnTo>
                <a:lnTo>
                  <a:pt x="200735" y="114949"/>
                </a:lnTo>
                <a:lnTo>
                  <a:pt x="207184" y="129637"/>
                </a:lnTo>
                <a:lnTo>
                  <a:pt x="215131" y="142374"/>
                </a:lnTo>
                <a:lnTo>
                  <a:pt x="223461" y="154526"/>
                </a:lnTo>
                <a:lnTo>
                  <a:pt x="229985" y="168394"/>
                </a:lnTo>
                <a:lnTo>
                  <a:pt x="235706" y="183024"/>
                </a:lnTo>
                <a:lnTo>
                  <a:pt x="241918" y="197993"/>
                </a:lnTo>
                <a:lnTo>
                  <a:pt x="245946" y="205541"/>
                </a:lnTo>
                <a:lnTo>
                  <a:pt x="250324" y="213112"/>
                </a:lnTo>
                <a:lnTo>
                  <a:pt x="254089" y="221547"/>
                </a:lnTo>
                <a:lnTo>
                  <a:pt x="257446" y="230557"/>
                </a:lnTo>
                <a:lnTo>
                  <a:pt x="268917" y="265305"/>
                </a:lnTo>
                <a:lnTo>
                  <a:pt x="271565" y="274122"/>
                </a:lnTo>
                <a:lnTo>
                  <a:pt x="276764" y="292950"/>
                </a:lnTo>
                <a:lnTo>
                  <a:pt x="279336" y="301019"/>
                </a:lnTo>
                <a:lnTo>
                  <a:pt x="284452" y="314500"/>
                </a:lnTo>
                <a:lnTo>
                  <a:pt x="287847" y="322158"/>
                </a:lnTo>
                <a:lnTo>
                  <a:pt x="296137" y="339699"/>
                </a:lnTo>
                <a:lnTo>
                  <a:pt x="299025" y="348272"/>
                </a:lnTo>
                <a:lnTo>
                  <a:pt x="300951" y="356526"/>
                </a:lnTo>
                <a:lnTo>
                  <a:pt x="302233" y="364569"/>
                </a:lnTo>
                <a:lnTo>
                  <a:pt x="305918" y="378022"/>
                </a:lnTo>
                <a:lnTo>
                  <a:pt x="310376" y="390492"/>
                </a:lnTo>
                <a:lnTo>
                  <a:pt x="315181" y="404501"/>
                </a:lnTo>
                <a:lnTo>
                  <a:pt x="320139" y="416936"/>
                </a:lnTo>
                <a:lnTo>
                  <a:pt x="325163" y="428954"/>
                </a:lnTo>
                <a:lnTo>
                  <a:pt x="330220" y="442762"/>
                </a:lnTo>
                <a:lnTo>
                  <a:pt x="337547" y="457365"/>
                </a:lnTo>
                <a:lnTo>
                  <a:pt x="345601" y="469782"/>
                </a:lnTo>
                <a:lnTo>
                  <a:pt x="348934" y="473093"/>
                </a:lnTo>
                <a:lnTo>
                  <a:pt x="358140" y="4797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InkAnnotation184"/>
          <p:cNvSpPr/>
          <p:nvPr/>
        </p:nvSpPr>
        <p:spPr>
          <a:xfrm>
            <a:off x="4397400" y="4930920"/>
            <a:ext cx="22320" cy="14040"/>
          </a:xfrm>
          <a:custGeom>
            <a:avLst/>
            <a:gdLst>
              <a:gd name="textAreaLeft" fmla="*/ 0 w 22320"/>
              <a:gd name="textAreaRight" fmla="*/ 22680 w 223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2860" h="15241">
                <a:moveTo>
                  <a:pt x="0" y="15240"/>
                </a:moveTo>
                <a:lnTo>
                  <a:pt x="11351" y="3889"/>
                </a:lnTo>
                <a:lnTo>
                  <a:pt x="13494" y="2593"/>
                </a:lnTo>
                <a:lnTo>
                  <a:pt x="15769" y="1728"/>
                </a:lnTo>
                <a:lnTo>
                  <a:pt x="2285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InkAnnotation185"/>
          <p:cNvSpPr/>
          <p:nvPr/>
        </p:nvSpPr>
        <p:spPr>
          <a:xfrm>
            <a:off x="4525920" y="4672080"/>
            <a:ext cx="770040" cy="463320"/>
          </a:xfrm>
          <a:custGeom>
            <a:avLst/>
            <a:gdLst>
              <a:gd name="textAreaLeft" fmla="*/ 0 w 770040"/>
              <a:gd name="textAreaRight" fmla="*/ 770400 w 77004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769621" h="463315">
                <a:moveTo>
                  <a:pt x="0" y="166134"/>
                </a:moveTo>
                <a:lnTo>
                  <a:pt x="0" y="162089"/>
                </a:lnTo>
                <a:lnTo>
                  <a:pt x="4516" y="155588"/>
                </a:lnTo>
                <a:lnTo>
                  <a:pt x="10474" y="147900"/>
                </a:lnTo>
                <a:lnTo>
                  <a:pt x="15521" y="137966"/>
                </a:lnTo>
                <a:lnTo>
                  <a:pt x="22703" y="129343"/>
                </a:lnTo>
                <a:lnTo>
                  <a:pt x="40311" y="114969"/>
                </a:lnTo>
                <a:lnTo>
                  <a:pt x="52065" y="105012"/>
                </a:lnTo>
                <a:lnTo>
                  <a:pt x="63780" y="94942"/>
                </a:lnTo>
                <a:lnTo>
                  <a:pt x="77454" y="84822"/>
                </a:lnTo>
                <a:lnTo>
                  <a:pt x="91997" y="74680"/>
                </a:lnTo>
                <a:lnTo>
                  <a:pt x="122030" y="54371"/>
                </a:lnTo>
                <a:lnTo>
                  <a:pt x="144812" y="43178"/>
                </a:lnTo>
                <a:lnTo>
                  <a:pt x="167650" y="34500"/>
                </a:lnTo>
                <a:lnTo>
                  <a:pt x="205742" y="21413"/>
                </a:lnTo>
                <a:lnTo>
                  <a:pt x="221828" y="16300"/>
                </a:lnTo>
                <a:lnTo>
                  <a:pt x="249077" y="8662"/>
                </a:lnTo>
                <a:lnTo>
                  <a:pt x="265641" y="3577"/>
                </a:lnTo>
                <a:lnTo>
                  <a:pt x="289246" y="0"/>
                </a:lnTo>
                <a:lnTo>
                  <a:pt x="306919" y="1421"/>
                </a:lnTo>
                <a:lnTo>
                  <a:pt x="325215" y="4875"/>
                </a:lnTo>
                <a:lnTo>
                  <a:pt x="341813" y="9232"/>
                </a:lnTo>
                <a:lnTo>
                  <a:pt x="369483" y="16445"/>
                </a:lnTo>
                <a:lnTo>
                  <a:pt x="386888" y="23688"/>
                </a:lnTo>
                <a:lnTo>
                  <a:pt x="413225" y="37286"/>
                </a:lnTo>
                <a:lnTo>
                  <a:pt x="432575" y="47908"/>
                </a:lnTo>
                <a:lnTo>
                  <a:pt x="452465" y="61096"/>
                </a:lnTo>
                <a:lnTo>
                  <a:pt x="470336" y="75424"/>
                </a:lnTo>
                <a:lnTo>
                  <a:pt x="478657" y="82800"/>
                </a:lnTo>
                <a:lnTo>
                  <a:pt x="496934" y="100028"/>
                </a:lnTo>
                <a:lnTo>
                  <a:pt x="532218" y="134638"/>
                </a:lnTo>
                <a:lnTo>
                  <a:pt x="540232" y="144290"/>
                </a:lnTo>
                <a:lnTo>
                  <a:pt x="548115" y="154958"/>
                </a:lnTo>
                <a:lnTo>
                  <a:pt x="555910" y="166303"/>
                </a:lnTo>
                <a:lnTo>
                  <a:pt x="564493" y="177253"/>
                </a:lnTo>
                <a:lnTo>
                  <a:pt x="573602" y="187940"/>
                </a:lnTo>
                <a:lnTo>
                  <a:pt x="583062" y="198451"/>
                </a:lnTo>
                <a:lnTo>
                  <a:pt x="591908" y="208846"/>
                </a:lnTo>
                <a:lnTo>
                  <a:pt x="608510" y="229426"/>
                </a:lnTo>
                <a:lnTo>
                  <a:pt x="632137" y="260052"/>
                </a:lnTo>
                <a:lnTo>
                  <a:pt x="639865" y="271080"/>
                </a:lnTo>
                <a:lnTo>
                  <a:pt x="647557" y="282664"/>
                </a:lnTo>
                <a:lnTo>
                  <a:pt x="655225" y="294621"/>
                </a:lnTo>
                <a:lnTo>
                  <a:pt x="663723" y="305979"/>
                </a:lnTo>
                <a:lnTo>
                  <a:pt x="672776" y="316937"/>
                </a:lnTo>
                <a:lnTo>
                  <a:pt x="682197" y="327629"/>
                </a:lnTo>
                <a:lnTo>
                  <a:pt x="691018" y="338991"/>
                </a:lnTo>
                <a:lnTo>
                  <a:pt x="699439" y="350799"/>
                </a:lnTo>
                <a:lnTo>
                  <a:pt x="707593" y="362904"/>
                </a:lnTo>
                <a:lnTo>
                  <a:pt x="723426" y="387643"/>
                </a:lnTo>
                <a:lnTo>
                  <a:pt x="744362" y="420855"/>
                </a:lnTo>
                <a:lnTo>
                  <a:pt x="750241" y="429928"/>
                </a:lnTo>
                <a:lnTo>
                  <a:pt x="755008" y="437670"/>
                </a:lnTo>
                <a:lnTo>
                  <a:pt x="759032" y="444525"/>
                </a:lnTo>
                <a:lnTo>
                  <a:pt x="769620" y="4633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InkAnnotation186"/>
          <p:cNvSpPr/>
          <p:nvPr/>
        </p:nvSpPr>
        <p:spPr>
          <a:xfrm>
            <a:off x="6164280" y="5211720"/>
            <a:ext cx="206280" cy="1584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05741" h="15241">
                <a:moveTo>
                  <a:pt x="0" y="15240"/>
                </a:moveTo>
                <a:lnTo>
                  <a:pt x="4046" y="11195"/>
                </a:lnTo>
                <a:lnTo>
                  <a:pt x="6083" y="10003"/>
                </a:lnTo>
                <a:lnTo>
                  <a:pt x="8289" y="9209"/>
                </a:lnTo>
                <a:lnTo>
                  <a:pt x="10606" y="8679"/>
                </a:lnTo>
                <a:lnTo>
                  <a:pt x="14691" y="8326"/>
                </a:lnTo>
                <a:lnTo>
                  <a:pt x="19954" y="8091"/>
                </a:lnTo>
                <a:lnTo>
                  <a:pt x="26003" y="7934"/>
                </a:lnTo>
                <a:lnTo>
                  <a:pt x="32575" y="6983"/>
                </a:lnTo>
                <a:lnTo>
                  <a:pt x="39497" y="5502"/>
                </a:lnTo>
                <a:lnTo>
                  <a:pt x="46651" y="3668"/>
                </a:lnTo>
                <a:lnTo>
                  <a:pt x="54807" y="2445"/>
                </a:lnTo>
                <a:lnTo>
                  <a:pt x="63631" y="1630"/>
                </a:lnTo>
                <a:lnTo>
                  <a:pt x="72901" y="1087"/>
                </a:lnTo>
                <a:lnTo>
                  <a:pt x="92231" y="483"/>
                </a:lnTo>
                <a:lnTo>
                  <a:pt x="147955" y="28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InkAnnotation187"/>
          <p:cNvSpPr/>
          <p:nvPr/>
        </p:nvSpPr>
        <p:spPr>
          <a:xfrm>
            <a:off x="6141960" y="5303880"/>
            <a:ext cx="174600" cy="14400"/>
          </a:xfrm>
          <a:custGeom>
            <a:avLst/>
            <a:gdLst>
              <a:gd name="textAreaLeft" fmla="*/ 0 w 174600"/>
              <a:gd name="textAreaRight" fmla="*/ 174960 w 1746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5261" h="15241">
                <a:moveTo>
                  <a:pt x="0" y="15240"/>
                </a:moveTo>
                <a:lnTo>
                  <a:pt x="4046" y="15240"/>
                </a:lnTo>
                <a:lnTo>
                  <a:pt x="6084" y="14394"/>
                </a:lnTo>
                <a:lnTo>
                  <a:pt x="8289" y="12983"/>
                </a:lnTo>
                <a:lnTo>
                  <a:pt x="10606" y="11195"/>
                </a:lnTo>
                <a:lnTo>
                  <a:pt x="14691" y="10003"/>
                </a:lnTo>
                <a:lnTo>
                  <a:pt x="19954" y="9209"/>
                </a:lnTo>
                <a:lnTo>
                  <a:pt x="26003" y="8679"/>
                </a:lnTo>
                <a:lnTo>
                  <a:pt x="31729" y="8326"/>
                </a:lnTo>
                <a:lnTo>
                  <a:pt x="42606" y="7934"/>
                </a:lnTo>
                <a:lnTo>
                  <a:pt x="48724" y="6983"/>
                </a:lnTo>
                <a:lnTo>
                  <a:pt x="55343" y="5502"/>
                </a:lnTo>
                <a:lnTo>
                  <a:pt x="62295" y="3668"/>
                </a:lnTo>
                <a:lnTo>
                  <a:pt x="69471" y="2445"/>
                </a:lnTo>
                <a:lnTo>
                  <a:pt x="76794" y="1631"/>
                </a:lnTo>
                <a:lnTo>
                  <a:pt x="84216" y="1087"/>
                </a:lnTo>
                <a:lnTo>
                  <a:pt x="90857" y="725"/>
                </a:lnTo>
                <a:lnTo>
                  <a:pt x="102752" y="322"/>
                </a:lnTo>
                <a:lnTo>
                  <a:pt x="163654" y="6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InkAnnotation188"/>
          <p:cNvSpPr/>
          <p:nvPr/>
        </p:nvSpPr>
        <p:spPr>
          <a:xfrm>
            <a:off x="6583320" y="5127480"/>
            <a:ext cx="236520" cy="38160"/>
          </a:xfrm>
          <a:custGeom>
            <a:avLst/>
            <a:gdLst>
              <a:gd name="textAreaLeft" fmla="*/ 0 w 236520"/>
              <a:gd name="textAreaRight" fmla="*/ 236880 w 236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36221" h="38101">
                <a:moveTo>
                  <a:pt x="0" y="0"/>
                </a:moveTo>
                <a:lnTo>
                  <a:pt x="29485" y="0"/>
                </a:lnTo>
                <a:lnTo>
                  <a:pt x="34897" y="846"/>
                </a:lnTo>
                <a:lnTo>
                  <a:pt x="41045" y="2257"/>
                </a:lnTo>
                <a:lnTo>
                  <a:pt x="47683" y="4045"/>
                </a:lnTo>
                <a:lnTo>
                  <a:pt x="53802" y="5237"/>
                </a:lnTo>
                <a:lnTo>
                  <a:pt x="59574" y="6031"/>
                </a:lnTo>
                <a:lnTo>
                  <a:pt x="65116" y="6561"/>
                </a:lnTo>
                <a:lnTo>
                  <a:pt x="71351" y="7760"/>
                </a:lnTo>
                <a:lnTo>
                  <a:pt x="78047" y="9407"/>
                </a:lnTo>
                <a:lnTo>
                  <a:pt x="85052" y="11351"/>
                </a:lnTo>
                <a:lnTo>
                  <a:pt x="92261" y="12648"/>
                </a:lnTo>
                <a:lnTo>
                  <a:pt x="99607" y="13512"/>
                </a:lnTo>
                <a:lnTo>
                  <a:pt x="107046" y="14088"/>
                </a:lnTo>
                <a:lnTo>
                  <a:pt x="114543" y="15319"/>
                </a:lnTo>
                <a:lnTo>
                  <a:pt x="122082" y="16986"/>
                </a:lnTo>
                <a:lnTo>
                  <a:pt x="129648" y="18944"/>
                </a:lnTo>
                <a:lnTo>
                  <a:pt x="137232" y="20249"/>
                </a:lnTo>
                <a:lnTo>
                  <a:pt x="144828" y="21119"/>
                </a:lnTo>
                <a:lnTo>
                  <a:pt x="152432" y="21700"/>
                </a:lnTo>
                <a:lnTo>
                  <a:pt x="159194" y="22933"/>
                </a:lnTo>
                <a:lnTo>
                  <a:pt x="165397" y="24602"/>
                </a:lnTo>
                <a:lnTo>
                  <a:pt x="171225" y="26561"/>
                </a:lnTo>
                <a:lnTo>
                  <a:pt x="178497" y="27868"/>
                </a:lnTo>
                <a:lnTo>
                  <a:pt x="186731" y="28738"/>
                </a:lnTo>
                <a:lnTo>
                  <a:pt x="195608" y="29319"/>
                </a:lnTo>
                <a:lnTo>
                  <a:pt x="209986" y="29964"/>
                </a:lnTo>
                <a:lnTo>
                  <a:pt x="216191" y="30136"/>
                </a:lnTo>
                <a:lnTo>
                  <a:pt x="221174" y="31097"/>
                </a:lnTo>
                <a:lnTo>
                  <a:pt x="225342" y="32585"/>
                </a:lnTo>
                <a:lnTo>
                  <a:pt x="236220" y="381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InkAnnotation189"/>
          <p:cNvSpPr/>
          <p:nvPr/>
        </p:nvSpPr>
        <p:spPr>
          <a:xfrm>
            <a:off x="7012080" y="4892760"/>
            <a:ext cx="395280" cy="558720"/>
          </a:xfrm>
          <a:custGeom>
            <a:avLst/>
            <a:gdLst>
              <a:gd name="textAreaLeft" fmla="*/ 0 w 395280"/>
              <a:gd name="textAreaRight" fmla="*/ 395640 w 39528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94343" h="560086">
                <a:moveTo>
                  <a:pt x="257182" y="0"/>
                </a:moveTo>
                <a:lnTo>
                  <a:pt x="257182" y="4045"/>
                </a:lnTo>
                <a:lnTo>
                  <a:pt x="256336" y="5237"/>
                </a:lnTo>
                <a:lnTo>
                  <a:pt x="254924" y="6031"/>
                </a:lnTo>
                <a:lnTo>
                  <a:pt x="253137" y="6561"/>
                </a:lnTo>
                <a:lnTo>
                  <a:pt x="248894" y="9407"/>
                </a:lnTo>
                <a:lnTo>
                  <a:pt x="239270" y="18133"/>
                </a:lnTo>
                <a:lnTo>
                  <a:pt x="223132" y="28857"/>
                </a:lnTo>
                <a:lnTo>
                  <a:pt x="213545" y="37096"/>
                </a:lnTo>
                <a:lnTo>
                  <a:pt x="203638" y="44145"/>
                </a:lnTo>
                <a:lnTo>
                  <a:pt x="192745" y="50947"/>
                </a:lnTo>
                <a:lnTo>
                  <a:pt x="157664" y="74014"/>
                </a:lnTo>
                <a:lnTo>
                  <a:pt x="150197" y="79823"/>
                </a:lnTo>
                <a:lnTo>
                  <a:pt x="142678" y="86235"/>
                </a:lnTo>
                <a:lnTo>
                  <a:pt x="135126" y="93050"/>
                </a:lnTo>
                <a:lnTo>
                  <a:pt x="127552" y="99287"/>
                </a:lnTo>
                <a:lnTo>
                  <a:pt x="119962" y="105138"/>
                </a:lnTo>
                <a:lnTo>
                  <a:pt x="112362" y="110732"/>
                </a:lnTo>
                <a:lnTo>
                  <a:pt x="104755" y="117848"/>
                </a:lnTo>
                <a:lnTo>
                  <a:pt x="97143" y="125979"/>
                </a:lnTo>
                <a:lnTo>
                  <a:pt x="89530" y="134786"/>
                </a:lnTo>
                <a:lnTo>
                  <a:pt x="81914" y="143197"/>
                </a:lnTo>
                <a:lnTo>
                  <a:pt x="66678" y="159316"/>
                </a:lnTo>
                <a:lnTo>
                  <a:pt x="59060" y="168018"/>
                </a:lnTo>
                <a:lnTo>
                  <a:pt x="51441" y="177205"/>
                </a:lnTo>
                <a:lnTo>
                  <a:pt x="43821" y="186717"/>
                </a:lnTo>
                <a:lnTo>
                  <a:pt x="37895" y="196444"/>
                </a:lnTo>
                <a:lnTo>
                  <a:pt x="33098" y="206316"/>
                </a:lnTo>
                <a:lnTo>
                  <a:pt x="29052" y="216284"/>
                </a:lnTo>
                <a:lnTo>
                  <a:pt x="24662" y="225470"/>
                </a:lnTo>
                <a:lnTo>
                  <a:pt x="15268" y="242449"/>
                </a:lnTo>
                <a:lnTo>
                  <a:pt x="11240" y="252226"/>
                </a:lnTo>
                <a:lnTo>
                  <a:pt x="7707" y="262978"/>
                </a:lnTo>
                <a:lnTo>
                  <a:pt x="4505" y="274378"/>
                </a:lnTo>
                <a:lnTo>
                  <a:pt x="2371" y="285365"/>
                </a:lnTo>
                <a:lnTo>
                  <a:pt x="948" y="296077"/>
                </a:lnTo>
                <a:lnTo>
                  <a:pt x="0" y="306605"/>
                </a:lnTo>
                <a:lnTo>
                  <a:pt x="213" y="317010"/>
                </a:lnTo>
                <a:lnTo>
                  <a:pt x="1203" y="327333"/>
                </a:lnTo>
                <a:lnTo>
                  <a:pt x="2709" y="337602"/>
                </a:lnTo>
                <a:lnTo>
                  <a:pt x="6641" y="360301"/>
                </a:lnTo>
                <a:lnTo>
                  <a:pt x="8874" y="372281"/>
                </a:lnTo>
                <a:lnTo>
                  <a:pt x="12904" y="383654"/>
                </a:lnTo>
                <a:lnTo>
                  <a:pt x="18131" y="394623"/>
                </a:lnTo>
                <a:lnTo>
                  <a:pt x="24155" y="405322"/>
                </a:lnTo>
                <a:lnTo>
                  <a:pt x="30710" y="415841"/>
                </a:lnTo>
                <a:lnTo>
                  <a:pt x="37621" y="426241"/>
                </a:lnTo>
                <a:lnTo>
                  <a:pt x="62917" y="463220"/>
                </a:lnTo>
                <a:lnTo>
                  <a:pt x="70098" y="472220"/>
                </a:lnTo>
                <a:lnTo>
                  <a:pt x="78273" y="481606"/>
                </a:lnTo>
                <a:lnTo>
                  <a:pt x="95541" y="500221"/>
                </a:lnTo>
                <a:lnTo>
                  <a:pt x="111681" y="516960"/>
                </a:lnTo>
                <a:lnTo>
                  <a:pt x="121236" y="523287"/>
                </a:lnTo>
                <a:lnTo>
                  <a:pt x="131837" y="528352"/>
                </a:lnTo>
                <a:lnTo>
                  <a:pt x="143139" y="532575"/>
                </a:lnTo>
                <a:lnTo>
                  <a:pt x="153213" y="537083"/>
                </a:lnTo>
                <a:lnTo>
                  <a:pt x="162470" y="541782"/>
                </a:lnTo>
                <a:lnTo>
                  <a:pt x="171181" y="546608"/>
                </a:lnTo>
                <a:lnTo>
                  <a:pt x="181221" y="549826"/>
                </a:lnTo>
                <a:lnTo>
                  <a:pt x="192148" y="551970"/>
                </a:lnTo>
                <a:lnTo>
                  <a:pt x="203666" y="553400"/>
                </a:lnTo>
                <a:lnTo>
                  <a:pt x="214732" y="555200"/>
                </a:lnTo>
                <a:lnTo>
                  <a:pt x="225495" y="557247"/>
                </a:lnTo>
                <a:lnTo>
                  <a:pt x="236057" y="559458"/>
                </a:lnTo>
                <a:lnTo>
                  <a:pt x="246486" y="560085"/>
                </a:lnTo>
                <a:lnTo>
                  <a:pt x="256824" y="559657"/>
                </a:lnTo>
                <a:lnTo>
                  <a:pt x="267103" y="558525"/>
                </a:lnTo>
                <a:lnTo>
                  <a:pt x="277343" y="556923"/>
                </a:lnTo>
                <a:lnTo>
                  <a:pt x="287556" y="555009"/>
                </a:lnTo>
                <a:lnTo>
                  <a:pt x="307936" y="550624"/>
                </a:lnTo>
                <a:lnTo>
                  <a:pt x="328281" y="545853"/>
                </a:lnTo>
                <a:lnTo>
                  <a:pt x="338448" y="542549"/>
                </a:lnTo>
                <a:lnTo>
                  <a:pt x="348613" y="538652"/>
                </a:lnTo>
                <a:lnTo>
                  <a:pt x="367246" y="530655"/>
                </a:lnTo>
                <a:lnTo>
                  <a:pt x="394342" y="518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InkAnnotation190"/>
          <p:cNvSpPr/>
          <p:nvPr/>
        </p:nvSpPr>
        <p:spPr>
          <a:xfrm>
            <a:off x="7216920" y="5143680"/>
            <a:ext cx="158760" cy="7920"/>
          </a:xfrm>
          <a:custGeom>
            <a:avLst/>
            <a:gdLst>
              <a:gd name="textAreaLeft" fmla="*/ 0 w 158760"/>
              <a:gd name="textAreaRight" fmla="*/ 159120 w 158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0021" h="7621">
                <a:moveTo>
                  <a:pt x="0" y="0"/>
                </a:moveTo>
                <a:lnTo>
                  <a:pt x="125510" y="0"/>
                </a:lnTo>
                <a:lnTo>
                  <a:pt x="131087" y="846"/>
                </a:lnTo>
                <a:lnTo>
                  <a:pt x="136498" y="2258"/>
                </a:lnTo>
                <a:lnTo>
                  <a:pt x="141798" y="4045"/>
                </a:lnTo>
                <a:lnTo>
                  <a:pt x="146179" y="5237"/>
                </a:lnTo>
                <a:lnTo>
                  <a:pt x="149946" y="6032"/>
                </a:lnTo>
                <a:lnTo>
                  <a:pt x="16002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InkAnnotation191"/>
          <p:cNvSpPr/>
          <p:nvPr/>
        </p:nvSpPr>
        <p:spPr>
          <a:xfrm>
            <a:off x="7415280" y="5021280"/>
            <a:ext cx="234720" cy="320760"/>
          </a:xfrm>
          <a:custGeom>
            <a:avLst/>
            <a:gdLst>
              <a:gd name="textAreaLeft" fmla="*/ 0 w 234720"/>
              <a:gd name="textAreaRight" fmla="*/ 235080 w 23472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234545" h="320041">
                <a:moveTo>
                  <a:pt x="150724" y="0"/>
                </a:moveTo>
                <a:lnTo>
                  <a:pt x="150724" y="4045"/>
                </a:lnTo>
                <a:lnTo>
                  <a:pt x="149031" y="6083"/>
                </a:lnTo>
                <a:lnTo>
                  <a:pt x="142634" y="10606"/>
                </a:lnTo>
                <a:lnTo>
                  <a:pt x="138557" y="12997"/>
                </a:lnTo>
                <a:lnTo>
                  <a:pt x="134147" y="15438"/>
                </a:lnTo>
                <a:lnTo>
                  <a:pt x="129513" y="17912"/>
                </a:lnTo>
                <a:lnTo>
                  <a:pt x="123883" y="21254"/>
                </a:lnTo>
                <a:lnTo>
                  <a:pt x="110855" y="29484"/>
                </a:lnTo>
                <a:lnTo>
                  <a:pt x="89239" y="43638"/>
                </a:lnTo>
                <a:lnTo>
                  <a:pt x="81795" y="49412"/>
                </a:lnTo>
                <a:lnTo>
                  <a:pt x="74291" y="55801"/>
                </a:lnTo>
                <a:lnTo>
                  <a:pt x="66749" y="62601"/>
                </a:lnTo>
                <a:lnTo>
                  <a:pt x="51594" y="76929"/>
                </a:lnTo>
                <a:lnTo>
                  <a:pt x="43998" y="84306"/>
                </a:lnTo>
                <a:lnTo>
                  <a:pt x="37240" y="91764"/>
                </a:lnTo>
                <a:lnTo>
                  <a:pt x="31041" y="99276"/>
                </a:lnTo>
                <a:lnTo>
                  <a:pt x="25215" y="106824"/>
                </a:lnTo>
                <a:lnTo>
                  <a:pt x="20485" y="114396"/>
                </a:lnTo>
                <a:lnTo>
                  <a:pt x="16485" y="121984"/>
                </a:lnTo>
                <a:lnTo>
                  <a:pt x="12971" y="129583"/>
                </a:lnTo>
                <a:lnTo>
                  <a:pt x="9782" y="137189"/>
                </a:lnTo>
                <a:lnTo>
                  <a:pt x="6810" y="144799"/>
                </a:lnTo>
                <a:lnTo>
                  <a:pt x="3982" y="152413"/>
                </a:lnTo>
                <a:lnTo>
                  <a:pt x="2096" y="160876"/>
                </a:lnTo>
                <a:lnTo>
                  <a:pt x="838" y="169904"/>
                </a:lnTo>
                <a:lnTo>
                  <a:pt x="0" y="179310"/>
                </a:lnTo>
                <a:lnTo>
                  <a:pt x="289" y="188119"/>
                </a:lnTo>
                <a:lnTo>
                  <a:pt x="1327" y="196533"/>
                </a:lnTo>
                <a:lnTo>
                  <a:pt x="2866" y="204682"/>
                </a:lnTo>
                <a:lnTo>
                  <a:pt x="5585" y="212655"/>
                </a:lnTo>
                <a:lnTo>
                  <a:pt x="9092" y="220510"/>
                </a:lnTo>
                <a:lnTo>
                  <a:pt x="13122" y="228287"/>
                </a:lnTo>
                <a:lnTo>
                  <a:pt x="17503" y="235164"/>
                </a:lnTo>
                <a:lnTo>
                  <a:pt x="22117" y="241443"/>
                </a:lnTo>
                <a:lnTo>
                  <a:pt x="26886" y="247322"/>
                </a:lnTo>
                <a:lnTo>
                  <a:pt x="33452" y="252935"/>
                </a:lnTo>
                <a:lnTo>
                  <a:pt x="41217" y="258370"/>
                </a:lnTo>
                <a:lnTo>
                  <a:pt x="49779" y="263687"/>
                </a:lnTo>
                <a:lnTo>
                  <a:pt x="58027" y="268078"/>
                </a:lnTo>
                <a:lnTo>
                  <a:pt x="66067" y="271852"/>
                </a:lnTo>
                <a:lnTo>
                  <a:pt x="73966" y="275215"/>
                </a:lnTo>
                <a:lnTo>
                  <a:pt x="82619" y="277457"/>
                </a:lnTo>
                <a:lnTo>
                  <a:pt x="91774" y="278951"/>
                </a:lnTo>
                <a:lnTo>
                  <a:pt x="101264" y="279948"/>
                </a:lnTo>
                <a:lnTo>
                  <a:pt x="110131" y="279765"/>
                </a:lnTo>
                <a:lnTo>
                  <a:pt x="118582" y="278796"/>
                </a:lnTo>
                <a:lnTo>
                  <a:pt x="126756" y="277305"/>
                </a:lnTo>
                <a:lnTo>
                  <a:pt x="134746" y="274616"/>
                </a:lnTo>
                <a:lnTo>
                  <a:pt x="142611" y="271131"/>
                </a:lnTo>
                <a:lnTo>
                  <a:pt x="169442" y="257416"/>
                </a:lnTo>
                <a:lnTo>
                  <a:pt x="175056" y="253738"/>
                </a:lnTo>
                <a:lnTo>
                  <a:pt x="180493" y="249591"/>
                </a:lnTo>
                <a:lnTo>
                  <a:pt x="185809" y="245135"/>
                </a:lnTo>
                <a:lnTo>
                  <a:pt x="190201" y="240470"/>
                </a:lnTo>
                <a:lnTo>
                  <a:pt x="197338" y="230771"/>
                </a:lnTo>
                <a:lnTo>
                  <a:pt x="201076" y="220816"/>
                </a:lnTo>
                <a:lnTo>
                  <a:pt x="202072" y="215791"/>
                </a:lnTo>
                <a:lnTo>
                  <a:pt x="202736" y="210747"/>
                </a:lnTo>
                <a:lnTo>
                  <a:pt x="203179" y="205692"/>
                </a:lnTo>
                <a:lnTo>
                  <a:pt x="203473" y="200628"/>
                </a:lnTo>
                <a:lnTo>
                  <a:pt x="202825" y="196405"/>
                </a:lnTo>
                <a:lnTo>
                  <a:pt x="199844" y="189455"/>
                </a:lnTo>
                <a:lnTo>
                  <a:pt x="193407" y="176738"/>
                </a:lnTo>
                <a:lnTo>
                  <a:pt x="190186" y="173705"/>
                </a:lnTo>
                <a:lnTo>
                  <a:pt x="186345" y="171684"/>
                </a:lnTo>
                <a:lnTo>
                  <a:pt x="182092" y="170336"/>
                </a:lnTo>
                <a:lnTo>
                  <a:pt x="175107" y="168838"/>
                </a:lnTo>
                <a:lnTo>
                  <a:pt x="172060" y="168438"/>
                </a:lnTo>
                <a:lnTo>
                  <a:pt x="169181" y="169019"/>
                </a:lnTo>
                <a:lnTo>
                  <a:pt x="163725" y="171922"/>
                </a:lnTo>
                <a:lnTo>
                  <a:pt x="158478" y="176035"/>
                </a:lnTo>
                <a:lnTo>
                  <a:pt x="152476" y="181531"/>
                </a:lnTo>
                <a:lnTo>
                  <a:pt x="144165" y="189618"/>
                </a:lnTo>
                <a:lnTo>
                  <a:pt x="141272" y="194992"/>
                </a:lnTo>
                <a:lnTo>
                  <a:pt x="139342" y="201115"/>
                </a:lnTo>
                <a:lnTo>
                  <a:pt x="138056" y="207737"/>
                </a:lnTo>
                <a:lnTo>
                  <a:pt x="137198" y="214691"/>
                </a:lnTo>
                <a:lnTo>
                  <a:pt x="136627" y="221867"/>
                </a:lnTo>
                <a:lnTo>
                  <a:pt x="136247" y="229192"/>
                </a:lnTo>
                <a:lnTo>
                  <a:pt x="137686" y="236615"/>
                </a:lnTo>
                <a:lnTo>
                  <a:pt x="140338" y="244103"/>
                </a:lnTo>
                <a:lnTo>
                  <a:pt x="146955" y="258350"/>
                </a:lnTo>
                <a:lnTo>
                  <a:pt x="152718" y="270327"/>
                </a:lnTo>
                <a:lnTo>
                  <a:pt x="156286" y="275892"/>
                </a:lnTo>
                <a:lnTo>
                  <a:pt x="160359" y="281295"/>
                </a:lnTo>
                <a:lnTo>
                  <a:pt x="164767" y="286590"/>
                </a:lnTo>
                <a:lnTo>
                  <a:pt x="170247" y="291813"/>
                </a:lnTo>
                <a:lnTo>
                  <a:pt x="176439" y="296988"/>
                </a:lnTo>
                <a:lnTo>
                  <a:pt x="183107" y="302132"/>
                </a:lnTo>
                <a:lnTo>
                  <a:pt x="189246" y="305562"/>
                </a:lnTo>
                <a:lnTo>
                  <a:pt x="195032" y="307848"/>
                </a:lnTo>
                <a:lnTo>
                  <a:pt x="200583" y="309372"/>
                </a:lnTo>
                <a:lnTo>
                  <a:pt x="205130" y="311235"/>
                </a:lnTo>
                <a:lnTo>
                  <a:pt x="212439" y="315562"/>
                </a:lnTo>
                <a:lnTo>
                  <a:pt x="216421" y="317055"/>
                </a:lnTo>
                <a:lnTo>
                  <a:pt x="220769" y="318050"/>
                </a:lnTo>
                <a:lnTo>
                  <a:pt x="234544" y="3200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InkAnnotation192"/>
          <p:cNvSpPr/>
          <p:nvPr/>
        </p:nvSpPr>
        <p:spPr>
          <a:xfrm>
            <a:off x="7711920" y="5029200"/>
            <a:ext cx="190800" cy="122400"/>
          </a:xfrm>
          <a:custGeom>
            <a:avLst/>
            <a:gdLst>
              <a:gd name="textAreaLeft" fmla="*/ 0 w 190800"/>
              <a:gd name="textAreaRight" fmla="*/ 191160 w 1908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89953" h="121912">
                <a:moveTo>
                  <a:pt x="98512" y="0"/>
                </a:moveTo>
                <a:lnTo>
                  <a:pt x="94467" y="0"/>
                </a:lnTo>
                <a:lnTo>
                  <a:pt x="92429" y="846"/>
                </a:lnTo>
                <a:lnTo>
                  <a:pt x="87906" y="4045"/>
                </a:lnTo>
                <a:lnTo>
                  <a:pt x="85515" y="6083"/>
                </a:lnTo>
                <a:lnTo>
                  <a:pt x="83074" y="8289"/>
                </a:lnTo>
                <a:lnTo>
                  <a:pt x="78104" y="12997"/>
                </a:lnTo>
                <a:lnTo>
                  <a:pt x="73072" y="17912"/>
                </a:lnTo>
                <a:lnTo>
                  <a:pt x="69699" y="20408"/>
                </a:lnTo>
                <a:lnTo>
                  <a:pt x="65757" y="22919"/>
                </a:lnTo>
                <a:lnTo>
                  <a:pt x="61435" y="25439"/>
                </a:lnTo>
                <a:lnTo>
                  <a:pt x="57708" y="27966"/>
                </a:lnTo>
                <a:lnTo>
                  <a:pt x="54375" y="30497"/>
                </a:lnTo>
                <a:lnTo>
                  <a:pt x="51308" y="33032"/>
                </a:lnTo>
                <a:lnTo>
                  <a:pt x="47569" y="34721"/>
                </a:lnTo>
                <a:lnTo>
                  <a:pt x="43384" y="35847"/>
                </a:lnTo>
                <a:lnTo>
                  <a:pt x="38900" y="36599"/>
                </a:lnTo>
                <a:lnTo>
                  <a:pt x="35064" y="38792"/>
                </a:lnTo>
                <a:lnTo>
                  <a:pt x="31660" y="41949"/>
                </a:lnTo>
                <a:lnTo>
                  <a:pt x="28544" y="45746"/>
                </a:lnTo>
                <a:lnTo>
                  <a:pt x="24773" y="49124"/>
                </a:lnTo>
                <a:lnTo>
                  <a:pt x="20567" y="52222"/>
                </a:lnTo>
                <a:lnTo>
                  <a:pt x="16069" y="55135"/>
                </a:lnTo>
                <a:lnTo>
                  <a:pt x="12223" y="57924"/>
                </a:lnTo>
                <a:lnTo>
                  <a:pt x="8813" y="60629"/>
                </a:lnTo>
                <a:lnTo>
                  <a:pt x="5693" y="63280"/>
                </a:lnTo>
                <a:lnTo>
                  <a:pt x="3612" y="65893"/>
                </a:lnTo>
                <a:lnTo>
                  <a:pt x="2225" y="68482"/>
                </a:lnTo>
                <a:lnTo>
                  <a:pt x="1302" y="71055"/>
                </a:lnTo>
                <a:lnTo>
                  <a:pt x="685" y="73616"/>
                </a:lnTo>
                <a:lnTo>
                  <a:pt x="275" y="76171"/>
                </a:lnTo>
                <a:lnTo>
                  <a:pt x="0" y="78721"/>
                </a:lnTo>
                <a:lnTo>
                  <a:pt x="664" y="81267"/>
                </a:lnTo>
                <a:lnTo>
                  <a:pt x="1954" y="83811"/>
                </a:lnTo>
                <a:lnTo>
                  <a:pt x="3660" y="86354"/>
                </a:lnTo>
                <a:lnTo>
                  <a:pt x="5643" y="88897"/>
                </a:lnTo>
                <a:lnTo>
                  <a:pt x="7813" y="91438"/>
                </a:lnTo>
                <a:lnTo>
                  <a:pt x="10107" y="93979"/>
                </a:lnTo>
                <a:lnTo>
                  <a:pt x="13329" y="96519"/>
                </a:lnTo>
                <a:lnTo>
                  <a:pt x="17169" y="99059"/>
                </a:lnTo>
                <a:lnTo>
                  <a:pt x="21424" y="101600"/>
                </a:lnTo>
                <a:lnTo>
                  <a:pt x="25953" y="104140"/>
                </a:lnTo>
                <a:lnTo>
                  <a:pt x="35502" y="109220"/>
                </a:lnTo>
                <a:lnTo>
                  <a:pt x="41265" y="110914"/>
                </a:lnTo>
                <a:lnTo>
                  <a:pt x="47648" y="112042"/>
                </a:lnTo>
                <a:lnTo>
                  <a:pt x="54443" y="112795"/>
                </a:lnTo>
                <a:lnTo>
                  <a:pt x="61513" y="114144"/>
                </a:lnTo>
                <a:lnTo>
                  <a:pt x="68765" y="115889"/>
                </a:lnTo>
                <a:lnTo>
                  <a:pt x="76141" y="117900"/>
                </a:lnTo>
                <a:lnTo>
                  <a:pt x="82751" y="119239"/>
                </a:lnTo>
                <a:lnTo>
                  <a:pt x="88851" y="120133"/>
                </a:lnTo>
                <a:lnTo>
                  <a:pt x="94612" y="120729"/>
                </a:lnTo>
                <a:lnTo>
                  <a:pt x="100992" y="121126"/>
                </a:lnTo>
                <a:lnTo>
                  <a:pt x="114854" y="121567"/>
                </a:lnTo>
                <a:lnTo>
                  <a:pt x="143708" y="121874"/>
                </a:lnTo>
                <a:lnTo>
                  <a:pt x="164449" y="121911"/>
                </a:lnTo>
                <a:lnTo>
                  <a:pt x="168716" y="121068"/>
                </a:lnTo>
                <a:lnTo>
                  <a:pt x="172409" y="119659"/>
                </a:lnTo>
                <a:lnTo>
                  <a:pt x="180372" y="115359"/>
                </a:lnTo>
                <a:lnTo>
                  <a:pt x="183720" y="114771"/>
                </a:lnTo>
                <a:lnTo>
                  <a:pt x="189952" y="1143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InkAnnotation193"/>
          <p:cNvSpPr/>
          <p:nvPr/>
        </p:nvSpPr>
        <p:spPr>
          <a:xfrm>
            <a:off x="7856640" y="5059440"/>
            <a:ext cx="122040" cy="296640"/>
          </a:xfrm>
          <a:custGeom>
            <a:avLst/>
            <a:gdLst>
              <a:gd name="textAreaLeft" fmla="*/ 0 w 122040"/>
              <a:gd name="textAreaRight" fmla="*/ 122400 w 12204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1463" h="297181">
                <a:moveTo>
                  <a:pt x="121462" y="0"/>
                </a:moveTo>
                <a:lnTo>
                  <a:pt x="117417" y="0"/>
                </a:lnTo>
                <a:lnTo>
                  <a:pt x="116225" y="846"/>
                </a:lnTo>
                <a:lnTo>
                  <a:pt x="115431" y="2258"/>
                </a:lnTo>
                <a:lnTo>
                  <a:pt x="114901" y="4045"/>
                </a:lnTo>
                <a:lnTo>
                  <a:pt x="112055" y="8289"/>
                </a:lnTo>
                <a:lnTo>
                  <a:pt x="110111" y="10606"/>
                </a:lnTo>
                <a:lnTo>
                  <a:pt x="107122" y="13844"/>
                </a:lnTo>
                <a:lnTo>
                  <a:pt x="99284" y="21957"/>
                </a:lnTo>
                <a:lnTo>
                  <a:pt x="94823" y="27338"/>
                </a:lnTo>
                <a:lnTo>
                  <a:pt x="90156" y="33466"/>
                </a:lnTo>
                <a:lnTo>
                  <a:pt x="85352" y="40090"/>
                </a:lnTo>
                <a:lnTo>
                  <a:pt x="81302" y="46201"/>
                </a:lnTo>
                <a:lnTo>
                  <a:pt x="77755" y="51967"/>
                </a:lnTo>
                <a:lnTo>
                  <a:pt x="74544" y="57505"/>
                </a:lnTo>
                <a:lnTo>
                  <a:pt x="66461" y="72689"/>
                </a:lnTo>
                <a:lnTo>
                  <a:pt x="61935" y="81479"/>
                </a:lnTo>
                <a:lnTo>
                  <a:pt x="57224" y="89880"/>
                </a:lnTo>
                <a:lnTo>
                  <a:pt x="52390" y="98020"/>
                </a:lnTo>
                <a:lnTo>
                  <a:pt x="47474" y="105986"/>
                </a:lnTo>
                <a:lnTo>
                  <a:pt x="42503" y="114684"/>
                </a:lnTo>
                <a:lnTo>
                  <a:pt x="32465" y="133380"/>
                </a:lnTo>
                <a:lnTo>
                  <a:pt x="28264" y="143107"/>
                </a:lnTo>
                <a:lnTo>
                  <a:pt x="24617" y="152978"/>
                </a:lnTo>
                <a:lnTo>
                  <a:pt x="12680" y="189109"/>
                </a:lnTo>
                <a:lnTo>
                  <a:pt x="9995" y="198039"/>
                </a:lnTo>
                <a:lnTo>
                  <a:pt x="4753" y="216993"/>
                </a:lnTo>
                <a:lnTo>
                  <a:pt x="3016" y="226788"/>
                </a:lnTo>
                <a:lnTo>
                  <a:pt x="1858" y="236706"/>
                </a:lnTo>
                <a:lnTo>
                  <a:pt x="1086" y="246704"/>
                </a:lnTo>
                <a:lnTo>
                  <a:pt x="572" y="255909"/>
                </a:lnTo>
                <a:lnTo>
                  <a:pt x="0" y="272911"/>
                </a:lnTo>
                <a:lnTo>
                  <a:pt x="694" y="279307"/>
                </a:lnTo>
                <a:lnTo>
                  <a:pt x="2004" y="284418"/>
                </a:lnTo>
                <a:lnTo>
                  <a:pt x="7162" y="29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InkAnnotation194"/>
          <p:cNvSpPr/>
          <p:nvPr/>
        </p:nvSpPr>
        <p:spPr>
          <a:xfrm>
            <a:off x="7916760" y="4861080"/>
            <a:ext cx="220680" cy="593640"/>
          </a:xfrm>
          <a:custGeom>
            <a:avLst/>
            <a:gdLst>
              <a:gd name="textAreaLeft" fmla="*/ 0 w 220680"/>
              <a:gd name="textAreaRight" fmla="*/ 221040 w 2206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19821" h="593498">
                <a:moveTo>
                  <a:pt x="198119" y="0"/>
                </a:moveTo>
                <a:lnTo>
                  <a:pt x="198119" y="4045"/>
                </a:lnTo>
                <a:lnTo>
                  <a:pt x="198966" y="6083"/>
                </a:lnTo>
                <a:lnTo>
                  <a:pt x="202165" y="10606"/>
                </a:lnTo>
                <a:lnTo>
                  <a:pt x="204151" y="19954"/>
                </a:lnTo>
                <a:lnTo>
                  <a:pt x="205881" y="33421"/>
                </a:lnTo>
                <a:lnTo>
                  <a:pt x="209471" y="50696"/>
                </a:lnTo>
                <a:lnTo>
                  <a:pt x="210767" y="60044"/>
                </a:lnTo>
                <a:lnTo>
                  <a:pt x="211632" y="69663"/>
                </a:lnTo>
                <a:lnTo>
                  <a:pt x="212208" y="79462"/>
                </a:lnTo>
                <a:lnTo>
                  <a:pt x="213439" y="91075"/>
                </a:lnTo>
                <a:lnTo>
                  <a:pt x="217064" y="117524"/>
                </a:lnTo>
                <a:lnTo>
                  <a:pt x="218369" y="132536"/>
                </a:lnTo>
                <a:lnTo>
                  <a:pt x="219240" y="148471"/>
                </a:lnTo>
                <a:lnTo>
                  <a:pt x="219820" y="165020"/>
                </a:lnTo>
                <a:lnTo>
                  <a:pt x="219360" y="181981"/>
                </a:lnTo>
                <a:lnTo>
                  <a:pt x="218207" y="199213"/>
                </a:lnTo>
                <a:lnTo>
                  <a:pt x="214668" y="235013"/>
                </a:lnTo>
                <a:lnTo>
                  <a:pt x="210272" y="273501"/>
                </a:lnTo>
                <a:lnTo>
                  <a:pt x="207068" y="293247"/>
                </a:lnTo>
                <a:lnTo>
                  <a:pt x="203239" y="313185"/>
                </a:lnTo>
                <a:lnTo>
                  <a:pt x="198993" y="333250"/>
                </a:lnTo>
                <a:lnTo>
                  <a:pt x="194468" y="352553"/>
                </a:lnTo>
                <a:lnTo>
                  <a:pt x="184926" y="389806"/>
                </a:lnTo>
                <a:lnTo>
                  <a:pt x="178317" y="407190"/>
                </a:lnTo>
                <a:lnTo>
                  <a:pt x="170525" y="423860"/>
                </a:lnTo>
                <a:lnTo>
                  <a:pt x="161944" y="440054"/>
                </a:lnTo>
                <a:lnTo>
                  <a:pt x="145635" y="469335"/>
                </a:lnTo>
                <a:lnTo>
                  <a:pt x="114469" y="522627"/>
                </a:lnTo>
                <a:lnTo>
                  <a:pt x="105946" y="533838"/>
                </a:lnTo>
                <a:lnTo>
                  <a:pt x="96877" y="543852"/>
                </a:lnTo>
                <a:lnTo>
                  <a:pt x="87445" y="553068"/>
                </a:lnTo>
                <a:lnTo>
                  <a:pt x="78616" y="560059"/>
                </a:lnTo>
                <a:lnTo>
                  <a:pt x="70191" y="565566"/>
                </a:lnTo>
                <a:lnTo>
                  <a:pt x="62034" y="570084"/>
                </a:lnTo>
                <a:lnTo>
                  <a:pt x="54902" y="574789"/>
                </a:lnTo>
                <a:lnTo>
                  <a:pt x="48455" y="579620"/>
                </a:lnTo>
                <a:lnTo>
                  <a:pt x="42464" y="584533"/>
                </a:lnTo>
                <a:lnTo>
                  <a:pt x="35929" y="587809"/>
                </a:lnTo>
                <a:lnTo>
                  <a:pt x="29033" y="589993"/>
                </a:lnTo>
                <a:lnTo>
                  <a:pt x="21894" y="591448"/>
                </a:lnTo>
                <a:lnTo>
                  <a:pt x="16290" y="592419"/>
                </a:lnTo>
                <a:lnTo>
                  <a:pt x="11707" y="593066"/>
                </a:lnTo>
                <a:lnTo>
                  <a:pt x="7805" y="593497"/>
                </a:lnTo>
                <a:lnTo>
                  <a:pt x="5204" y="592938"/>
                </a:lnTo>
                <a:lnTo>
                  <a:pt x="3469" y="591719"/>
                </a:lnTo>
                <a:lnTo>
                  <a:pt x="0" y="5867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InkAnnotation195"/>
          <p:cNvSpPr/>
          <p:nvPr/>
        </p:nvSpPr>
        <p:spPr>
          <a:xfrm>
            <a:off x="8221680" y="5127480"/>
            <a:ext cx="138240" cy="16200"/>
          </a:xfrm>
          <a:custGeom>
            <a:avLst/>
            <a:gdLst>
              <a:gd name="textAreaLeft" fmla="*/ 0 w 138240"/>
              <a:gd name="textAreaRight" fmla="*/ 138600 w 13824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37162" h="15241">
                <a:moveTo>
                  <a:pt x="0" y="0"/>
                </a:moveTo>
                <a:lnTo>
                  <a:pt x="39125" y="0"/>
                </a:lnTo>
                <a:lnTo>
                  <a:pt x="48097" y="846"/>
                </a:lnTo>
                <a:lnTo>
                  <a:pt x="58311" y="2257"/>
                </a:lnTo>
                <a:lnTo>
                  <a:pt x="69354" y="4045"/>
                </a:lnTo>
                <a:lnTo>
                  <a:pt x="80104" y="5237"/>
                </a:lnTo>
                <a:lnTo>
                  <a:pt x="90655" y="6031"/>
                </a:lnTo>
                <a:lnTo>
                  <a:pt x="101077" y="6561"/>
                </a:lnTo>
                <a:lnTo>
                  <a:pt x="109718" y="7761"/>
                </a:lnTo>
                <a:lnTo>
                  <a:pt x="117171" y="9407"/>
                </a:lnTo>
                <a:lnTo>
                  <a:pt x="137161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InkAnnotation196"/>
          <p:cNvSpPr/>
          <p:nvPr/>
        </p:nvSpPr>
        <p:spPr>
          <a:xfrm>
            <a:off x="8229600" y="5143680"/>
            <a:ext cx="174600" cy="29880"/>
          </a:xfrm>
          <a:custGeom>
            <a:avLst/>
            <a:gdLst>
              <a:gd name="textAreaLeft" fmla="*/ 0 w 174600"/>
              <a:gd name="textAreaRight" fmla="*/ 174960 w 1746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75261" h="30379">
                <a:moveTo>
                  <a:pt x="0" y="0"/>
                </a:moveTo>
                <a:lnTo>
                  <a:pt x="0" y="11573"/>
                </a:lnTo>
                <a:lnTo>
                  <a:pt x="846" y="12795"/>
                </a:lnTo>
                <a:lnTo>
                  <a:pt x="2259" y="13610"/>
                </a:lnTo>
                <a:lnTo>
                  <a:pt x="4046" y="14153"/>
                </a:lnTo>
                <a:lnTo>
                  <a:pt x="6930" y="15363"/>
                </a:lnTo>
                <a:lnTo>
                  <a:pt x="10548" y="17015"/>
                </a:lnTo>
                <a:lnTo>
                  <a:pt x="14651" y="18963"/>
                </a:lnTo>
                <a:lnTo>
                  <a:pt x="19081" y="20262"/>
                </a:lnTo>
                <a:lnTo>
                  <a:pt x="23727" y="21128"/>
                </a:lnTo>
                <a:lnTo>
                  <a:pt x="28519" y="21706"/>
                </a:lnTo>
                <a:lnTo>
                  <a:pt x="34252" y="22937"/>
                </a:lnTo>
                <a:lnTo>
                  <a:pt x="40615" y="24605"/>
                </a:lnTo>
                <a:lnTo>
                  <a:pt x="47396" y="26563"/>
                </a:lnTo>
                <a:lnTo>
                  <a:pt x="54457" y="27869"/>
                </a:lnTo>
                <a:lnTo>
                  <a:pt x="61706" y="28739"/>
                </a:lnTo>
                <a:lnTo>
                  <a:pt x="69077" y="29320"/>
                </a:lnTo>
                <a:lnTo>
                  <a:pt x="76531" y="29706"/>
                </a:lnTo>
                <a:lnTo>
                  <a:pt x="91587" y="30136"/>
                </a:lnTo>
                <a:lnTo>
                  <a:pt x="114344" y="30378"/>
                </a:lnTo>
                <a:lnTo>
                  <a:pt x="121103" y="29566"/>
                </a:lnTo>
                <a:lnTo>
                  <a:pt x="127302" y="28177"/>
                </a:lnTo>
                <a:lnTo>
                  <a:pt x="133128" y="26405"/>
                </a:lnTo>
                <a:lnTo>
                  <a:pt x="139551" y="25223"/>
                </a:lnTo>
                <a:lnTo>
                  <a:pt x="146376" y="24436"/>
                </a:lnTo>
                <a:lnTo>
                  <a:pt x="159036" y="23561"/>
                </a:lnTo>
                <a:lnTo>
                  <a:pt x="17526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InkAnnotation197"/>
          <p:cNvSpPr/>
          <p:nvPr/>
        </p:nvSpPr>
        <p:spPr>
          <a:xfrm>
            <a:off x="8515440" y="4944960"/>
            <a:ext cx="231840" cy="247680"/>
          </a:xfrm>
          <a:custGeom>
            <a:avLst/>
            <a:gdLst>
              <a:gd name="textAreaLeft" fmla="*/ 0 w 231840"/>
              <a:gd name="textAreaRight" fmla="*/ 232200 w 2318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31690" h="246861">
                <a:moveTo>
                  <a:pt x="117389" y="0"/>
                </a:moveTo>
                <a:lnTo>
                  <a:pt x="110828" y="0"/>
                </a:lnTo>
                <a:lnTo>
                  <a:pt x="106038" y="4045"/>
                </a:lnTo>
                <a:lnTo>
                  <a:pt x="99362" y="8289"/>
                </a:lnTo>
                <a:lnTo>
                  <a:pt x="95211" y="10606"/>
                </a:lnTo>
                <a:lnTo>
                  <a:pt x="90751" y="13844"/>
                </a:lnTo>
                <a:lnTo>
                  <a:pt x="86083" y="17696"/>
                </a:lnTo>
                <a:lnTo>
                  <a:pt x="81279" y="21957"/>
                </a:lnTo>
                <a:lnTo>
                  <a:pt x="76383" y="27338"/>
                </a:lnTo>
                <a:lnTo>
                  <a:pt x="71425" y="33466"/>
                </a:lnTo>
                <a:lnTo>
                  <a:pt x="66426" y="40090"/>
                </a:lnTo>
                <a:lnTo>
                  <a:pt x="61401" y="46201"/>
                </a:lnTo>
                <a:lnTo>
                  <a:pt x="56357" y="51967"/>
                </a:lnTo>
                <a:lnTo>
                  <a:pt x="51301" y="57505"/>
                </a:lnTo>
                <a:lnTo>
                  <a:pt x="46237" y="63737"/>
                </a:lnTo>
                <a:lnTo>
                  <a:pt x="41168" y="70431"/>
                </a:lnTo>
                <a:lnTo>
                  <a:pt x="31020" y="84643"/>
                </a:lnTo>
                <a:lnTo>
                  <a:pt x="20865" y="99426"/>
                </a:lnTo>
                <a:lnTo>
                  <a:pt x="16633" y="106924"/>
                </a:lnTo>
                <a:lnTo>
                  <a:pt x="12966" y="114462"/>
                </a:lnTo>
                <a:lnTo>
                  <a:pt x="9674" y="122029"/>
                </a:lnTo>
                <a:lnTo>
                  <a:pt x="6632" y="129612"/>
                </a:lnTo>
                <a:lnTo>
                  <a:pt x="995" y="144812"/>
                </a:lnTo>
                <a:lnTo>
                  <a:pt x="0" y="152422"/>
                </a:lnTo>
                <a:lnTo>
                  <a:pt x="184" y="160034"/>
                </a:lnTo>
                <a:lnTo>
                  <a:pt x="1153" y="167649"/>
                </a:lnTo>
                <a:lnTo>
                  <a:pt x="2645" y="175266"/>
                </a:lnTo>
                <a:lnTo>
                  <a:pt x="4486" y="182884"/>
                </a:lnTo>
                <a:lnTo>
                  <a:pt x="6562" y="190503"/>
                </a:lnTo>
                <a:lnTo>
                  <a:pt x="9637" y="197275"/>
                </a:lnTo>
                <a:lnTo>
                  <a:pt x="13380" y="203484"/>
                </a:lnTo>
                <a:lnTo>
                  <a:pt x="17571" y="209316"/>
                </a:lnTo>
                <a:lnTo>
                  <a:pt x="22057" y="214051"/>
                </a:lnTo>
                <a:lnTo>
                  <a:pt x="26742" y="218054"/>
                </a:lnTo>
                <a:lnTo>
                  <a:pt x="31556" y="221569"/>
                </a:lnTo>
                <a:lnTo>
                  <a:pt x="37308" y="224759"/>
                </a:lnTo>
                <a:lnTo>
                  <a:pt x="43681" y="227733"/>
                </a:lnTo>
                <a:lnTo>
                  <a:pt x="50471" y="230562"/>
                </a:lnTo>
                <a:lnTo>
                  <a:pt x="58384" y="231601"/>
                </a:lnTo>
                <a:lnTo>
                  <a:pt x="67045" y="231448"/>
                </a:lnTo>
                <a:lnTo>
                  <a:pt x="76207" y="230499"/>
                </a:lnTo>
                <a:lnTo>
                  <a:pt x="84855" y="229019"/>
                </a:lnTo>
                <a:lnTo>
                  <a:pt x="93159" y="227186"/>
                </a:lnTo>
                <a:lnTo>
                  <a:pt x="101236" y="225118"/>
                </a:lnTo>
                <a:lnTo>
                  <a:pt x="109161" y="221198"/>
                </a:lnTo>
                <a:lnTo>
                  <a:pt x="116983" y="216046"/>
                </a:lnTo>
                <a:lnTo>
                  <a:pt x="124739" y="210070"/>
                </a:lnTo>
                <a:lnTo>
                  <a:pt x="131602" y="204394"/>
                </a:lnTo>
                <a:lnTo>
                  <a:pt x="137871" y="198916"/>
                </a:lnTo>
                <a:lnTo>
                  <a:pt x="143744" y="193571"/>
                </a:lnTo>
                <a:lnTo>
                  <a:pt x="148506" y="187467"/>
                </a:lnTo>
                <a:lnTo>
                  <a:pt x="152526" y="180858"/>
                </a:lnTo>
                <a:lnTo>
                  <a:pt x="156054" y="173912"/>
                </a:lnTo>
                <a:lnTo>
                  <a:pt x="159253" y="166742"/>
                </a:lnTo>
                <a:lnTo>
                  <a:pt x="162231" y="159421"/>
                </a:lnTo>
                <a:lnTo>
                  <a:pt x="165063" y="152001"/>
                </a:lnTo>
                <a:lnTo>
                  <a:pt x="166952" y="145360"/>
                </a:lnTo>
                <a:lnTo>
                  <a:pt x="168211" y="139240"/>
                </a:lnTo>
                <a:lnTo>
                  <a:pt x="169051" y="133467"/>
                </a:lnTo>
                <a:lnTo>
                  <a:pt x="169610" y="128771"/>
                </a:lnTo>
                <a:lnTo>
                  <a:pt x="170231" y="121296"/>
                </a:lnTo>
                <a:lnTo>
                  <a:pt x="170582" y="116373"/>
                </a:lnTo>
                <a:lnTo>
                  <a:pt x="169784" y="114836"/>
                </a:lnTo>
                <a:lnTo>
                  <a:pt x="166640" y="110869"/>
                </a:lnTo>
                <a:lnTo>
                  <a:pt x="164617" y="110320"/>
                </a:lnTo>
                <a:lnTo>
                  <a:pt x="162421" y="110800"/>
                </a:lnTo>
                <a:lnTo>
                  <a:pt x="160110" y="111967"/>
                </a:lnTo>
                <a:lnTo>
                  <a:pt x="158570" y="113591"/>
                </a:lnTo>
                <a:lnTo>
                  <a:pt x="157543" y="115521"/>
                </a:lnTo>
                <a:lnTo>
                  <a:pt x="155556" y="120769"/>
                </a:lnTo>
                <a:lnTo>
                  <a:pt x="153840" y="124539"/>
                </a:lnTo>
                <a:lnTo>
                  <a:pt x="151850" y="128746"/>
                </a:lnTo>
                <a:lnTo>
                  <a:pt x="150523" y="134091"/>
                </a:lnTo>
                <a:lnTo>
                  <a:pt x="149638" y="140194"/>
                </a:lnTo>
                <a:lnTo>
                  <a:pt x="149049" y="146803"/>
                </a:lnTo>
                <a:lnTo>
                  <a:pt x="148655" y="153748"/>
                </a:lnTo>
                <a:lnTo>
                  <a:pt x="148219" y="168240"/>
                </a:lnTo>
                <a:lnTo>
                  <a:pt x="148949" y="174813"/>
                </a:lnTo>
                <a:lnTo>
                  <a:pt x="150283" y="180888"/>
                </a:lnTo>
                <a:lnTo>
                  <a:pt x="152018" y="186632"/>
                </a:lnTo>
                <a:lnTo>
                  <a:pt x="154869" y="193002"/>
                </a:lnTo>
                <a:lnTo>
                  <a:pt x="158462" y="199788"/>
                </a:lnTo>
                <a:lnTo>
                  <a:pt x="162551" y="206852"/>
                </a:lnTo>
                <a:lnTo>
                  <a:pt x="169352" y="219216"/>
                </a:lnTo>
                <a:lnTo>
                  <a:pt x="172351" y="224885"/>
                </a:lnTo>
                <a:lnTo>
                  <a:pt x="175198" y="229510"/>
                </a:lnTo>
                <a:lnTo>
                  <a:pt x="180618" y="236906"/>
                </a:lnTo>
                <a:lnTo>
                  <a:pt x="185848" y="243016"/>
                </a:lnTo>
                <a:lnTo>
                  <a:pt x="188429" y="245831"/>
                </a:lnTo>
                <a:lnTo>
                  <a:pt x="190996" y="246860"/>
                </a:lnTo>
                <a:lnTo>
                  <a:pt x="193554" y="246700"/>
                </a:lnTo>
                <a:lnTo>
                  <a:pt x="199500" y="244265"/>
                </a:lnTo>
                <a:lnTo>
                  <a:pt x="207787" y="240360"/>
                </a:lnTo>
                <a:lnTo>
                  <a:pt x="214857" y="238060"/>
                </a:lnTo>
                <a:lnTo>
                  <a:pt x="217928" y="237447"/>
                </a:lnTo>
                <a:lnTo>
                  <a:pt x="223597" y="234507"/>
                </a:lnTo>
                <a:lnTo>
                  <a:pt x="231689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InkAnnotation198"/>
          <p:cNvSpPr/>
          <p:nvPr/>
        </p:nvSpPr>
        <p:spPr>
          <a:xfrm>
            <a:off x="8778960" y="4923000"/>
            <a:ext cx="166680" cy="136440"/>
          </a:xfrm>
          <a:custGeom>
            <a:avLst/>
            <a:gdLst>
              <a:gd name="textAreaLeft" fmla="*/ 0 w 166680"/>
              <a:gd name="textAreaRight" fmla="*/ 167040 w 1666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67509" h="137161">
                <a:moveTo>
                  <a:pt x="76068" y="0"/>
                </a:moveTo>
                <a:lnTo>
                  <a:pt x="82630" y="0"/>
                </a:lnTo>
                <a:lnTo>
                  <a:pt x="82136" y="847"/>
                </a:lnTo>
                <a:lnTo>
                  <a:pt x="79329" y="4045"/>
                </a:lnTo>
                <a:lnTo>
                  <a:pt x="78242" y="6084"/>
                </a:lnTo>
                <a:lnTo>
                  <a:pt x="77517" y="8289"/>
                </a:lnTo>
                <a:lnTo>
                  <a:pt x="77035" y="10606"/>
                </a:lnTo>
                <a:lnTo>
                  <a:pt x="75865" y="12151"/>
                </a:lnTo>
                <a:lnTo>
                  <a:pt x="74240" y="13181"/>
                </a:lnTo>
                <a:lnTo>
                  <a:pt x="72309" y="13867"/>
                </a:lnTo>
                <a:lnTo>
                  <a:pt x="67907" y="16888"/>
                </a:lnTo>
                <a:lnTo>
                  <a:pt x="65547" y="18878"/>
                </a:lnTo>
                <a:lnTo>
                  <a:pt x="63974" y="21899"/>
                </a:lnTo>
                <a:lnTo>
                  <a:pt x="62926" y="25606"/>
                </a:lnTo>
                <a:lnTo>
                  <a:pt x="62226" y="29771"/>
                </a:lnTo>
                <a:lnTo>
                  <a:pt x="60067" y="33394"/>
                </a:lnTo>
                <a:lnTo>
                  <a:pt x="56934" y="36656"/>
                </a:lnTo>
                <a:lnTo>
                  <a:pt x="53152" y="39677"/>
                </a:lnTo>
                <a:lnTo>
                  <a:pt x="49784" y="42539"/>
                </a:lnTo>
                <a:lnTo>
                  <a:pt x="46692" y="45292"/>
                </a:lnTo>
                <a:lnTo>
                  <a:pt x="43783" y="47975"/>
                </a:lnTo>
                <a:lnTo>
                  <a:pt x="40998" y="51457"/>
                </a:lnTo>
                <a:lnTo>
                  <a:pt x="38295" y="55471"/>
                </a:lnTo>
                <a:lnTo>
                  <a:pt x="35647" y="59841"/>
                </a:lnTo>
                <a:lnTo>
                  <a:pt x="33034" y="63600"/>
                </a:lnTo>
                <a:lnTo>
                  <a:pt x="30445" y="66954"/>
                </a:lnTo>
                <a:lnTo>
                  <a:pt x="27873" y="70036"/>
                </a:lnTo>
                <a:lnTo>
                  <a:pt x="25311" y="73784"/>
                </a:lnTo>
                <a:lnTo>
                  <a:pt x="22757" y="77976"/>
                </a:lnTo>
                <a:lnTo>
                  <a:pt x="20207" y="82464"/>
                </a:lnTo>
                <a:lnTo>
                  <a:pt x="17660" y="85456"/>
                </a:lnTo>
                <a:lnTo>
                  <a:pt x="15116" y="87451"/>
                </a:lnTo>
                <a:lnTo>
                  <a:pt x="10032" y="90514"/>
                </a:lnTo>
                <a:lnTo>
                  <a:pt x="4949" y="94697"/>
                </a:lnTo>
                <a:lnTo>
                  <a:pt x="3256" y="96998"/>
                </a:lnTo>
                <a:lnTo>
                  <a:pt x="2126" y="99379"/>
                </a:lnTo>
                <a:lnTo>
                  <a:pt x="1374" y="101812"/>
                </a:lnTo>
                <a:lnTo>
                  <a:pt x="872" y="104282"/>
                </a:lnTo>
                <a:lnTo>
                  <a:pt x="537" y="106775"/>
                </a:lnTo>
                <a:lnTo>
                  <a:pt x="0" y="112814"/>
                </a:lnTo>
                <a:lnTo>
                  <a:pt x="803" y="113309"/>
                </a:lnTo>
                <a:lnTo>
                  <a:pt x="5917" y="114105"/>
                </a:lnTo>
                <a:lnTo>
                  <a:pt x="6441" y="114170"/>
                </a:lnTo>
                <a:lnTo>
                  <a:pt x="11223" y="118307"/>
                </a:lnTo>
                <a:lnTo>
                  <a:pt x="14211" y="119511"/>
                </a:lnTo>
                <a:lnTo>
                  <a:pt x="17897" y="120314"/>
                </a:lnTo>
                <a:lnTo>
                  <a:pt x="22047" y="120849"/>
                </a:lnTo>
                <a:lnTo>
                  <a:pt x="26508" y="121206"/>
                </a:lnTo>
                <a:lnTo>
                  <a:pt x="31174" y="121444"/>
                </a:lnTo>
                <a:lnTo>
                  <a:pt x="35978" y="121603"/>
                </a:lnTo>
                <a:lnTo>
                  <a:pt x="54876" y="121826"/>
                </a:lnTo>
                <a:lnTo>
                  <a:pt x="62787" y="122704"/>
                </a:lnTo>
                <a:lnTo>
                  <a:pt x="71448" y="124136"/>
                </a:lnTo>
                <a:lnTo>
                  <a:pt x="80608" y="125937"/>
                </a:lnTo>
                <a:lnTo>
                  <a:pt x="88408" y="127138"/>
                </a:lnTo>
                <a:lnTo>
                  <a:pt x="95301" y="127939"/>
                </a:lnTo>
                <a:lnTo>
                  <a:pt x="101591" y="128472"/>
                </a:lnTo>
                <a:lnTo>
                  <a:pt x="108323" y="129675"/>
                </a:lnTo>
                <a:lnTo>
                  <a:pt x="115351" y="131323"/>
                </a:lnTo>
                <a:lnTo>
                  <a:pt x="122577" y="133269"/>
                </a:lnTo>
                <a:lnTo>
                  <a:pt x="129087" y="134566"/>
                </a:lnTo>
                <a:lnTo>
                  <a:pt x="135120" y="135431"/>
                </a:lnTo>
                <a:lnTo>
                  <a:pt x="140836" y="136007"/>
                </a:lnTo>
                <a:lnTo>
                  <a:pt x="145493" y="136391"/>
                </a:lnTo>
                <a:lnTo>
                  <a:pt x="149445" y="136648"/>
                </a:lnTo>
                <a:lnTo>
                  <a:pt x="156094" y="136932"/>
                </a:lnTo>
                <a:lnTo>
                  <a:pt x="167508" y="137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InkAnnotation199"/>
          <p:cNvSpPr/>
          <p:nvPr/>
        </p:nvSpPr>
        <p:spPr>
          <a:xfrm>
            <a:off x="8907480" y="4937040"/>
            <a:ext cx="76320" cy="312840"/>
          </a:xfrm>
          <a:custGeom>
            <a:avLst/>
            <a:gdLst>
              <a:gd name="textAreaLeft" fmla="*/ 0 w 76320"/>
              <a:gd name="textAreaRight" fmla="*/ 76320 w 7632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76201" h="312421">
                <a:moveTo>
                  <a:pt x="76200" y="0"/>
                </a:moveTo>
                <a:lnTo>
                  <a:pt x="76200" y="10606"/>
                </a:lnTo>
                <a:lnTo>
                  <a:pt x="75354" y="12997"/>
                </a:lnTo>
                <a:lnTo>
                  <a:pt x="73942" y="15438"/>
                </a:lnTo>
                <a:lnTo>
                  <a:pt x="72156" y="17912"/>
                </a:lnTo>
                <a:lnTo>
                  <a:pt x="70117" y="21254"/>
                </a:lnTo>
                <a:lnTo>
                  <a:pt x="67912" y="25176"/>
                </a:lnTo>
                <a:lnTo>
                  <a:pt x="63203" y="34049"/>
                </a:lnTo>
                <a:lnTo>
                  <a:pt x="58287" y="43637"/>
                </a:lnTo>
                <a:lnTo>
                  <a:pt x="56639" y="49412"/>
                </a:lnTo>
                <a:lnTo>
                  <a:pt x="55539" y="55801"/>
                </a:lnTo>
                <a:lnTo>
                  <a:pt x="54806" y="62601"/>
                </a:lnTo>
                <a:lnTo>
                  <a:pt x="52624" y="70520"/>
                </a:lnTo>
                <a:lnTo>
                  <a:pt x="49476" y="79187"/>
                </a:lnTo>
                <a:lnTo>
                  <a:pt x="45684" y="88351"/>
                </a:lnTo>
                <a:lnTo>
                  <a:pt x="42309" y="97847"/>
                </a:lnTo>
                <a:lnTo>
                  <a:pt x="39213" y="107565"/>
                </a:lnTo>
                <a:lnTo>
                  <a:pt x="33515" y="127393"/>
                </a:lnTo>
                <a:lnTo>
                  <a:pt x="28161" y="147495"/>
                </a:lnTo>
                <a:lnTo>
                  <a:pt x="22958" y="169975"/>
                </a:lnTo>
                <a:lnTo>
                  <a:pt x="7629" y="241787"/>
                </a:lnTo>
                <a:lnTo>
                  <a:pt x="5085" y="252632"/>
                </a:lnTo>
                <a:lnTo>
                  <a:pt x="3391" y="262401"/>
                </a:lnTo>
                <a:lnTo>
                  <a:pt x="2261" y="271454"/>
                </a:lnTo>
                <a:lnTo>
                  <a:pt x="1507" y="280029"/>
                </a:lnTo>
                <a:lnTo>
                  <a:pt x="1005" y="287440"/>
                </a:lnTo>
                <a:lnTo>
                  <a:pt x="0" y="3124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ing Ratio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533520" y="121932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9"/>
              <p:cNvSpPr txBox="1"/>
              <p:nvPr/>
            </p:nvSpPr>
            <p:spPr>
              <a:xfrm>
                <a:off x="1676520" y="1219320"/>
                <a:ext cx="1371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÷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8" name="Group 15"/>
          <p:cNvGrpSpPr/>
          <p:nvPr/>
        </p:nvGrpSpPr>
        <p:grpSpPr>
          <a:xfrm>
            <a:off x="533520" y="4687920"/>
            <a:ext cx="2340000" cy="950760"/>
            <a:chOff x="533520" y="4687920"/>
            <a:chExt cx="2340000" cy="950760"/>
          </a:xfrm>
        </p:grpSpPr>
        <p:sp>
          <p:nvSpPr>
            <p:cNvPr id="589" name="Text Box 7"/>
            <p:cNvSpPr/>
            <p:nvPr/>
          </p:nvSpPr>
          <p:spPr>
            <a:xfrm>
              <a:off x="533520" y="4916520"/>
              <a:ext cx="1447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6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0" name="Object 12"/>
                <p:cNvSpPr txBox="1"/>
                <p:nvPr/>
              </p:nvSpPr>
              <p:spPr>
                <a:xfrm>
                  <a:off x="1676520" y="4687920"/>
                  <a:ext cx="119700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÷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1" name="Group 13"/>
          <p:cNvGrpSpPr/>
          <p:nvPr/>
        </p:nvGrpSpPr>
        <p:grpSpPr>
          <a:xfrm>
            <a:off x="533520" y="2370240"/>
            <a:ext cx="2438280" cy="500040"/>
            <a:chOff x="533520" y="2370240"/>
            <a:chExt cx="2438280" cy="500040"/>
          </a:xfrm>
        </p:grpSpPr>
        <p:sp>
          <p:nvSpPr>
            <p:cNvPr id="592" name="Text Box 7"/>
            <p:cNvSpPr/>
            <p:nvPr/>
          </p:nvSpPr>
          <p:spPr>
            <a:xfrm>
              <a:off x="533520" y="2370240"/>
              <a:ext cx="1371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4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3" name="Object 13"/>
                <p:cNvSpPr txBox="1"/>
                <p:nvPr/>
              </p:nvSpPr>
              <p:spPr>
                <a:xfrm>
                  <a:off x="1633680" y="2401920"/>
                  <a:ext cx="13381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÷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Group 14"/>
          <p:cNvGrpSpPr/>
          <p:nvPr/>
        </p:nvGrpSpPr>
        <p:grpSpPr>
          <a:xfrm>
            <a:off x="533520" y="3665520"/>
            <a:ext cx="2286000" cy="500040"/>
            <a:chOff x="533520" y="3665520"/>
            <a:chExt cx="2286000" cy="500040"/>
          </a:xfrm>
        </p:grpSpPr>
        <p:sp>
          <p:nvSpPr>
            <p:cNvPr id="595" name="Text Box 7"/>
            <p:cNvSpPr/>
            <p:nvPr/>
          </p:nvSpPr>
          <p:spPr>
            <a:xfrm>
              <a:off x="533520" y="366552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5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14"/>
                <p:cNvSpPr txBox="1"/>
                <p:nvPr/>
              </p:nvSpPr>
              <p:spPr>
                <a:xfrm>
                  <a:off x="1581120" y="3697200"/>
                  <a:ext cx="123840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3</m:t>
                      </m:r>
                      <m:r>
                        <m:t xml:space="preserve">÷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21"/>
          <p:cNvGrpSpPr/>
          <p:nvPr/>
        </p:nvGrpSpPr>
        <p:grpSpPr>
          <a:xfrm>
            <a:off x="2835360" y="1279440"/>
            <a:ext cx="1195200" cy="4138560"/>
            <a:chOff x="2835360" y="1279440"/>
            <a:chExt cx="1195200" cy="4138560"/>
          </a:xfrm>
        </p:grpSpPr>
        <p:sp>
          <p:nvSpPr>
            <p:cNvPr id="598" name="SMARTInkAnnotation374"/>
            <p:cNvSpPr/>
            <p:nvPr/>
          </p:nvSpPr>
          <p:spPr>
            <a:xfrm>
              <a:off x="3132000" y="1446840"/>
              <a:ext cx="190080" cy="75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0"/>
                  </a:moveTo>
                  <a:lnTo>
                    <a:pt x="135805" y="0"/>
                  </a:lnTo>
                  <a:lnTo>
                    <a:pt x="143877" y="847"/>
                  </a:lnTo>
                  <a:lnTo>
                    <a:pt x="151798" y="2258"/>
                  </a:lnTo>
                  <a:lnTo>
                    <a:pt x="159619" y="4045"/>
                  </a:lnTo>
                  <a:lnTo>
                    <a:pt x="166526" y="5237"/>
                  </a:lnTo>
                  <a:lnTo>
                    <a:pt x="172824" y="6031"/>
                  </a:lnTo>
                  <a:lnTo>
                    <a:pt x="19050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MARTInkAnnotation375"/>
            <p:cNvSpPr/>
            <p:nvPr/>
          </p:nvSpPr>
          <p:spPr>
            <a:xfrm>
              <a:off x="3162600" y="1530720"/>
              <a:ext cx="220680" cy="22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20981" h="22539">
                  <a:moveTo>
                    <a:pt x="0" y="7620"/>
                  </a:moveTo>
                  <a:lnTo>
                    <a:pt x="0" y="11665"/>
                  </a:lnTo>
                  <a:lnTo>
                    <a:pt x="847" y="12857"/>
                  </a:lnTo>
                  <a:lnTo>
                    <a:pt x="2258" y="13651"/>
                  </a:lnTo>
                  <a:lnTo>
                    <a:pt x="4045" y="14181"/>
                  </a:lnTo>
                  <a:lnTo>
                    <a:pt x="8289" y="14769"/>
                  </a:lnTo>
                  <a:lnTo>
                    <a:pt x="10607" y="14926"/>
                  </a:lnTo>
                  <a:lnTo>
                    <a:pt x="14691" y="15877"/>
                  </a:lnTo>
                  <a:lnTo>
                    <a:pt x="19954" y="17358"/>
                  </a:lnTo>
                  <a:lnTo>
                    <a:pt x="26003" y="19192"/>
                  </a:lnTo>
                  <a:lnTo>
                    <a:pt x="31729" y="20415"/>
                  </a:lnTo>
                  <a:lnTo>
                    <a:pt x="37239" y="21230"/>
                  </a:lnTo>
                  <a:lnTo>
                    <a:pt x="42606" y="21773"/>
                  </a:lnTo>
                  <a:lnTo>
                    <a:pt x="49571" y="22136"/>
                  </a:lnTo>
                  <a:lnTo>
                    <a:pt x="66341" y="22538"/>
                  </a:lnTo>
                  <a:lnTo>
                    <a:pt x="75554" y="21799"/>
                  </a:lnTo>
                  <a:lnTo>
                    <a:pt x="85083" y="20459"/>
                  </a:lnTo>
                  <a:lnTo>
                    <a:pt x="94822" y="18719"/>
                  </a:lnTo>
                  <a:lnTo>
                    <a:pt x="104701" y="17560"/>
                  </a:lnTo>
                  <a:lnTo>
                    <a:pt x="114674" y="16787"/>
                  </a:lnTo>
                  <a:lnTo>
                    <a:pt x="124710" y="16271"/>
                  </a:lnTo>
                  <a:lnTo>
                    <a:pt x="133940" y="15081"/>
                  </a:lnTo>
                  <a:lnTo>
                    <a:pt x="142634" y="13441"/>
                  </a:lnTo>
                  <a:lnTo>
                    <a:pt x="150969" y="11500"/>
                  </a:lnTo>
                  <a:lnTo>
                    <a:pt x="159913" y="10207"/>
                  </a:lnTo>
                  <a:lnTo>
                    <a:pt x="169262" y="9345"/>
                  </a:lnTo>
                  <a:lnTo>
                    <a:pt x="178882" y="8770"/>
                  </a:lnTo>
                  <a:lnTo>
                    <a:pt x="186988" y="7540"/>
                  </a:lnTo>
                  <a:lnTo>
                    <a:pt x="194085" y="5873"/>
                  </a:lnTo>
                  <a:lnTo>
                    <a:pt x="200511" y="3916"/>
                  </a:lnTo>
                  <a:lnTo>
                    <a:pt x="205641" y="2610"/>
                  </a:lnTo>
                  <a:lnTo>
                    <a:pt x="209907" y="1740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MARTInkAnnotation376"/>
            <p:cNvSpPr/>
            <p:nvPr/>
          </p:nvSpPr>
          <p:spPr>
            <a:xfrm>
              <a:off x="3505320" y="1401120"/>
              <a:ext cx="190080" cy="756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2" h="7621">
                  <a:moveTo>
                    <a:pt x="0" y="7620"/>
                  </a:moveTo>
                  <a:lnTo>
                    <a:pt x="146346" y="7620"/>
                  </a:lnTo>
                  <a:lnTo>
                    <a:pt x="155984" y="6773"/>
                  </a:lnTo>
                  <a:lnTo>
                    <a:pt x="164950" y="5362"/>
                  </a:lnTo>
                  <a:lnTo>
                    <a:pt x="19050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MARTInkAnnotation377"/>
            <p:cNvSpPr/>
            <p:nvPr/>
          </p:nvSpPr>
          <p:spPr>
            <a:xfrm>
              <a:off x="3789000" y="1279440"/>
              <a:ext cx="225360" cy="243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5719" h="243841">
                  <a:moveTo>
                    <a:pt x="59049" y="0"/>
                  </a:moveTo>
                  <a:lnTo>
                    <a:pt x="59049" y="11351"/>
                  </a:lnTo>
                  <a:lnTo>
                    <a:pt x="58203" y="13494"/>
                  </a:lnTo>
                  <a:lnTo>
                    <a:pt x="55004" y="18133"/>
                  </a:lnTo>
                  <a:lnTo>
                    <a:pt x="52966" y="22249"/>
                  </a:lnTo>
                  <a:lnTo>
                    <a:pt x="50761" y="27533"/>
                  </a:lnTo>
                  <a:lnTo>
                    <a:pt x="48443" y="33595"/>
                  </a:lnTo>
                  <a:lnTo>
                    <a:pt x="46052" y="39330"/>
                  </a:lnTo>
                  <a:lnTo>
                    <a:pt x="43611" y="44847"/>
                  </a:lnTo>
                  <a:lnTo>
                    <a:pt x="41137" y="50218"/>
                  </a:lnTo>
                  <a:lnTo>
                    <a:pt x="29564" y="73958"/>
                  </a:lnTo>
                  <a:lnTo>
                    <a:pt x="25000" y="82325"/>
                  </a:lnTo>
                  <a:lnTo>
                    <a:pt x="20263" y="90444"/>
                  </a:lnTo>
                  <a:lnTo>
                    <a:pt x="15412" y="98396"/>
                  </a:lnTo>
                  <a:lnTo>
                    <a:pt x="11331" y="106237"/>
                  </a:lnTo>
                  <a:lnTo>
                    <a:pt x="7763" y="114005"/>
                  </a:lnTo>
                  <a:lnTo>
                    <a:pt x="4539" y="121723"/>
                  </a:lnTo>
                  <a:lnTo>
                    <a:pt x="2389" y="130255"/>
                  </a:lnTo>
                  <a:lnTo>
                    <a:pt x="956" y="139330"/>
                  </a:lnTo>
                  <a:lnTo>
                    <a:pt x="0" y="148767"/>
                  </a:lnTo>
                  <a:lnTo>
                    <a:pt x="210" y="157598"/>
                  </a:lnTo>
                  <a:lnTo>
                    <a:pt x="1196" y="166025"/>
                  </a:lnTo>
                  <a:lnTo>
                    <a:pt x="2701" y="174184"/>
                  </a:lnTo>
                  <a:lnTo>
                    <a:pt x="4550" y="181316"/>
                  </a:lnTo>
                  <a:lnTo>
                    <a:pt x="6630" y="187764"/>
                  </a:lnTo>
                  <a:lnTo>
                    <a:pt x="8863" y="193756"/>
                  </a:lnTo>
                  <a:lnTo>
                    <a:pt x="13738" y="199444"/>
                  </a:lnTo>
                  <a:lnTo>
                    <a:pt x="20375" y="204929"/>
                  </a:lnTo>
                  <a:lnTo>
                    <a:pt x="28187" y="210280"/>
                  </a:lnTo>
                  <a:lnTo>
                    <a:pt x="35934" y="214693"/>
                  </a:lnTo>
                  <a:lnTo>
                    <a:pt x="43639" y="218482"/>
                  </a:lnTo>
                  <a:lnTo>
                    <a:pt x="51315" y="221855"/>
                  </a:lnTo>
                  <a:lnTo>
                    <a:pt x="60667" y="224103"/>
                  </a:lnTo>
                  <a:lnTo>
                    <a:pt x="71134" y="225602"/>
                  </a:lnTo>
                  <a:lnTo>
                    <a:pt x="82346" y="226601"/>
                  </a:lnTo>
                  <a:lnTo>
                    <a:pt x="93207" y="227268"/>
                  </a:lnTo>
                  <a:lnTo>
                    <a:pt x="114306" y="228008"/>
                  </a:lnTo>
                  <a:lnTo>
                    <a:pt x="124673" y="227359"/>
                  </a:lnTo>
                  <a:lnTo>
                    <a:pt x="134971" y="226079"/>
                  </a:lnTo>
                  <a:lnTo>
                    <a:pt x="145224" y="224379"/>
                  </a:lnTo>
                  <a:lnTo>
                    <a:pt x="155446" y="221553"/>
                  </a:lnTo>
                  <a:lnTo>
                    <a:pt x="165647" y="217975"/>
                  </a:lnTo>
                  <a:lnTo>
                    <a:pt x="175834" y="213897"/>
                  </a:lnTo>
                  <a:lnTo>
                    <a:pt x="184318" y="208638"/>
                  </a:lnTo>
                  <a:lnTo>
                    <a:pt x="191668" y="202592"/>
                  </a:lnTo>
                  <a:lnTo>
                    <a:pt x="215632" y="178683"/>
                  </a:lnTo>
                  <a:lnTo>
                    <a:pt x="219318" y="173309"/>
                  </a:lnTo>
                  <a:lnTo>
                    <a:pt x="221775" y="168033"/>
                  </a:lnTo>
                  <a:lnTo>
                    <a:pt x="223413" y="162822"/>
                  </a:lnTo>
                  <a:lnTo>
                    <a:pt x="224505" y="157655"/>
                  </a:lnTo>
                  <a:lnTo>
                    <a:pt x="225232" y="152516"/>
                  </a:lnTo>
                  <a:lnTo>
                    <a:pt x="225718" y="147398"/>
                  </a:lnTo>
                  <a:lnTo>
                    <a:pt x="225194" y="143138"/>
                  </a:lnTo>
                  <a:lnTo>
                    <a:pt x="224000" y="139452"/>
                  </a:lnTo>
                  <a:lnTo>
                    <a:pt x="222356" y="136148"/>
                  </a:lnTo>
                  <a:lnTo>
                    <a:pt x="220413" y="133945"/>
                  </a:lnTo>
                  <a:lnTo>
                    <a:pt x="218272" y="132477"/>
                  </a:lnTo>
                  <a:lnTo>
                    <a:pt x="213635" y="130845"/>
                  </a:lnTo>
                  <a:lnTo>
                    <a:pt x="208751" y="130120"/>
                  </a:lnTo>
                  <a:lnTo>
                    <a:pt x="205417" y="130774"/>
                  </a:lnTo>
                  <a:lnTo>
                    <a:pt x="201501" y="132056"/>
                  </a:lnTo>
                  <a:lnTo>
                    <a:pt x="197197" y="133757"/>
                  </a:lnTo>
                  <a:lnTo>
                    <a:pt x="192634" y="135738"/>
                  </a:lnTo>
                  <a:lnTo>
                    <a:pt x="183049" y="140197"/>
                  </a:lnTo>
                  <a:lnTo>
                    <a:pt x="178969" y="143418"/>
                  </a:lnTo>
                  <a:lnTo>
                    <a:pt x="175402" y="147259"/>
                  </a:lnTo>
                  <a:lnTo>
                    <a:pt x="172178" y="151512"/>
                  </a:lnTo>
                  <a:lnTo>
                    <a:pt x="170028" y="156042"/>
                  </a:lnTo>
                  <a:lnTo>
                    <a:pt x="168595" y="160754"/>
                  </a:lnTo>
                  <a:lnTo>
                    <a:pt x="167639" y="165590"/>
                  </a:lnTo>
                  <a:lnTo>
                    <a:pt x="167002" y="170506"/>
                  </a:lnTo>
                  <a:lnTo>
                    <a:pt x="166578" y="175478"/>
                  </a:lnTo>
                  <a:lnTo>
                    <a:pt x="166295" y="180485"/>
                  </a:lnTo>
                  <a:lnTo>
                    <a:pt x="167799" y="186363"/>
                  </a:lnTo>
                  <a:lnTo>
                    <a:pt x="170496" y="192822"/>
                  </a:lnTo>
                  <a:lnTo>
                    <a:pt x="173987" y="199668"/>
                  </a:lnTo>
                  <a:lnTo>
                    <a:pt x="178007" y="205925"/>
                  </a:lnTo>
                  <a:lnTo>
                    <a:pt x="182381" y="211790"/>
                  </a:lnTo>
                  <a:lnTo>
                    <a:pt x="186991" y="217393"/>
                  </a:lnTo>
                  <a:lnTo>
                    <a:pt x="190910" y="221976"/>
                  </a:lnTo>
                  <a:lnTo>
                    <a:pt x="197522" y="229325"/>
                  </a:lnTo>
                  <a:lnTo>
                    <a:pt x="201317" y="232470"/>
                  </a:lnTo>
                  <a:lnTo>
                    <a:pt x="205542" y="235413"/>
                  </a:lnTo>
                  <a:lnTo>
                    <a:pt x="219069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MARTInkAnnotation378"/>
            <p:cNvSpPr/>
            <p:nvPr/>
          </p:nvSpPr>
          <p:spPr>
            <a:xfrm>
              <a:off x="3056040" y="259020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0">
                  <a:moveTo>
                    <a:pt x="0" y="7619"/>
                  </a:moveTo>
                  <a:lnTo>
                    <a:pt x="0" y="3574"/>
                  </a:lnTo>
                  <a:lnTo>
                    <a:pt x="847" y="2382"/>
                  </a:lnTo>
                  <a:lnTo>
                    <a:pt x="2258" y="1588"/>
                  </a:lnTo>
                  <a:lnTo>
                    <a:pt x="4045" y="1058"/>
                  </a:lnTo>
                  <a:lnTo>
                    <a:pt x="6930" y="705"/>
                  </a:lnTo>
                  <a:lnTo>
                    <a:pt x="10547" y="470"/>
                  </a:lnTo>
                  <a:lnTo>
                    <a:pt x="14652" y="313"/>
                  </a:lnTo>
                  <a:lnTo>
                    <a:pt x="32563" y="92"/>
                  </a:lnTo>
                  <a:lnTo>
                    <a:pt x="125981" y="0"/>
                  </a:lnTo>
                  <a:lnTo>
                    <a:pt x="133941" y="846"/>
                  </a:lnTo>
                  <a:lnTo>
                    <a:pt x="140941" y="2257"/>
                  </a:lnTo>
                  <a:lnTo>
                    <a:pt x="147301" y="4044"/>
                  </a:lnTo>
                  <a:lnTo>
                    <a:pt x="152387" y="5236"/>
                  </a:lnTo>
                  <a:lnTo>
                    <a:pt x="156625" y="6030"/>
                  </a:lnTo>
                  <a:lnTo>
                    <a:pt x="167640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MARTInkAnnotation379"/>
            <p:cNvSpPr/>
            <p:nvPr/>
          </p:nvSpPr>
          <p:spPr>
            <a:xfrm>
              <a:off x="3056040" y="2666520"/>
              <a:ext cx="182520" cy="3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82881" h="1">
                  <a:moveTo>
                    <a:pt x="0" y="0"/>
                  </a:move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MARTInkAnnotation380"/>
            <p:cNvSpPr/>
            <p:nvPr/>
          </p:nvSpPr>
          <p:spPr>
            <a:xfrm>
              <a:off x="3331800" y="2486880"/>
              <a:ext cx="211320" cy="1108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11631" h="111011">
                  <a:moveTo>
                    <a:pt x="82090" y="11992"/>
                  </a:moveTo>
                  <a:lnTo>
                    <a:pt x="88651" y="5431"/>
                  </a:lnTo>
                  <a:lnTo>
                    <a:pt x="91497" y="4843"/>
                  </a:lnTo>
                  <a:lnTo>
                    <a:pt x="97860" y="4511"/>
                  </a:lnTo>
                  <a:lnTo>
                    <a:pt x="100223" y="4465"/>
                  </a:lnTo>
                  <a:lnTo>
                    <a:pt x="101799" y="3587"/>
                  </a:lnTo>
                  <a:lnTo>
                    <a:pt x="102849" y="2155"/>
                  </a:lnTo>
                  <a:lnTo>
                    <a:pt x="103549" y="354"/>
                  </a:lnTo>
                  <a:lnTo>
                    <a:pt x="104016" y="0"/>
                  </a:lnTo>
                  <a:lnTo>
                    <a:pt x="104327" y="611"/>
                  </a:lnTo>
                  <a:lnTo>
                    <a:pt x="104827" y="3629"/>
                  </a:lnTo>
                  <a:lnTo>
                    <a:pt x="100380" y="6300"/>
                  </a:lnTo>
                  <a:lnTo>
                    <a:pt x="96823" y="8197"/>
                  </a:lnTo>
                  <a:lnTo>
                    <a:pt x="93606" y="10309"/>
                  </a:lnTo>
                  <a:lnTo>
                    <a:pt x="90614" y="12563"/>
                  </a:lnTo>
                  <a:lnTo>
                    <a:pt x="87772" y="14913"/>
                  </a:lnTo>
                  <a:lnTo>
                    <a:pt x="84185" y="18173"/>
                  </a:lnTo>
                  <a:lnTo>
                    <a:pt x="75684" y="26310"/>
                  </a:lnTo>
                  <a:lnTo>
                    <a:pt x="61377" y="40411"/>
                  </a:lnTo>
                  <a:lnTo>
                    <a:pt x="56428" y="44485"/>
                  </a:lnTo>
                  <a:lnTo>
                    <a:pt x="51435" y="48047"/>
                  </a:lnTo>
                  <a:lnTo>
                    <a:pt x="27210" y="63893"/>
                  </a:lnTo>
                  <a:lnTo>
                    <a:pt x="21797" y="67760"/>
                  </a:lnTo>
                  <a:lnTo>
                    <a:pt x="17341" y="71184"/>
                  </a:lnTo>
                  <a:lnTo>
                    <a:pt x="13524" y="74313"/>
                  </a:lnTo>
                  <a:lnTo>
                    <a:pt x="10133" y="78093"/>
                  </a:lnTo>
                  <a:lnTo>
                    <a:pt x="7025" y="82306"/>
                  </a:lnTo>
                  <a:lnTo>
                    <a:pt x="4107" y="86808"/>
                  </a:lnTo>
                  <a:lnTo>
                    <a:pt x="2161" y="90656"/>
                  </a:lnTo>
                  <a:lnTo>
                    <a:pt x="865" y="94068"/>
                  </a:lnTo>
                  <a:lnTo>
                    <a:pt x="0" y="97190"/>
                  </a:lnTo>
                  <a:lnTo>
                    <a:pt x="270" y="100117"/>
                  </a:lnTo>
                  <a:lnTo>
                    <a:pt x="1297" y="102916"/>
                  </a:lnTo>
                  <a:lnTo>
                    <a:pt x="2828" y="105628"/>
                  </a:lnTo>
                  <a:lnTo>
                    <a:pt x="6389" y="107436"/>
                  </a:lnTo>
                  <a:lnTo>
                    <a:pt x="11302" y="108641"/>
                  </a:lnTo>
                  <a:lnTo>
                    <a:pt x="17118" y="109445"/>
                  </a:lnTo>
                  <a:lnTo>
                    <a:pt x="23536" y="109981"/>
                  </a:lnTo>
                  <a:lnTo>
                    <a:pt x="30354" y="110338"/>
                  </a:lnTo>
                  <a:lnTo>
                    <a:pt x="45549" y="110735"/>
                  </a:lnTo>
                  <a:lnTo>
                    <a:pt x="96835" y="111010"/>
                  </a:lnTo>
                  <a:lnTo>
                    <a:pt x="108006" y="110178"/>
                  </a:lnTo>
                  <a:lnTo>
                    <a:pt x="118841" y="108776"/>
                  </a:lnTo>
                  <a:lnTo>
                    <a:pt x="129451" y="106995"/>
                  </a:lnTo>
                  <a:lnTo>
                    <a:pt x="139911" y="104961"/>
                  </a:lnTo>
                  <a:lnTo>
                    <a:pt x="160563" y="100443"/>
                  </a:lnTo>
                  <a:lnTo>
                    <a:pt x="169119" y="98052"/>
                  </a:lnTo>
                  <a:lnTo>
                    <a:pt x="176516" y="95612"/>
                  </a:lnTo>
                  <a:lnTo>
                    <a:pt x="183141" y="93139"/>
                  </a:lnTo>
                  <a:lnTo>
                    <a:pt x="189250" y="90643"/>
                  </a:lnTo>
                  <a:lnTo>
                    <a:pt x="195017" y="88133"/>
                  </a:lnTo>
                  <a:lnTo>
                    <a:pt x="211630" y="805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MARTInkAnnotation381"/>
            <p:cNvSpPr/>
            <p:nvPr/>
          </p:nvSpPr>
          <p:spPr>
            <a:xfrm>
              <a:off x="3482280" y="2445480"/>
              <a:ext cx="68400" cy="327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68581" h="327661">
                  <a:moveTo>
                    <a:pt x="68580" y="0"/>
                  </a:moveTo>
                  <a:lnTo>
                    <a:pt x="68580" y="4046"/>
                  </a:lnTo>
                  <a:lnTo>
                    <a:pt x="67734" y="5237"/>
                  </a:lnTo>
                  <a:lnTo>
                    <a:pt x="66322" y="6031"/>
                  </a:lnTo>
                  <a:lnTo>
                    <a:pt x="64535" y="6561"/>
                  </a:lnTo>
                  <a:lnTo>
                    <a:pt x="63343" y="8607"/>
                  </a:lnTo>
                  <a:lnTo>
                    <a:pt x="62019" y="15397"/>
                  </a:lnTo>
                  <a:lnTo>
                    <a:pt x="61666" y="20425"/>
                  </a:lnTo>
                  <a:lnTo>
                    <a:pt x="61431" y="26316"/>
                  </a:lnTo>
                  <a:lnTo>
                    <a:pt x="61274" y="32785"/>
                  </a:lnTo>
                  <a:lnTo>
                    <a:pt x="60323" y="39636"/>
                  </a:lnTo>
                  <a:lnTo>
                    <a:pt x="58842" y="46744"/>
                  </a:lnTo>
                  <a:lnTo>
                    <a:pt x="57008" y="54023"/>
                  </a:lnTo>
                  <a:lnTo>
                    <a:pt x="54939" y="61415"/>
                  </a:lnTo>
                  <a:lnTo>
                    <a:pt x="47981" y="84802"/>
                  </a:lnTo>
                  <a:lnTo>
                    <a:pt x="40558" y="112804"/>
                  </a:lnTo>
                  <a:lnTo>
                    <a:pt x="12699" y="223532"/>
                  </a:lnTo>
                  <a:lnTo>
                    <a:pt x="7619" y="246103"/>
                  </a:lnTo>
                  <a:lnTo>
                    <a:pt x="5080" y="258049"/>
                  </a:lnTo>
                  <a:lnTo>
                    <a:pt x="4233" y="269399"/>
                  </a:lnTo>
                  <a:lnTo>
                    <a:pt x="4515" y="280353"/>
                  </a:lnTo>
                  <a:lnTo>
                    <a:pt x="5551" y="291042"/>
                  </a:lnTo>
                  <a:lnTo>
                    <a:pt x="5394" y="299861"/>
                  </a:lnTo>
                  <a:lnTo>
                    <a:pt x="4442" y="307434"/>
                  </a:lnTo>
                  <a:lnTo>
                    <a:pt x="0" y="3276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MARTInkAnnotation382"/>
            <p:cNvSpPr/>
            <p:nvPr/>
          </p:nvSpPr>
          <p:spPr>
            <a:xfrm>
              <a:off x="2842920" y="3848040"/>
              <a:ext cx="205560" cy="226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05741" h="22861">
                  <a:moveTo>
                    <a:pt x="0" y="22860"/>
                  </a:moveTo>
                  <a:lnTo>
                    <a:pt x="31779" y="22860"/>
                  </a:lnTo>
                  <a:lnTo>
                    <a:pt x="37273" y="22013"/>
                  </a:lnTo>
                  <a:lnTo>
                    <a:pt x="44322" y="20603"/>
                  </a:lnTo>
                  <a:lnTo>
                    <a:pt x="52408" y="18815"/>
                  </a:lnTo>
                  <a:lnTo>
                    <a:pt x="61185" y="17623"/>
                  </a:lnTo>
                  <a:lnTo>
                    <a:pt x="70423" y="16829"/>
                  </a:lnTo>
                  <a:lnTo>
                    <a:pt x="79969" y="16299"/>
                  </a:lnTo>
                  <a:lnTo>
                    <a:pt x="89719" y="15099"/>
                  </a:lnTo>
                  <a:lnTo>
                    <a:pt x="99606" y="13453"/>
                  </a:lnTo>
                  <a:lnTo>
                    <a:pt x="109584" y="11509"/>
                  </a:lnTo>
                  <a:lnTo>
                    <a:pt x="120470" y="10213"/>
                  </a:lnTo>
                  <a:lnTo>
                    <a:pt x="131960" y="9348"/>
                  </a:lnTo>
                  <a:lnTo>
                    <a:pt x="143853" y="8772"/>
                  </a:lnTo>
                  <a:lnTo>
                    <a:pt x="154322" y="7541"/>
                  </a:lnTo>
                  <a:lnTo>
                    <a:pt x="163842" y="5874"/>
                  </a:lnTo>
                  <a:lnTo>
                    <a:pt x="172728" y="3916"/>
                  </a:lnTo>
                  <a:lnTo>
                    <a:pt x="180345" y="2611"/>
                  </a:lnTo>
                  <a:lnTo>
                    <a:pt x="187117" y="1741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MARTInkAnnotation383"/>
            <p:cNvSpPr/>
            <p:nvPr/>
          </p:nvSpPr>
          <p:spPr>
            <a:xfrm>
              <a:off x="2835360" y="3924360"/>
              <a:ext cx="228240" cy="5328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8601" h="53341">
                  <a:moveTo>
                    <a:pt x="0" y="53340"/>
                  </a:moveTo>
                  <a:lnTo>
                    <a:pt x="4045" y="53340"/>
                  </a:lnTo>
                  <a:lnTo>
                    <a:pt x="5237" y="52494"/>
                  </a:lnTo>
                  <a:lnTo>
                    <a:pt x="6032" y="51083"/>
                  </a:lnTo>
                  <a:lnTo>
                    <a:pt x="6561" y="49295"/>
                  </a:lnTo>
                  <a:lnTo>
                    <a:pt x="8607" y="47257"/>
                  </a:lnTo>
                  <a:lnTo>
                    <a:pt x="11665" y="45052"/>
                  </a:lnTo>
                  <a:lnTo>
                    <a:pt x="15397" y="42734"/>
                  </a:lnTo>
                  <a:lnTo>
                    <a:pt x="21272" y="41190"/>
                  </a:lnTo>
                  <a:lnTo>
                    <a:pt x="28574" y="40160"/>
                  </a:lnTo>
                  <a:lnTo>
                    <a:pt x="36830" y="39473"/>
                  </a:lnTo>
                  <a:lnTo>
                    <a:pt x="45720" y="37322"/>
                  </a:lnTo>
                  <a:lnTo>
                    <a:pt x="55033" y="34195"/>
                  </a:lnTo>
                  <a:lnTo>
                    <a:pt x="64629" y="30416"/>
                  </a:lnTo>
                  <a:lnTo>
                    <a:pt x="75260" y="27051"/>
                  </a:lnTo>
                  <a:lnTo>
                    <a:pt x="86580" y="23961"/>
                  </a:lnTo>
                  <a:lnTo>
                    <a:pt x="98360" y="21054"/>
                  </a:lnTo>
                  <a:lnTo>
                    <a:pt x="109600" y="19115"/>
                  </a:lnTo>
                  <a:lnTo>
                    <a:pt x="120480" y="17824"/>
                  </a:lnTo>
                  <a:lnTo>
                    <a:pt x="131120" y="16963"/>
                  </a:lnTo>
                  <a:lnTo>
                    <a:pt x="142447" y="15542"/>
                  </a:lnTo>
                  <a:lnTo>
                    <a:pt x="154231" y="13748"/>
                  </a:lnTo>
                  <a:lnTo>
                    <a:pt x="166321" y="11705"/>
                  </a:lnTo>
                  <a:lnTo>
                    <a:pt x="177768" y="9497"/>
                  </a:lnTo>
                  <a:lnTo>
                    <a:pt x="207518" y="3190"/>
                  </a:lnTo>
                  <a:lnTo>
                    <a:pt x="213699" y="2127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MARTInkAnnotation384"/>
            <p:cNvSpPr/>
            <p:nvPr/>
          </p:nvSpPr>
          <p:spPr>
            <a:xfrm>
              <a:off x="3177720" y="3817440"/>
              <a:ext cx="91080" cy="756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1441" h="7622">
                  <a:moveTo>
                    <a:pt x="0" y="7621"/>
                  </a:moveTo>
                  <a:lnTo>
                    <a:pt x="14652" y="7621"/>
                  </a:lnTo>
                  <a:lnTo>
                    <a:pt x="19927" y="6774"/>
                  </a:lnTo>
                  <a:lnTo>
                    <a:pt x="25985" y="5363"/>
                  </a:lnTo>
                  <a:lnTo>
                    <a:pt x="32563" y="3575"/>
                  </a:lnTo>
                  <a:lnTo>
                    <a:pt x="39489" y="2384"/>
                  </a:lnTo>
                  <a:lnTo>
                    <a:pt x="46646" y="1589"/>
                  </a:lnTo>
                  <a:lnTo>
                    <a:pt x="53957" y="1059"/>
                  </a:lnTo>
                  <a:lnTo>
                    <a:pt x="61372" y="706"/>
                  </a:lnTo>
                  <a:lnTo>
                    <a:pt x="914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MARTInkAnnotation385"/>
            <p:cNvSpPr/>
            <p:nvPr/>
          </p:nvSpPr>
          <p:spPr>
            <a:xfrm>
              <a:off x="3422880" y="3680280"/>
              <a:ext cx="44280" cy="2818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44530" h="281941">
                  <a:moveTo>
                    <a:pt x="44529" y="0"/>
                  </a:moveTo>
                  <a:lnTo>
                    <a:pt x="44529" y="15397"/>
                  </a:lnTo>
                  <a:lnTo>
                    <a:pt x="43683" y="19578"/>
                  </a:lnTo>
                  <a:lnTo>
                    <a:pt x="42272" y="24059"/>
                  </a:lnTo>
                  <a:lnTo>
                    <a:pt x="40485" y="28739"/>
                  </a:lnTo>
                  <a:lnTo>
                    <a:pt x="39292" y="34399"/>
                  </a:lnTo>
                  <a:lnTo>
                    <a:pt x="38498" y="40713"/>
                  </a:lnTo>
                  <a:lnTo>
                    <a:pt x="37969" y="47462"/>
                  </a:lnTo>
                  <a:lnTo>
                    <a:pt x="36769" y="55348"/>
                  </a:lnTo>
                  <a:lnTo>
                    <a:pt x="35122" y="63992"/>
                  </a:lnTo>
                  <a:lnTo>
                    <a:pt x="31035" y="82628"/>
                  </a:lnTo>
                  <a:lnTo>
                    <a:pt x="23974" y="113006"/>
                  </a:lnTo>
                  <a:lnTo>
                    <a:pt x="11478" y="173218"/>
                  </a:lnTo>
                  <a:lnTo>
                    <a:pt x="9795" y="184906"/>
                  </a:lnTo>
                  <a:lnTo>
                    <a:pt x="8673" y="196084"/>
                  </a:lnTo>
                  <a:lnTo>
                    <a:pt x="7925" y="206923"/>
                  </a:lnTo>
                  <a:lnTo>
                    <a:pt x="6580" y="216689"/>
                  </a:lnTo>
                  <a:lnTo>
                    <a:pt x="4836" y="225739"/>
                  </a:lnTo>
                  <a:lnTo>
                    <a:pt x="2827" y="234313"/>
                  </a:lnTo>
                  <a:lnTo>
                    <a:pt x="1488" y="241722"/>
                  </a:lnTo>
                  <a:lnTo>
                    <a:pt x="595" y="248355"/>
                  </a:lnTo>
                  <a:lnTo>
                    <a:pt x="0" y="254470"/>
                  </a:lnTo>
                  <a:lnTo>
                    <a:pt x="450" y="260240"/>
                  </a:lnTo>
                  <a:lnTo>
                    <a:pt x="1596" y="265780"/>
                  </a:lnTo>
                  <a:lnTo>
                    <a:pt x="6429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MARTInkAnnotation386"/>
            <p:cNvSpPr/>
            <p:nvPr/>
          </p:nvSpPr>
          <p:spPr>
            <a:xfrm>
              <a:off x="3566160" y="3672720"/>
              <a:ext cx="15120" cy="304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15241" h="304801">
                  <a:moveTo>
                    <a:pt x="15240" y="0"/>
                  </a:moveTo>
                  <a:lnTo>
                    <a:pt x="15240" y="76946"/>
                  </a:lnTo>
                  <a:lnTo>
                    <a:pt x="14394" y="89397"/>
                  </a:lnTo>
                  <a:lnTo>
                    <a:pt x="12983" y="102778"/>
                  </a:lnTo>
                  <a:lnTo>
                    <a:pt x="11195" y="116779"/>
                  </a:lnTo>
                  <a:lnTo>
                    <a:pt x="10003" y="130346"/>
                  </a:lnTo>
                  <a:lnTo>
                    <a:pt x="9209" y="143624"/>
                  </a:lnTo>
                  <a:lnTo>
                    <a:pt x="8679" y="156710"/>
                  </a:lnTo>
                  <a:lnTo>
                    <a:pt x="8091" y="184795"/>
                  </a:lnTo>
                  <a:lnTo>
                    <a:pt x="7934" y="199397"/>
                  </a:lnTo>
                  <a:lnTo>
                    <a:pt x="6983" y="213365"/>
                  </a:lnTo>
                  <a:lnTo>
                    <a:pt x="5502" y="226910"/>
                  </a:lnTo>
                  <a:lnTo>
                    <a:pt x="3668" y="240173"/>
                  </a:lnTo>
                  <a:lnTo>
                    <a:pt x="2445" y="251555"/>
                  </a:lnTo>
                  <a:lnTo>
                    <a:pt x="1630" y="261684"/>
                  </a:lnTo>
                  <a:lnTo>
                    <a:pt x="725" y="278864"/>
                  </a:lnTo>
                  <a:lnTo>
                    <a:pt x="0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MARTInkAnnotation387"/>
            <p:cNvSpPr/>
            <p:nvPr/>
          </p:nvSpPr>
          <p:spPr>
            <a:xfrm>
              <a:off x="2903760" y="5143680"/>
              <a:ext cx="182520" cy="75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0"/>
                  </a:moveTo>
                  <a:lnTo>
                    <a:pt x="4045" y="0"/>
                  </a:lnTo>
                  <a:lnTo>
                    <a:pt x="6084" y="846"/>
                  </a:lnTo>
                  <a:lnTo>
                    <a:pt x="8289" y="2258"/>
                  </a:lnTo>
                  <a:lnTo>
                    <a:pt x="13867" y="6561"/>
                  </a:lnTo>
                  <a:lnTo>
                    <a:pt x="16018" y="6914"/>
                  </a:lnTo>
                  <a:lnTo>
                    <a:pt x="19146" y="7150"/>
                  </a:lnTo>
                  <a:lnTo>
                    <a:pt x="22924" y="7307"/>
                  </a:lnTo>
                  <a:lnTo>
                    <a:pt x="31637" y="7481"/>
                  </a:lnTo>
                  <a:lnTo>
                    <a:pt x="1828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MARTInkAnnotation388"/>
            <p:cNvSpPr/>
            <p:nvPr/>
          </p:nvSpPr>
          <p:spPr>
            <a:xfrm>
              <a:off x="2926440" y="5227560"/>
              <a:ext cx="190080" cy="2268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22860"/>
                  </a:moveTo>
                  <a:lnTo>
                    <a:pt x="18696" y="22860"/>
                  </a:lnTo>
                  <a:lnTo>
                    <a:pt x="24317" y="22014"/>
                  </a:lnTo>
                  <a:lnTo>
                    <a:pt x="29759" y="20603"/>
                  </a:lnTo>
                  <a:lnTo>
                    <a:pt x="35079" y="18816"/>
                  </a:lnTo>
                  <a:lnTo>
                    <a:pt x="41166" y="17623"/>
                  </a:lnTo>
                  <a:lnTo>
                    <a:pt x="47764" y="16829"/>
                  </a:lnTo>
                  <a:lnTo>
                    <a:pt x="54703" y="16299"/>
                  </a:lnTo>
                  <a:lnTo>
                    <a:pt x="61868" y="15100"/>
                  </a:lnTo>
                  <a:lnTo>
                    <a:pt x="69185" y="13453"/>
                  </a:lnTo>
                  <a:lnTo>
                    <a:pt x="76604" y="11509"/>
                  </a:lnTo>
                  <a:lnTo>
                    <a:pt x="84089" y="10213"/>
                  </a:lnTo>
                  <a:lnTo>
                    <a:pt x="91620" y="9349"/>
                  </a:lnTo>
                  <a:lnTo>
                    <a:pt x="99180" y="8772"/>
                  </a:lnTo>
                  <a:lnTo>
                    <a:pt x="106759" y="8388"/>
                  </a:lnTo>
                  <a:lnTo>
                    <a:pt x="121955" y="7962"/>
                  </a:lnTo>
                  <a:lnTo>
                    <a:pt x="128717" y="7001"/>
                  </a:lnTo>
                  <a:lnTo>
                    <a:pt x="134918" y="5514"/>
                  </a:lnTo>
                  <a:lnTo>
                    <a:pt x="140745" y="3677"/>
                  </a:lnTo>
                  <a:lnTo>
                    <a:pt x="146324" y="2451"/>
                  </a:lnTo>
                  <a:lnTo>
                    <a:pt x="151736" y="1634"/>
                  </a:lnTo>
                  <a:lnTo>
                    <a:pt x="157037" y="1090"/>
                  </a:lnTo>
                  <a:lnTo>
                    <a:pt x="162264" y="726"/>
                  </a:lnTo>
                  <a:lnTo>
                    <a:pt x="167443" y="484"/>
                  </a:lnTo>
                  <a:lnTo>
                    <a:pt x="180564" y="143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MARTInkAnnotation389"/>
            <p:cNvSpPr/>
            <p:nvPr/>
          </p:nvSpPr>
          <p:spPr>
            <a:xfrm>
              <a:off x="3277080" y="4971600"/>
              <a:ext cx="197640" cy="194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98028" h="19630">
                  <a:moveTo>
                    <a:pt x="7527" y="19629"/>
                  </a:moveTo>
                  <a:lnTo>
                    <a:pt x="7527" y="15584"/>
                  </a:lnTo>
                  <a:lnTo>
                    <a:pt x="6681" y="14392"/>
                  </a:lnTo>
                  <a:lnTo>
                    <a:pt x="5269" y="13598"/>
                  </a:lnTo>
                  <a:lnTo>
                    <a:pt x="966" y="12323"/>
                  </a:lnTo>
                  <a:lnTo>
                    <a:pt x="613" y="11372"/>
                  </a:lnTo>
                  <a:lnTo>
                    <a:pt x="378" y="9890"/>
                  </a:lnTo>
                  <a:lnTo>
                    <a:pt x="0" y="5476"/>
                  </a:lnTo>
                  <a:lnTo>
                    <a:pt x="816" y="5114"/>
                  </a:lnTo>
                  <a:lnTo>
                    <a:pt x="5950" y="4532"/>
                  </a:lnTo>
                  <a:lnTo>
                    <a:pt x="7434" y="4397"/>
                  </a:lnTo>
                  <a:lnTo>
                    <a:pt x="11545" y="346"/>
                  </a:lnTo>
                  <a:lnTo>
                    <a:pt x="13592" y="0"/>
                  </a:lnTo>
                  <a:lnTo>
                    <a:pt x="15804" y="617"/>
                  </a:lnTo>
                  <a:lnTo>
                    <a:pt x="18125" y="1874"/>
                  </a:lnTo>
                  <a:lnTo>
                    <a:pt x="20519" y="2712"/>
                  </a:lnTo>
                  <a:lnTo>
                    <a:pt x="22962" y="3271"/>
                  </a:lnTo>
                  <a:lnTo>
                    <a:pt x="25437" y="3644"/>
                  </a:lnTo>
                  <a:lnTo>
                    <a:pt x="28780" y="3892"/>
                  </a:lnTo>
                  <a:lnTo>
                    <a:pt x="32703" y="4058"/>
                  </a:lnTo>
                  <a:lnTo>
                    <a:pt x="44055" y="4291"/>
                  </a:lnTo>
                  <a:lnTo>
                    <a:pt x="88912" y="4387"/>
                  </a:lnTo>
                  <a:lnTo>
                    <a:pt x="93957" y="5235"/>
                  </a:lnTo>
                  <a:lnTo>
                    <a:pt x="99014" y="6646"/>
                  </a:lnTo>
                  <a:lnTo>
                    <a:pt x="104079" y="8434"/>
                  </a:lnTo>
                  <a:lnTo>
                    <a:pt x="109148" y="9625"/>
                  </a:lnTo>
                  <a:lnTo>
                    <a:pt x="114221" y="10420"/>
                  </a:lnTo>
                  <a:lnTo>
                    <a:pt x="119296" y="10950"/>
                  </a:lnTo>
                  <a:lnTo>
                    <a:pt x="125220" y="11303"/>
                  </a:lnTo>
                  <a:lnTo>
                    <a:pt x="138575" y="11695"/>
                  </a:lnTo>
                  <a:lnTo>
                    <a:pt x="156525" y="11947"/>
                  </a:lnTo>
                  <a:lnTo>
                    <a:pt x="165753" y="11982"/>
                  </a:lnTo>
                  <a:lnTo>
                    <a:pt x="170585" y="11144"/>
                  </a:lnTo>
                  <a:lnTo>
                    <a:pt x="175498" y="9739"/>
                  </a:lnTo>
                  <a:lnTo>
                    <a:pt x="180468" y="7956"/>
                  </a:lnTo>
                  <a:lnTo>
                    <a:pt x="184628" y="6767"/>
                  </a:lnTo>
                  <a:lnTo>
                    <a:pt x="188247" y="5974"/>
                  </a:lnTo>
                  <a:lnTo>
                    <a:pt x="198027" y="43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MARTInkAnnotation390"/>
            <p:cNvSpPr/>
            <p:nvPr/>
          </p:nvSpPr>
          <p:spPr>
            <a:xfrm>
              <a:off x="3609000" y="4740120"/>
              <a:ext cx="190800" cy="12852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91229" h="128548">
                  <a:moveTo>
                    <a:pt x="162777" y="37684"/>
                  </a:moveTo>
                  <a:lnTo>
                    <a:pt x="162777" y="18806"/>
                  </a:lnTo>
                  <a:lnTo>
                    <a:pt x="161931" y="17478"/>
                  </a:lnTo>
                  <a:lnTo>
                    <a:pt x="160519" y="16594"/>
                  </a:lnTo>
                  <a:lnTo>
                    <a:pt x="158732" y="16004"/>
                  </a:lnTo>
                  <a:lnTo>
                    <a:pt x="157540" y="14764"/>
                  </a:lnTo>
                  <a:lnTo>
                    <a:pt x="156746" y="13091"/>
                  </a:lnTo>
                  <a:lnTo>
                    <a:pt x="156216" y="11128"/>
                  </a:lnTo>
                  <a:lnTo>
                    <a:pt x="155017" y="8974"/>
                  </a:lnTo>
                  <a:lnTo>
                    <a:pt x="153370" y="6691"/>
                  </a:lnTo>
                  <a:lnTo>
                    <a:pt x="151426" y="4322"/>
                  </a:lnTo>
                  <a:lnTo>
                    <a:pt x="148436" y="2743"/>
                  </a:lnTo>
                  <a:lnTo>
                    <a:pt x="144750" y="1689"/>
                  </a:lnTo>
                  <a:lnTo>
                    <a:pt x="140599" y="988"/>
                  </a:lnTo>
                  <a:lnTo>
                    <a:pt x="136138" y="520"/>
                  </a:lnTo>
                  <a:lnTo>
                    <a:pt x="131472" y="208"/>
                  </a:lnTo>
                  <a:lnTo>
                    <a:pt x="126666" y="0"/>
                  </a:lnTo>
                  <a:lnTo>
                    <a:pt x="120923" y="708"/>
                  </a:lnTo>
                  <a:lnTo>
                    <a:pt x="114555" y="2027"/>
                  </a:lnTo>
                  <a:lnTo>
                    <a:pt x="107768" y="3752"/>
                  </a:lnTo>
                  <a:lnTo>
                    <a:pt x="88940" y="7928"/>
                  </a:lnTo>
                  <a:lnTo>
                    <a:pt x="77992" y="10227"/>
                  </a:lnTo>
                  <a:lnTo>
                    <a:pt x="68154" y="12606"/>
                  </a:lnTo>
                  <a:lnTo>
                    <a:pt x="59055" y="15039"/>
                  </a:lnTo>
                  <a:lnTo>
                    <a:pt x="42172" y="20000"/>
                  </a:lnTo>
                  <a:lnTo>
                    <a:pt x="26201" y="25027"/>
                  </a:lnTo>
                  <a:lnTo>
                    <a:pt x="20080" y="29246"/>
                  </a:lnTo>
                  <a:lnTo>
                    <a:pt x="15153" y="34598"/>
                  </a:lnTo>
                  <a:lnTo>
                    <a:pt x="11021" y="40707"/>
                  </a:lnTo>
                  <a:lnTo>
                    <a:pt x="7420" y="45626"/>
                  </a:lnTo>
                  <a:lnTo>
                    <a:pt x="4172" y="49752"/>
                  </a:lnTo>
                  <a:lnTo>
                    <a:pt x="1161" y="53349"/>
                  </a:lnTo>
                  <a:lnTo>
                    <a:pt x="0" y="57441"/>
                  </a:lnTo>
                  <a:lnTo>
                    <a:pt x="72" y="61863"/>
                  </a:lnTo>
                  <a:lnTo>
                    <a:pt x="967" y="66503"/>
                  </a:lnTo>
                  <a:lnTo>
                    <a:pt x="2411" y="71290"/>
                  </a:lnTo>
                  <a:lnTo>
                    <a:pt x="4219" y="76175"/>
                  </a:lnTo>
                  <a:lnTo>
                    <a:pt x="6272" y="81125"/>
                  </a:lnTo>
                  <a:lnTo>
                    <a:pt x="10181" y="86118"/>
                  </a:lnTo>
                  <a:lnTo>
                    <a:pt x="15326" y="91140"/>
                  </a:lnTo>
                  <a:lnTo>
                    <a:pt x="21296" y="96181"/>
                  </a:lnTo>
                  <a:lnTo>
                    <a:pt x="28663" y="101236"/>
                  </a:lnTo>
                  <a:lnTo>
                    <a:pt x="36961" y="106299"/>
                  </a:lnTo>
                  <a:lnTo>
                    <a:pt x="45880" y="111367"/>
                  </a:lnTo>
                  <a:lnTo>
                    <a:pt x="55212" y="115593"/>
                  </a:lnTo>
                  <a:lnTo>
                    <a:pt x="64820" y="119257"/>
                  </a:lnTo>
                  <a:lnTo>
                    <a:pt x="74613" y="122545"/>
                  </a:lnTo>
                  <a:lnTo>
                    <a:pt x="84528" y="124738"/>
                  </a:lnTo>
                  <a:lnTo>
                    <a:pt x="94524" y="126200"/>
                  </a:lnTo>
                  <a:lnTo>
                    <a:pt x="104576" y="127175"/>
                  </a:lnTo>
                  <a:lnTo>
                    <a:pt x="114662" y="127825"/>
                  </a:lnTo>
                  <a:lnTo>
                    <a:pt x="124774" y="128258"/>
                  </a:lnTo>
                  <a:lnTo>
                    <a:pt x="134902" y="128547"/>
                  </a:lnTo>
                  <a:lnTo>
                    <a:pt x="143346" y="127893"/>
                  </a:lnTo>
                  <a:lnTo>
                    <a:pt x="150670" y="126610"/>
                  </a:lnTo>
                  <a:lnTo>
                    <a:pt x="157246" y="124908"/>
                  </a:lnTo>
                  <a:lnTo>
                    <a:pt x="163323" y="122927"/>
                  </a:lnTo>
                  <a:lnTo>
                    <a:pt x="169067" y="120759"/>
                  </a:lnTo>
                  <a:lnTo>
                    <a:pt x="174591" y="118468"/>
                  </a:lnTo>
                  <a:lnTo>
                    <a:pt x="179119" y="115246"/>
                  </a:lnTo>
                  <a:lnTo>
                    <a:pt x="182986" y="111406"/>
                  </a:lnTo>
                  <a:lnTo>
                    <a:pt x="186409" y="107152"/>
                  </a:lnTo>
                  <a:lnTo>
                    <a:pt x="188692" y="103469"/>
                  </a:lnTo>
                  <a:lnTo>
                    <a:pt x="190213" y="100168"/>
                  </a:lnTo>
                  <a:lnTo>
                    <a:pt x="191228" y="97120"/>
                  </a:lnTo>
                  <a:lnTo>
                    <a:pt x="191058" y="93395"/>
                  </a:lnTo>
                  <a:lnTo>
                    <a:pt x="190097" y="89218"/>
                  </a:lnTo>
                  <a:lnTo>
                    <a:pt x="188610" y="84740"/>
                  </a:lnTo>
                  <a:lnTo>
                    <a:pt x="186773" y="80908"/>
                  </a:lnTo>
                  <a:lnTo>
                    <a:pt x="184701" y="77507"/>
                  </a:lnTo>
                  <a:lnTo>
                    <a:pt x="182473" y="74392"/>
                  </a:lnTo>
                  <a:lnTo>
                    <a:pt x="179294" y="70623"/>
                  </a:lnTo>
                  <a:lnTo>
                    <a:pt x="175482" y="66417"/>
                  </a:lnTo>
                  <a:lnTo>
                    <a:pt x="164283" y="54664"/>
                  </a:lnTo>
                  <a:lnTo>
                    <a:pt x="161242" y="51545"/>
                  </a:lnTo>
                  <a:lnTo>
                    <a:pt x="158367" y="49464"/>
                  </a:lnTo>
                  <a:lnTo>
                    <a:pt x="152914" y="47153"/>
                  </a:lnTo>
                  <a:lnTo>
                    <a:pt x="147669" y="43868"/>
                  </a:lnTo>
                  <a:lnTo>
                    <a:pt x="139918" y="376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MARTInkAnnotation391"/>
            <p:cNvSpPr/>
            <p:nvPr/>
          </p:nvSpPr>
          <p:spPr>
            <a:xfrm>
              <a:off x="3621600" y="4846680"/>
              <a:ext cx="157320" cy="1656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157609" h="165680">
                  <a:moveTo>
                    <a:pt x="97140" y="30480"/>
                  </a:moveTo>
                  <a:lnTo>
                    <a:pt x="93095" y="30480"/>
                  </a:lnTo>
                  <a:lnTo>
                    <a:pt x="91056" y="29634"/>
                  </a:lnTo>
                  <a:lnTo>
                    <a:pt x="86534" y="26436"/>
                  </a:lnTo>
                  <a:lnTo>
                    <a:pt x="81969" y="22720"/>
                  </a:lnTo>
                  <a:lnTo>
                    <a:pt x="75460" y="16392"/>
                  </a:lnTo>
                  <a:lnTo>
                    <a:pt x="74220" y="16008"/>
                  </a:lnTo>
                  <a:lnTo>
                    <a:pt x="70584" y="15582"/>
                  </a:lnTo>
                  <a:lnTo>
                    <a:pt x="66146" y="15392"/>
                  </a:lnTo>
                  <a:lnTo>
                    <a:pt x="63778" y="15341"/>
                  </a:lnTo>
                  <a:lnTo>
                    <a:pt x="60505" y="16154"/>
                  </a:lnTo>
                  <a:lnTo>
                    <a:pt x="56631" y="17543"/>
                  </a:lnTo>
                  <a:lnTo>
                    <a:pt x="52353" y="19316"/>
                  </a:lnTo>
                  <a:lnTo>
                    <a:pt x="48656" y="22191"/>
                  </a:lnTo>
                  <a:lnTo>
                    <a:pt x="45344" y="25801"/>
                  </a:lnTo>
                  <a:lnTo>
                    <a:pt x="42289" y="29901"/>
                  </a:lnTo>
                  <a:lnTo>
                    <a:pt x="38559" y="34327"/>
                  </a:lnTo>
                  <a:lnTo>
                    <a:pt x="34380" y="38971"/>
                  </a:lnTo>
                  <a:lnTo>
                    <a:pt x="25220" y="48647"/>
                  </a:lnTo>
                  <a:lnTo>
                    <a:pt x="15505" y="58592"/>
                  </a:lnTo>
                  <a:lnTo>
                    <a:pt x="11390" y="64462"/>
                  </a:lnTo>
                  <a:lnTo>
                    <a:pt x="7800" y="70915"/>
                  </a:lnTo>
                  <a:lnTo>
                    <a:pt x="4560" y="77756"/>
                  </a:lnTo>
                  <a:lnTo>
                    <a:pt x="2400" y="84858"/>
                  </a:lnTo>
                  <a:lnTo>
                    <a:pt x="960" y="92132"/>
                  </a:lnTo>
                  <a:lnTo>
                    <a:pt x="0" y="99521"/>
                  </a:lnTo>
                  <a:lnTo>
                    <a:pt x="207" y="106140"/>
                  </a:lnTo>
                  <a:lnTo>
                    <a:pt x="1191" y="112247"/>
                  </a:lnTo>
                  <a:lnTo>
                    <a:pt x="2694" y="118012"/>
                  </a:lnTo>
                  <a:lnTo>
                    <a:pt x="5389" y="123548"/>
                  </a:lnTo>
                  <a:lnTo>
                    <a:pt x="8879" y="128932"/>
                  </a:lnTo>
                  <a:lnTo>
                    <a:pt x="12900" y="134215"/>
                  </a:lnTo>
                  <a:lnTo>
                    <a:pt x="17273" y="139430"/>
                  </a:lnTo>
                  <a:lnTo>
                    <a:pt x="21882" y="144600"/>
                  </a:lnTo>
                  <a:lnTo>
                    <a:pt x="26648" y="149740"/>
                  </a:lnTo>
                  <a:lnTo>
                    <a:pt x="31519" y="154014"/>
                  </a:lnTo>
                  <a:lnTo>
                    <a:pt x="36459" y="157709"/>
                  </a:lnTo>
                  <a:lnTo>
                    <a:pt x="41446" y="161019"/>
                  </a:lnTo>
                  <a:lnTo>
                    <a:pt x="47310" y="163226"/>
                  </a:lnTo>
                  <a:lnTo>
                    <a:pt x="53760" y="164697"/>
                  </a:lnTo>
                  <a:lnTo>
                    <a:pt x="60601" y="165679"/>
                  </a:lnTo>
                  <a:lnTo>
                    <a:pt x="67700" y="165486"/>
                  </a:lnTo>
                  <a:lnTo>
                    <a:pt x="74974" y="164511"/>
                  </a:lnTo>
                  <a:lnTo>
                    <a:pt x="82362" y="163014"/>
                  </a:lnTo>
                  <a:lnTo>
                    <a:pt x="88135" y="161170"/>
                  </a:lnTo>
                  <a:lnTo>
                    <a:pt x="92830" y="159093"/>
                  </a:lnTo>
                  <a:lnTo>
                    <a:pt x="96806" y="156862"/>
                  </a:lnTo>
                  <a:lnTo>
                    <a:pt x="101998" y="153682"/>
                  </a:lnTo>
                  <a:lnTo>
                    <a:pt x="114539" y="145632"/>
                  </a:lnTo>
                  <a:lnTo>
                    <a:pt x="120592" y="141115"/>
                  </a:lnTo>
                  <a:lnTo>
                    <a:pt x="126322" y="136410"/>
                  </a:lnTo>
                  <a:lnTo>
                    <a:pt x="131835" y="131580"/>
                  </a:lnTo>
                  <a:lnTo>
                    <a:pt x="136356" y="124974"/>
                  </a:lnTo>
                  <a:lnTo>
                    <a:pt x="140217" y="117182"/>
                  </a:lnTo>
                  <a:lnTo>
                    <a:pt x="143638" y="108602"/>
                  </a:lnTo>
                  <a:lnTo>
                    <a:pt x="146765" y="101188"/>
                  </a:lnTo>
                  <a:lnTo>
                    <a:pt x="152498" y="88435"/>
                  </a:lnTo>
                  <a:lnTo>
                    <a:pt x="154365" y="81816"/>
                  </a:lnTo>
                  <a:lnTo>
                    <a:pt x="155610" y="74865"/>
                  </a:lnTo>
                  <a:lnTo>
                    <a:pt x="156440" y="67689"/>
                  </a:lnTo>
                  <a:lnTo>
                    <a:pt x="156993" y="60367"/>
                  </a:lnTo>
                  <a:lnTo>
                    <a:pt x="157362" y="52945"/>
                  </a:lnTo>
                  <a:lnTo>
                    <a:pt x="157608" y="45457"/>
                  </a:lnTo>
                  <a:lnTo>
                    <a:pt x="156925" y="39618"/>
                  </a:lnTo>
                  <a:lnTo>
                    <a:pt x="155624" y="34879"/>
                  </a:lnTo>
                  <a:lnTo>
                    <a:pt x="153909" y="30873"/>
                  </a:lnTo>
                  <a:lnTo>
                    <a:pt x="152766" y="26508"/>
                  </a:lnTo>
                  <a:lnTo>
                    <a:pt x="152004" y="21906"/>
                  </a:lnTo>
                  <a:lnTo>
                    <a:pt x="151496" y="17144"/>
                  </a:lnTo>
                  <a:lnTo>
                    <a:pt x="150311" y="13969"/>
                  </a:lnTo>
                  <a:lnTo>
                    <a:pt x="148674" y="11853"/>
                  </a:lnTo>
                  <a:lnTo>
                    <a:pt x="144597" y="8655"/>
                  </a:lnTo>
                  <a:lnTo>
                    <a:pt x="139963" y="4411"/>
                  </a:lnTo>
                  <a:lnTo>
                    <a:pt x="137542" y="2941"/>
                  </a:lnTo>
                  <a:lnTo>
                    <a:pt x="135082" y="1961"/>
                  </a:lnTo>
                  <a:lnTo>
                    <a:pt x="1276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MARTInkAnnotation392"/>
            <p:cNvSpPr/>
            <p:nvPr/>
          </p:nvSpPr>
          <p:spPr>
            <a:xfrm>
              <a:off x="3619440" y="4876920"/>
              <a:ext cx="411120" cy="44964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411481" h="449581">
                  <a:moveTo>
                    <a:pt x="411480" y="0"/>
                  </a:moveTo>
                  <a:lnTo>
                    <a:pt x="396829" y="14651"/>
                  </a:lnTo>
                  <a:lnTo>
                    <a:pt x="390011" y="19212"/>
                  </a:lnTo>
                  <a:lnTo>
                    <a:pt x="387007" y="20428"/>
                  </a:lnTo>
                  <a:lnTo>
                    <a:pt x="379154" y="28552"/>
                  </a:lnTo>
                  <a:lnTo>
                    <a:pt x="368326" y="41477"/>
                  </a:lnTo>
                  <a:lnTo>
                    <a:pt x="352225" y="58510"/>
                  </a:lnTo>
                  <a:lnTo>
                    <a:pt x="294344" y="117071"/>
                  </a:lnTo>
                  <a:lnTo>
                    <a:pt x="284283" y="128001"/>
                  </a:lnTo>
                  <a:lnTo>
                    <a:pt x="274188" y="139521"/>
                  </a:lnTo>
                  <a:lnTo>
                    <a:pt x="264072" y="151434"/>
                  </a:lnTo>
                  <a:lnTo>
                    <a:pt x="253095" y="163609"/>
                  </a:lnTo>
                  <a:lnTo>
                    <a:pt x="229609" y="188426"/>
                  </a:lnTo>
                  <a:lnTo>
                    <a:pt x="217419" y="200124"/>
                  </a:lnTo>
                  <a:lnTo>
                    <a:pt x="205060" y="211310"/>
                  </a:lnTo>
                  <a:lnTo>
                    <a:pt x="192586" y="222153"/>
                  </a:lnTo>
                  <a:lnTo>
                    <a:pt x="180885" y="233616"/>
                  </a:lnTo>
                  <a:lnTo>
                    <a:pt x="169696" y="245490"/>
                  </a:lnTo>
                  <a:lnTo>
                    <a:pt x="158851" y="257640"/>
                  </a:lnTo>
                  <a:lnTo>
                    <a:pt x="135511" y="282429"/>
                  </a:lnTo>
                  <a:lnTo>
                    <a:pt x="123361" y="294966"/>
                  </a:lnTo>
                  <a:lnTo>
                    <a:pt x="112721" y="306711"/>
                  </a:lnTo>
                  <a:lnTo>
                    <a:pt x="103088" y="317927"/>
                  </a:lnTo>
                  <a:lnTo>
                    <a:pt x="65331" y="364308"/>
                  </a:lnTo>
                  <a:lnTo>
                    <a:pt x="56253" y="374952"/>
                  </a:lnTo>
                  <a:lnTo>
                    <a:pt x="47662" y="384588"/>
                  </a:lnTo>
                  <a:lnTo>
                    <a:pt x="39395" y="393552"/>
                  </a:lnTo>
                  <a:lnTo>
                    <a:pt x="32190" y="402915"/>
                  </a:lnTo>
                  <a:lnTo>
                    <a:pt x="25693" y="412543"/>
                  </a:lnTo>
                  <a:lnTo>
                    <a:pt x="19669" y="422349"/>
                  </a:lnTo>
                  <a:lnTo>
                    <a:pt x="10718" y="435502"/>
                  </a:lnTo>
                  <a:lnTo>
                    <a:pt x="0" y="449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MARTInkAnnotation393"/>
            <p:cNvSpPr/>
            <p:nvPr/>
          </p:nvSpPr>
          <p:spPr>
            <a:xfrm>
              <a:off x="3818160" y="5105880"/>
              <a:ext cx="204480" cy="3121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04705" h="312317">
                  <a:moveTo>
                    <a:pt x="182188" y="37996"/>
                  </a:moveTo>
                  <a:lnTo>
                    <a:pt x="193540" y="37996"/>
                  </a:lnTo>
                  <a:lnTo>
                    <a:pt x="194836" y="37150"/>
                  </a:lnTo>
                  <a:lnTo>
                    <a:pt x="195700" y="35738"/>
                  </a:lnTo>
                  <a:lnTo>
                    <a:pt x="196276" y="33951"/>
                  </a:lnTo>
                  <a:lnTo>
                    <a:pt x="199174" y="29707"/>
                  </a:lnTo>
                  <a:lnTo>
                    <a:pt x="203888" y="24129"/>
                  </a:lnTo>
                  <a:lnTo>
                    <a:pt x="204533" y="21109"/>
                  </a:lnTo>
                  <a:lnTo>
                    <a:pt x="204704" y="19118"/>
                  </a:lnTo>
                  <a:lnTo>
                    <a:pt x="203972" y="16944"/>
                  </a:lnTo>
                  <a:lnTo>
                    <a:pt x="200900" y="12271"/>
                  </a:lnTo>
                  <a:lnTo>
                    <a:pt x="198897" y="10686"/>
                  </a:lnTo>
                  <a:lnTo>
                    <a:pt x="196713" y="9629"/>
                  </a:lnTo>
                  <a:lnTo>
                    <a:pt x="191184" y="7609"/>
                  </a:lnTo>
                  <a:lnTo>
                    <a:pt x="187338" y="5884"/>
                  </a:lnTo>
                  <a:lnTo>
                    <a:pt x="183082" y="3888"/>
                  </a:lnTo>
                  <a:lnTo>
                    <a:pt x="177704" y="2557"/>
                  </a:lnTo>
                  <a:lnTo>
                    <a:pt x="171579" y="1670"/>
                  </a:lnTo>
                  <a:lnTo>
                    <a:pt x="164955" y="1079"/>
                  </a:lnTo>
                  <a:lnTo>
                    <a:pt x="158000" y="685"/>
                  </a:lnTo>
                  <a:lnTo>
                    <a:pt x="143497" y="247"/>
                  </a:lnTo>
                  <a:lnTo>
                    <a:pt x="117008" y="0"/>
                  </a:lnTo>
                  <a:lnTo>
                    <a:pt x="108255" y="812"/>
                  </a:lnTo>
                  <a:lnTo>
                    <a:pt x="99879" y="2200"/>
                  </a:lnTo>
                  <a:lnTo>
                    <a:pt x="82954" y="6000"/>
                  </a:lnTo>
                  <a:lnTo>
                    <a:pt x="64141" y="10511"/>
                  </a:lnTo>
                  <a:lnTo>
                    <a:pt x="56077" y="13746"/>
                  </a:lnTo>
                  <a:lnTo>
                    <a:pt x="49007" y="17596"/>
                  </a:lnTo>
                  <a:lnTo>
                    <a:pt x="42601" y="21856"/>
                  </a:lnTo>
                  <a:lnTo>
                    <a:pt x="35790" y="25543"/>
                  </a:lnTo>
                  <a:lnTo>
                    <a:pt x="28710" y="28847"/>
                  </a:lnTo>
                  <a:lnTo>
                    <a:pt x="21449" y="31897"/>
                  </a:lnTo>
                  <a:lnTo>
                    <a:pt x="15762" y="35623"/>
                  </a:lnTo>
                  <a:lnTo>
                    <a:pt x="11124" y="39801"/>
                  </a:lnTo>
                  <a:lnTo>
                    <a:pt x="7186" y="44279"/>
                  </a:lnTo>
                  <a:lnTo>
                    <a:pt x="2810" y="51513"/>
                  </a:lnTo>
                  <a:lnTo>
                    <a:pt x="1642" y="54627"/>
                  </a:lnTo>
                  <a:lnTo>
                    <a:pt x="345" y="62603"/>
                  </a:lnTo>
                  <a:lnTo>
                    <a:pt x="0" y="67101"/>
                  </a:lnTo>
                  <a:lnTo>
                    <a:pt x="1873" y="76614"/>
                  </a:lnTo>
                  <a:lnTo>
                    <a:pt x="3559" y="81521"/>
                  </a:lnTo>
                  <a:lnTo>
                    <a:pt x="6375" y="85640"/>
                  </a:lnTo>
                  <a:lnTo>
                    <a:pt x="9946" y="89232"/>
                  </a:lnTo>
                  <a:lnTo>
                    <a:pt x="14020" y="92473"/>
                  </a:lnTo>
                  <a:lnTo>
                    <a:pt x="19277" y="95481"/>
                  </a:lnTo>
                  <a:lnTo>
                    <a:pt x="25320" y="98333"/>
                  </a:lnTo>
                  <a:lnTo>
                    <a:pt x="31890" y="101081"/>
                  </a:lnTo>
                  <a:lnTo>
                    <a:pt x="37962" y="102912"/>
                  </a:lnTo>
                  <a:lnTo>
                    <a:pt x="43705" y="104134"/>
                  </a:lnTo>
                  <a:lnTo>
                    <a:pt x="49226" y="104948"/>
                  </a:lnTo>
                  <a:lnTo>
                    <a:pt x="54600" y="105491"/>
                  </a:lnTo>
                  <a:lnTo>
                    <a:pt x="59876" y="105852"/>
                  </a:lnTo>
                  <a:lnTo>
                    <a:pt x="65086" y="106093"/>
                  </a:lnTo>
                  <a:lnTo>
                    <a:pt x="71101" y="105408"/>
                  </a:lnTo>
                  <a:lnTo>
                    <a:pt x="77650" y="104104"/>
                  </a:lnTo>
                  <a:lnTo>
                    <a:pt x="84556" y="102388"/>
                  </a:lnTo>
                  <a:lnTo>
                    <a:pt x="90007" y="100397"/>
                  </a:lnTo>
                  <a:lnTo>
                    <a:pt x="94487" y="98224"/>
                  </a:lnTo>
                  <a:lnTo>
                    <a:pt x="98321" y="95928"/>
                  </a:lnTo>
                  <a:lnTo>
                    <a:pt x="103417" y="93551"/>
                  </a:lnTo>
                  <a:lnTo>
                    <a:pt x="109353" y="91119"/>
                  </a:lnTo>
                  <a:lnTo>
                    <a:pt x="115852" y="88651"/>
                  </a:lnTo>
                  <a:lnTo>
                    <a:pt x="121030" y="85313"/>
                  </a:lnTo>
                  <a:lnTo>
                    <a:pt x="125330" y="81394"/>
                  </a:lnTo>
                  <a:lnTo>
                    <a:pt x="129042" y="77088"/>
                  </a:lnTo>
                  <a:lnTo>
                    <a:pt x="135425" y="70046"/>
                  </a:lnTo>
                  <a:lnTo>
                    <a:pt x="141084" y="64094"/>
                  </a:lnTo>
                  <a:lnTo>
                    <a:pt x="146422" y="58626"/>
                  </a:lnTo>
                  <a:lnTo>
                    <a:pt x="148184" y="55983"/>
                  </a:lnTo>
                  <a:lnTo>
                    <a:pt x="151244" y="47149"/>
                  </a:lnTo>
                  <a:lnTo>
                    <a:pt x="156853" y="40682"/>
                  </a:lnTo>
                  <a:lnTo>
                    <a:pt x="158228" y="39190"/>
                  </a:lnTo>
                  <a:lnTo>
                    <a:pt x="152671" y="44662"/>
                  </a:lnTo>
                  <a:lnTo>
                    <a:pt x="152136" y="47449"/>
                  </a:lnTo>
                  <a:lnTo>
                    <a:pt x="151793" y="56138"/>
                  </a:lnTo>
                  <a:lnTo>
                    <a:pt x="149488" y="63275"/>
                  </a:lnTo>
                  <a:lnTo>
                    <a:pt x="145641" y="72938"/>
                  </a:lnTo>
                  <a:lnTo>
                    <a:pt x="141109" y="85699"/>
                  </a:lnTo>
                  <a:lnTo>
                    <a:pt x="139562" y="92658"/>
                  </a:lnTo>
                  <a:lnTo>
                    <a:pt x="138531" y="99838"/>
                  </a:lnTo>
                  <a:lnTo>
                    <a:pt x="137843" y="107164"/>
                  </a:lnTo>
                  <a:lnTo>
                    <a:pt x="136538" y="114588"/>
                  </a:lnTo>
                  <a:lnTo>
                    <a:pt x="134822" y="122077"/>
                  </a:lnTo>
                  <a:lnTo>
                    <a:pt x="132830" y="129611"/>
                  </a:lnTo>
                  <a:lnTo>
                    <a:pt x="130656" y="137173"/>
                  </a:lnTo>
                  <a:lnTo>
                    <a:pt x="125983" y="152348"/>
                  </a:lnTo>
                  <a:lnTo>
                    <a:pt x="124398" y="159951"/>
                  </a:lnTo>
                  <a:lnTo>
                    <a:pt x="123341" y="167559"/>
                  </a:lnTo>
                  <a:lnTo>
                    <a:pt x="122637" y="175171"/>
                  </a:lnTo>
                  <a:lnTo>
                    <a:pt x="122168" y="183633"/>
                  </a:lnTo>
                  <a:lnTo>
                    <a:pt x="121646" y="202066"/>
                  </a:lnTo>
                  <a:lnTo>
                    <a:pt x="121265" y="251043"/>
                  </a:lnTo>
                  <a:lnTo>
                    <a:pt x="122099" y="257921"/>
                  </a:lnTo>
                  <a:lnTo>
                    <a:pt x="123503" y="264199"/>
                  </a:lnTo>
                  <a:lnTo>
                    <a:pt x="125284" y="270078"/>
                  </a:lnTo>
                  <a:lnTo>
                    <a:pt x="126472" y="276537"/>
                  </a:lnTo>
                  <a:lnTo>
                    <a:pt x="127265" y="283383"/>
                  </a:lnTo>
                  <a:lnTo>
                    <a:pt x="128144" y="296071"/>
                  </a:lnTo>
                  <a:lnTo>
                    <a:pt x="128848" y="3123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228600" y="121932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valuate each expression for x = 8, y = -5, and z = -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533520" y="187308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Object 10"/>
              <p:cNvSpPr txBox="1"/>
              <p:nvPr/>
            </p:nvSpPr>
            <p:spPr>
              <a:xfrm>
                <a:off x="1652760" y="1903320"/>
                <a:ext cx="2842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3" name="Group 12"/>
          <p:cNvGrpSpPr/>
          <p:nvPr/>
        </p:nvGrpSpPr>
        <p:grpSpPr>
          <a:xfrm>
            <a:off x="504720" y="3048120"/>
            <a:ext cx="2314800" cy="1103040"/>
            <a:chOff x="504720" y="3048120"/>
            <a:chExt cx="2314800" cy="1103040"/>
          </a:xfrm>
        </p:grpSpPr>
        <p:sp>
          <p:nvSpPr>
            <p:cNvPr id="624" name="Text Box 7"/>
            <p:cNvSpPr/>
            <p:nvPr/>
          </p:nvSpPr>
          <p:spPr>
            <a:xfrm>
              <a:off x="504720" y="3244680"/>
              <a:ext cx="140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8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5" name="Object 12"/>
                <p:cNvSpPr txBox="1"/>
                <p:nvPr/>
              </p:nvSpPr>
              <p:spPr>
                <a:xfrm>
                  <a:off x="1647720" y="3048120"/>
                  <a:ext cx="1171800" cy="11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z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y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6" name="Group 13"/>
          <p:cNvGrpSpPr/>
          <p:nvPr/>
        </p:nvGrpSpPr>
        <p:grpSpPr>
          <a:xfrm>
            <a:off x="506520" y="4724280"/>
            <a:ext cx="3074760" cy="601920"/>
            <a:chOff x="506520" y="4724280"/>
            <a:chExt cx="3074760" cy="601920"/>
          </a:xfrm>
        </p:grpSpPr>
        <p:sp>
          <p:nvSpPr>
            <p:cNvPr id="627" name="Text Box 7"/>
            <p:cNvSpPr/>
            <p:nvPr/>
          </p:nvSpPr>
          <p:spPr>
            <a:xfrm>
              <a:off x="506520" y="4768920"/>
              <a:ext cx="1474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9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8" name="Object 14"/>
                <p:cNvSpPr txBox="1"/>
                <p:nvPr/>
              </p:nvSpPr>
              <p:spPr>
                <a:xfrm>
                  <a:off x="1573200" y="4724280"/>
                  <a:ext cx="2008080" cy="6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y</m:t>
                      </m:r>
                      <m:r>
                        <m:t xml:space="preserve">÷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9" name="Group 12334"/>
          <p:cNvGrpSpPr/>
          <p:nvPr/>
        </p:nvGrpSpPr>
        <p:grpSpPr>
          <a:xfrm>
            <a:off x="122400" y="2289240"/>
            <a:ext cx="6232320" cy="3432240"/>
            <a:chOff x="122400" y="2289240"/>
            <a:chExt cx="6232320" cy="3432240"/>
          </a:xfrm>
        </p:grpSpPr>
        <p:sp>
          <p:nvSpPr>
            <p:cNvPr id="630" name="SMARTInkAnnotation0"/>
            <p:cNvSpPr/>
            <p:nvPr/>
          </p:nvSpPr>
          <p:spPr>
            <a:xfrm>
              <a:off x="1722600" y="2517840"/>
              <a:ext cx="405720" cy="300960"/>
            </a:xfrm>
            <a:custGeom>
              <a:avLst/>
              <a:gdLst>
                <a:gd name="textAreaLeft" fmla="*/ 0 w 405720"/>
                <a:gd name="textAreaRight" fmla="*/ 406080 w 4057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405937" h="301141">
                  <a:moveTo>
                    <a:pt x="0" y="65053"/>
                  </a:moveTo>
                  <a:lnTo>
                    <a:pt x="10606" y="54447"/>
                  </a:lnTo>
                  <a:lnTo>
                    <a:pt x="19954" y="49615"/>
                  </a:lnTo>
                  <a:lnTo>
                    <a:pt x="32575" y="44645"/>
                  </a:lnTo>
                  <a:lnTo>
                    <a:pt x="46651" y="39614"/>
                  </a:lnTo>
                  <a:lnTo>
                    <a:pt x="54807" y="37087"/>
                  </a:lnTo>
                  <a:lnTo>
                    <a:pt x="72901" y="32022"/>
                  </a:lnTo>
                  <a:lnTo>
                    <a:pt x="83314" y="29485"/>
                  </a:lnTo>
                  <a:lnTo>
                    <a:pt x="106173" y="24410"/>
                  </a:lnTo>
                  <a:lnTo>
                    <a:pt x="180519" y="9173"/>
                  </a:lnTo>
                  <a:lnTo>
                    <a:pt x="192312" y="7480"/>
                  </a:lnTo>
                  <a:lnTo>
                    <a:pt x="203562" y="6351"/>
                  </a:lnTo>
                  <a:lnTo>
                    <a:pt x="214448" y="5598"/>
                  </a:lnTo>
                  <a:lnTo>
                    <a:pt x="224245" y="4250"/>
                  </a:lnTo>
                  <a:lnTo>
                    <a:pt x="233317" y="2504"/>
                  </a:lnTo>
                  <a:lnTo>
                    <a:pt x="241905" y="494"/>
                  </a:lnTo>
                  <a:lnTo>
                    <a:pt x="249323" y="0"/>
                  </a:lnTo>
                  <a:lnTo>
                    <a:pt x="255962" y="518"/>
                  </a:lnTo>
                  <a:lnTo>
                    <a:pt x="267008" y="2504"/>
                  </a:lnTo>
                  <a:lnTo>
                    <a:pt x="274739" y="3387"/>
                  </a:lnTo>
                  <a:lnTo>
                    <a:pt x="276293" y="4469"/>
                  </a:lnTo>
                  <a:lnTo>
                    <a:pt x="276482" y="6037"/>
                  </a:lnTo>
                  <a:lnTo>
                    <a:pt x="275761" y="7929"/>
                  </a:lnTo>
                  <a:lnTo>
                    <a:pt x="273588" y="10037"/>
                  </a:lnTo>
                  <a:lnTo>
                    <a:pt x="261591" y="17896"/>
                  </a:lnTo>
                  <a:lnTo>
                    <a:pt x="227927" y="40133"/>
                  </a:lnTo>
                  <a:lnTo>
                    <a:pt x="219685" y="45053"/>
                  </a:lnTo>
                  <a:lnTo>
                    <a:pt x="210803" y="50026"/>
                  </a:lnTo>
                  <a:lnTo>
                    <a:pt x="191904" y="60068"/>
                  </a:lnTo>
                  <a:lnTo>
                    <a:pt x="172215" y="70175"/>
                  </a:lnTo>
                  <a:lnTo>
                    <a:pt x="163070" y="75241"/>
                  </a:lnTo>
                  <a:lnTo>
                    <a:pt x="154434" y="80312"/>
                  </a:lnTo>
                  <a:lnTo>
                    <a:pt x="146136" y="85386"/>
                  </a:lnTo>
                  <a:lnTo>
                    <a:pt x="134658" y="93281"/>
                  </a:lnTo>
                  <a:lnTo>
                    <a:pt x="130412" y="96572"/>
                  </a:lnTo>
                  <a:lnTo>
                    <a:pt x="127581" y="99612"/>
                  </a:lnTo>
                  <a:lnTo>
                    <a:pt x="125695" y="102486"/>
                  </a:lnTo>
                  <a:lnTo>
                    <a:pt x="124436" y="105248"/>
                  </a:lnTo>
                  <a:lnTo>
                    <a:pt x="125291" y="107937"/>
                  </a:lnTo>
                  <a:lnTo>
                    <a:pt x="127554" y="110576"/>
                  </a:lnTo>
                  <a:lnTo>
                    <a:pt x="135431" y="116612"/>
                  </a:lnTo>
                  <a:lnTo>
                    <a:pt x="147398" y="124939"/>
                  </a:lnTo>
                  <a:lnTo>
                    <a:pt x="155839" y="127837"/>
                  </a:lnTo>
                  <a:lnTo>
                    <a:pt x="165699" y="129769"/>
                  </a:lnTo>
                  <a:lnTo>
                    <a:pt x="176506" y="131057"/>
                  </a:lnTo>
                  <a:lnTo>
                    <a:pt x="187944" y="132763"/>
                  </a:lnTo>
                  <a:lnTo>
                    <a:pt x="253298" y="144013"/>
                  </a:lnTo>
                  <a:lnTo>
                    <a:pt x="267079" y="147326"/>
                  </a:lnTo>
                  <a:lnTo>
                    <a:pt x="280499" y="151229"/>
                  </a:lnTo>
                  <a:lnTo>
                    <a:pt x="293680" y="155524"/>
                  </a:lnTo>
                  <a:lnTo>
                    <a:pt x="307547" y="159233"/>
                  </a:lnTo>
                  <a:lnTo>
                    <a:pt x="321871" y="162553"/>
                  </a:lnTo>
                  <a:lnTo>
                    <a:pt x="336501" y="165613"/>
                  </a:lnTo>
                  <a:lnTo>
                    <a:pt x="348794" y="169347"/>
                  </a:lnTo>
                  <a:lnTo>
                    <a:pt x="359529" y="173529"/>
                  </a:lnTo>
                  <a:lnTo>
                    <a:pt x="369227" y="178010"/>
                  </a:lnTo>
                  <a:lnTo>
                    <a:pt x="377384" y="182691"/>
                  </a:lnTo>
                  <a:lnTo>
                    <a:pt x="384516" y="187505"/>
                  </a:lnTo>
                  <a:lnTo>
                    <a:pt x="390964" y="192408"/>
                  </a:lnTo>
                  <a:lnTo>
                    <a:pt x="396110" y="198216"/>
                  </a:lnTo>
                  <a:lnTo>
                    <a:pt x="400387" y="204629"/>
                  </a:lnTo>
                  <a:lnTo>
                    <a:pt x="404085" y="211443"/>
                  </a:lnTo>
                  <a:lnTo>
                    <a:pt x="405703" y="217680"/>
                  </a:lnTo>
                  <a:lnTo>
                    <a:pt x="405936" y="223531"/>
                  </a:lnTo>
                  <a:lnTo>
                    <a:pt x="405244" y="229125"/>
                  </a:lnTo>
                  <a:lnTo>
                    <a:pt x="403936" y="234548"/>
                  </a:lnTo>
                  <a:lnTo>
                    <a:pt x="402218" y="239856"/>
                  </a:lnTo>
                  <a:lnTo>
                    <a:pt x="400225" y="245089"/>
                  </a:lnTo>
                  <a:lnTo>
                    <a:pt x="396357" y="250270"/>
                  </a:lnTo>
                  <a:lnTo>
                    <a:pt x="391238" y="255418"/>
                  </a:lnTo>
                  <a:lnTo>
                    <a:pt x="385285" y="260543"/>
                  </a:lnTo>
                  <a:lnTo>
                    <a:pt x="377931" y="264806"/>
                  </a:lnTo>
                  <a:lnTo>
                    <a:pt x="369640" y="268495"/>
                  </a:lnTo>
                  <a:lnTo>
                    <a:pt x="360727" y="271801"/>
                  </a:lnTo>
                  <a:lnTo>
                    <a:pt x="350552" y="274852"/>
                  </a:lnTo>
                  <a:lnTo>
                    <a:pt x="339534" y="277732"/>
                  </a:lnTo>
                  <a:lnTo>
                    <a:pt x="316004" y="283190"/>
                  </a:lnTo>
                  <a:lnTo>
                    <a:pt x="253803" y="296153"/>
                  </a:lnTo>
                  <a:lnTo>
                    <a:pt x="241169" y="297860"/>
                  </a:lnTo>
                  <a:lnTo>
                    <a:pt x="228512" y="298998"/>
                  </a:lnTo>
                  <a:lnTo>
                    <a:pt x="215842" y="299756"/>
                  </a:lnTo>
                  <a:lnTo>
                    <a:pt x="188217" y="300599"/>
                  </a:lnTo>
                  <a:lnTo>
                    <a:pt x="141225" y="301140"/>
                  </a:lnTo>
                  <a:lnTo>
                    <a:pt x="131403" y="300338"/>
                  </a:lnTo>
                  <a:lnTo>
                    <a:pt x="121469" y="298956"/>
                  </a:lnTo>
                  <a:lnTo>
                    <a:pt x="111460" y="297189"/>
                  </a:lnTo>
                  <a:lnTo>
                    <a:pt x="103093" y="295163"/>
                  </a:lnTo>
                  <a:lnTo>
                    <a:pt x="95822" y="292967"/>
                  </a:lnTo>
                  <a:lnTo>
                    <a:pt x="89281" y="290655"/>
                  </a:lnTo>
                  <a:lnTo>
                    <a:pt x="84921" y="288268"/>
                  </a:lnTo>
                  <a:lnTo>
                    <a:pt x="82014" y="285830"/>
                  </a:lnTo>
                  <a:lnTo>
                    <a:pt x="80076" y="283358"/>
                  </a:lnTo>
                  <a:lnTo>
                    <a:pt x="77938" y="281709"/>
                  </a:lnTo>
                  <a:lnTo>
                    <a:pt x="75665" y="280611"/>
                  </a:lnTo>
                  <a:lnTo>
                    <a:pt x="68580" y="2784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MARTInkAnnotation1"/>
            <p:cNvSpPr/>
            <p:nvPr/>
          </p:nvSpPr>
          <p:spPr>
            <a:xfrm>
              <a:off x="2191320" y="2506680"/>
              <a:ext cx="216720" cy="32760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217045" h="327661">
                  <a:moveTo>
                    <a:pt x="3684" y="0"/>
                  </a:moveTo>
                  <a:lnTo>
                    <a:pt x="10991" y="0"/>
                  </a:lnTo>
                  <a:lnTo>
                    <a:pt x="11242" y="6930"/>
                  </a:lnTo>
                  <a:lnTo>
                    <a:pt x="11304" y="94887"/>
                  </a:lnTo>
                  <a:lnTo>
                    <a:pt x="10457" y="104745"/>
                  </a:lnTo>
                  <a:lnTo>
                    <a:pt x="9047" y="114703"/>
                  </a:lnTo>
                  <a:lnTo>
                    <a:pt x="7259" y="124729"/>
                  </a:lnTo>
                  <a:lnTo>
                    <a:pt x="5221" y="134799"/>
                  </a:lnTo>
                  <a:lnTo>
                    <a:pt x="698" y="155020"/>
                  </a:lnTo>
                  <a:lnTo>
                    <a:pt x="0" y="166000"/>
                  </a:lnTo>
                  <a:lnTo>
                    <a:pt x="382" y="177553"/>
                  </a:lnTo>
                  <a:lnTo>
                    <a:pt x="1483" y="189489"/>
                  </a:lnTo>
                  <a:lnTo>
                    <a:pt x="3063" y="199986"/>
                  </a:lnTo>
                  <a:lnTo>
                    <a:pt x="4963" y="209524"/>
                  </a:lnTo>
                  <a:lnTo>
                    <a:pt x="7077" y="218423"/>
                  </a:lnTo>
                  <a:lnTo>
                    <a:pt x="11026" y="227742"/>
                  </a:lnTo>
                  <a:lnTo>
                    <a:pt x="16199" y="237341"/>
                  </a:lnTo>
                  <a:lnTo>
                    <a:pt x="22187" y="247127"/>
                  </a:lnTo>
                  <a:lnTo>
                    <a:pt x="28720" y="255345"/>
                  </a:lnTo>
                  <a:lnTo>
                    <a:pt x="35614" y="262517"/>
                  </a:lnTo>
                  <a:lnTo>
                    <a:pt x="42751" y="268991"/>
                  </a:lnTo>
                  <a:lnTo>
                    <a:pt x="50895" y="275847"/>
                  </a:lnTo>
                  <a:lnTo>
                    <a:pt x="68976" y="290239"/>
                  </a:lnTo>
                  <a:lnTo>
                    <a:pt x="78539" y="295939"/>
                  </a:lnTo>
                  <a:lnTo>
                    <a:pt x="88301" y="300586"/>
                  </a:lnTo>
                  <a:lnTo>
                    <a:pt x="98195" y="304531"/>
                  </a:lnTo>
                  <a:lnTo>
                    <a:pt x="122736" y="313429"/>
                  </a:lnTo>
                  <a:lnTo>
                    <a:pt x="136392" y="318173"/>
                  </a:lnTo>
                  <a:lnTo>
                    <a:pt x="149729" y="321335"/>
                  </a:lnTo>
                  <a:lnTo>
                    <a:pt x="162854" y="323444"/>
                  </a:lnTo>
                  <a:lnTo>
                    <a:pt x="175838" y="324849"/>
                  </a:lnTo>
                  <a:lnTo>
                    <a:pt x="186187" y="325786"/>
                  </a:lnTo>
                  <a:lnTo>
                    <a:pt x="194779" y="326411"/>
                  </a:lnTo>
                  <a:lnTo>
                    <a:pt x="217044" y="327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MARTInkAnnotation2"/>
            <p:cNvSpPr/>
            <p:nvPr/>
          </p:nvSpPr>
          <p:spPr>
            <a:xfrm>
              <a:off x="2340360" y="2499120"/>
              <a:ext cx="90000" cy="9828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0201" h="98576">
                  <a:moveTo>
                    <a:pt x="60392" y="0"/>
                  </a:moveTo>
                  <a:lnTo>
                    <a:pt x="52302" y="4045"/>
                  </a:lnTo>
                  <a:lnTo>
                    <a:pt x="49072" y="6930"/>
                  </a:lnTo>
                  <a:lnTo>
                    <a:pt x="46072" y="10547"/>
                  </a:lnTo>
                  <a:lnTo>
                    <a:pt x="43225" y="14651"/>
                  </a:lnTo>
                  <a:lnTo>
                    <a:pt x="39634" y="19081"/>
                  </a:lnTo>
                  <a:lnTo>
                    <a:pt x="35547" y="23727"/>
                  </a:lnTo>
                  <a:lnTo>
                    <a:pt x="31128" y="28518"/>
                  </a:lnTo>
                  <a:lnTo>
                    <a:pt x="21704" y="38357"/>
                  </a:lnTo>
                  <a:lnTo>
                    <a:pt x="16820" y="43351"/>
                  </a:lnTo>
                  <a:lnTo>
                    <a:pt x="12717" y="48374"/>
                  </a:lnTo>
                  <a:lnTo>
                    <a:pt x="9135" y="53416"/>
                  </a:lnTo>
                  <a:lnTo>
                    <a:pt x="5901" y="58471"/>
                  </a:lnTo>
                  <a:lnTo>
                    <a:pt x="3744" y="63534"/>
                  </a:lnTo>
                  <a:lnTo>
                    <a:pt x="2307" y="68603"/>
                  </a:lnTo>
                  <a:lnTo>
                    <a:pt x="1349" y="73675"/>
                  </a:lnTo>
                  <a:lnTo>
                    <a:pt x="710" y="77904"/>
                  </a:lnTo>
                  <a:lnTo>
                    <a:pt x="284" y="81569"/>
                  </a:lnTo>
                  <a:lnTo>
                    <a:pt x="0" y="84859"/>
                  </a:lnTo>
                  <a:lnTo>
                    <a:pt x="657" y="87900"/>
                  </a:lnTo>
                  <a:lnTo>
                    <a:pt x="1942" y="90773"/>
                  </a:lnTo>
                  <a:lnTo>
                    <a:pt x="3645" y="93535"/>
                  </a:lnTo>
                  <a:lnTo>
                    <a:pt x="7321" y="95377"/>
                  </a:lnTo>
                  <a:lnTo>
                    <a:pt x="12311" y="96605"/>
                  </a:lnTo>
                  <a:lnTo>
                    <a:pt x="18178" y="97423"/>
                  </a:lnTo>
                  <a:lnTo>
                    <a:pt x="23783" y="97969"/>
                  </a:lnTo>
                  <a:lnTo>
                    <a:pt x="29213" y="98333"/>
                  </a:lnTo>
                  <a:lnTo>
                    <a:pt x="34526" y="98575"/>
                  </a:lnTo>
                  <a:lnTo>
                    <a:pt x="39761" y="97890"/>
                  </a:lnTo>
                  <a:lnTo>
                    <a:pt x="44944" y="96587"/>
                  </a:lnTo>
                  <a:lnTo>
                    <a:pt x="69476" y="88412"/>
                  </a:lnTo>
                  <a:lnTo>
                    <a:pt x="74915" y="85188"/>
                  </a:lnTo>
                  <a:lnTo>
                    <a:pt x="79387" y="81345"/>
                  </a:lnTo>
                  <a:lnTo>
                    <a:pt x="83216" y="77090"/>
                  </a:lnTo>
                  <a:lnTo>
                    <a:pt x="85768" y="73407"/>
                  </a:lnTo>
                  <a:lnTo>
                    <a:pt x="87469" y="70105"/>
                  </a:lnTo>
                  <a:lnTo>
                    <a:pt x="88603" y="67057"/>
                  </a:lnTo>
                  <a:lnTo>
                    <a:pt x="89360" y="63331"/>
                  </a:lnTo>
                  <a:lnTo>
                    <a:pt x="89864" y="59154"/>
                  </a:lnTo>
                  <a:lnTo>
                    <a:pt x="90200" y="54676"/>
                  </a:lnTo>
                  <a:lnTo>
                    <a:pt x="89577" y="49998"/>
                  </a:lnTo>
                  <a:lnTo>
                    <a:pt x="88316" y="45185"/>
                  </a:lnTo>
                  <a:lnTo>
                    <a:pt x="86628" y="40283"/>
                  </a:lnTo>
                  <a:lnTo>
                    <a:pt x="84656" y="36169"/>
                  </a:lnTo>
                  <a:lnTo>
                    <a:pt x="82494" y="32580"/>
                  </a:lnTo>
                  <a:lnTo>
                    <a:pt x="80207" y="29340"/>
                  </a:lnTo>
                  <a:lnTo>
                    <a:pt x="76989" y="26333"/>
                  </a:lnTo>
                  <a:lnTo>
                    <a:pt x="73150" y="23482"/>
                  </a:lnTo>
                  <a:lnTo>
                    <a:pt x="68897" y="20735"/>
                  </a:lnTo>
                  <a:lnTo>
                    <a:pt x="65215" y="18903"/>
                  </a:lnTo>
                  <a:lnTo>
                    <a:pt x="61914" y="17682"/>
                  </a:lnTo>
                  <a:lnTo>
                    <a:pt x="58867" y="16868"/>
                  </a:lnTo>
                  <a:lnTo>
                    <a:pt x="55142" y="16325"/>
                  </a:lnTo>
                  <a:lnTo>
                    <a:pt x="50965" y="15964"/>
                  </a:lnTo>
                  <a:lnTo>
                    <a:pt x="46488" y="15723"/>
                  </a:lnTo>
                  <a:lnTo>
                    <a:pt x="41809" y="16409"/>
                  </a:lnTo>
                  <a:lnTo>
                    <a:pt x="36997" y="17712"/>
                  </a:lnTo>
                  <a:lnTo>
                    <a:pt x="32095" y="19428"/>
                  </a:lnTo>
                  <a:lnTo>
                    <a:pt x="27981" y="21419"/>
                  </a:lnTo>
                  <a:lnTo>
                    <a:pt x="24391" y="23593"/>
                  </a:lnTo>
                  <a:lnTo>
                    <a:pt x="14672" y="30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MARTInkAnnotation3"/>
            <p:cNvSpPr/>
            <p:nvPr/>
          </p:nvSpPr>
          <p:spPr>
            <a:xfrm>
              <a:off x="2309760" y="2620800"/>
              <a:ext cx="172440" cy="1130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72776" h="113005">
                  <a:moveTo>
                    <a:pt x="113715" y="30480"/>
                  </a:moveTo>
                  <a:lnTo>
                    <a:pt x="109670" y="30480"/>
                  </a:lnTo>
                  <a:lnTo>
                    <a:pt x="107631" y="29633"/>
                  </a:lnTo>
                  <a:lnTo>
                    <a:pt x="103109" y="26435"/>
                  </a:lnTo>
                  <a:lnTo>
                    <a:pt x="99848" y="23919"/>
                  </a:lnTo>
                  <a:lnTo>
                    <a:pt x="94570" y="23331"/>
                  </a:lnTo>
                  <a:lnTo>
                    <a:pt x="87426" y="23069"/>
                  </a:lnTo>
                  <a:lnTo>
                    <a:pt x="77798" y="22922"/>
                  </a:lnTo>
                  <a:lnTo>
                    <a:pt x="69247" y="22888"/>
                  </a:lnTo>
                  <a:lnTo>
                    <a:pt x="63750" y="23725"/>
                  </a:lnTo>
                  <a:lnTo>
                    <a:pt x="57545" y="25130"/>
                  </a:lnTo>
                  <a:lnTo>
                    <a:pt x="50868" y="26914"/>
                  </a:lnTo>
                  <a:lnTo>
                    <a:pt x="44724" y="28949"/>
                  </a:lnTo>
                  <a:lnTo>
                    <a:pt x="38934" y="31153"/>
                  </a:lnTo>
                  <a:lnTo>
                    <a:pt x="33381" y="33468"/>
                  </a:lnTo>
                  <a:lnTo>
                    <a:pt x="27986" y="36706"/>
                  </a:lnTo>
                  <a:lnTo>
                    <a:pt x="22695" y="40557"/>
                  </a:lnTo>
                  <a:lnTo>
                    <a:pt x="17476" y="44818"/>
                  </a:lnTo>
                  <a:lnTo>
                    <a:pt x="13149" y="49352"/>
                  </a:lnTo>
                  <a:lnTo>
                    <a:pt x="9417" y="54068"/>
                  </a:lnTo>
                  <a:lnTo>
                    <a:pt x="6083" y="58905"/>
                  </a:lnTo>
                  <a:lnTo>
                    <a:pt x="3861" y="63824"/>
                  </a:lnTo>
                  <a:lnTo>
                    <a:pt x="2379" y="68796"/>
                  </a:lnTo>
                  <a:lnTo>
                    <a:pt x="1391" y="73804"/>
                  </a:lnTo>
                  <a:lnTo>
                    <a:pt x="732" y="77989"/>
                  </a:lnTo>
                  <a:lnTo>
                    <a:pt x="293" y="81626"/>
                  </a:lnTo>
                  <a:lnTo>
                    <a:pt x="0" y="84897"/>
                  </a:lnTo>
                  <a:lnTo>
                    <a:pt x="1499" y="88772"/>
                  </a:lnTo>
                  <a:lnTo>
                    <a:pt x="4191" y="93048"/>
                  </a:lnTo>
                  <a:lnTo>
                    <a:pt x="7679" y="97592"/>
                  </a:lnTo>
                  <a:lnTo>
                    <a:pt x="12544" y="100621"/>
                  </a:lnTo>
                  <a:lnTo>
                    <a:pt x="18328" y="102641"/>
                  </a:lnTo>
                  <a:lnTo>
                    <a:pt x="24724" y="103987"/>
                  </a:lnTo>
                  <a:lnTo>
                    <a:pt x="49906" y="109927"/>
                  </a:lnTo>
                  <a:lnTo>
                    <a:pt x="59322" y="111385"/>
                  </a:lnTo>
                  <a:lnTo>
                    <a:pt x="68987" y="112357"/>
                  </a:lnTo>
                  <a:lnTo>
                    <a:pt x="78816" y="113004"/>
                  </a:lnTo>
                  <a:lnTo>
                    <a:pt x="88756" y="112590"/>
                  </a:lnTo>
                  <a:lnTo>
                    <a:pt x="98769" y="111467"/>
                  </a:lnTo>
                  <a:lnTo>
                    <a:pt x="108831" y="109871"/>
                  </a:lnTo>
                  <a:lnTo>
                    <a:pt x="118926" y="107961"/>
                  </a:lnTo>
                  <a:lnTo>
                    <a:pt x="139173" y="103580"/>
                  </a:lnTo>
                  <a:lnTo>
                    <a:pt x="146774" y="100380"/>
                  </a:lnTo>
                  <a:lnTo>
                    <a:pt x="152687" y="96554"/>
                  </a:lnTo>
                  <a:lnTo>
                    <a:pt x="157477" y="92309"/>
                  </a:lnTo>
                  <a:lnTo>
                    <a:pt x="161516" y="87786"/>
                  </a:lnTo>
                  <a:lnTo>
                    <a:pt x="165056" y="83077"/>
                  </a:lnTo>
                  <a:lnTo>
                    <a:pt x="168262" y="78245"/>
                  </a:lnTo>
                  <a:lnTo>
                    <a:pt x="170400" y="74177"/>
                  </a:lnTo>
                  <a:lnTo>
                    <a:pt x="171825" y="70618"/>
                  </a:lnTo>
                  <a:lnTo>
                    <a:pt x="172775" y="67399"/>
                  </a:lnTo>
                  <a:lnTo>
                    <a:pt x="172562" y="63559"/>
                  </a:lnTo>
                  <a:lnTo>
                    <a:pt x="171573" y="59306"/>
                  </a:lnTo>
                  <a:lnTo>
                    <a:pt x="163902" y="36268"/>
                  </a:lnTo>
                  <a:lnTo>
                    <a:pt x="159873" y="30952"/>
                  </a:lnTo>
                  <a:lnTo>
                    <a:pt x="154647" y="26561"/>
                  </a:lnTo>
                  <a:lnTo>
                    <a:pt x="148623" y="22788"/>
                  </a:lnTo>
                  <a:lnTo>
                    <a:pt x="143760" y="18579"/>
                  </a:lnTo>
                  <a:lnTo>
                    <a:pt x="139672" y="14079"/>
                  </a:lnTo>
                  <a:lnTo>
                    <a:pt x="136100" y="9386"/>
                  </a:lnTo>
                  <a:lnTo>
                    <a:pt x="132025" y="6257"/>
                  </a:lnTo>
                  <a:lnTo>
                    <a:pt x="127615" y="4172"/>
                  </a:lnTo>
                  <a:lnTo>
                    <a:pt x="122982" y="2781"/>
                  </a:lnTo>
                  <a:lnTo>
                    <a:pt x="118200" y="1854"/>
                  </a:lnTo>
                  <a:lnTo>
                    <a:pt x="113318" y="1236"/>
                  </a:lnTo>
                  <a:lnTo>
                    <a:pt x="984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MARTInkAnnotation4"/>
            <p:cNvSpPr/>
            <p:nvPr/>
          </p:nvSpPr>
          <p:spPr>
            <a:xfrm>
              <a:off x="2522520" y="2460960"/>
              <a:ext cx="169560" cy="3582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169879" h="358141">
                  <a:moveTo>
                    <a:pt x="0" y="0"/>
                  </a:moveTo>
                  <a:lnTo>
                    <a:pt x="4046" y="4045"/>
                  </a:lnTo>
                  <a:lnTo>
                    <a:pt x="5237" y="6084"/>
                  </a:lnTo>
                  <a:lnTo>
                    <a:pt x="6561" y="10606"/>
                  </a:lnTo>
                  <a:lnTo>
                    <a:pt x="8607" y="12998"/>
                  </a:lnTo>
                  <a:lnTo>
                    <a:pt x="11665" y="15438"/>
                  </a:lnTo>
                  <a:lnTo>
                    <a:pt x="15397" y="17912"/>
                  </a:lnTo>
                  <a:lnTo>
                    <a:pt x="19578" y="21255"/>
                  </a:lnTo>
                  <a:lnTo>
                    <a:pt x="24059" y="25177"/>
                  </a:lnTo>
                  <a:lnTo>
                    <a:pt x="28739" y="29484"/>
                  </a:lnTo>
                  <a:lnTo>
                    <a:pt x="40713" y="41044"/>
                  </a:lnTo>
                  <a:lnTo>
                    <a:pt x="69096" y="69162"/>
                  </a:lnTo>
                  <a:lnTo>
                    <a:pt x="76544" y="77434"/>
                  </a:lnTo>
                  <a:lnTo>
                    <a:pt x="84050" y="86336"/>
                  </a:lnTo>
                  <a:lnTo>
                    <a:pt x="99162" y="105258"/>
                  </a:lnTo>
                  <a:lnTo>
                    <a:pt x="137173" y="155087"/>
                  </a:lnTo>
                  <a:lnTo>
                    <a:pt x="143943" y="166045"/>
                  </a:lnTo>
                  <a:lnTo>
                    <a:pt x="150148" y="177583"/>
                  </a:lnTo>
                  <a:lnTo>
                    <a:pt x="155979" y="189509"/>
                  </a:lnTo>
                  <a:lnTo>
                    <a:pt x="160713" y="200846"/>
                  </a:lnTo>
                  <a:lnTo>
                    <a:pt x="164715" y="211791"/>
                  </a:lnTo>
                  <a:lnTo>
                    <a:pt x="168230" y="222474"/>
                  </a:lnTo>
                  <a:lnTo>
                    <a:pt x="169727" y="232983"/>
                  </a:lnTo>
                  <a:lnTo>
                    <a:pt x="169878" y="243375"/>
                  </a:lnTo>
                  <a:lnTo>
                    <a:pt x="169132" y="253690"/>
                  </a:lnTo>
                  <a:lnTo>
                    <a:pt x="167788" y="263107"/>
                  </a:lnTo>
                  <a:lnTo>
                    <a:pt x="166046" y="271925"/>
                  </a:lnTo>
                  <a:lnTo>
                    <a:pt x="164037" y="280343"/>
                  </a:lnTo>
                  <a:lnTo>
                    <a:pt x="161005" y="288495"/>
                  </a:lnTo>
                  <a:lnTo>
                    <a:pt x="157290" y="296471"/>
                  </a:lnTo>
                  <a:lnTo>
                    <a:pt x="153120" y="304327"/>
                  </a:lnTo>
                  <a:lnTo>
                    <a:pt x="148647" y="311258"/>
                  </a:lnTo>
                  <a:lnTo>
                    <a:pt x="143971" y="317572"/>
                  </a:lnTo>
                  <a:lnTo>
                    <a:pt x="139161" y="323475"/>
                  </a:lnTo>
                  <a:lnTo>
                    <a:pt x="133414" y="329103"/>
                  </a:lnTo>
                  <a:lnTo>
                    <a:pt x="127043" y="334549"/>
                  </a:lnTo>
                  <a:lnTo>
                    <a:pt x="120255" y="339873"/>
                  </a:lnTo>
                  <a:lnTo>
                    <a:pt x="114884" y="344269"/>
                  </a:lnTo>
                  <a:lnTo>
                    <a:pt x="110456" y="348046"/>
                  </a:lnTo>
                  <a:lnTo>
                    <a:pt x="106658" y="351411"/>
                  </a:lnTo>
                  <a:lnTo>
                    <a:pt x="103278" y="353654"/>
                  </a:lnTo>
                  <a:lnTo>
                    <a:pt x="100179" y="355149"/>
                  </a:lnTo>
                  <a:lnTo>
                    <a:pt x="91440" y="358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MARTInkAnnotation5"/>
            <p:cNvSpPr/>
            <p:nvPr/>
          </p:nvSpPr>
          <p:spPr>
            <a:xfrm>
              <a:off x="2865960" y="2483640"/>
              <a:ext cx="22320" cy="378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538" h="38101">
                  <a:moveTo>
                    <a:pt x="22537" y="0"/>
                  </a:moveTo>
                  <a:lnTo>
                    <a:pt x="22537" y="4046"/>
                  </a:lnTo>
                  <a:lnTo>
                    <a:pt x="21690" y="5237"/>
                  </a:lnTo>
                  <a:lnTo>
                    <a:pt x="20280" y="6031"/>
                  </a:lnTo>
                  <a:lnTo>
                    <a:pt x="18492" y="6561"/>
                  </a:lnTo>
                  <a:lnTo>
                    <a:pt x="17300" y="7761"/>
                  </a:lnTo>
                  <a:lnTo>
                    <a:pt x="16506" y="9407"/>
                  </a:lnTo>
                  <a:lnTo>
                    <a:pt x="15977" y="11352"/>
                  </a:lnTo>
                  <a:lnTo>
                    <a:pt x="14777" y="12648"/>
                  </a:lnTo>
                  <a:lnTo>
                    <a:pt x="13130" y="13512"/>
                  </a:lnTo>
                  <a:lnTo>
                    <a:pt x="11186" y="14088"/>
                  </a:lnTo>
                  <a:lnTo>
                    <a:pt x="9890" y="15319"/>
                  </a:lnTo>
                  <a:lnTo>
                    <a:pt x="9025" y="16986"/>
                  </a:lnTo>
                  <a:lnTo>
                    <a:pt x="7639" y="21700"/>
                  </a:lnTo>
                  <a:lnTo>
                    <a:pt x="6678" y="22933"/>
                  </a:lnTo>
                  <a:lnTo>
                    <a:pt x="5191" y="24602"/>
                  </a:lnTo>
                  <a:lnTo>
                    <a:pt x="0" y="30136"/>
                  </a:lnTo>
                  <a:lnTo>
                    <a:pt x="739" y="31098"/>
                  </a:lnTo>
                  <a:lnTo>
                    <a:pt x="2078" y="32585"/>
                  </a:lnTo>
                  <a:lnTo>
                    <a:pt x="7297" y="-274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MARTInkAnnotation6"/>
            <p:cNvSpPr/>
            <p:nvPr/>
          </p:nvSpPr>
          <p:spPr>
            <a:xfrm>
              <a:off x="2811960" y="2606040"/>
              <a:ext cx="281880" cy="147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81942" h="14919">
                  <a:moveTo>
                    <a:pt x="0" y="14918"/>
                  </a:moveTo>
                  <a:lnTo>
                    <a:pt x="4046" y="14918"/>
                  </a:lnTo>
                  <a:lnTo>
                    <a:pt x="6084" y="14071"/>
                  </a:lnTo>
                  <a:lnTo>
                    <a:pt x="8289" y="12661"/>
                  </a:lnTo>
                  <a:lnTo>
                    <a:pt x="10606" y="10873"/>
                  </a:lnTo>
                  <a:lnTo>
                    <a:pt x="13844" y="9681"/>
                  </a:lnTo>
                  <a:lnTo>
                    <a:pt x="17697" y="8887"/>
                  </a:lnTo>
                  <a:lnTo>
                    <a:pt x="21958" y="8357"/>
                  </a:lnTo>
                  <a:lnTo>
                    <a:pt x="28185" y="8004"/>
                  </a:lnTo>
                  <a:lnTo>
                    <a:pt x="44136" y="7612"/>
                  </a:lnTo>
                  <a:lnTo>
                    <a:pt x="52284" y="6661"/>
                  </a:lnTo>
                  <a:lnTo>
                    <a:pt x="60257" y="5180"/>
                  </a:lnTo>
                  <a:lnTo>
                    <a:pt x="68111" y="3346"/>
                  </a:lnTo>
                  <a:lnTo>
                    <a:pt x="77581" y="2123"/>
                  </a:lnTo>
                  <a:lnTo>
                    <a:pt x="88127" y="1308"/>
                  </a:lnTo>
                  <a:lnTo>
                    <a:pt x="99392" y="765"/>
                  </a:lnTo>
                  <a:lnTo>
                    <a:pt x="120939" y="161"/>
                  </a:lnTo>
                  <a:lnTo>
                    <a:pt x="131426" y="0"/>
                  </a:lnTo>
                  <a:lnTo>
                    <a:pt x="143498" y="740"/>
                  </a:lnTo>
                  <a:lnTo>
                    <a:pt x="156625" y="2079"/>
                  </a:lnTo>
                  <a:lnTo>
                    <a:pt x="170457" y="3819"/>
                  </a:lnTo>
                  <a:lnTo>
                    <a:pt x="183065" y="4979"/>
                  </a:lnTo>
                  <a:lnTo>
                    <a:pt x="194857" y="5752"/>
                  </a:lnTo>
                  <a:lnTo>
                    <a:pt x="206105" y="6267"/>
                  </a:lnTo>
                  <a:lnTo>
                    <a:pt x="216990" y="7458"/>
                  </a:lnTo>
                  <a:lnTo>
                    <a:pt x="227634" y="9098"/>
                  </a:lnTo>
                  <a:lnTo>
                    <a:pt x="238116" y="11038"/>
                  </a:lnTo>
                  <a:lnTo>
                    <a:pt x="246798" y="12331"/>
                  </a:lnTo>
                  <a:lnTo>
                    <a:pt x="254279" y="13194"/>
                  </a:lnTo>
                  <a:lnTo>
                    <a:pt x="266260" y="14152"/>
                  </a:lnTo>
                  <a:lnTo>
                    <a:pt x="281941" y="149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MARTInkAnnotation7"/>
            <p:cNvSpPr/>
            <p:nvPr/>
          </p:nvSpPr>
          <p:spPr>
            <a:xfrm>
              <a:off x="2880720" y="2720160"/>
              <a:ext cx="15120" cy="7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39" h="7621">
                  <a:moveTo>
                    <a:pt x="0" y="0"/>
                  </a:moveTo>
                  <a:lnTo>
                    <a:pt x="15238" y="0"/>
                  </a:lnTo>
                  <a:lnTo>
                    <a:pt x="11195" y="4045"/>
                  </a:lnTo>
                  <a:lnTo>
                    <a:pt x="9156" y="5237"/>
                  </a:lnTo>
                  <a:lnTo>
                    <a:pt x="6951" y="6031"/>
                  </a:lnTo>
                  <a:lnTo>
                    <a:pt x="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MARTInkAnnotation8"/>
            <p:cNvSpPr/>
            <p:nvPr/>
          </p:nvSpPr>
          <p:spPr>
            <a:xfrm>
              <a:off x="3164400" y="2453400"/>
              <a:ext cx="234360" cy="35820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34604" h="358141">
                  <a:moveTo>
                    <a:pt x="66963" y="0"/>
                  </a:moveTo>
                  <a:lnTo>
                    <a:pt x="62918" y="4045"/>
                  </a:lnTo>
                  <a:lnTo>
                    <a:pt x="61726" y="6083"/>
                  </a:lnTo>
                  <a:lnTo>
                    <a:pt x="60402" y="10606"/>
                  </a:lnTo>
                  <a:lnTo>
                    <a:pt x="58706" y="21254"/>
                  </a:lnTo>
                  <a:lnTo>
                    <a:pt x="55391" y="29484"/>
                  </a:lnTo>
                  <a:lnTo>
                    <a:pt x="51096" y="38786"/>
                  </a:lnTo>
                  <a:lnTo>
                    <a:pt x="48765" y="43637"/>
                  </a:lnTo>
                  <a:lnTo>
                    <a:pt x="47211" y="49412"/>
                  </a:lnTo>
                  <a:lnTo>
                    <a:pt x="46175" y="55801"/>
                  </a:lnTo>
                  <a:lnTo>
                    <a:pt x="45485" y="62601"/>
                  </a:lnTo>
                  <a:lnTo>
                    <a:pt x="43330" y="69674"/>
                  </a:lnTo>
                  <a:lnTo>
                    <a:pt x="40202" y="76929"/>
                  </a:lnTo>
                  <a:lnTo>
                    <a:pt x="23013" y="110869"/>
                  </a:lnTo>
                  <a:lnTo>
                    <a:pt x="19036" y="119633"/>
                  </a:lnTo>
                  <a:lnTo>
                    <a:pt x="15539" y="128015"/>
                  </a:lnTo>
                  <a:lnTo>
                    <a:pt x="12360" y="136143"/>
                  </a:lnTo>
                  <a:lnTo>
                    <a:pt x="9395" y="144949"/>
                  </a:lnTo>
                  <a:lnTo>
                    <a:pt x="6571" y="154206"/>
                  </a:lnTo>
                  <a:lnTo>
                    <a:pt x="3842" y="163764"/>
                  </a:lnTo>
                  <a:lnTo>
                    <a:pt x="2022" y="173523"/>
                  </a:lnTo>
                  <a:lnTo>
                    <a:pt x="809" y="183415"/>
                  </a:lnTo>
                  <a:lnTo>
                    <a:pt x="0" y="193397"/>
                  </a:lnTo>
                  <a:lnTo>
                    <a:pt x="1155" y="202591"/>
                  </a:lnTo>
                  <a:lnTo>
                    <a:pt x="3617" y="211261"/>
                  </a:lnTo>
                  <a:lnTo>
                    <a:pt x="6952" y="219581"/>
                  </a:lnTo>
                  <a:lnTo>
                    <a:pt x="10023" y="228514"/>
                  </a:lnTo>
                  <a:lnTo>
                    <a:pt x="12916" y="237856"/>
                  </a:lnTo>
                  <a:lnTo>
                    <a:pt x="15692" y="247471"/>
                  </a:lnTo>
                  <a:lnTo>
                    <a:pt x="20929" y="255574"/>
                  </a:lnTo>
                  <a:lnTo>
                    <a:pt x="27807" y="262669"/>
                  </a:lnTo>
                  <a:lnTo>
                    <a:pt x="35779" y="269093"/>
                  </a:lnTo>
                  <a:lnTo>
                    <a:pt x="43634" y="275915"/>
                  </a:lnTo>
                  <a:lnTo>
                    <a:pt x="51410" y="283003"/>
                  </a:lnTo>
                  <a:lnTo>
                    <a:pt x="59134" y="290269"/>
                  </a:lnTo>
                  <a:lnTo>
                    <a:pt x="69364" y="296806"/>
                  </a:lnTo>
                  <a:lnTo>
                    <a:pt x="81264" y="302857"/>
                  </a:lnTo>
                  <a:lnTo>
                    <a:pt x="107186" y="314097"/>
                  </a:lnTo>
                  <a:lnTo>
                    <a:pt x="132818" y="324736"/>
                  </a:lnTo>
                  <a:lnTo>
                    <a:pt x="146426" y="329944"/>
                  </a:lnTo>
                  <a:lnTo>
                    <a:pt x="175093" y="340246"/>
                  </a:lnTo>
                  <a:lnTo>
                    <a:pt x="188157" y="344517"/>
                  </a:lnTo>
                  <a:lnTo>
                    <a:pt x="200252" y="348212"/>
                  </a:lnTo>
                  <a:lnTo>
                    <a:pt x="234603" y="358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MARTInkAnnotation9"/>
            <p:cNvSpPr/>
            <p:nvPr/>
          </p:nvSpPr>
          <p:spPr>
            <a:xfrm>
              <a:off x="3342600" y="2426400"/>
              <a:ext cx="200880" cy="2322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201168" h="232332">
                  <a:moveTo>
                    <a:pt x="25908" y="42213"/>
                  </a:moveTo>
                  <a:lnTo>
                    <a:pt x="25908" y="31607"/>
                  </a:lnTo>
                  <a:lnTo>
                    <a:pt x="26754" y="30062"/>
                  </a:lnTo>
                  <a:lnTo>
                    <a:pt x="28165" y="29033"/>
                  </a:lnTo>
                  <a:lnTo>
                    <a:pt x="29952" y="28346"/>
                  </a:lnTo>
                  <a:lnTo>
                    <a:pt x="31144" y="27042"/>
                  </a:lnTo>
                  <a:lnTo>
                    <a:pt x="31939" y="25326"/>
                  </a:lnTo>
                  <a:lnTo>
                    <a:pt x="32468" y="23335"/>
                  </a:lnTo>
                  <a:lnTo>
                    <a:pt x="33668" y="22008"/>
                  </a:lnTo>
                  <a:lnTo>
                    <a:pt x="35314" y="21123"/>
                  </a:lnTo>
                  <a:lnTo>
                    <a:pt x="41095" y="19293"/>
                  </a:lnTo>
                  <a:lnTo>
                    <a:pt x="52131" y="15657"/>
                  </a:lnTo>
                  <a:lnTo>
                    <a:pt x="56936" y="13503"/>
                  </a:lnTo>
                  <a:lnTo>
                    <a:pt x="60986" y="11219"/>
                  </a:lnTo>
                  <a:lnTo>
                    <a:pt x="64533" y="8851"/>
                  </a:lnTo>
                  <a:lnTo>
                    <a:pt x="68591" y="7272"/>
                  </a:lnTo>
                  <a:lnTo>
                    <a:pt x="72990" y="6218"/>
                  </a:lnTo>
                  <a:lnTo>
                    <a:pt x="77616" y="5517"/>
                  </a:lnTo>
                  <a:lnTo>
                    <a:pt x="82392" y="4202"/>
                  </a:lnTo>
                  <a:lnTo>
                    <a:pt x="87271" y="2479"/>
                  </a:lnTo>
                  <a:lnTo>
                    <a:pt x="92217" y="484"/>
                  </a:lnTo>
                  <a:lnTo>
                    <a:pt x="97207" y="0"/>
                  </a:lnTo>
                  <a:lnTo>
                    <a:pt x="102227" y="524"/>
                  </a:lnTo>
                  <a:lnTo>
                    <a:pt x="107267" y="1721"/>
                  </a:lnTo>
                  <a:lnTo>
                    <a:pt x="111474" y="2518"/>
                  </a:lnTo>
                  <a:lnTo>
                    <a:pt x="115125" y="3050"/>
                  </a:lnTo>
                  <a:lnTo>
                    <a:pt x="118406" y="3404"/>
                  </a:lnTo>
                  <a:lnTo>
                    <a:pt x="124309" y="3798"/>
                  </a:lnTo>
                  <a:lnTo>
                    <a:pt x="127068" y="3903"/>
                  </a:lnTo>
                  <a:lnTo>
                    <a:pt x="129754" y="4820"/>
                  </a:lnTo>
                  <a:lnTo>
                    <a:pt x="134997" y="8096"/>
                  </a:lnTo>
                  <a:lnTo>
                    <a:pt x="136734" y="10155"/>
                  </a:lnTo>
                  <a:lnTo>
                    <a:pt x="137891" y="12374"/>
                  </a:lnTo>
                  <a:lnTo>
                    <a:pt x="138663" y="14700"/>
                  </a:lnTo>
                  <a:lnTo>
                    <a:pt x="138331" y="17945"/>
                  </a:lnTo>
                  <a:lnTo>
                    <a:pt x="137263" y="21801"/>
                  </a:lnTo>
                  <a:lnTo>
                    <a:pt x="135705" y="26065"/>
                  </a:lnTo>
                  <a:lnTo>
                    <a:pt x="133819" y="30601"/>
                  </a:lnTo>
                  <a:lnTo>
                    <a:pt x="131715" y="35318"/>
                  </a:lnTo>
                  <a:lnTo>
                    <a:pt x="129466" y="40157"/>
                  </a:lnTo>
                  <a:lnTo>
                    <a:pt x="126273" y="45922"/>
                  </a:lnTo>
                  <a:lnTo>
                    <a:pt x="122450" y="52306"/>
                  </a:lnTo>
                  <a:lnTo>
                    <a:pt x="118209" y="59102"/>
                  </a:lnTo>
                  <a:lnTo>
                    <a:pt x="113689" y="65325"/>
                  </a:lnTo>
                  <a:lnTo>
                    <a:pt x="108981" y="71168"/>
                  </a:lnTo>
                  <a:lnTo>
                    <a:pt x="104150" y="76756"/>
                  </a:lnTo>
                  <a:lnTo>
                    <a:pt x="98389" y="83022"/>
                  </a:lnTo>
                  <a:lnTo>
                    <a:pt x="85215" y="96757"/>
                  </a:lnTo>
                  <a:lnTo>
                    <a:pt x="77299" y="103129"/>
                  </a:lnTo>
                  <a:lnTo>
                    <a:pt x="68635" y="109070"/>
                  </a:lnTo>
                  <a:lnTo>
                    <a:pt x="59472" y="114725"/>
                  </a:lnTo>
                  <a:lnTo>
                    <a:pt x="51671" y="120187"/>
                  </a:lnTo>
                  <a:lnTo>
                    <a:pt x="44776" y="125523"/>
                  </a:lnTo>
                  <a:lnTo>
                    <a:pt x="38486" y="130773"/>
                  </a:lnTo>
                  <a:lnTo>
                    <a:pt x="32600" y="136813"/>
                  </a:lnTo>
                  <a:lnTo>
                    <a:pt x="26982" y="143380"/>
                  </a:lnTo>
                  <a:lnTo>
                    <a:pt x="21544" y="150297"/>
                  </a:lnTo>
                  <a:lnTo>
                    <a:pt x="17072" y="156603"/>
                  </a:lnTo>
                  <a:lnTo>
                    <a:pt x="13244" y="162499"/>
                  </a:lnTo>
                  <a:lnTo>
                    <a:pt x="9845" y="168124"/>
                  </a:lnTo>
                  <a:lnTo>
                    <a:pt x="6732" y="173567"/>
                  </a:lnTo>
                  <a:lnTo>
                    <a:pt x="1016" y="184130"/>
                  </a:lnTo>
                  <a:lnTo>
                    <a:pt x="0" y="188471"/>
                  </a:lnTo>
                  <a:lnTo>
                    <a:pt x="170" y="192212"/>
                  </a:lnTo>
                  <a:lnTo>
                    <a:pt x="1128" y="195552"/>
                  </a:lnTo>
                  <a:lnTo>
                    <a:pt x="3461" y="198626"/>
                  </a:lnTo>
                  <a:lnTo>
                    <a:pt x="6710" y="201521"/>
                  </a:lnTo>
                  <a:lnTo>
                    <a:pt x="10569" y="204299"/>
                  </a:lnTo>
                  <a:lnTo>
                    <a:pt x="14835" y="207843"/>
                  </a:lnTo>
                  <a:lnTo>
                    <a:pt x="19372" y="211900"/>
                  </a:lnTo>
                  <a:lnTo>
                    <a:pt x="24091" y="216298"/>
                  </a:lnTo>
                  <a:lnTo>
                    <a:pt x="30623" y="219229"/>
                  </a:lnTo>
                  <a:lnTo>
                    <a:pt x="38364" y="221184"/>
                  </a:lnTo>
                  <a:lnTo>
                    <a:pt x="46912" y="222487"/>
                  </a:lnTo>
                  <a:lnTo>
                    <a:pt x="55150" y="224202"/>
                  </a:lnTo>
                  <a:lnTo>
                    <a:pt x="63182" y="226192"/>
                  </a:lnTo>
                  <a:lnTo>
                    <a:pt x="71077" y="228366"/>
                  </a:lnTo>
                  <a:lnTo>
                    <a:pt x="79727" y="229815"/>
                  </a:lnTo>
                  <a:lnTo>
                    <a:pt x="88880" y="230781"/>
                  </a:lnTo>
                  <a:lnTo>
                    <a:pt x="98369" y="231425"/>
                  </a:lnTo>
                  <a:lnTo>
                    <a:pt x="108082" y="231854"/>
                  </a:lnTo>
                  <a:lnTo>
                    <a:pt x="127905" y="232331"/>
                  </a:lnTo>
                  <a:lnTo>
                    <a:pt x="137086" y="231612"/>
                  </a:lnTo>
                  <a:lnTo>
                    <a:pt x="145746" y="230286"/>
                  </a:lnTo>
                  <a:lnTo>
                    <a:pt x="154060" y="228555"/>
                  </a:lnTo>
                  <a:lnTo>
                    <a:pt x="161295" y="227401"/>
                  </a:lnTo>
                  <a:lnTo>
                    <a:pt x="167813" y="226632"/>
                  </a:lnTo>
                  <a:lnTo>
                    <a:pt x="173850" y="226119"/>
                  </a:lnTo>
                  <a:lnTo>
                    <a:pt x="179569" y="225777"/>
                  </a:lnTo>
                  <a:lnTo>
                    <a:pt x="201167" y="2250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MARTInkAnnotation10"/>
            <p:cNvSpPr/>
            <p:nvPr/>
          </p:nvSpPr>
          <p:spPr>
            <a:xfrm>
              <a:off x="3555720" y="2384640"/>
              <a:ext cx="178200" cy="35820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178351" h="358141">
                  <a:moveTo>
                    <a:pt x="102150" y="0"/>
                  </a:moveTo>
                  <a:lnTo>
                    <a:pt x="102150" y="4045"/>
                  </a:lnTo>
                  <a:lnTo>
                    <a:pt x="101304" y="6084"/>
                  </a:lnTo>
                  <a:lnTo>
                    <a:pt x="96067" y="13844"/>
                  </a:lnTo>
                  <a:lnTo>
                    <a:pt x="91544" y="21957"/>
                  </a:lnTo>
                  <a:lnTo>
                    <a:pt x="88306" y="26492"/>
                  </a:lnTo>
                  <a:lnTo>
                    <a:pt x="84454" y="31208"/>
                  </a:lnTo>
                  <a:lnTo>
                    <a:pt x="80193" y="36045"/>
                  </a:lnTo>
                  <a:lnTo>
                    <a:pt x="75659" y="41810"/>
                  </a:lnTo>
                  <a:lnTo>
                    <a:pt x="70943" y="48194"/>
                  </a:lnTo>
                  <a:lnTo>
                    <a:pt x="66105" y="54989"/>
                  </a:lnTo>
                  <a:lnTo>
                    <a:pt x="61187" y="62906"/>
                  </a:lnTo>
                  <a:lnTo>
                    <a:pt x="56215" y="71571"/>
                  </a:lnTo>
                  <a:lnTo>
                    <a:pt x="51207" y="80734"/>
                  </a:lnTo>
                  <a:lnTo>
                    <a:pt x="46174" y="89383"/>
                  </a:lnTo>
                  <a:lnTo>
                    <a:pt x="36068" y="105766"/>
                  </a:lnTo>
                  <a:lnTo>
                    <a:pt x="31002" y="114537"/>
                  </a:lnTo>
                  <a:lnTo>
                    <a:pt x="20857" y="133314"/>
                  </a:lnTo>
                  <a:lnTo>
                    <a:pt x="16628" y="143063"/>
                  </a:lnTo>
                  <a:lnTo>
                    <a:pt x="12962" y="152949"/>
                  </a:lnTo>
                  <a:lnTo>
                    <a:pt x="9672" y="162926"/>
                  </a:lnTo>
                  <a:lnTo>
                    <a:pt x="6631" y="172964"/>
                  </a:lnTo>
                  <a:lnTo>
                    <a:pt x="995" y="193148"/>
                  </a:lnTo>
                  <a:lnTo>
                    <a:pt x="0" y="202426"/>
                  </a:lnTo>
                  <a:lnTo>
                    <a:pt x="184" y="211151"/>
                  </a:lnTo>
                  <a:lnTo>
                    <a:pt x="1152" y="219507"/>
                  </a:lnTo>
                  <a:lnTo>
                    <a:pt x="3492" y="228465"/>
                  </a:lnTo>
                  <a:lnTo>
                    <a:pt x="6744" y="237823"/>
                  </a:lnTo>
                  <a:lnTo>
                    <a:pt x="10606" y="247449"/>
                  </a:lnTo>
                  <a:lnTo>
                    <a:pt x="15721" y="256406"/>
                  </a:lnTo>
                  <a:lnTo>
                    <a:pt x="21671" y="264917"/>
                  </a:lnTo>
                  <a:lnTo>
                    <a:pt x="28177" y="273132"/>
                  </a:lnTo>
                  <a:lnTo>
                    <a:pt x="35902" y="281148"/>
                  </a:lnTo>
                  <a:lnTo>
                    <a:pt x="44437" y="289032"/>
                  </a:lnTo>
                  <a:lnTo>
                    <a:pt x="53515" y="296828"/>
                  </a:lnTo>
                  <a:lnTo>
                    <a:pt x="62954" y="303719"/>
                  </a:lnTo>
                  <a:lnTo>
                    <a:pt x="72632" y="310006"/>
                  </a:lnTo>
                  <a:lnTo>
                    <a:pt x="82471" y="315890"/>
                  </a:lnTo>
                  <a:lnTo>
                    <a:pt x="93264" y="321507"/>
                  </a:lnTo>
                  <a:lnTo>
                    <a:pt x="104694" y="326945"/>
                  </a:lnTo>
                  <a:lnTo>
                    <a:pt x="126140" y="336655"/>
                  </a:lnTo>
                  <a:lnTo>
                    <a:pt x="141317" y="343793"/>
                  </a:lnTo>
                  <a:lnTo>
                    <a:pt x="148581" y="346883"/>
                  </a:lnTo>
                  <a:lnTo>
                    <a:pt x="155965" y="349788"/>
                  </a:lnTo>
                  <a:lnTo>
                    <a:pt x="178350" y="358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MARTInkAnnotation11"/>
            <p:cNvSpPr/>
            <p:nvPr/>
          </p:nvSpPr>
          <p:spPr>
            <a:xfrm>
              <a:off x="3597120" y="254484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7620"/>
                  </a:moveTo>
                  <a:lnTo>
                    <a:pt x="4045" y="7620"/>
                  </a:lnTo>
                  <a:lnTo>
                    <a:pt x="7777" y="6774"/>
                  </a:lnTo>
                  <a:lnTo>
                    <a:pt x="12805" y="5362"/>
                  </a:lnTo>
                  <a:lnTo>
                    <a:pt x="26989" y="1059"/>
                  </a:lnTo>
                  <a:lnTo>
                    <a:pt x="31539" y="706"/>
                  </a:lnTo>
                  <a:lnTo>
                    <a:pt x="37959" y="471"/>
                  </a:lnTo>
                  <a:lnTo>
                    <a:pt x="60918" y="140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MARTInkAnnotation12"/>
            <p:cNvSpPr/>
            <p:nvPr/>
          </p:nvSpPr>
          <p:spPr>
            <a:xfrm>
              <a:off x="3764520" y="2468520"/>
              <a:ext cx="195840" cy="21312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96104" h="213319">
                  <a:moveTo>
                    <a:pt x="60960" y="22857"/>
                  </a:moveTo>
                  <a:lnTo>
                    <a:pt x="60960" y="18812"/>
                  </a:lnTo>
                  <a:lnTo>
                    <a:pt x="61806" y="17620"/>
                  </a:lnTo>
                  <a:lnTo>
                    <a:pt x="63217" y="16826"/>
                  </a:lnTo>
                  <a:lnTo>
                    <a:pt x="65004" y="16297"/>
                  </a:lnTo>
                  <a:lnTo>
                    <a:pt x="69249" y="13450"/>
                  </a:lnTo>
                  <a:lnTo>
                    <a:pt x="71566" y="11506"/>
                  </a:lnTo>
                  <a:lnTo>
                    <a:pt x="73957" y="10210"/>
                  </a:lnTo>
                  <a:lnTo>
                    <a:pt x="78872" y="8769"/>
                  </a:lnTo>
                  <a:lnTo>
                    <a:pt x="83879" y="5872"/>
                  </a:lnTo>
                  <a:lnTo>
                    <a:pt x="86399" y="3914"/>
                  </a:lnTo>
                  <a:lnTo>
                    <a:pt x="89773" y="2608"/>
                  </a:lnTo>
                  <a:lnTo>
                    <a:pt x="93715" y="1738"/>
                  </a:lnTo>
                  <a:lnTo>
                    <a:pt x="98037" y="1158"/>
                  </a:lnTo>
                  <a:lnTo>
                    <a:pt x="102611" y="771"/>
                  </a:lnTo>
                  <a:lnTo>
                    <a:pt x="107354" y="513"/>
                  </a:lnTo>
                  <a:lnTo>
                    <a:pt x="119862" y="150"/>
                  </a:lnTo>
                  <a:lnTo>
                    <a:pt x="144823" y="17"/>
                  </a:lnTo>
                  <a:lnTo>
                    <a:pt x="157852" y="0"/>
                  </a:lnTo>
                  <a:lnTo>
                    <a:pt x="158574" y="846"/>
                  </a:lnTo>
                  <a:lnTo>
                    <a:pt x="159056" y="2256"/>
                  </a:lnTo>
                  <a:lnTo>
                    <a:pt x="159378" y="4043"/>
                  </a:lnTo>
                  <a:lnTo>
                    <a:pt x="158745" y="6081"/>
                  </a:lnTo>
                  <a:lnTo>
                    <a:pt x="155785" y="10603"/>
                  </a:lnTo>
                  <a:lnTo>
                    <a:pt x="151646" y="15435"/>
                  </a:lnTo>
                  <a:lnTo>
                    <a:pt x="149357" y="17909"/>
                  </a:lnTo>
                  <a:lnTo>
                    <a:pt x="145291" y="20405"/>
                  </a:lnTo>
                  <a:lnTo>
                    <a:pt x="140041" y="22916"/>
                  </a:lnTo>
                  <a:lnTo>
                    <a:pt x="134000" y="25436"/>
                  </a:lnTo>
                  <a:lnTo>
                    <a:pt x="127433" y="27963"/>
                  </a:lnTo>
                  <a:lnTo>
                    <a:pt x="113364" y="33029"/>
                  </a:lnTo>
                  <a:lnTo>
                    <a:pt x="91163" y="40641"/>
                  </a:lnTo>
                  <a:lnTo>
                    <a:pt x="84482" y="44026"/>
                  </a:lnTo>
                  <a:lnTo>
                    <a:pt x="78334" y="47977"/>
                  </a:lnTo>
                  <a:lnTo>
                    <a:pt x="72543" y="52303"/>
                  </a:lnTo>
                  <a:lnTo>
                    <a:pt x="67836" y="56035"/>
                  </a:lnTo>
                  <a:lnTo>
                    <a:pt x="63850" y="59369"/>
                  </a:lnTo>
                  <a:lnTo>
                    <a:pt x="60347" y="62438"/>
                  </a:lnTo>
                  <a:lnTo>
                    <a:pt x="54196" y="68107"/>
                  </a:lnTo>
                  <a:lnTo>
                    <a:pt x="51371" y="70803"/>
                  </a:lnTo>
                  <a:lnTo>
                    <a:pt x="49487" y="73448"/>
                  </a:lnTo>
                  <a:lnTo>
                    <a:pt x="47394" y="78644"/>
                  </a:lnTo>
                  <a:lnTo>
                    <a:pt x="47683" y="81215"/>
                  </a:lnTo>
                  <a:lnTo>
                    <a:pt x="48722" y="83776"/>
                  </a:lnTo>
                  <a:lnTo>
                    <a:pt x="52134" y="88879"/>
                  </a:lnTo>
                  <a:lnTo>
                    <a:pt x="56473" y="93969"/>
                  </a:lnTo>
                  <a:lnTo>
                    <a:pt x="60509" y="95665"/>
                  </a:lnTo>
                  <a:lnTo>
                    <a:pt x="65739" y="96796"/>
                  </a:lnTo>
                  <a:lnTo>
                    <a:pt x="71766" y="97550"/>
                  </a:lnTo>
                  <a:lnTo>
                    <a:pt x="78324" y="98899"/>
                  </a:lnTo>
                  <a:lnTo>
                    <a:pt x="85236" y="100645"/>
                  </a:lnTo>
                  <a:lnTo>
                    <a:pt x="92384" y="102656"/>
                  </a:lnTo>
                  <a:lnTo>
                    <a:pt x="99690" y="105690"/>
                  </a:lnTo>
                  <a:lnTo>
                    <a:pt x="107100" y="109406"/>
                  </a:lnTo>
                  <a:lnTo>
                    <a:pt x="114580" y="113576"/>
                  </a:lnTo>
                  <a:lnTo>
                    <a:pt x="122953" y="117203"/>
                  </a:lnTo>
                  <a:lnTo>
                    <a:pt x="131922" y="120468"/>
                  </a:lnTo>
                  <a:lnTo>
                    <a:pt x="141288" y="123491"/>
                  </a:lnTo>
                  <a:lnTo>
                    <a:pt x="149225" y="126353"/>
                  </a:lnTo>
                  <a:lnTo>
                    <a:pt x="156211" y="129108"/>
                  </a:lnTo>
                  <a:lnTo>
                    <a:pt x="162560" y="131791"/>
                  </a:lnTo>
                  <a:lnTo>
                    <a:pt x="174132" y="137030"/>
                  </a:lnTo>
                  <a:lnTo>
                    <a:pt x="179588" y="139612"/>
                  </a:lnTo>
                  <a:lnTo>
                    <a:pt x="184072" y="142181"/>
                  </a:lnTo>
                  <a:lnTo>
                    <a:pt x="187908" y="144739"/>
                  </a:lnTo>
                  <a:lnTo>
                    <a:pt x="191312" y="147292"/>
                  </a:lnTo>
                  <a:lnTo>
                    <a:pt x="193582" y="150687"/>
                  </a:lnTo>
                  <a:lnTo>
                    <a:pt x="195094" y="154644"/>
                  </a:lnTo>
                  <a:lnTo>
                    <a:pt x="196103" y="158975"/>
                  </a:lnTo>
                  <a:lnTo>
                    <a:pt x="195929" y="162709"/>
                  </a:lnTo>
                  <a:lnTo>
                    <a:pt x="194966" y="166045"/>
                  </a:lnTo>
                  <a:lnTo>
                    <a:pt x="191638" y="172010"/>
                  </a:lnTo>
                  <a:lnTo>
                    <a:pt x="187337" y="177483"/>
                  </a:lnTo>
                  <a:lnTo>
                    <a:pt x="184158" y="180128"/>
                  </a:lnTo>
                  <a:lnTo>
                    <a:pt x="180345" y="182738"/>
                  </a:lnTo>
                  <a:lnTo>
                    <a:pt x="176110" y="185324"/>
                  </a:lnTo>
                  <a:lnTo>
                    <a:pt x="171593" y="187895"/>
                  </a:lnTo>
                  <a:lnTo>
                    <a:pt x="162059" y="193010"/>
                  </a:lnTo>
                  <a:lnTo>
                    <a:pt x="156299" y="195559"/>
                  </a:lnTo>
                  <a:lnTo>
                    <a:pt x="149920" y="198105"/>
                  </a:lnTo>
                  <a:lnTo>
                    <a:pt x="143126" y="200649"/>
                  </a:lnTo>
                  <a:lnTo>
                    <a:pt x="135211" y="203192"/>
                  </a:lnTo>
                  <a:lnTo>
                    <a:pt x="126547" y="205734"/>
                  </a:lnTo>
                  <a:lnTo>
                    <a:pt x="117385" y="208275"/>
                  </a:lnTo>
                  <a:lnTo>
                    <a:pt x="109583" y="209969"/>
                  </a:lnTo>
                  <a:lnTo>
                    <a:pt x="102689" y="211099"/>
                  </a:lnTo>
                  <a:lnTo>
                    <a:pt x="96399" y="211851"/>
                  </a:lnTo>
                  <a:lnTo>
                    <a:pt x="88820" y="212353"/>
                  </a:lnTo>
                  <a:lnTo>
                    <a:pt x="80380" y="212688"/>
                  </a:lnTo>
                  <a:lnTo>
                    <a:pt x="56836" y="213159"/>
                  </a:lnTo>
                  <a:lnTo>
                    <a:pt x="33710" y="213318"/>
                  </a:lnTo>
                  <a:lnTo>
                    <a:pt x="28401" y="211638"/>
                  </a:lnTo>
                  <a:lnTo>
                    <a:pt x="23167" y="208824"/>
                  </a:lnTo>
                  <a:lnTo>
                    <a:pt x="17985" y="205256"/>
                  </a:lnTo>
                  <a:lnTo>
                    <a:pt x="13684" y="202876"/>
                  </a:lnTo>
                  <a:lnTo>
                    <a:pt x="9969" y="201290"/>
                  </a:lnTo>
                  <a:lnTo>
                    <a:pt x="0" y="198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MARTInkAnnotation13"/>
            <p:cNvSpPr/>
            <p:nvPr/>
          </p:nvSpPr>
          <p:spPr>
            <a:xfrm>
              <a:off x="3993120" y="2384640"/>
              <a:ext cx="98640" cy="327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98796" h="327661">
                  <a:moveTo>
                    <a:pt x="7620" y="0"/>
                  </a:moveTo>
                  <a:lnTo>
                    <a:pt x="7620" y="4045"/>
                  </a:lnTo>
                  <a:lnTo>
                    <a:pt x="8466" y="6084"/>
                  </a:lnTo>
                  <a:lnTo>
                    <a:pt x="9878" y="8289"/>
                  </a:lnTo>
                  <a:lnTo>
                    <a:pt x="11665" y="10606"/>
                  </a:lnTo>
                  <a:lnTo>
                    <a:pt x="13703" y="12998"/>
                  </a:lnTo>
                  <a:lnTo>
                    <a:pt x="15909" y="15438"/>
                  </a:lnTo>
                  <a:lnTo>
                    <a:pt x="18226" y="17912"/>
                  </a:lnTo>
                  <a:lnTo>
                    <a:pt x="20617" y="22102"/>
                  </a:lnTo>
                  <a:lnTo>
                    <a:pt x="23058" y="27434"/>
                  </a:lnTo>
                  <a:lnTo>
                    <a:pt x="25532" y="33530"/>
                  </a:lnTo>
                  <a:lnTo>
                    <a:pt x="29722" y="40133"/>
                  </a:lnTo>
                  <a:lnTo>
                    <a:pt x="35055" y="47075"/>
                  </a:lnTo>
                  <a:lnTo>
                    <a:pt x="41150" y="54244"/>
                  </a:lnTo>
                  <a:lnTo>
                    <a:pt x="46907" y="63256"/>
                  </a:lnTo>
                  <a:lnTo>
                    <a:pt x="52438" y="73497"/>
                  </a:lnTo>
                  <a:lnTo>
                    <a:pt x="73482" y="116306"/>
                  </a:lnTo>
                  <a:lnTo>
                    <a:pt x="78621" y="127491"/>
                  </a:lnTo>
                  <a:lnTo>
                    <a:pt x="88847" y="151207"/>
                  </a:lnTo>
                  <a:lnTo>
                    <a:pt x="92252" y="162612"/>
                  </a:lnTo>
                  <a:lnTo>
                    <a:pt x="94521" y="173601"/>
                  </a:lnTo>
                  <a:lnTo>
                    <a:pt x="96034" y="184314"/>
                  </a:lnTo>
                  <a:lnTo>
                    <a:pt x="97042" y="194843"/>
                  </a:lnTo>
                  <a:lnTo>
                    <a:pt x="97715" y="205249"/>
                  </a:lnTo>
                  <a:lnTo>
                    <a:pt x="98163" y="215572"/>
                  </a:lnTo>
                  <a:lnTo>
                    <a:pt x="98662" y="236074"/>
                  </a:lnTo>
                  <a:lnTo>
                    <a:pt x="98795" y="246283"/>
                  </a:lnTo>
                  <a:lnTo>
                    <a:pt x="97189" y="255629"/>
                  </a:lnTo>
                  <a:lnTo>
                    <a:pt x="94427" y="264399"/>
                  </a:lnTo>
                  <a:lnTo>
                    <a:pt x="90892" y="272786"/>
                  </a:lnTo>
                  <a:lnTo>
                    <a:pt x="86841" y="280071"/>
                  </a:lnTo>
                  <a:lnTo>
                    <a:pt x="82448" y="286621"/>
                  </a:lnTo>
                  <a:lnTo>
                    <a:pt x="77825" y="292680"/>
                  </a:lnTo>
                  <a:lnTo>
                    <a:pt x="72203" y="298414"/>
                  </a:lnTo>
                  <a:lnTo>
                    <a:pt x="65916" y="303929"/>
                  </a:lnTo>
                  <a:lnTo>
                    <a:pt x="59184" y="309300"/>
                  </a:lnTo>
                  <a:lnTo>
                    <a:pt x="52156" y="312880"/>
                  </a:lnTo>
                  <a:lnTo>
                    <a:pt x="44930" y="315267"/>
                  </a:lnTo>
                  <a:lnTo>
                    <a:pt x="37574" y="316858"/>
                  </a:lnTo>
                  <a:lnTo>
                    <a:pt x="31822" y="318765"/>
                  </a:lnTo>
                  <a:lnTo>
                    <a:pt x="27142" y="320884"/>
                  </a:lnTo>
                  <a:lnTo>
                    <a:pt x="23174" y="323142"/>
                  </a:lnTo>
                  <a:lnTo>
                    <a:pt x="18837" y="324648"/>
                  </a:lnTo>
                  <a:lnTo>
                    <a:pt x="14251" y="325652"/>
                  </a:lnTo>
                  <a:lnTo>
                    <a:pt x="0" y="327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MARTInkAnnotation14"/>
            <p:cNvSpPr/>
            <p:nvPr/>
          </p:nvSpPr>
          <p:spPr>
            <a:xfrm>
              <a:off x="4160880" y="2300760"/>
              <a:ext cx="136080" cy="4572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36166" h="45720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5237" y="8607"/>
                  </a:lnTo>
                  <a:lnTo>
                    <a:pt x="6561" y="15397"/>
                  </a:lnTo>
                  <a:lnTo>
                    <a:pt x="8608" y="19578"/>
                  </a:lnTo>
                  <a:lnTo>
                    <a:pt x="11665" y="24058"/>
                  </a:lnTo>
                  <a:lnTo>
                    <a:pt x="15397" y="28739"/>
                  </a:lnTo>
                  <a:lnTo>
                    <a:pt x="19578" y="34399"/>
                  </a:lnTo>
                  <a:lnTo>
                    <a:pt x="28739" y="47462"/>
                  </a:lnTo>
                  <a:lnTo>
                    <a:pt x="34400" y="54501"/>
                  </a:lnTo>
                  <a:lnTo>
                    <a:pt x="40713" y="61734"/>
                  </a:lnTo>
                  <a:lnTo>
                    <a:pt x="47462" y="69096"/>
                  </a:lnTo>
                  <a:lnTo>
                    <a:pt x="54501" y="78237"/>
                  </a:lnTo>
                  <a:lnTo>
                    <a:pt x="61735" y="88565"/>
                  </a:lnTo>
                  <a:lnTo>
                    <a:pt x="69096" y="99683"/>
                  </a:lnTo>
                  <a:lnTo>
                    <a:pt x="75698" y="110482"/>
                  </a:lnTo>
                  <a:lnTo>
                    <a:pt x="81792" y="121068"/>
                  </a:lnTo>
                  <a:lnTo>
                    <a:pt x="87548" y="131512"/>
                  </a:lnTo>
                  <a:lnTo>
                    <a:pt x="100717" y="156663"/>
                  </a:lnTo>
                  <a:lnTo>
                    <a:pt x="107785" y="170482"/>
                  </a:lnTo>
                  <a:lnTo>
                    <a:pt x="114190" y="184775"/>
                  </a:lnTo>
                  <a:lnTo>
                    <a:pt x="120153" y="199383"/>
                  </a:lnTo>
                  <a:lnTo>
                    <a:pt x="125822" y="214202"/>
                  </a:lnTo>
                  <a:lnTo>
                    <a:pt x="129602" y="228315"/>
                  </a:lnTo>
                  <a:lnTo>
                    <a:pt x="132121" y="241956"/>
                  </a:lnTo>
                  <a:lnTo>
                    <a:pt x="133801" y="255284"/>
                  </a:lnTo>
                  <a:lnTo>
                    <a:pt x="134920" y="268403"/>
                  </a:lnTo>
                  <a:lnTo>
                    <a:pt x="135667" y="281382"/>
                  </a:lnTo>
                  <a:lnTo>
                    <a:pt x="136165" y="294268"/>
                  </a:lnTo>
                  <a:lnTo>
                    <a:pt x="134803" y="307092"/>
                  </a:lnTo>
                  <a:lnTo>
                    <a:pt x="132202" y="319874"/>
                  </a:lnTo>
                  <a:lnTo>
                    <a:pt x="128774" y="332629"/>
                  </a:lnTo>
                  <a:lnTo>
                    <a:pt x="124797" y="344520"/>
                  </a:lnTo>
                  <a:lnTo>
                    <a:pt x="120451" y="355833"/>
                  </a:lnTo>
                  <a:lnTo>
                    <a:pt x="115861" y="366762"/>
                  </a:lnTo>
                  <a:lnTo>
                    <a:pt x="110261" y="377434"/>
                  </a:lnTo>
                  <a:lnTo>
                    <a:pt x="103987" y="387936"/>
                  </a:lnTo>
                  <a:lnTo>
                    <a:pt x="97265" y="398324"/>
                  </a:lnTo>
                  <a:lnTo>
                    <a:pt x="89397" y="407789"/>
                  </a:lnTo>
                  <a:lnTo>
                    <a:pt x="80765" y="416639"/>
                  </a:lnTo>
                  <a:lnTo>
                    <a:pt x="59208" y="436715"/>
                  </a:lnTo>
                  <a:lnTo>
                    <a:pt x="54712" y="441003"/>
                  </a:lnTo>
                  <a:lnTo>
                    <a:pt x="50021" y="444709"/>
                  </a:lnTo>
                  <a:lnTo>
                    <a:pt x="45201" y="448026"/>
                  </a:lnTo>
                  <a:lnTo>
                    <a:pt x="30480" y="457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MARTInkAnnotation15"/>
            <p:cNvSpPr/>
            <p:nvPr/>
          </p:nvSpPr>
          <p:spPr>
            <a:xfrm>
              <a:off x="4496040" y="2453400"/>
              <a:ext cx="15120" cy="2361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5242" h="236221">
                  <a:moveTo>
                    <a:pt x="0" y="0"/>
                  </a:moveTo>
                  <a:lnTo>
                    <a:pt x="0" y="95944"/>
                  </a:lnTo>
                  <a:lnTo>
                    <a:pt x="846" y="104602"/>
                  </a:lnTo>
                  <a:lnTo>
                    <a:pt x="2258" y="112915"/>
                  </a:lnTo>
                  <a:lnTo>
                    <a:pt x="4045" y="120997"/>
                  </a:lnTo>
                  <a:lnTo>
                    <a:pt x="5237" y="128924"/>
                  </a:lnTo>
                  <a:lnTo>
                    <a:pt x="6032" y="136750"/>
                  </a:lnTo>
                  <a:lnTo>
                    <a:pt x="6561" y="144506"/>
                  </a:lnTo>
                  <a:lnTo>
                    <a:pt x="6914" y="152218"/>
                  </a:lnTo>
                  <a:lnTo>
                    <a:pt x="7306" y="167559"/>
                  </a:lnTo>
                  <a:lnTo>
                    <a:pt x="7608" y="216932"/>
                  </a:lnTo>
                  <a:lnTo>
                    <a:pt x="7612" y="220822"/>
                  </a:lnTo>
                  <a:lnTo>
                    <a:pt x="8461" y="224261"/>
                  </a:lnTo>
                  <a:lnTo>
                    <a:pt x="9874" y="227401"/>
                  </a:lnTo>
                  <a:lnTo>
                    <a:pt x="15241" y="236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MARTInkAnnotation16"/>
            <p:cNvSpPr/>
            <p:nvPr/>
          </p:nvSpPr>
          <p:spPr>
            <a:xfrm>
              <a:off x="4404600" y="2575080"/>
              <a:ext cx="159840" cy="7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0021" h="7621">
                  <a:moveTo>
                    <a:pt x="0" y="7620"/>
                  </a:moveTo>
                  <a:lnTo>
                    <a:pt x="17911" y="7620"/>
                  </a:lnTo>
                  <a:lnTo>
                    <a:pt x="21254" y="6773"/>
                  </a:lnTo>
                  <a:lnTo>
                    <a:pt x="25176" y="5362"/>
                  </a:lnTo>
                  <a:lnTo>
                    <a:pt x="29484" y="3575"/>
                  </a:lnTo>
                  <a:lnTo>
                    <a:pt x="34896" y="2383"/>
                  </a:lnTo>
                  <a:lnTo>
                    <a:pt x="41044" y="1589"/>
                  </a:lnTo>
                  <a:lnTo>
                    <a:pt x="47682" y="1059"/>
                  </a:lnTo>
                  <a:lnTo>
                    <a:pt x="55495" y="706"/>
                  </a:lnTo>
                  <a:lnTo>
                    <a:pt x="73206" y="314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SMARTInkAnnotation17"/>
            <p:cNvSpPr/>
            <p:nvPr/>
          </p:nvSpPr>
          <p:spPr>
            <a:xfrm>
              <a:off x="4772520" y="2422800"/>
              <a:ext cx="203760" cy="30492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03791" h="304801">
                  <a:moveTo>
                    <a:pt x="119970" y="0"/>
                  </a:moveTo>
                  <a:lnTo>
                    <a:pt x="115925" y="0"/>
                  </a:lnTo>
                  <a:lnTo>
                    <a:pt x="114733" y="847"/>
                  </a:lnTo>
                  <a:lnTo>
                    <a:pt x="113939" y="2258"/>
                  </a:lnTo>
                  <a:lnTo>
                    <a:pt x="113409" y="4045"/>
                  </a:lnTo>
                  <a:lnTo>
                    <a:pt x="112209" y="5237"/>
                  </a:lnTo>
                  <a:lnTo>
                    <a:pt x="110562" y="6031"/>
                  </a:lnTo>
                  <a:lnTo>
                    <a:pt x="108618" y="6561"/>
                  </a:lnTo>
                  <a:lnTo>
                    <a:pt x="104200" y="9407"/>
                  </a:lnTo>
                  <a:lnTo>
                    <a:pt x="98568" y="14341"/>
                  </a:lnTo>
                  <a:lnTo>
                    <a:pt x="90420" y="22178"/>
                  </a:lnTo>
                  <a:lnTo>
                    <a:pt x="85877" y="27486"/>
                  </a:lnTo>
                  <a:lnTo>
                    <a:pt x="81154" y="33564"/>
                  </a:lnTo>
                  <a:lnTo>
                    <a:pt x="76313" y="40156"/>
                  </a:lnTo>
                  <a:lnTo>
                    <a:pt x="71392" y="46244"/>
                  </a:lnTo>
                  <a:lnTo>
                    <a:pt x="66418" y="51996"/>
                  </a:lnTo>
                  <a:lnTo>
                    <a:pt x="61409" y="57524"/>
                  </a:lnTo>
                  <a:lnTo>
                    <a:pt x="56376" y="63749"/>
                  </a:lnTo>
                  <a:lnTo>
                    <a:pt x="51327" y="70440"/>
                  </a:lnTo>
                  <a:lnTo>
                    <a:pt x="41202" y="84647"/>
                  </a:lnTo>
                  <a:lnTo>
                    <a:pt x="31058" y="99427"/>
                  </a:lnTo>
                  <a:lnTo>
                    <a:pt x="25981" y="107772"/>
                  </a:lnTo>
                  <a:lnTo>
                    <a:pt x="20904" y="116721"/>
                  </a:lnTo>
                  <a:lnTo>
                    <a:pt x="15827" y="126074"/>
                  </a:lnTo>
                  <a:lnTo>
                    <a:pt x="11594" y="134849"/>
                  </a:lnTo>
                  <a:lnTo>
                    <a:pt x="7926" y="143240"/>
                  </a:lnTo>
                  <a:lnTo>
                    <a:pt x="4633" y="151373"/>
                  </a:lnTo>
                  <a:lnTo>
                    <a:pt x="2439" y="159336"/>
                  </a:lnTo>
                  <a:lnTo>
                    <a:pt x="976" y="167184"/>
                  </a:lnTo>
                  <a:lnTo>
                    <a:pt x="0" y="174956"/>
                  </a:lnTo>
                  <a:lnTo>
                    <a:pt x="197" y="182677"/>
                  </a:lnTo>
                  <a:lnTo>
                    <a:pt x="1175" y="190365"/>
                  </a:lnTo>
                  <a:lnTo>
                    <a:pt x="2673" y="198030"/>
                  </a:lnTo>
                  <a:lnTo>
                    <a:pt x="5366" y="205680"/>
                  </a:lnTo>
                  <a:lnTo>
                    <a:pt x="8854" y="213320"/>
                  </a:lnTo>
                  <a:lnTo>
                    <a:pt x="12872" y="220953"/>
                  </a:lnTo>
                  <a:lnTo>
                    <a:pt x="18091" y="228582"/>
                  </a:lnTo>
                  <a:lnTo>
                    <a:pt x="24111" y="236208"/>
                  </a:lnTo>
                  <a:lnTo>
                    <a:pt x="30664" y="243832"/>
                  </a:lnTo>
                  <a:lnTo>
                    <a:pt x="37573" y="250608"/>
                  </a:lnTo>
                  <a:lnTo>
                    <a:pt x="44718" y="256819"/>
                  </a:lnTo>
                  <a:lnTo>
                    <a:pt x="52022" y="262653"/>
                  </a:lnTo>
                  <a:lnTo>
                    <a:pt x="61125" y="268235"/>
                  </a:lnTo>
                  <a:lnTo>
                    <a:pt x="71427" y="273650"/>
                  </a:lnTo>
                  <a:lnTo>
                    <a:pt x="82527" y="278954"/>
                  </a:lnTo>
                  <a:lnTo>
                    <a:pt x="94161" y="283336"/>
                  </a:lnTo>
                  <a:lnTo>
                    <a:pt x="106151" y="287104"/>
                  </a:lnTo>
                  <a:lnTo>
                    <a:pt x="118377" y="290463"/>
                  </a:lnTo>
                  <a:lnTo>
                    <a:pt x="130762" y="293549"/>
                  </a:lnTo>
                  <a:lnTo>
                    <a:pt x="155811" y="299235"/>
                  </a:lnTo>
                  <a:lnTo>
                    <a:pt x="166724" y="301090"/>
                  </a:lnTo>
                  <a:lnTo>
                    <a:pt x="176539" y="302327"/>
                  </a:lnTo>
                  <a:lnTo>
                    <a:pt x="203790" y="3048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MARTInkAnnotation18"/>
            <p:cNvSpPr/>
            <p:nvPr/>
          </p:nvSpPr>
          <p:spPr>
            <a:xfrm>
              <a:off x="4930560" y="252180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0"/>
                  </a:moveTo>
                  <a:lnTo>
                    <a:pt x="76131" y="0"/>
                  </a:lnTo>
                  <a:lnTo>
                    <a:pt x="80387" y="847"/>
                  </a:lnTo>
                  <a:lnTo>
                    <a:pt x="84918" y="2258"/>
                  </a:lnTo>
                  <a:lnTo>
                    <a:pt x="9906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MARTInkAnnotation19"/>
            <p:cNvSpPr/>
            <p:nvPr/>
          </p:nvSpPr>
          <p:spPr>
            <a:xfrm>
              <a:off x="5068080" y="2460960"/>
              <a:ext cx="196920" cy="20556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97076" h="205608">
                  <a:moveTo>
                    <a:pt x="60513" y="0"/>
                  </a:moveTo>
                  <a:lnTo>
                    <a:pt x="49161" y="11352"/>
                  </a:lnTo>
                  <a:lnTo>
                    <a:pt x="47865" y="13495"/>
                  </a:lnTo>
                  <a:lnTo>
                    <a:pt x="46424" y="18133"/>
                  </a:lnTo>
                  <a:lnTo>
                    <a:pt x="44347" y="20555"/>
                  </a:lnTo>
                  <a:lnTo>
                    <a:pt x="41269" y="23017"/>
                  </a:lnTo>
                  <a:lnTo>
                    <a:pt x="37524" y="25504"/>
                  </a:lnTo>
                  <a:lnTo>
                    <a:pt x="34180" y="28010"/>
                  </a:lnTo>
                  <a:lnTo>
                    <a:pt x="28207" y="33051"/>
                  </a:lnTo>
                  <a:lnTo>
                    <a:pt x="25429" y="36427"/>
                  </a:lnTo>
                  <a:lnTo>
                    <a:pt x="22730" y="40372"/>
                  </a:lnTo>
                  <a:lnTo>
                    <a:pt x="20084" y="44694"/>
                  </a:lnTo>
                  <a:lnTo>
                    <a:pt x="17474" y="48423"/>
                  </a:lnTo>
                  <a:lnTo>
                    <a:pt x="12316" y="54824"/>
                  </a:lnTo>
                  <a:lnTo>
                    <a:pt x="7200" y="60490"/>
                  </a:lnTo>
                  <a:lnTo>
                    <a:pt x="4652" y="63187"/>
                  </a:lnTo>
                  <a:lnTo>
                    <a:pt x="2952" y="65831"/>
                  </a:lnTo>
                  <a:lnTo>
                    <a:pt x="1063" y="71027"/>
                  </a:lnTo>
                  <a:lnTo>
                    <a:pt x="0" y="74667"/>
                  </a:lnTo>
                  <a:lnTo>
                    <a:pt x="698" y="76025"/>
                  </a:lnTo>
                  <a:lnTo>
                    <a:pt x="5724" y="81981"/>
                  </a:lnTo>
                  <a:lnTo>
                    <a:pt x="10198" y="86672"/>
                  </a:lnTo>
                  <a:lnTo>
                    <a:pt x="13423" y="88261"/>
                  </a:lnTo>
                  <a:lnTo>
                    <a:pt x="17266" y="89321"/>
                  </a:lnTo>
                  <a:lnTo>
                    <a:pt x="21522" y="90027"/>
                  </a:lnTo>
                  <a:lnTo>
                    <a:pt x="27745" y="90498"/>
                  </a:lnTo>
                  <a:lnTo>
                    <a:pt x="35281" y="90812"/>
                  </a:lnTo>
                  <a:lnTo>
                    <a:pt x="43691" y="91021"/>
                  </a:lnTo>
                  <a:lnTo>
                    <a:pt x="51839" y="92008"/>
                  </a:lnTo>
                  <a:lnTo>
                    <a:pt x="59810" y="93512"/>
                  </a:lnTo>
                  <a:lnTo>
                    <a:pt x="67664" y="95361"/>
                  </a:lnTo>
                  <a:lnTo>
                    <a:pt x="75440" y="97441"/>
                  </a:lnTo>
                  <a:lnTo>
                    <a:pt x="90853" y="102009"/>
                  </a:lnTo>
                  <a:lnTo>
                    <a:pt x="98520" y="103566"/>
                  </a:lnTo>
                  <a:lnTo>
                    <a:pt x="106171" y="104604"/>
                  </a:lnTo>
                  <a:lnTo>
                    <a:pt x="113812" y="105296"/>
                  </a:lnTo>
                  <a:lnTo>
                    <a:pt x="122292" y="106604"/>
                  </a:lnTo>
                  <a:lnTo>
                    <a:pt x="131332" y="108323"/>
                  </a:lnTo>
                  <a:lnTo>
                    <a:pt x="140746" y="110315"/>
                  </a:lnTo>
                  <a:lnTo>
                    <a:pt x="148715" y="112490"/>
                  </a:lnTo>
                  <a:lnTo>
                    <a:pt x="155720" y="114787"/>
                  </a:lnTo>
                  <a:lnTo>
                    <a:pt x="162084" y="117165"/>
                  </a:lnTo>
                  <a:lnTo>
                    <a:pt x="168020" y="120443"/>
                  </a:lnTo>
                  <a:lnTo>
                    <a:pt x="173671" y="124322"/>
                  </a:lnTo>
                  <a:lnTo>
                    <a:pt x="179132" y="128601"/>
                  </a:lnTo>
                  <a:lnTo>
                    <a:pt x="183619" y="132301"/>
                  </a:lnTo>
                  <a:lnTo>
                    <a:pt x="187457" y="135614"/>
                  </a:lnTo>
                  <a:lnTo>
                    <a:pt x="190862" y="138669"/>
                  </a:lnTo>
                  <a:lnTo>
                    <a:pt x="193132" y="141553"/>
                  </a:lnTo>
                  <a:lnTo>
                    <a:pt x="195654" y="147015"/>
                  </a:lnTo>
                  <a:lnTo>
                    <a:pt x="196776" y="152264"/>
                  </a:lnTo>
                  <a:lnTo>
                    <a:pt x="197075" y="154849"/>
                  </a:lnTo>
                  <a:lnTo>
                    <a:pt x="196428" y="158266"/>
                  </a:lnTo>
                  <a:lnTo>
                    <a:pt x="195149" y="162238"/>
                  </a:lnTo>
                  <a:lnTo>
                    <a:pt x="193450" y="166578"/>
                  </a:lnTo>
                  <a:lnTo>
                    <a:pt x="190624" y="170319"/>
                  </a:lnTo>
                  <a:lnTo>
                    <a:pt x="187047" y="173659"/>
                  </a:lnTo>
                  <a:lnTo>
                    <a:pt x="182969" y="176733"/>
                  </a:lnTo>
                  <a:lnTo>
                    <a:pt x="178557" y="179629"/>
                  </a:lnTo>
                  <a:lnTo>
                    <a:pt x="173922" y="182406"/>
                  </a:lnTo>
                  <a:lnTo>
                    <a:pt x="169139" y="185104"/>
                  </a:lnTo>
                  <a:lnTo>
                    <a:pt x="159309" y="190360"/>
                  </a:lnTo>
                  <a:lnTo>
                    <a:pt x="154317" y="192946"/>
                  </a:lnTo>
                  <a:lnTo>
                    <a:pt x="148449" y="195518"/>
                  </a:lnTo>
                  <a:lnTo>
                    <a:pt x="141997" y="198078"/>
                  </a:lnTo>
                  <a:lnTo>
                    <a:pt x="135155" y="200632"/>
                  </a:lnTo>
                  <a:lnTo>
                    <a:pt x="128901" y="202335"/>
                  </a:lnTo>
                  <a:lnTo>
                    <a:pt x="123038" y="203470"/>
                  </a:lnTo>
                  <a:lnTo>
                    <a:pt x="117436" y="204227"/>
                  </a:lnTo>
                  <a:lnTo>
                    <a:pt x="111161" y="204731"/>
                  </a:lnTo>
                  <a:lnTo>
                    <a:pt x="104439" y="205068"/>
                  </a:lnTo>
                  <a:lnTo>
                    <a:pt x="90195" y="205441"/>
                  </a:lnTo>
                  <a:lnTo>
                    <a:pt x="75398" y="205607"/>
                  </a:lnTo>
                  <a:lnTo>
                    <a:pt x="69590" y="204805"/>
                  </a:lnTo>
                  <a:lnTo>
                    <a:pt x="64871" y="203423"/>
                  </a:lnTo>
                  <a:lnTo>
                    <a:pt x="52893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MARTInkAnnotation20"/>
            <p:cNvSpPr/>
            <p:nvPr/>
          </p:nvSpPr>
          <p:spPr>
            <a:xfrm>
              <a:off x="5174280" y="2437920"/>
              <a:ext cx="83520" cy="151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83821" h="15241">
                  <a:moveTo>
                    <a:pt x="0" y="0"/>
                  </a:moveTo>
                  <a:lnTo>
                    <a:pt x="0" y="4045"/>
                  </a:lnTo>
                  <a:lnTo>
                    <a:pt x="1693" y="5237"/>
                  </a:lnTo>
                  <a:lnTo>
                    <a:pt x="4515" y="6031"/>
                  </a:lnTo>
                  <a:lnTo>
                    <a:pt x="8090" y="6561"/>
                  </a:lnTo>
                  <a:lnTo>
                    <a:pt x="11320" y="6914"/>
                  </a:lnTo>
                  <a:lnTo>
                    <a:pt x="14320" y="7149"/>
                  </a:lnTo>
                  <a:lnTo>
                    <a:pt x="17167" y="7306"/>
                  </a:lnTo>
                  <a:lnTo>
                    <a:pt x="27103" y="7481"/>
                  </a:lnTo>
                  <a:lnTo>
                    <a:pt x="33309" y="7527"/>
                  </a:lnTo>
                  <a:lnTo>
                    <a:pt x="39986" y="8405"/>
                  </a:lnTo>
                  <a:lnTo>
                    <a:pt x="46977" y="9837"/>
                  </a:lnTo>
                  <a:lnTo>
                    <a:pt x="54178" y="11638"/>
                  </a:lnTo>
                  <a:lnTo>
                    <a:pt x="60672" y="12839"/>
                  </a:lnTo>
                  <a:lnTo>
                    <a:pt x="66694" y="13639"/>
                  </a:lnTo>
                  <a:lnTo>
                    <a:pt x="83820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MARTInkAnnotation21"/>
            <p:cNvSpPr/>
            <p:nvPr/>
          </p:nvSpPr>
          <p:spPr>
            <a:xfrm>
              <a:off x="5319000" y="2361600"/>
              <a:ext cx="159120" cy="33516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59396" h="335281">
                  <a:moveTo>
                    <a:pt x="0" y="0"/>
                  </a:moveTo>
                  <a:lnTo>
                    <a:pt x="47682" y="47683"/>
                  </a:lnTo>
                  <a:lnTo>
                    <a:pt x="54648" y="55495"/>
                  </a:lnTo>
                  <a:lnTo>
                    <a:pt x="61832" y="64090"/>
                  </a:lnTo>
                  <a:lnTo>
                    <a:pt x="69161" y="73207"/>
                  </a:lnTo>
                  <a:lnTo>
                    <a:pt x="77434" y="81825"/>
                  </a:lnTo>
                  <a:lnTo>
                    <a:pt x="86337" y="90110"/>
                  </a:lnTo>
                  <a:lnTo>
                    <a:pt x="95657" y="98173"/>
                  </a:lnTo>
                  <a:lnTo>
                    <a:pt x="104411" y="106935"/>
                  </a:lnTo>
                  <a:lnTo>
                    <a:pt x="112787" y="116164"/>
                  </a:lnTo>
                  <a:lnTo>
                    <a:pt x="120911" y="125702"/>
                  </a:lnTo>
                  <a:lnTo>
                    <a:pt x="128020" y="135448"/>
                  </a:lnTo>
                  <a:lnTo>
                    <a:pt x="134454" y="145332"/>
                  </a:lnTo>
                  <a:lnTo>
                    <a:pt x="140436" y="155308"/>
                  </a:lnTo>
                  <a:lnTo>
                    <a:pt x="145271" y="165346"/>
                  </a:lnTo>
                  <a:lnTo>
                    <a:pt x="149340" y="175424"/>
                  </a:lnTo>
                  <a:lnTo>
                    <a:pt x="152900" y="185529"/>
                  </a:lnTo>
                  <a:lnTo>
                    <a:pt x="155273" y="195653"/>
                  </a:lnTo>
                  <a:lnTo>
                    <a:pt x="156855" y="205789"/>
                  </a:lnTo>
                  <a:lnTo>
                    <a:pt x="157910" y="215932"/>
                  </a:lnTo>
                  <a:lnTo>
                    <a:pt x="158613" y="225235"/>
                  </a:lnTo>
                  <a:lnTo>
                    <a:pt x="159082" y="233977"/>
                  </a:lnTo>
                  <a:lnTo>
                    <a:pt x="159395" y="242345"/>
                  </a:lnTo>
                  <a:lnTo>
                    <a:pt x="157909" y="250463"/>
                  </a:lnTo>
                  <a:lnTo>
                    <a:pt x="155226" y="258415"/>
                  </a:lnTo>
                  <a:lnTo>
                    <a:pt x="151744" y="266257"/>
                  </a:lnTo>
                  <a:lnTo>
                    <a:pt x="148576" y="274025"/>
                  </a:lnTo>
                  <a:lnTo>
                    <a:pt x="145617" y="281743"/>
                  </a:lnTo>
                  <a:lnTo>
                    <a:pt x="142798" y="289429"/>
                  </a:lnTo>
                  <a:lnTo>
                    <a:pt x="138378" y="296246"/>
                  </a:lnTo>
                  <a:lnTo>
                    <a:pt x="132892" y="302484"/>
                  </a:lnTo>
                  <a:lnTo>
                    <a:pt x="126695" y="308336"/>
                  </a:lnTo>
                  <a:lnTo>
                    <a:pt x="120870" y="313084"/>
                  </a:lnTo>
                  <a:lnTo>
                    <a:pt x="115293" y="317096"/>
                  </a:lnTo>
                  <a:lnTo>
                    <a:pt x="109882" y="320617"/>
                  </a:lnTo>
                  <a:lnTo>
                    <a:pt x="105428" y="323812"/>
                  </a:lnTo>
                  <a:lnTo>
                    <a:pt x="101611" y="326788"/>
                  </a:lnTo>
                  <a:lnTo>
                    <a:pt x="91440" y="335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SMARTInkAnnotation22"/>
            <p:cNvSpPr/>
            <p:nvPr/>
          </p:nvSpPr>
          <p:spPr>
            <a:xfrm>
              <a:off x="5715360" y="2399760"/>
              <a:ext cx="37800" cy="15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7969" h="15241">
                  <a:moveTo>
                    <a:pt x="0" y="0"/>
                  </a:moveTo>
                  <a:lnTo>
                    <a:pt x="-27568" y="0"/>
                  </a:lnTo>
                  <a:lnTo>
                    <a:pt x="445" y="0"/>
                  </a:lnTo>
                  <a:lnTo>
                    <a:pt x="297" y="847"/>
                  </a:lnTo>
                  <a:lnTo>
                    <a:pt x="198" y="2258"/>
                  </a:lnTo>
                  <a:lnTo>
                    <a:pt x="133" y="4045"/>
                  </a:lnTo>
                  <a:lnTo>
                    <a:pt x="0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SMARTInkAnnotation23"/>
            <p:cNvSpPr/>
            <p:nvPr/>
          </p:nvSpPr>
          <p:spPr>
            <a:xfrm>
              <a:off x="5631840" y="249912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333" h="15241">
                  <a:moveTo>
                    <a:pt x="22732" y="7620"/>
                  </a:moveTo>
                  <a:lnTo>
                    <a:pt x="18686" y="7620"/>
                  </a:lnTo>
                  <a:lnTo>
                    <a:pt x="16648" y="8467"/>
                  </a:lnTo>
                  <a:lnTo>
                    <a:pt x="14442" y="9878"/>
                  </a:lnTo>
                  <a:lnTo>
                    <a:pt x="12126" y="11665"/>
                  </a:lnTo>
                  <a:lnTo>
                    <a:pt x="9733" y="12857"/>
                  </a:lnTo>
                  <a:lnTo>
                    <a:pt x="7293" y="13651"/>
                  </a:lnTo>
                  <a:lnTo>
                    <a:pt x="0" y="15212"/>
                  </a:lnTo>
                  <a:lnTo>
                    <a:pt x="65467" y="15240"/>
                  </a:lnTo>
                  <a:lnTo>
                    <a:pt x="74928" y="14394"/>
                  </a:lnTo>
                  <a:lnTo>
                    <a:pt x="84622" y="12982"/>
                  </a:lnTo>
                  <a:lnTo>
                    <a:pt x="94472" y="11195"/>
                  </a:lnTo>
                  <a:lnTo>
                    <a:pt x="104425" y="10003"/>
                  </a:lnTo>
                  <a:lnTo>
                    <a:pt x="114447" y="9209"/>
                  </a:lnTo>
                  <a:lnTo>
                    <a:pt x="124515" y="8679"/>
                  </a:lnTo>
                  <a:lnTo>
                    <a:pt x="144733" y="8091"/>
                  </a:lnTo>
                  <a:lnTo>
                    <a:pt x="154866" y="7934"/>
                  </a:lnTo>
                  <a:lnTo>
                    <a:pt x="164161" y="6983"/>
                  </a:lnTo>
                  <a:lnTo>
                    <a:pt x="172898" y="5502"/>
                  </a:lnTo>
                  <a:lnTo>
                    <a:pt x="181262" y="3668"/>
                  </a:lnTo>
                  <a:lnTo>
                    <a:pt x="189378" y="2445"/>
                  </a:lnTo>
                  <a:lnTo>
                    <a:pt x="197329" y="1630"/>
                  </a:lnTo>
                  <a:lnTo>
                    <a:pt x="205170" y="1087"/>
                  </a:lnTo>
                  <a:lnTo>
                    <a:pt x="218398" y="483"/>
                  </a:lnTo>
                  <a:lnTo>
                    <a:pt x="236641" y="96"/>
                  </a:lnTo>
                  <a:lnTo>
                    <a:pt x="2513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MARTInkAnnotation24"/>
            <p:cNvSpPr/>
            <p:nvPr/>
          </p:nvSpPr>
          <p:spPr>
            <a:xfrm>
              <a:off x="5776560" y="2605680"/>
              <a:ext cx="45000" cy="7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5329" h="7621">
                  <a:moveTo>
                    <a:pt x="-27788" y="0"/>
                  </a:moveTo>
                  <a:lnTo>
                    <a:pt x="0" y="0"/>
                  </a:lnTo>
                  <a:lnTo>
                    <a:pt x="32459" y="0"/>
                  </a:lnTo>
                  <a:lnTo>
                    <a:pt x="-30467" y="847"/>
                  </a:lnTo>
                  <a:lnTo>
                    <a:pt x="-27881" y="2258"/>
                  </a:lnTo>
                  <a:lnTo>
                    <a:pt x="-20208" y="7592"/>
                  </a:lnTo>
                  <a:lnTo>
                    <a:pt x="22508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MARTInkAnnotation25"/>
            <p:cNvSpPr/>
            <p:nvPr/>
          </p:nvSpPr>
          <p:spPr>
            <a:xfrm>
              <a:off x="6035400" y="2430360"/>
              <a:ext cx="22680" cy="2361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2760" h="236221">
                  <a:moveTo>
                    <a:pt x="22759" y="0"/>
                  </a:moveTo>
                  <a:lnTo>
                    <a:pt x="22759" y="4045"/>
                  </a:lnTo>
                  <a:lnTo>
                    <a:pt x="21912" y="6084"/>
                  </a:lnTo>
                  <a:lnTo>
                    <a:pt x="20501" y="8289"/>
                  </a:lnTo>
                  <a:lnTo>
                    <a:pt x="18713" y="10606"/>
                  </a:lnTo>
                  <a:lnTo>
                    <a:pt x="17522" y="12998"/>
                  </a:lnTo>
                  <a:lnTo>
                    <a:pt x="16727" y="15438"/>
                  </a:lnTo>
                  <a:lnTo>
                    <a:pt x="16198" y="17912"/>
                  </a:lnTo>
                  <a:lnTo>
                    <a:pt x="15610" y="25177"/>
                  </a:lnTo>
                  <a:lnTo>
                    <a:pt x="15452" y="29485"/>
                  </a:lnTo>
                  <a:lnTo>
                    <a:pt x="15232" y="47683"/>
                  </a:lnTo>
                  <a:lnTo>
                    <a:pt x="14354" y="54649"/>
                  </a:lnTo>
                  <a:lnTo>
                    <a:pt x="12922" y="61832"/>
                  </a:lnTo>
                  <a:lnTo>
                    <a:pt x="11121" y="69162"/>
                  </a:lnTo>
                  <a:lnTo>
                    <a:pt x="9920" y="76588"/>
                  </a:lnTo>
                  <a:lnTo>
                    <a:pt x="9120" y="84079"/>
                  </a:lnTo>
                  <a:lnTo>
                    <a:pt x="8586" y="91613"/>
                  </a:lnTo>
                  <a:lnTo>
                    <a:pt x="7384" y="100022"/>
                  </a:lnTo>
                  <a:lnTo>
                    <a:pt x="5735" y="109014"/>
                  </a:lnTo>
                  <a:lnTo>
                    <a:pt x="3790" y="118396"/>
                  </a:lnTo>
                  <a:lnTo>
                    <a:pt x="2492" y="127191"/>
                  </a:lnTo>
                  <a:lnTo>
                    <a:pt x="1629" y="135594"/>
                  </a:lnTo>
                  <a:lnTo>
                    <a:pt x="1052" y="143736"/>
                  </a:lnTo>
                  <a:lnTo>
                    <a:pt x="668" y="151704"/>
                  </a:lnTo>
                  <a:lnTo>
                    <a:pt x="241" y="167331"/>
                  </a:lnTo>
                  <a:lnTo>
                    <a:pt x="0" y="186363"/>
                  </a:lnTo>
                  <a:lnTo>
                    <a:pt x="813" y="191976"/>
                  </a:lnTo>
                  <a:lnTo>
                    <a:pt x="2202" y="197410"/>
                  </a:lnTo>
                  <a:lnTo>
                    <a:pt x="3974" y="202727"/>
                  </a:lnTo>
                  <a:lnTo>
                    <a:pt x="6002" y="207965"/>
                  </a:lnTo>
                  <a:lnTo>
                    <a:pt x="8201" y="213150"/>
                  </a:lnTo>
                  <a:lnTo>
                    <a:pt x="10514" y="218300"/>
                  </a:lnTo>
                  <a:lnTo>
                    <a:pt x="12055" y="222580"/>
                  </a:lnTo>
                  <a:lnTo>
                    <a:pt x="13083" y="226280"/>
                  </a:lnTo>
                  <a:lnTo>
                    <a:pt x="15139" y="236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SMARTInkAnnotation26"/>
            <p:cNvSpPr/>
            <p:nvPr/>
          </p:nvSpPr>
          <p:spPr>
            <a:xfrm>
              <a:off x="6196680" y="2422800"/>
              <a:ext cx="158040" cy="20880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158221" h="208804">
                  <a:moveTo>
                    <a:pt x="21680" y="0"/>
                  </a:moveTo>
                  <a:lnTo>
                    <a:pt x="21680" y="21957"/>
                  </a:lnTo>
                  <a:lnTo>
                    <a:pt x="20833" y="26492"/>
                  </a:lnTo>
                  <a:lnTo>
                    <a:pt x="19422" y="31208"/>
                  </a:lnTo>
                  <a:lnTo>
                    <a:pt x="17635" y="36045"/>
                  </a:lnTo>
                  <a:lnTo>
                    <a:pt x="15597" y="42657"/>
                  </a:lnTo>
                  <a:lnTo>
                    <a:pt x="11074" y="59034"/>
                  </a:lnTo>
                  <a:lnTo>
                    <a:pt x="9530" y="67296"/>
                  </a:lnTo>
                  <a:lnTo>
                    <a:pt x="8499" y="75344"/>
                  </a:lnTo>
                  <a:lnTo>
                    <a:pt x="7813" y="83249"/>
                  </a:lnTo>
                  <a:lnTo>
                    <a:pt x="6509" y="91060"/>
                  </a:lnTo>
                  <a:lnTo>
                    <a:pt x="4792" y="98806"/>
                  </a:lnTo>
                  <a:lnTo>
                    <a:pt x="2802" y="106511"/>
                  </a:lnTo>
                  <a:lnTo>
                    <a:pt x="1474" y="114187"/>
                  </a:lnTo>
                  <a:lnTo>
                    <a:pt x="590" y="121845"/>
                  </a:lnTo>
                  <a:lnTo>
                    <a:pt x="0" y="129490"/>
                  </a:lnTo>
                  <a:lnTo>
                    <a:pt x="453" y="137127"/>
                  </a:lnTo>
                  <a:lnTo>
                    <a:pt x="1602" y="144758"/>
                  </a:lnTo>
                  <a:lnTo>
                    <a:pt x="3215" y="152385"/>
                  </a:lnTo>
                  <a:lnTo>
                    <a:pt x="5983" y="159163"/>
                  </a:lnTo>
                  <a:lnTo>
                    <a:pt x="9522" y="165375"/>
                  </a:lnTo>
                  <a:lnTo>
                    <a:pt x="13575" y="171210"/>
                  </a:lnTo>
                  <a:lnTo>
                    <a:pt x="17970" y="176794"/>
                  </a:lnTo>
                  <a:lnTo>
                    <a:pt x="22594" y="182209"/>
                  </a:lnTo>
                  <a:lnTo>
                    <a:pt x="27369" y="187513"/>
                  </a:lnTo>
                  <a:lnTo>
                    <a:pt x="33093" y="191895"/>
                  </a:lnTo>
                  <a:lnTo>
                    <a:pt x="39449" y="195663"/>
                  </a:lnTo>
                  <a:lnTo>
                    <a:pt x="46225" y="199022"/>
                  </a:lnTo>
                  <a:lnTo>
                    <a:pt x="54131" y="202108"/>
                  </a:lnTo>
                  <a:lnTo>
                    <a:pt x="62787" y="205012"/>
                  </a:lnTo>
                  <a:lnTo>
                    <a:pt x="71945" y="207795"/>
                  </a:lnTo>
                  <a:lnTo>
                    <a:pt x="80590" y="208803"/>
                  </a:lnTo>
                  <a:lnTo>
                    <a:pt x="88893" y="208629"/>
                  </a:lnTo>
                  <a:lnTo>
                    <a:pt x="96969" y="207665"/>
                  </a:lnTo>
                  <a:lnTo>
                    <a:pt x="104893" y="206177"/>
                  </a:lnTo>
                  <a:lnTo>
                    <a:pt x="112715" y="204338"/>
                  </a:lnTo>
                  <a:lnTo>
                    <a:pt x="120470" y="202265"/>
                  </a:lnTo>
                  <a:lnTo>
                    <a:pt x="127333" y="199190"/>
                  </a:lnTo>
                  <a:lnTo>
                    <a:pt x="133602" y="195447"/>
                  </a:lnTo>
                  <a:lnTo>
                    <a:pt x="139475" y="191258"/>
                  </a:lnTo>
                  <a:lnTo>
                    <a:pt x="144236" y="185925"/>
                  </a:lnTo>
                  <a:lnTo>
                    <a:pt x="148258" y="179830"/>
                  </a:lnTo>
                  <a:lnTo>
                    <a:pt x="151785" y="173227"/>
                  </a:lnTo>
                  <a:lnTo>
                    <a:pt x="154136" y="165438"/>
                  </a:lnTo>
                  <a:lnTo>
                    <a:pt x="155705" y="156858"/>
                  </a:lnTo>
                  <a:lnTo>
                    <a:pt x="156750" y="147752"/>
                  </a:lnTo>
                  <a:lnTo>
                    <a:pt x="157446" y="139142"/>
                  </a:lnTo>
                  <a:lnTo>
                    <a:pt x="157911" y="130861"/>
                  </a:lnTo>
                  <a:lnTo>
                    <a:pt x="158220" y="122801"/>
                  </a:lnTo>
                  <a:lnTo>
                    <a:pt x="157580" y="114041"/>
                  </a:lnTo>
                  <a:lnTo>
                    <a:pt x="156307" y="104814"/>
                  </a:lnTo>
                  <a:lnTo>
                    <a:pt x="154611" y="95276"/>
                  </a:lnTo>
                  <a:lnTo>
                    <a:pt x="152634" y="86377"/>
                  </a:lnTo>
                  <a:lnTo>
                    <a:pt x="150470" y="77905"/>
                  </a:lnTo>
                  <a:lnTo>
                    <a:pt x="148180" y="69717"/>
                  </a:lnTo>
                  <a:lnTo>
                    <a:pt x="144113" y="61718"/>
                  </a:lnTo>
                  <a:lnTo>
                    <a:pt x="138862" y="53845"/>
                  </a:lnTo>
                  <a:lnTo>
                    <a:pt x="132822" y="46057"/>
                  </a:lnTo>
                  <a:lnTo>
                    <a:pt x="127101" y="40018"/>
                  </a:lnTo>
                  <a:lnTo>
                    <a:pt x="121594" y="35145"/>
                  </a:lnTo>
                  <a:lnTo>
                    <a:pt x="116230" y="31050"/>
                  </a:lnTo>
                  <a:lnTo>
                    <a:pt x="109266" y="26627"/>
                  </a:lnTo>
                  <a:lnTo>
                    <a:pt x="101238" y="21985"/>
                  </a:lnTo>
                  <a:lnTo>
                    <a:pt x="92498" y="17196"/>
                  </a:lnTo>
                  <a:lnTo>
                    <a:pt x="84979" y="14004"/>
                  </a:lnTo>
                  <a:lnTo>
                    <a:pt x="78273" y="11876"/>
                  </a:lnTo>
                  <a:lnTo>
                    <a:pt x="72109" y="10458"/>
                  </a:lnTo>
                  <a:lnTo>
                    <a:pt x="66306" y="9512"/>
                  </a:lnTo>
                  <a:lnTo>
                    <a:pt x="60744" y="8881"/>
                  </a:lnTo>
                  <a:lnTo>
                    <a:pt x="55343" y="8461"/>
                  </a:lnTo>
                  <a:lnTo>
                    <a:pt x="50048" y="8181"/>
                  </a:lnTo>
                  <a:lnTo>
                    <a:pt x="39650" y="7869"/>
                  </a:lnTo>
                  <a:lnTo>
                    <a:pt x="35353" y="8633"/>
                  </a:lnTo>
                  <a:lnTo>
                    <a:pt x="31642" y="9989"/>
                  </a:lnTo>
                  <a:lnTo>
                    <a:pt x="21680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SMARTInkAnnotation27"/>
            <p:cNvSpPr/>
            <p:nvPr/>
          </p:nvSpPr>
          <p:spPr>
            <a:xfrm>
              <a:off x="3353040" y="308592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7620"/>
                  </a:moveTo>
                  <a:lnTo>
                    <a:pt x="113606" y="7620"/>
                  </a:lnTo>
                  <a:lnTo>
                    <a:pt x="121457" y="6773"/>
                  </a:lnTo>
                  <a:lnTo>
                    <a:pt x="129232" y="5362"/>
                  </a:lnTo>
                  <a:lnTo>
                    <a:pt x="136954" y="3575"/>
                  </a:lnTo>
                  <a:lnTo>
                    <a:pt x="143796" y="2383"/>
                  </a:lnTo>
                  <a:lnTo>
                    <a:pt x="150051" y="1589"/>
                  </a:lnTo>
                  <a:lnTo>
                    <a:pt x="155914" y="1059"/>
                  </a:lnTo>
                  <a:lnTo>
                    <a:pt x="161516" y="706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SMARTInkAnnotation28"/>
            <p:cNvSpPr/>
            <p:nvPr/>
          </p:nvSpPr>
          <p:spPr>
            <a:xfrm>
              <a:off x="3650760" y="2910600"/>
              <a:ext cx="235800" cy="2588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5957" h="259081">
                  <a:moveTo>
                    <a:pt x="114036" y="0"/>
                  </a:moveTo>
                  <a:lnTo>
                    <a:pt x="107475" y="0"/>
                  </a:lnTo>
                  <a:lnTo>
                    <a:pt x="100542" y="5237"/>
                  </a:lnTo>
                  <a:lnTo>
                    <a:pt x="95904" y="6561"/>
                  </a:lnTo>
                  <a:lnTo>
                    <a:pt x="88762" y="9407"/>
                  </a:lnTo>
                  <a:lnTo>
                    <a:pt x="84486" y="11352"/>
                  </a:lnTo>
                  <a:lnTo>
                    <a:pt x="79943" y="14341"/>
                  </a:lnTo>
                  <a:lnTo>
                    <a:pt x="75220" y="18027"/>
                  </a:lnTo>
                  <a:lnTo>
                    <a:pt x="70380" y="22178"/>
                  </a:lnTo>
                  <a:lnTo>
                    <a:pt x="65458" y="26639"/>
                  </a:lnTo>
                  <a:lnTo>
                    <a:pt x="55475" y="36111"/>
                  </a:lnTo>
                  <a:lnTo>
                    <a:pt x="40334" y="50963"/>
                  </a:lnTo>
                  <a:lnTo>
                    <a:pt x="35269" y="56835"/>
                  </a:lnTo>
                  <a:lnTo>
                    <a:pt x="30198" y="63290"/>
                  </a:lnTo>
                  <a:lnTo>
                    <a:pt x="25124" y="70134"/>
                  </a:lnTo>
                  <a:lnTo>
                    <a:pt x="14971" y="84511"/>
                  </a:lnTo>
                  <a:lnTo>
                    <a:pt x="9893" y="91900"/>
                  </a:lnTo>
                  <a:lnTo>
                    <a:pt x="6507" y="99367"/>
                  </a:lnTo>
                  <a:lnTo>
                    <a:pt x="4251" y="106885"/>
                  </a:lnTo>
                  <a:lnTo>
                    <a:pt x="2746" y="114437"/>
                  </a:lnTo>
                  <a:lnTo>
                    <a:pt x="1742" y="122011"/>
                  </a:lnTo>
                  <a:lnTo>
                    <a:pt x="1074" y="129600"/>
                  </a:lnTo>
                  <a:lnTo>
                    <a:pt x="628" y="137201"/>
                  </a:lnTo>
                  <a:lnTo>
                    <a:pt x="133" y="150160"/>
                  </a:lnTo>
                  <a:lnTo>
                    <a:pt x="0" y="155987"/>
                  </a:lnTo>
                  <a:lnTo>
                    <a:pt x="1606" y="161565"/>
                  </a:lnTo>
                  <a:lnTo>
                    <a:pt x="4370" y="166977"/>
                  </a:lnTo>
                  <a:lnTo>
                    <a:pt x="7905" y="172278"/>
                  </a:lnTo>
                  <a:lnTo>
                    <a:pt x="12802" y="177505"/>
                  </a:lnTo>
                  <a:lnTo>
                    <a:pt x="18606" y="182684"/>
                  </a:lnTo>
                  <a:lnTo>
                    <a:pt x="25017" y="187829"/>
                  </a:lnTo>
                  <a:lnTo>
                    <a:pt x="32677" y="192106"/>
                  </a:lnTo>
                  <a:lnTo>
                    <a:pt x="41169" y="195804"/>
                  </a:lnTo>
                  <a:lnTo>
                    <a:pt x="58792" y="202171"/>
                  </a:lnTo>
                  <a:lnTo>
                    <a:pt x="75089" y="207823"/>
                  </a:lnTo>
                  <a:lnTo>
                    <a:pt x="83839" y="209669"/>
                  </a:lnTo>
                  <a:lnTo>
                    <a:pt x="93057" y="210899"/>
                  </a:lnTo>
                  <a:lnTo>
                    <a:pt x="102590" y="211720"/>
                  </a:lnTo>
                  <a:lnTo>
                    <a:pt x="112333" y="211420"/>
                  </a:lnTo>
                  <a:lnTo>
                    <a:pt x="122214" y="210374"/>
                  </a:lnTo>
                  <a:lnTo>
                    <a:pt x="132188" y="208829"/>
                  </a:lnTo>
                  <a:lnTo>
                    <a:pt x="141377" y="206952"/>
                  </a:lnTo>
                  <a:lnTo>
                    <a:pt x="150043" y="204855"/>
                  </a:lnTo>
                  <a:lnTo>
                    <a:pt x="158361" y="202610"/>
                  </a:lnTo>
                  <a:lnTo>
                    <a:pt x="165599" y="200267"/>
                  </a:lnTo>
                  <a:lnTo>
                    <a:pt x="172118" y="197858"/>
                  </a:lnTo>
                  <a:lnTo>
                    <a:pt x="178158" y="195405"/>
                  </a:lnTo>
                  <a:lnTo>
                    <a:pt x="183031" y="192924"/>
                  </a:lnTo>
                  <a:lnTo>
                    <a:pt x="187126" y="190423"/>
                  </a:lnTo>
                  <a:lnTo>
                    <a:pt x="193933" y="185386"/>
                  </a:lnTo>
                  <a:lnTo>
                    <a:pt x="199781" y="180325"/>
                  </a:lnTo>
                  <a:lnTo>
                    <a:pt x="200833" y="177790"/>
                  </a:lnTo>
                  <a:lnTo>
                    <a:pt x="200688" y="175253"/>
                  </a:lnTo>
                  <a:lnTo>
                    <a:pt x="199744" y="172716"/>
                  </a:lnTo>
                  <a:lnTo>
                    <a:pt x="198268" y="171024"/>
                  </a:lnTo>
                  <a:lnTo>
                    <a:pt x="196437" y="169896"/>
                  </a:lnTo>
                  <a:lnTo>
                    <a:pt x="192145" y="168643"/>
                  </a:lnTo>
                  <a:lnTo>
                    <a:pt x="187416" y="168086"/>
                  </a:lnTo>
                  <a:lnTo>
                    <a:pt x="180233" y="167838"/>
                  </a:lnTo>
                  <a:lnTo>
                    <a:pt x="175948" y="167772"/>
                  </a:lnTo>
                  <a:lnTo>
                    <a:pt x="171397" y="168575"/>
                  </a:lnTo>
                  <a:lnTo>
                    <a:pt x="166670" y="169957"/>
                  </a:lnTo>
                  <a:lnTo>
                    <a:pt x="161825" y="171724"/>
                  </a:lnTo>
                  <a:lnTo>
                    <a:pt x="156902" y="173750"/>
                  </a:lnTo>
                  <a:lnTo>
                    <a:pt x="151927" y="175947"/>
                  </a:lnTo>
                  <a:lnTo>
                    <a:pt x="146916" y="178258"/>
                  </a:lnTo>
                  <a:lnTo>
                    <a:pt x="142730" y="181492"/>
                  </a:lnTo>
                  <a:lnTo>
                    <a:pt x="139092" y="185342"/>
                  </a:lnTo>
                  <a:lnTo>
                    <a:pt x="133639" y="193288"/>
                  </a:lnTo>
                  <a:lnTo>
                    <a:pt x="131215" y="199641"/>
                  </a:lnTo>
                  <a:lnTo>
                    <a:pt x="131415" y="203368"/>
                  </a:lnTo>
                  <a:lnTo>
                    <a:pt x="132396" y="207545"/>
                  </a:lnTo>
                  <a:lnTo>
                    <a:pt x="133896" y="212024"/>
                  </a:lnTo>
                  <a:lnTo>
                    <a:pt x="136590" y="216702"/>
                  </a:lnTo>
                  <a:lnTo>
                    <a:pt x="140078" y="221515"/>
                  </a:lnTo>
                  <a:lnTo>
                    <a:pt x="144097" y="226416"/>
                  </a:lnTo>
                  <a:lnTo>
                    <a:pt x="149317" y="230531"/>
                  </a:lnTo>
                  <a:lnTo>
                    <a:pt x="155337" y="234121"/>
                  </a:lnTo>
                  <a:lnTo>
                    <a:pt x="161890" y="237361"/>
                  </a:lnTo>
                  <a:lnTo>
                    <a:pt x="169645" y="240367"/>
                  </a:lnTo>
                  <a:lnTo>
                    <a:pt x="178202" y="243218"/>
                  </a:lnTo>
                  <a:lnTo>
                    <a:pt x="187293" y="245966"/>
                  </a:lnTo>
                  <a:lnTo>
                    <a:pt x="194201" y="248644"/>
                  </a:lnTo>
                  <a:lnTo>
                    <a:pt x="199653" y="251276"/>
                  </a:lnTo>
                  <a:lnTo>
                    <a:pt x="204134" y="253877"/>
                  </a:lnTo>
                  <a:lnTo>
                    <a:pt x="209661" y="255612"/>
                  </a:lnTo>
                  <a:lnTo>
                    <a:pt x="215886" y="256768"/>
                  </a:lnTo>
                  <a:lnTo>
                    <a:pt x="235956" y="2590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SMARTInkAnnotation29"/>
            <p:cNvSpPr/>
            <p:nvPr/>
          </p:nvSpPr>
          <p:spPr>
            <a:xfrm>
              <a:off x="3970440" y="2857320"/>
              <a:ext cx="97200" cy="4039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97206" h="40386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6083" y="8607"/>
                  </a:lnTo>
                  <a:lnTo>
                    <a:pt x="8289" y="11665"/>
                  </a:lnTo>
                  <a:lnTo>
                    <a:pt x="10606" y="15397"/>
                  </a:lnTo>
                  <a:lnTo>
                    <a:pt x="13844" y="19578"/>
                  </a:lnTo>
                  <a:lnTo>
                    <a:pt x="17696" y="24059"/>
                  </a:lnTo>
                  <a:lnTo>
                    <a:pt x="21958" y="28739"/>
                  </a:lnTo>
                  <a:lnTo>
                    <a:pt x="25645" y="33553"/>
                  </a:lnTo>
                  <a:lnTo>
                    <a:pt x="28950" y="38455"/>
                  </a:lnTo>
                  <a:lnTo>
                    <a:pt x="32000" y="43417"/>
                  </a:lnTo>
                  <a:lnTo>
                    <a:pt x="35727" y="50111"/>
                  </a:lnTo>
                  <a:lnTo>
                    <a:pt x="44383" y="66580"/>
                  </a:lnTo>
                  <a:lnTo>
                    <a:pt x="58777" y="94893"/>
                  </a:lnTo>
                  <a:lnTo>
                    <a:pt x="62892" y="105595"/>
                  </a:lnTo>
                  <a:lnTo>
                    <a:pt x="66481" y="116963"/>
                  </a:lnTo>
                  <a:lnTo>
                    <a:pt x="69721" y="128776"/>
                  </a:lnTo>
                  <a:lnTo>
                    <a:pt x="73574" y="140884"/>
                  </a:lnTo>
                  <a:lnTo>
                    <a:pt x="77836" y="153189"/>
                  </a:lnTo>
                  <a:lnTo>
                    <a:pt x="82371" y="165626"/>
                  </a:lnTo>
                  <a:lnTo>
                    <a:pt x="86241" y="178151"/>
                  </a:lnTo>
                  <a:lnTo>
                    <a:pt x="89667" y="190734"/>
                  </a:lnTo>
                  <a:lnTo>
                    <a:pt x="92798" y="203356"/>
                  </a:lnTo>
                  <a:lnTo>
                    <a:pt x="94885" y="216851"/>
                  </a:lnTo>
                  <a:lnTo>
                    <a:pt x="96277" y="230927"/>
                  </a:lnTo>
                  <a:lnTo>
                    <a:pt x="97205" y="245391"/>
                  </a:lnTo>
                  <a:lnTo>
                    <a:pt x="96976" y="259268"/>
                  </a:lnTo>
                  <a:lnTo>
                    <a:pt x="95978" y="272752"/>
                  </a:lnTo>
                  <a:lnTo>
                    <a:pt x="94465" y="285975"/>
                  </a:lnTo>
                  <a:lnTo>
                    <a:pt x="92611" y="298176"/>
                  </a:lnTo>
                  <a:lnTo>
                    <a:pt x="90527" y="309698"/>
                  </a:lnTo>
                  <a:lnTo>
                    <a:pt x="81100" y="356567"/>
                  </a:lnTo>
                  <a:lnTo>
                    <a:pt x="78620" y="366405"/>
                  </a:lnTo>
                  <a:lnTo>
                    <a:pt x="76121" y="374657"/>
                  </a:lnTo>
                  <a:lnTo>
                    <a:pt x="73607" y="381851"/>
                  </a:lnTo>
                  <a:lnTo>
                    <a:pt x="70814" y="392103"/>
                  </a:lnTo>
                  <a:lnTo>
                    <a:pt x="68580" y="4038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SMARTInkAnnotation30"/>
            <p:cNvSpPr/>
            <p:nvPr/>
          </p:nvSpPr>
          <p:spPr>
            <a:xfrm>
              <a:off x="3255480" y="2903040"/>
              <a:ext cx="135360" cy="342720"/>
            </a:xfrm>
            <a:custGeom>
              <a:avLst/>
              <a:gdLst>
                <a:gd name="textAreaLeft" fmla="*/ 0 w 135360"/>
                <a:gd name="textAreaRight" fmla="*/ 135360 w 1353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35623" h="342901">
                  <a:moveTo>
                    <a:pt x="67041" y="0"/>
                  </a:moveTo>
                  <a:lnTo>
                    <a:pt x="62997" y="4046"/>
                  </a:lnTo>
                  <a:lnTo>
                    <a:pt x="60958" y="6930"/>
                  </a:lnTo>
                  <a:lnTo>
                    <a:pt x="58753" y="10547"/>
                  </a:lnTo>
                  <a:lnTo>
                    <a:pt x="54891" y="18234"/>
                  </a:lnTo>
                  <a:lnTo>
                    <a:pt x="53174" y="24473"/>
                  </a:lnTo>
                  <a:lnTo>
                    <a:pt x="51023" y="29016"/>
                  </a:lnTo>
                  <a:lnTo>
                    <a:pt x="47896" y="34584"/>
                  </a:lnTo>
                  <a:lnTo>
                    <a:pt x="44118" y="40836"/>
                  </a:lnTo>
                  <a:lnTo>
                    <a:pt x="35405" y="54556"/>
                  </a:lnTo>
                  <a:lnTo>
                    <a:pt x="30710" y="61771"/>
                  </a:lnTo>
                  <a:lnTo>
                    <a:pt x="26734" y="69967"/>
                  </a:lnTo>
                  <a:lnTo>
                    <a:pt x="23236" y="78818"/>
                  </a:lnTo>
                  <a:lnTo>
                    <a:pt x="20058" y="88106"/>
                  </a:lnTo>
                  <a:lnTo>
                    <a:pt x="17093" y="98530"/>
                  </a:lnTo>
                  <a:lnTo>
                    <a:pt x="14269" y="109714"/>
                  </a:lnTo>
                  <a:lnTo>
                    <a:pt x="3654" y="154034"/>
                  </a:lnTo>
                  <a:lnTo>
                    <a:pt x="1923" y="165343"/>
                  </a:lnTo>
                  <a:lnTo>
                    <a:pt x="770" y="177115"/>
                  </a:lnTo>
                  <a:lnTo>
                    <a:pt x="0" y="189197"/>
                  </a:lnTo>
                  <a:lnTo>
                    <a:pt x="334" y="200638"/>
                  </a:lnTo>
                  <a:lnTo>
                    <a:pt x="1403" y="211652"/>
                  </a:lnTo>
                  <a:lnTo>
                    <a:pt x="2963" y="222382"/>
                  </a:lnTo>
                  <a:lnTo>
                    <a:pt x="6542" y="232921"/>
                  </a:lnTo>
                  <a:lnTo>
                    <a:pt x="11469" y="243334"/>
                  </a:lnTo>
                  <a:lnTo>
                    <a:pt x="17293" y="253663"/>
                  </a:lnTo>
                  <a:lnTo>
                    <a:pt x="23716" y="263088"/>
                  </a:lnTo>
                  <a:lnTo>
                    <a:pt x="30538" y="271913"/>
                  </a:lnTo>
                  <a:lnTo>
                    <a:pt x="37626" y="280335"/>
                  </a:lnTo>
                  <a:lnTo>
                    <a:pt x="47431" y="289337"/>
                  </a:lnTo>
                  <a:lnTo>
                    <a:pt x="59048" y="298724"/>
                  </a:lnTo>
                  <a:lnTo>
                    <a:pt x="71873" y="308370"/>
                  </a:lnTo>
                  <a:lnTo>
                    <a:pt x="82116" y="315647"/>
                  </a:lnTo>
                  <a:lnTo>
                    <a:pt x="90637" y="321345"/>
                  </a:lnTo>
                  <a:lnTo>
                    <a:pt x="98012" y="325990"/>
                  </a:lnTo>
                  <a:lnTo>
                    <a:pt x="105469" y="329933"/>
                  </a:lnTo>
                  <a:lnTo>
                    <a:pt x="112979" y="333409"/>
                  </a:lnTo>
                  <a:lnTo>
                    <a:pt x="135622" y="3429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SMARTInkAnnotation31"/>
            <p:cNvSpPr/>
            <p:nvPr/>
          </p:nvSpPr>
          <p:spPr>
            <a:xfrm>
              <a:off x="2106720" y="2964240"/>
              <a:ext cx="217440" cy="2048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7671" h="204826">
                  <a:moveTo>
                    <a:pt x="19550" y="68219"/>
                  </a:moveTo>
                  <a:lnTo>
                    <a:pt x="15505" y="68219"/>
                  </a:lnTo>
                  <a:lnTo>
                    <a:pt x="13467" y="67372"/>
                  </a:lnTo>
                  <a:lnTo>
                    <a:pt x="7400" y="62982"/>
                  </a:lnTo>
                  <a:lnTo>
                    <a:pt x="2233" y="58481"/>
                  </a:lnTo>
                  <a:lnTo>
                    <a:pt x="385" y="56647"/>
                  </a:lnTo>
                  <a:lnTo>
                    <a:pt x="0" y="54578"/>
                  </a:lnTo>
                  <a:lnTo>
                    <a:pt x="590" y="52352"/>
                  </a:lnTo>
                  <a:lnTo>
                    <a:pt x="3503" y="47620"/>
                  </a:lnTo>
                  <a:lnTo>
                    <a:pt x="7620" y="42695"/>
                  </a:lnTo>
                  <a:lnTo>
                    <a:pt x="10750" y="40197"/>
                  </a:lnTo>
                  <a:lnTo>
                    <a:pt x="14530" y="37684"/>
                  </a:lnTo>
                  <a:lnTo>
                    <a:pt x="18744" y="35162"/>
                  </a:lnTo>
                  <a:lnTo>
                    <a:pt x="23246" y="31788"/>
                  </a:lnTo>
                  <a:lnTo>
                    <a:pt x="27940" y="27845"/>
                  </a:lnTo>
                  <a:lnTo>
                    <a:pt x="32764" y="23523"/>
                  </a:lnTo>
                  <a:lnTo>
                    <a:pt x="39366" y="19795"/>
                  </a:lnTo>
                  <a:lnTo>
                    <a:pt x="47154" y="16463"/>
                  </a:lnTo>
                  <a:lnTo>
                    <a:pt x="55733" y="13395"/>
                  </a:lnTo>
                  <a:lnTo>
                    <a:pt x="63992" y="11350"/>
                  </a:lnTo>
                  <a:lnTo>
                    <a:pt x="72038" y="9986"/>
                  </a:lnTo>
                  <a:lnTo>
                    <a:pt x="79942" y="9077"/>
                  </a:lnTo>
                  <a:lnTo>
                    <a:pt x="87751" y="7624"/>
                  </a:lnTo>
                  <a:lnTo>
                    <a:pt x="95497" y="5809"/>
                  </a:lnTo>
                  <a:lnTo>
                    <a:pt x="103202" y="3753"/>
                  </a:lnTo>
                  <a:lnTo>
                    <a:pt x="111724" y="2382"/>
                  </a:lnTo>
                  <a:lnTo>
                    <a:pt x="120793" y="1467"/>
                  </a:lnTo>
                  <a:lnTo>
                    <a:pt x="138207" y="452"/>
                  </a:lnTo>
                  <a:lnTo>
                    <a:pt x="151591" y="0"/>
                  </a:lnTo>
                  <a:lnTo>
                    <a:pt x="156684" y="727"/>
                  </a:lnTo>
                  <a:lnTo>
                    <a:pt x="160926" y="2057"/>
                  </a:lnTo>
                  <a:lnTo>
                    <a:pt x="169773" y="6232"/>
                  </a:lnTo>
                  <a:lnTo>
                    <a:pt x="170498" y="8268"/>
                  </a:lnTo>
                  <a:lnTo>
                    <a:pt x="170982" y="11318"/>
                  </a:lnTo>
                  <a:lnTo>
                    <a:pt x="171305" y="15045"/>
                  </a:lnTo>
                  <a:lnTo>
                    <a:pt x="169827" y="19223"/>
                  </a:lnTo>
                  <a:lnTo>
                    <a:pt x="167148" y="23702"/>
                  </a:lnTo>
                  <a:lnTo>
                    <a:pt x="163668" y="28381"/>
                  </a:lnTo>
                  <a:lnTo>
                    <a:pt x="158809" y="33194"/>
                  </a:lnTo>
                  <a:lnTo>
                    <a:pt x="153030" y="38095"/>
                  </a:lnTo>
                  <a:lnTo>
                    <a:pt x="121458" y="62175"/>
                  </a:lnTo>
                  <a:lnTo>
                    <a:pt x="112888" y="69270"/>
                  </a:lnTo>
                  <a:lnTo>
                    <a:pt x="104636" y="76540"/>
                  </a:lnTo>
                  <a:lnTo>
                    <a:pt x="96594" y="83926"/>
                  </a:lnTo>
                  <a:lnTo>
                    <a:pt x="87846" y="90544"/>
                  </a:lnTo>
                  <a:lnTo>
                    <a:pt x="78627" y="96649"/>
                  </a:lnTo>
                  <a:lnTo>
                    <a:pt x="69095" y="102412"/>
                  </a:lnTo>
                  <a:lnTo>
                    <a:pt x="60200" y="108794"/>
                  </a:lnTo>
                  <a:lnTo>
                    <a:pt x="51730" y="115589"/>
                  </a:lnTo>
                  <a:lnTo>
                    <a:pt x="43543" y="122659"/>
                  </a:lnTo>
                  <a:lnTo>
                    <a:pt x="37239" y="129912"/>
                  </a:lnTo>
                  <a:lnTo>
                    <a:pt x="32189" y="137288"/>
                  </a:lnTo>
                  <a:lnTo>
                    <a:pt x="27976" y="144745"/>
                  </a:lnTo>
                  <a:lnTo>
                    <a:pt x="23474" y="151410"/>
                  </a:lnTo>
                  <a:lnTo>
                    <a:pt x="18780" y="157546"/>
                  </a:lnTo>
                  <a:lnTo>
                    <a:pt x="13956" y="163331"/>
                  </a:lnTo>
                  <a:lnTo>
                    <a:pt x="10741" y="168033"/>
                  </a:lnTo>
                  <a:lnTo>
                    <a:pt x="8597" y="172015"/>
                  </a:lnTo>
                  <a:lnTo>
                    <a:pt x="7168" y="175517"/>
                  </a:lnTo>
                  <a:lnTo>
                    <a:pt x="7062" y="179544"/>
                  </a:lnTo>
                  <a:lnTo>
                    <a:pt x="7838" y="183922"/>
                  </a:lnTo>
                  <a:lnTo>
                    <a:pt x="9202" y="188534"/>
                  </a:lnTo>
                  <a:lnTo>
                    <a:pt x="12651" y="192456"/>
                  </a:lnTo>
                  <a:lnTo>
                    <a:pt x="17491" y="195917"/>
                  </a:lnTo>
                  <a:lnTo>
                    <a:pt x="23257" y="199071"/>
                  </a:lnTo>
                  <a:lnTo>
                    <a:pt x="29642" y="201174"/>
                  </a:lnTo>
                  <a:lnTo>
                    <a:pt x="36438" y="202575"/>
                  </a:lnTo>
                  <a:lnTo>
                    <a:pt x="43509" y="203510"/>
                  </a:lnTo>
                  <a:lnTo>
                    <a:pt x="52456" y="204133"/>
                  </a:lnTo>
                  <a:lnTo>
                    <a:pt x="62654" y="204548"/>
                  </a:lnTo>
                  <a:lnTo>
                    <a:pt x="73686" y="204825"/>
                  </a:lnTo>
                  <a:lnTo>
                    <a:pt x="85274" y="204163"/>
                  </a:lnTo>
                  <a:lnTo>
                    <a:pt x="97233" y="202875"/>
                  </a:lnTo>
                  <a:lnTo>
                    <a:pt x="122656" y="199186"/>
                  </a:lnTo>
                  <a:lnTo>
                    <a:pt x="150888" y="194725"/>
                  </a:lnTo>
                  <a:lnTo>
                    <a:pt x="162989" y="192349"/>
                  </a:lnTo>
                  <a:lnTo>
                    <a:pt x="173596" y="189919"/>
                  </a:lnTo>
                  <a:lnTo>
                    <a:pt x="183207" y="187452"/>
                  </a:lnTo>
                  <a:lnTo>
                    <a:pt x="191308" y="185808"/>
                  </a:lnTo>
                  <a:lnTo>
                    <a:pt x="198402" y="184712"/>
                  </a:lnTo>
                  <a:lnTo>
                    <a:pt x="217670" y="1825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SMARTInkAnnotation32"/>
            <p:cNvSpPr/>
            <p:nvPr/>
          </p:nvSpPr>
          <p:spPr>
            <a:xfrm>
              <a:off x="2393640" y="2948760"/>
              <a:ext cx="151920" cy="1065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51953" h="106568">
                  <a:moveTo>
                    <a:pt x="52892" y="0"/>
                  </a:moveTo>
                  <a:lnTo>
                    <a:pt x="52892" y="6561"/>
                  </a:lnTo>
                  <a:lnTo>
                    <a:pt x="50634" y="9407"/>
                  </a:lnTo>
                  <a:lnTo>
                    <a:pt x="48847" y="11352"/>
                  </a:lnTo>
                  <a:lnTo>
                    <a:pt x="47655" y="14341"/>
                  </a:lnTo>
                  <a:lnTo>
                    <a:pt x="46861" y="18027"/>
                  </a:lnTo>
                  <a:lnTo>
                    <a:pt x="46331" y="22178"/>
                  </a:lnTo>
                  <a:lnTo>
                    <a:pt x="44285" y="25792"/>
                  </a:lnTo>
                  <a:lnTo>
                    <a:pt x="41227" y="29048"/>
                  </a:lnTo>
                  <a:lnTo>
                    <a:pt x="37496" y="32065"/>
                  </a:lnTo>
                  <a:lnTo>
                    <a:pt x="34161" y="35770"/>
                  </a:lnTo>
                  <a:lnTo>
                    <a:pt x="31091" y="39934"/>
                  </a:lnTo>
                  <a:lnTo>
                    <a:pt x="28198" y="44402"/>
                  </a:lnTo>
                  <a:lnTo>
                    <a:pt x="25423" y="48228"/>
                  </a:lnTo>
                  <a:lnTo>
                    <a:pt x="22726" y="51625"/>
                  </a:lnTo>
                  <a:lnTo>
                    <a:pt x="20081" y="54737"/>
                  </a:lnTo>
                  <a:lnTo>
                    <a:pt x="17472" y="58505"/>
                  </a:lnTo>
                  <a:lnTo>
                    <a:pt x="14885" y="62710"/>
                  </a:lnTo>
                  <a:lnTo>
                    <a:pt x="12314" y="67207"/>
                  </a:lnTo>
                  <a:lnTo>
                    <a:pt x="9753" y="71051"/>
                  </a:lnTo>
                  <a:lnTo>
                    <a:pt x="7200" y="74461"/>
                  </a:lnTo>
                  <a:lnTo>
                    <a:pt x="4650" y="77580"/>
                  </a:lnTo>
                  <a:lnTo>
                    <a:pt x="2951" y="81354"/>
                  </a:lnTo>
                  <a:lnTo>
                    <a:pt x="1818" y="85562"/>
                  </a:lnTo>
                  <a:lnTo>
                    <a:pt x="0" y="96394"/>
                  </a:lnTo>
                  <a:lnTo>
                    <a:pt x="1544" y="98129"/>
                  </a:lnTo>
                  <a:lnTo>
                    <a:pt x="4267" y="100133"/>
                  </a:lnTo>
                  <a:lnTo>
                    <a:pt x="7775" y="102315"/>
                  </a:lnTo>
                  <a:lnTo>
                    <a:pt x="11807" y="103770"/>
                  </a:lnTo>
                  <a:lnTo>
                    <a:pt x="16189" y="104740"/>
                  </a:lnTo>
                  <a:lnTo>
                    <a:pt x="20804" y="105387"/>
                  </a:lnTo>
                  <a:lnTo>
                    <a:pt x="25573" y="105818"/>
                  </a:lnTo>
                  <a:lnTo>
                    <a:pt x="30446" y="106105"/>
                  </a:lnTo>
                  <a:lnTo>
                    <a:pt x="35388" y="106297"/>
                  </a:lnTo>
                  <a:lnTo>
                    <a:pt x="54479" y="106567"/>
                  </a:lnTo>
                  <a:lnTo>
                    <a:pt x="61570" y="105758"/>
                  </a:lnTo>
                  <a:lnTo>
                    <a:pt x="68837" y="104372"/>
                  </a:lnTo>
                  <a:lnTo>
                    <a:pt x="102796" y="96064"/>
                  </a:lnTo>
                  <a:lnTo>
                    <a:pt x="111562" y="93676"/>
                  </a:lnTo>
                  <a:lnTo>
                    <a:pt x="128074" y="88765"/>
                  </a:lnTo>
                  <a:lnTo>
                    <a:pt x="134340" y="86270"/>
                  </a:lnTo>
                  <a:lnTo>
                    <a:pt x="139364" y="83760"/>
                  </a:lnTo>
                  <a:lnTo>
                    <a:pt x="151952" y="76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MARTInkAnnotation33"/>
            <p:cNvSpPr/>
            <p:nvPr/>
          </p:nvSpPr>
          <p:spPr>
            <a:xfrm>
              <a:off x="2522520" y="2956320"/>
              <a:ext cx="45720" cy="228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5721" h="228601">
                  <a:moveTo>
                    <a:pt x="45720" y="0"/>
                  </a:moveTo>
                  <a:lnTo>
                    <a:pt x="45720" y="4046"/>
                  </a:lnTo>
                  <a:lnTo>
                    <a:pt x="44874" y="6084"/>
                  </a:lnTo>
                  <a:lnTo>
                    <a:pt x="43463" y="8289"/>
                  </a:lnTo>
                  <a:lnTo>
                    <a:pt x="41675" y="10606"/>
                  </a:lnTo>
                  <a:lnTo>
                    <a:pt x="39637" y="13844"/>
                  </a:lnTo>
                  <a:lnTo>
                    <a:pt x="37432" y="17696"/>
                  </a:lnTo>
                  <a:lnTo>
                    <a:pt x="32723" y="26492"/>
                  </a:lnTo>
                  <a:lnTo>
                    <a:pt x="27808" y="36045"/>
                  </a:lnTo>
                  <a:lnTo>
                    <a:pt x="26159" y="41810"/>
                  </a:lnTo>
                  <a:lnTo>
                    <a:pt x="25059" y="48194"/>
                  </a:lnTo>
                  <a:lnTo>
                    <a:pt x="24326" y="54989"/>
                  </a:lnTo>
                  <a:lnTo>
                    <a:pt x="22991" y="62059"/>
                  </a:lnTo>
                  <a:lnTo>
                    <a:pt x="21254" y="69313"/>
                  </a:lnTo>
                  <a:lnTo>
                    <a:pt x="19249" y="76689"/>
                  </a:lnTo>
                  <a:lnTo>
                    <a:pt x="14764" y="91657"/>
                  </a:lnTo>
                  <a:lnTo>
                    <a:pt x="12383" y="99205"/>
                  </a:lnTo>
                  <a:lnTo>
                    <a:pt x="10795" y="106777"/>
                  </a:lnTo>
                  <a:lnTo>
                    <a:pt x="9737" y="114364"/>
                  </a:lnTo>
                  <a:lnTo>
                    <a:pt x="9032" y="121963"/>
                  </a:lnTo>
                  <a:lnTo>
                    <a:pt x="7714" y="129569"/>
                  </a:lnTo>
                  <a:lnTo>
                    <a:pt x="5990" y="137179"/>
                  </a:lnTo>
                  <a:lnTo>
                    <a:pt x="3993" y="144793"/>
                  </a:lnTo>
                  <a:lnTo>
                    <a:pt x="2662" y="152409"/>
                  </a:lnTo>
                  <a:lnTo>
                    <a:pt x="1775" y="160026"/>
                  </a:lnTo>
                  <a:lnTo>
                    <a:pt x="1183" y="167644"/>
                  </a:lnTo>
                  <a:lnTo>
                    <a:pt x="789" y="175263"/>
                  </a:lnTo>
                  <a:lnTo>
                    <a:pt x="351" y="190501"/>
                  </a:lnTo>
                  <a:lnTo>
                    <a:pt x="0" y="228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MARTInkAnnotation34"/>
            <p:cNvSpPr/>
            <p:nvPr/>
          </p:nvSpPr>
          <p:spPr>
            <a:xfrm>
              <a:off x="2728440" y="2941200"/>
              <a:ext cx="15120" cy="226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5241" h="22861">
                  <a:moveTo>
                    <a:pt x="15240" y="0"/>
                  </a:moveTo>
                  <a:lnTo>
                    <a:pt x="11195" y="4046"/>
                  </a:lnTo>
                  <a:lnTo>
                    <a:pt x="10004" y="6084"/>
                  </a:lnTo>
                  <a:lnTo>
                    <a:pt x="9209" y="8289"/>
                  </a:lnTo>
                  <a:lnTo>
                    <a:pt x="8680" y="10606"/>
                  </a:lnTo>
                  <a:lnTo>
                    <a:pt x="7480" y="12998"/>
                  </a:lnTo>
                  <a:lnTo>
                    <a:pt x="5833" y="15438"/>
                  </a:lnTo>
                  <a:lnTo>
                    <a:pt x="0" y="228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MARTInkAnnotation35"/>
            <p:cNvSpPr/>
            <p:nvPr/>
          </p:nvSpPr>
          <p:spPr>
            <a:xfrm>
              <a:off x="2621520" y="3047760"/>
              <a:ext cx="258840" cy="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9081" h="7621">
                  <a:moveTo>
                    <a:pt x="0" y="7620"/>
                  </a:moveTo>
                  <a:lnTo>
                    <a:pt x="4045" y="7620"/>
                  </a:lnTo>
                  <a:lnTo>
                    <a:pt x="6930" y="6773"/>
                  </a:lnTo>
                  <a:lnTo>
                    <a:pt x="10547" y="5362"/>
                  </a:lnTo>
                  <a:lnTo>
                    <a:pt x="14651" y="3575"/>
                  </a:lnTo>
                  <a:lnTo>
                    <a:pt x="18234" y="2383"/>
                  </a:lnTo>
                  <a:lnTo>
                    <a:pt x="21469" y="1589"/>
                  </a:lnTo>
                  <a:lnTo>
                    <a:pt x="24473" y="1059"/>
                  </a:lnTo>
                  <a:lnTo>
                    <a:pt x="29015" y="706"/>
                  </a:lnTo>
                  <a:lnTo>
                    <a:pt x="34583" y="471"/>
                  </a:lnTo>
                  <a:lnTo>
                    <a:pt x="47544" y="209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SMARTInkAnnotation36"/>
            <p:cNvSpPr/>
            <p:nvPr/>
          </p:nvSpPr>
          <p:spPr>
            <a:xfrm>
              <a:off x="2728440" y="3131640"/>
              <a:ext cx="7560" cy="75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621" h="7621">
                  <a:moveTo>
                    <a:pt x="0" y="0"/>
                  </a:moveTo>
                  <a:lnTo>
                    <a:pt x="762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SMARTInkAnnotation37"/>
            <p:cNvSpPr/>
            <p:nvPr/>
          </p:nvSpPr>
          <p:spPr>
            <a:xfrm>
              <a:off x="4229640" y="2933640"/>
              <a:ext cx="27000" cy="1904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7043" h="190501">
                  <a:moveTo>
                    <a:pt x="15241" y="0"/>
                  </a:moveTo>
                  <a:lnTo>
                    <a:pt x="15241" y="4045"/>
                  </a:lnTo>
                  <a:lnTo>
                    <a:pt x="16087" y="6084"/>
                  </a:lnTo>
                  <a:lnTo>
                    <a:pt x="17498" y="8289"/>
                  </a:lnTo>
                  <a:lnTo>
                    <a:pt x="19285" y="10606"/>
                  </a:lnTo>
                  <a:lnTo>
                    <a:pt x="20477" y="12997"/>
                  </a:lnTo>
                  <a:lnTo>
                    <a:pt x="21272" y="15438"/>
                  </a:lnTo>
                  <a:lnTo>
                    <a:pt x="21801" y="17912"/>
                  </a:lnTo>
                  <a:lnTo>
                    <a:pt x="23001" y="21255"/>
                  </a:lnTo>
                  <a:lnTo>
                    <a:pt x="24648" y="25177"/>
                  </a:lnTo>
                  <a:lnTo>
                    <a:pt x="26592" y="29485"/>
                  </a:lnTo>
                  <a:lnTo>
                    <a:pt x="27042" y="34049"/>
                  </a:lnTo>
                  <a:lnTo>
                    <a:pt x="26494" y="38786"/>
                  </a:lnTo>
                  <a:lnTo>
                    <a:pt x="25283" y="43638"/>
                  </a:lnTo>
                  <a:lnTo>
                    <a:pt x="24476" y="49412"/>
                  </a:lnTo>
                  <a:lnTo>
                    <a:pt x="23937" y="55801"/>
                  </a:lnTo>
                  <a:lnTo>
                    <a:pt x="23578" y="62601"/>
                  </a:lnTo>
                  <a:lnTo>
                    <a:pt x="22492" y="69674"/>
                  </a:lnTo>
                  <a:lnTo>
                    <a:pt x="20922" y="76929"/>
                  </a:lnTo>
                  <a:lnTo>
                    <a:pt x="19028" y="84306"/>
                  </a:lnTo>
                  <a:lnTo>
                    <a:pt x="17765" y="91764"/>
                  </a:lnTo>
                  <a:lnTo>
                    <a:pt x="16924" y="99276"/>
                  </a:lnTo>
                  <a:lnTo>
                    <a:pt x="16363" y="106824"/>
                  </a:lnTo>
                  <a:lnTo>
                    <a:pt x="15989" y="113549"/>
                  </a:lnTo>
                  <a:lnTo>
                    <a:pt x="15573" y="125538"/>
                  </a:lnTo>
                  <a:lnTo>
                    <a:pt x="14615" y="131105"/>
                  </a:lnTo>
                  <a:lnTo>
                    <a:pt x="13130" y="136510"/>
                  </a:lnTo>
                  <a:lnTo>
                    <a:pt x="11294" y="141807"/>
                  </a:lnTo>
                  <a:lnTo>
                    <a:pt x="10069" y="147031"/>
                  </a:lnTo>
                  <a:lnTo>
                    <a:pt x="9253" y="152207"/>
                  </a:lnTo>
                  <a:lnTo>
                    <a:pt x="8709" y="157352"/>
                  </a:lnTo>
                  <a:lnTo>
                    <a:pt x="7500" y="162474"/>
                  </a:lnTo>
                  <a:lnTo>
                    <a:pt x="5846" y="167583"/>
                  </a:lnTo>
                  <a:lnTo>
                    <a:pt x="3897" y="172682"/>
                  </a:lnTo>
                  <a:lnTo>
                    <a:pt x="2599" y="176928"/>
                  </a:lnTo>
                  <a:lnTo>
                    <a:pt x="1732" y="180606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MARTInkAnnotation38"/>
            <p:cNvSpPr/>
            <p:nvPr/>
          </p:nvSpPr>
          <p:spPr>
            <a:xfrm>
              <a:off x="4214160" y="306324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0"/>
                  </a:moveTo>
                  <a:lnTo>
                    <a:pt x="17167" y="0"/>
                  </a:lnTo>
                  <a:lnTo>
                    <a:pt x="21604" y="847"/>
                  </a:lnTo>
                  <a:lnTo>
                    <a:pt x="27103" y="2258"/>
                  </a:lnTo>
                  <a:lnTo>
                    <a:pt x="33308" y="4045"/>
                  </a:lnTo>
                  <a:lnTo>
                    <a:pt x="39139" y="5237"/>
                  </a:lnTo>
                  <a:lnTo>
                    <a:pt x="44719" y="6031"/>
                  </a:lnTo>
                  <a:lnTo>
                    <a:pt x="50133" y="6561"/>
                  </a:lnTo>
                  <a:lnTo>
                    <a:pt x="57128" y="6914"/>
                  </a:lnTo>
                  <a:lnTo>
                    <a:pt x="73932" y="7306"/>
                  </a:lnTo>
                  <a:lnTo>
                    <a:pt x="82308" y="8257"/>
                  </a:lnTo>
                  <a:lnTo>
                    <a:pt x="90432" y="9738"/>
                  </a:lnTo>
                  <a:lnTo>
                    <a:pt x="98388" y="11573"/>
                  </a:lnTo>
                  <a:lnTo>
                    <a:pt x="107079" y="12795"/>
                  </a:lnTo>
                  <a:lnTo>
                    <a:pt x="116258" y="13610"/>
                  </a:lnTo>
                  <a:lnTo>
                    <a:pt x="125766" y="14153"/>
                  </a:lnTo>
                  <a:lnTo>
                    <a:pt x="145360" y="14757"/>
                  </a:lnTo>
                  <a:lnTo>
                    <a:pt x="155326" y="14918"/>
                  </a:lnTo>
                  <a:lnTo>
                    <a:pt x="163664" y="15872"/>
                  </a:lnTo>
                  <a:lnTo>
                    <a:pt x="170916" y="17355"/>
                  </a:lnTo>
                  <a:lnTo>
                    <a:pt x="190500" y="228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SMARTInkAnnotation39"/>
            <p:cNvSpPr/>
            <p:nvPr/>
          </p:nvSpPr>
          <p:spPr>
            <a:xfrm>
              <a:off x="4557240" y="3009600"/>
              <a:ext cx="114120" cy="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4301" h="1">
                  <a:moveTo>
                    <a:pt x="0" y="0"/>
                  </a:move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SMARTInkAnnotation40"/>
            <p:cNvSpPr/>
            <p:nvPr/>
          </p:nvSpPr>
          <p:spPr>
            <a:xfrm>
              <a:off x="4701960" y="2948760"/>
              <a:ext cx="212400" cy="2055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12444" h="205741">
                  <a:moveTo>
                    <a:pt x="68566" y="0"/>
                  </a:moveTo>
                  <a:lnTo>
                    <a:pt x="50654" y="17912"/>
                  </a:lnTo>
                  <a:lnTo>
                    <a:pt x="49005" y="20408"/>
                  </a:lnTo>
                  <a:lnTo>
                    <a:pt x="47172" y="25439"/>
                  </a:lnTo>
                  <a:lnTo>
                    <a:pt x="44990" y="28813"/>
                  </a:lnTo>
                  <a:lnTo>
                    <a:pt x="41842" y="32755"/>
                  </a:lnTo>
                  <a:lnTo>
                    <a:pt x="38050" y="37077"/>
                  </a:lnTo>
                  <a:lnTo>
                    <a:pt x="34675" y="41651"/>
                  </a:lnTo>
                  <a:lnTo>
                    <a:pt x="31578" y="46394"/>
                  </a:lnTo>
                  <a:lnTo>
                    <a:pt x="28668" y="51249"/>
                  </a:lnTo>
                  <a:lnTo>
                    <a:pt x="25033" y="55333"/>
                  </a:lnTo>
                  <a:lnTo>
                    <a:pt x="20917" y="58902"/>
                  </a:lnTo>
                  <a:lnTo>
                    <a:pt x="16480" y="62128"/>
                  </a:lnTo>
                  <a:lnTo>
                    <a:pt x="12676" y="65125"/>
                  </a:lnTo>
                  <a:lnTo>
                    <a:pt x="6190" y="70714"/>
                  </a:lnTo>
                  <a:lnTo>
                    <a:pt x="4122" y="74236"/>
                  </a:lnTo>
                  <a:lnTo>
                    <a:pt x="2743" y="78277"/>
                  </a:lnTo>
                  <a:lnTo>
                    <a:pt x="531" y="88840"/>
                  </a:lnTo>
                  <a:lnTo>
                    <a:pt x="147" y="94715"/>
                  </a:lnTo>
                  <a:lnTo>
                    <a:pt x="0" y="98679"/>
                  </a:lnTo>
                  <a:lnTo>
                    <a:pt x="4035" y="98947"/>
                  </a:lnTo>
                  <a:lnTo>
                    <a:pt x="106692" y="99060"/>
                  </a:lnTo>
                  <a:lnTo>
                    <a:pt x="114304" y="99907"/>
                  </a:lnTo>
                  <a:lnTo>
                    <a:pt x="121918" y="101317"/>
                  </a:lnTo>
                  <a:lnTo>
                    <a:pt x="129534" y="103105"/>
                  </a:lnTo>
                  <a:lnTo>
                    <a:pt x="137151" y="105144"/>
                  </a:lnTo>
                  <a:lnTo>
                    <a:pt x="152388" y="109666"/>
                  </a:lnTo>
                  <a:lnTo>
                    <a:pt x="159161" y="112057"/>
                  </a:lnTo>
                  <a:lnTo>
                    <a:pt x="165370" y="114498"/>
                  </a:lnTo>
                  <a:lnTo>
                    <a:pt x="171202" y="116972"/>
                  </a:lnTo>
                  <a:lnTo>
                    <a:pt x="182198" y="121979"/>
                  </a:lnTo>
                  <a:lnTo>
                    <a:pt x="187501" y="124499"/>
                  </a:lnTo>
                  <a:lnTo>
                    <a:pt x="192729" y="127873"/>
                  </a:lnTo>
                  <a:lnTo>
                    <a:pt x="197908" y="131815"/>
                  </a:lnTo>
                  <a:lnTo>
                    <a:pt x="203054" y="136137"/>
                  </a:lnTo>
                  <a:lnTo>
                    <a:pt x="206485" y="139865"/>
                  </a:lnTo>
                  <a:lnTo>
                    <a:pt x="210297" y="146264"/>
                  </a:lnTo>
                  <a:lnTo>
                    <a:pt x="211313" y="150003"/>
                  </a:lnTo>
                  <a:lnTo>
                    <a:pt x="211991" y="154189"/>
                  </a:lnTo>
                  <a:lnTo>
                    <a:pt x="212443" y="158672"/>
                  </a:lnTo>
                  <a:lnTo>
                    <a:pt x="211051" y="162508"/>
                  </a:lnTo>
                  <a:lnTo>
                    <a:pt x="208430" y="165912"/>
                  </a:lnTo>
                  <a:lnTo>
                    <a:pt x="201847" y="171952"/>
                  </a:lnTo>
                  <a:lnTo>
                    <a:pt x="196100" y="177459"/>
                  </a:lnTo>
                  <a:lnTo>
                    <a:pt x="184059" y="189364"/>
                  </a:lnTo>
                  <a:lnTo>
                    <a:pt x="179428" y="193129"/>
                  </a:lnTo>
                  <a:lnTo>
                    <a:pt x="174648" y="196486"/>
                  </a:lnTo>
                  <a:lnTo>
                    <a:pt x="169767" y="199571"/>
                  </a:lnTo>
                  <a:lnTo>
                    <a:pt x="164820" y="201627"/>
                  </a:lnTo>
                  <a:lnTo>
                    <a:pt x="159829" y="202998"/>
                  </a:lnTo>
                  <a:lnTo>
                    <a:pt x="154808" y="203912"/>
                  </a:lnTo>
                  <a:lnTo>
                    <a:pt x="148921" y="204521"/>
                  </a:lnTo>
                  <a:lnTo>
                    <a:pt x="142456" y="204928"/>
                  </a:lnTo>
                  <a:lnTo>
                    <a:pt x="125737" y="205499"/>
                  </a:lnTo>
                  <a:lnTo>
                    <a:pt x="114286" y="2057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MARTInkAnnotation41"/>
            <p:cNvSpPr/>
            <p:nvPr/>
          </p:nvSpPr>
          <p:spPr>
            <a:xfrm>
              <a:off x="4816080" y="291816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9" y="2258"/>
                  </a:lnTo>
                  <a:lnTo>
                    <a:pt x="10606" y="4046"/>
                  </a:lnTo>
                  <a:lnTo>
                    <a:pt x="12997" y="5237"/>
                  </a:lnTo>
                  <a:lnTo>
                    <a:pt x="15439" y="6031"/>
                  </a:lnTo>
                  <a:lnTo>
                    <a:pt x="17912" y="6561"/>
                  </a:lnTo>
                  <a:lnTo>
                    <a:pt x="21254" y="6914"/>
                  </a:lnTo>
                  <a:lnTo>
                    <a:pt x="25176" y="7149"/>
                  </a:lnTo>
                  <a:lnTo>
                    <a:pt x="29484" y="7306"/>
                  </a:lnTo>
                  <a:lnTo>
                    <a:pt x="60732" y="7558"/>
                  </a:lnTo>
                  <a:lnTo>
                    <a:pt x="12954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MARTInkAnnotation42"/>
            <p:cNvSpPr/>
            <p:nvPr/>
          </p:nvSpPr>
          <p:spPr>
            <a:xfrm>
              <a:off x="5350680" y="2941200"/>
              <a:ext cx="44280" cy="7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4530" h="7621">
                  <a:moveTo>
                    <a:pt x="-21007" y="7620"/>
                  </a:moveTo>
                  <a:lnTo>
                    <a:pt x="-25052" y="3575"/>
                  </a:lnTo>
                  <a:lnTo>
                    <a:pt x="-27091" y="2383"/>
                  </a:lnTo>
                  <a:lnTo>
                    <a:pt x="-29296" y="1589"/>
                  </a:lnTo>
                  <a:lnTo>
                    <a:pt x="-31613" y="1059"/>
                  </a:lnTo>
                  <a:lnTo>
                    <a:pt x="31531" y="706"/>
                  </a:lnTo>
                  <a:lnTo>
                    <a:pt x="29090" y="471"/>
                  </a:lnTo>
                  <a:lnTo>
                    <a:pt x="26617" y="314"/>
                  </a:lnTo>
                  <a:lnTo>
                    <a:pt x="21610" y="140"/>
                  </a:lnTo>
                  <a:lnTo>
                    <a:pt x="7930" y="8"/>
                  </a:lnTo>
                  <a:lnTo>
                    <a:pt x="6583" y="852"/>
                  </a:lnTo>
                  <a:lnTo>
                    <a:pt x="4838" y="2262"/>
                  </a:lnTo>
                  <a:lnTo>
                    <a:pt x="0" y="6562"/>
                  </a:lnTo>
                  <a:lnTo>
                    <a:pt x="450" y="6915"/>
                  </a:lnTo>
                  <a:lnTo>
                    <a:pt x="1596" y="7150"/>
                  </a:lnTo>
                  <a:lnTo>
                    <a:pt x="3207" y="7306"/>
                  </a:lnTo>
                  <a:lnTo>
                    <a:pt x="5128" y="7411"/>
                  </a:lnTo>
                  <a:lnTo>
                    <a:pt x="9520" y="7527"/>
                  </a:lnTo>
                  <a:lnTo>
                    <a:pt x="-21545" y="7620"/>
                  </a:lnTo>
                  <a:lnTo>
                    <a:pt x="-21366" y="6774"/>
                  </a:lnTo>
                  <a:lnTo>
                    <a:pt x="-21247" y="5362"/>
                  </a:lnTo>
                  <a:lnTo>
                    <a:pt x="-2100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MARTInkAnnotation43"/>
            <p:cNvSpPr/>
            <p:nvPr/>
          </p:nvSpPr>
          <p:spPr>
            <a:xfrm>
              <a:off x="5243040" y="3025080"/>
              <a:ext cx="236160" cy="151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6221" h="15239">
                  <a:moveTo>
                    <a:pt x="0" y="7618"/>
                  </a:moveTo>
                  <a:lnTo>
                    <a:pt x="4044" y="7618"/>
                  </a:lnTo>
                  <a:lnTo>
                    <a:pt x="6083" y="6771"/>
                  </a:lnTo>
                  <a:lnTo>
                    <a:pt x="8288" y="5360"/>
                  </a:lnTo>
                  <a:lnTo>
                    <a:pt x="10606" y="3573"/>
                  </a:lnTo>
                  <a:lnTo>
                    <a:pt x="12997" y="2381"/>
                  </a:lnTo>
                  <a:lnTo>
                    <a:pt x="15438" y="1587"/>
                  </a:lnTo>
                  <a:lnTo>
                    <a:pt x="17911" y="1057"/>
                  </a:lnTo>
                  <a:lnTo>
                    <a:pt x="21254" y="704"/>
                  </a:lnTo>
                  <a:lnTo>
                    <a:pt x="25176" y="469"/>
                  </a:lnTo>
                  <a:lnTo>
                    <a:pt x="29484" y="312"/>
                  </a:lnTo>
                  <a:lnTo>
                    <a:pt x="47682" y="91"/>
                  </a:lnTo>
                  <a:lnTo>
                    <a:pt x="132262" y="0"/>
                  </a:lnTo>
                  <a:lnTo>
                    <a:pt x="141515" y="847"/>
                  </a:lnTo>
                  <a:lnTo>
                    <a:pt x="150224" y="2257"/>
                  </a:lnTo>
                  <a:lnTo>
                    <a:pt x="158569" y="4044"/>
                  </a:lnTo>
                  <a:lnTo>
                    <a:pt x="166672" y="5235"/>
                  </a:lnTo>
                  <a:lnTo>
                    <a:pt x="174615" y="6030"/>
                  </a:lnTo>
                  <a:lnTo>
                    <a:pt x="182450" y="6559"/>
                  </a:lnTo>
                  <a:lnTo>
                    <a:pt x="195671" y="7148"/>
                  </a:lnTo>
                  <a:lnTo>
                    <a:pt x="213911" y="7525"/>
                  </a:lnTo>
                  <a:lnTo>
                    <a:pt x="217114" y="8402"/>
                  </a:lnTo>
                  <a:lnTo>
                    <a:pt x="220096" y="9835"/>
                  </a:lnTo>
                  <a:lnTo>
                    <a:pt x="222930" y="11636"/>
                  </a:lnTo>
                  <a:lnTo>
                    <a:pt x="225667" y="12837"/>
                  </a:lnTo>
                  <a:lnTo>
                    <a:pt x="228338" y="13637"/>
                  </a:lnTo>
                  <a:lnTo>
                    <a:pt x="236220" y="15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SMARTInkAnnotation44"/>
            <p:cNvSpPr/>
            <p:nvPr/>
          </p:nvSpPr>
          <p:spPr>
            <a:xfrm>
              <a:off x="5334480" y="3085920"/>
              <a:ext cx="37800" cy="15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7997" h="15241">
                  <a:moveTo>
                    <a:pt x="7516" y="0"/>
                  </a:moveTo>
                  <a:lnTo>
                    <a:pt x="30272" y="0"/>
                  </a:lnTo>
                  <a:lnTo>
                    <a:pt x="23806" y="0"/>
                  </a:lnTo>
                  <a:lnTo>
                    <a:pt x="22610" y="847"/>
                  </a:lnTo>
                  <a:lnTo>
                    <a:pt x="20965" y="2258"/>
                  </a:lnTo>
                  <a:lnTo>
                    <a:pt x="19023" y="4045"/>
                  </a:lnTo>
                  <a:lnTo>
                    <a:pt x="16881" y="5237"/>
                  </a:lnTo>
                  <a:lnTo>
                    <a:pt x="14606" y="6031"/>
                  </a:lnTo>
                  <a:lnTo>
                    <a:pt x="8916" y="7306"/>
                  </a:lnTo>
                  <a:lnTo>
                    <a:pt x="7603" y="7411"/>
                  </a:lnTo>
                  <a:lnTo>
                    <a:pt x="5881" y="7481"/>
                  </a:lnTo>
                  <a:lnTo>
                    <a:pt x="0" y="7618"/>
                  </a:lnTo>
                  <a:lnTo>
                    <a:pt x="2201" y="9877"/>
                  </a:lnTo>
                  <a:lnTo>
                    <a:pt x="3972" y="11665"/>
                  </a:lnTo>
                  <a:lnTo>
                    <a:pt x="6000" y="12856"/>
                  </a:lnTo>
                  <a:lnTo>
                    <a:pt x="8199" y="13651"/>
                  </a:lnTo>
                  <a:lnTo>
                    <a:pt x="10512" y="14181"/>
                  </a:lnTo>
                  <a:lnTo>
                    <a:pt x="12899" y="14534"/>
                  </a:lnTo>
                  <a:lnTo>
                    <a:pt x="15338" y="14769"/>
                  </a:lnTo>
                  <a:lnTo>
                    <a:pt x="17811" y="14926"/>
                  </a:lnTo>
                  <a:lnTo>
                    <a:pt x="25074" y="15100"/>
                  </a:lnTo>
                  <a:lnTo>
                    <a:pt x="-27540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SMARTInkAnnotation45"/>
            <p:cNvSpPr/>
            <p:nvPr/>
          </p:nvSpPr>
          <p:spPr>
            <a:xfrm>
              <a:off x="5570640" y="2971800"/>
              <a:ext cx="37800" cy="137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38101" h="137161">
                  <a:moveTo>
                    <a:pt x="38100" y="0"/>
                  </a:moveTo>
                  <a:lnTo>
                    <a:pt x="38100" y="4045"/>
                  </a:lnTo>
                  <a:lnTo>
                    <a:pt x="37253" y="5237"/>
                  </a:lnTo>
                  <a:lnTo>
                    <a:pt x="35842" y="6031"/>
                  </a:lnTo>
                  <a:lnTo>
                    <a:pt x="34055" y="6561"/>
                  </a:lnTo>
                  <a:lnTo>
                    <a:pt x="32863" y="7760"/>
                  </a:lnTo>
                  <a:lnTo>
                    <a:pt x="32069" y="9407"/>
                  </a:lnTo>
                  <a:lnTo>
                    <a:pt x="31538" y="11352"/>
                  </a:lnTo>
                  <a:lnTo>
                    <a:pt x="31186" y="14341"/>
                  </a:lnTo>
                  <a:lnTo>
                    <a:pt x="30950" y="18027"/>
                  </a:lnTo>
                  <a:lnTo>
                    <a:pt x="30794" y="22178"/>
                  </a:lnTo>
                  <a:lnTo>
                    <a:pt x="29842" y="25792"/>
                  </a:lnTo>
                  <a:lnTo>
                    <a:pt x="28361" y="29048"/>
                  </a:lnTo>
                  <a:lnTo>
                    <a:pt x="26527" y="32066"/>
                  </a:lnTo>
                  <a:lnTo>
                    <a:pt x="24458" y="36617"/>
                  </a:lnTo>
                  <a:lnTo>
                    <a:pt x="22232" y="42192"/>
                  </a:lnTo>
                  <a:lnTo>
                    <a:pt x="19902" y="48448"/>
                  </a:lnTo>
                  <a:lnTo>
                    <a:pt x="17501" y="54312"/>
                  </a:lnTo>
                  <a:lnTo>
                    <a:pt x="15054" y="59915"/>
                  </a:lnTo>
                  <a:lnTo>
                    <a:pt x="12576" y="65343"/>
                  </a:lnTo>
                  <a:lnTo>
                    <a:pt x="10924" y="70655"/>
                  </a:lnTo>
                  <a:lnTo>
                    <a:pt x="9822" y="75891"/>
                  </a:lnTo>
                  <a:lnTo>
                    <a:pt x="9088" y="81074"/>
                  </a:lnTo>
                  <a:lnTo>
                    <a:pt x="7752" y="86222"/>
                  </a:lnTo>
                  <a:lnTo>
                    <a:pt x="6014" y="91348"/>
                  </a:lnTo>
                  <a:lnTo>
                    <a:pt x="4009" y="96459"/>
                  </a:lnTo>
                  <a:lnTo>
                    <a:pt x="2673" y="101559"/>
                  </a:lnTo>
                  <a:lnTo>
                    <a:pt x="1782" y="106653"/>
                  </a:lnTo>
                  <a:lnTo>
                    <a:pt x="1188" y="111742"/>
                  </a:lnTo>
                  <a:lnTo>
                    <a:pt x="791" y="115981"/>
                  </a:lnTo>
                  <a:lnTo>
                    <a:pt x="528" y="119654"/>
                  </a:lnTo>
                  <a:lnTo>
                    <a:pt x="352" y="122950"/>
                  </a:lnTo>
                  <a:lnTo>
                    <a:pt x="156" y="128869"/>
                  </a:lnTo>
                  <a:lnTo>
                    <a:pt x="0" y="137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SMARTInkAnnotation46"/>
            <p:cNvSpPr/>
            <p:nvPr/>
          </p:nvSpPr>
          <p:spPr>
            <a:xfrm>
              <a:off x="5715720" y="2948760"/>
              <a:ext cx="158760" cy="208800"/>
            </a:xfrm>
            <a:custGeom>
              <a:avLst/>
              <a:gdLst>
                <a:gd name="textAreaLeft" fmla="*/ 0 w 158760"/>
                <a:gd name="textAreaRight" fmla="*/ 158760 w 15876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159068" h="208761">
                  <a:moveTo>
                    <a:pt x="30043" y="30480"/>
                  </a:moveTo>
                  <a:lnTo>
                    <a:pt x="25998" y="34526"/>
                  </a:lnTo>
                  <a:lnTo>
                    <a:pt x="24806" y="36564"/>
                  </a:lnTo>
                  <a:lnTo>
                    <a:pt x="22282" y="44324"/>
                  </a:lnTo>
                  <a:lnTo>
                    <a:pt x="20636" y="48176"/>
                  </a:lnTo>
                  <a:lnTo>
                    <a:pt x="18691" y="52437"/>
                  </a:lnTo>
                  <a:lnTo>
                    <a:pt x="16548" y="57818"/>
                  </a:lnTo>
                  <a:lnTo>
                    <a:pt x="11910" y="70570"/>
                  </a:lnTo>
                  <a:lnTo>
                    <a:pt x="9487" y="76680"/>
                  </a:lnTo>
                  <a:lnTo>
                    <a:pt x="7025" y="82447"/>
                  </a:lnTo>
                  <a:lnTo>
                    <a:pt x="4538" y="87985"/>
                  </a:lnTo>
                  <a:lnTo>
                    <a:pt x="2880" y="94216"/>
                  </a:lnTo>
                  <a:lnTo>
                    <a:pt x="1774" y="100911"/>
                  </a:lnTo>
                  <a:lnTo>
                    <a:pt x="1037" y="107914"/>
                  </a:lnTo>
                  <a:lnTo>
                    <a:pt x="546" y="115123"/>
                  </a:lnTo>
                  <a:lnTo>
                    <a:pt x="218" y="122468"/>
                  </a:lnTo>
                  <a:lnTo>
                    <a:pt x="0" y="129906"/>
                  </a:lnTo>
                  <a:lnTo>
                    <a:pt x="701" y="136557"/>
                  </a:lnTo>
                  <a:lnTo>
                    <a:pt x="2015" y="142685"/>
                  </a:lnTo>
                  <a:lnTo>
                    <a:pt x="5733" y="154855"/>
                  </a:lnTo>
                  <a:lnTo>
                    <a:pt x="10207" y="168731"/>
                  </a:lnTo>
                  <a:lnTo>
                    <a:pt x="14279" y="175141"/>
                  </a:lnTo>
                  <a:lnTo>
                    <a:pt x="19534" y="181108"/>
                  </a:lnTo>
                  <a:lnTo>
                    <a:pt x="25577" y="186778"/>
                  </a:lnTo>
                  <a:lnTo>
                    <a:pt x="32146" y="191406"/>
                  </a:lnTo>
                  <a:lnTo>
                    <a:pt x="39065" y="195337"/>
                  </a:lnTo>
                  <a:lnTo>
                    <a:pt x="46217" y="198805"/>
                  </a:lnTo>
                  <a:lnTo>
                    <a:pt x="53526" y="201963"/>
                  </a:lnTo>
                  <a:lnTo>
                    <a:pt x="60938" y="204915"/>
                  </a:lnTo>
                  <a:lnTo>
                    <a:pt x="68420" y="207730"/>
                  </a:lnTo>
                  <a:lnTo>
                    <a:pt x="75948" y="208760"/>
                  </a:lnTo>
                  <a:lnTo>
                    <a:pt x="83506" y="208600"/>
                  </a:lnTo>
                  <a:lnTo>
                    <a:pt x="91085" y="207647"/>
                  </a:lnTo>
                  <a:lnTo>
                    <a:pt x="97831" y="207011"/>
                  </a:lnTo>
                  <a:lnTo>
                    <a:pt x="104022" y="206587"/>
                  </a:lnTo>
                  <a:lnTo>
                    <a:pt x="109842" y="206305"/>
                  </a:lnTo>
                  <a:lnTo>
                    <a:pt x="116262" y="204424"/>
                  </a:lnTo>
                  <a:lnTo>
                    <a:pt x="123082" y="201475"/>
                  </a:lnTo>
                  <a:lnTo>
                    <a:pt x="130170" y="197817"/>
                  </a:lnTo>
                  <a:lnTo>
                    <a:pt x="135741" y="193685"/>
                  </a:lnTo>
                  <a:lnTo>
                    <a:pt x="140301" y="189236"/>
                  </a:lnTo>
                  <a:lnTo>
                    <a:pt x="144188" y="184578"/>
                  </a:lnTo>
                  <a:lnTo>
                    <a:pt x="147627" y="178932"/>
                  </a:lnTo>
                  <a:lnTo>
                    <a:pt x="150766" y="172628"/>
                  </a:lnTo>
                  <a:lnTo>
                    <a:pt x="153705" y="165885"/>
                  </a:lnTo>
                  <a:lnTo>
                    <a:pt x="155664" y="158850"/>
                  </a:lnTo>
                  <a:lnTo>
                    <a:pt x="156970" y="151620"/>
                  </a:lnTo>
                  <a:lnTo>
                    <a:pt x="157841" y="144260"/>
                  </a:lnTo>
                  <a:lnTo>
                    <a:pt x="158422" y="135967"/>
                  </a:lnTo>
                  <a:lnTo>
                    <a:pt x="158808" y="127051"/>
                  </a:lnTo>
                  <a:lnTo>
                    <a:pt x="159067" y="117721"/>
                  </a:lnTo>
                  <a:lnTo>
                    <a:pt x="158392" y="108961"/>
                  </a:lnTo>
                  <a:lnTo>
                    <a:pt x="157095" y="100580"/>
                  </a:lnTo>
                  <a:lnTo>
                    <a:pt x="155385" y="92454"/>
                  </a:lnTo>
                  <a:lnTo>
                    <a:pt x="152551" y="84496"/>
                  </a:lnTo>
                  <a:lnTo>
                    <a:pt x="148968" y="76651"/>
                  </a:lnTo>
                  <a:lnTo>
                    <a:pt x="144887" y="68880"/>
                  </a:lnTo>
                  <a:lnTo>
                    <a:pt x="139626" y="61160"/>
                  </a:lnTo>
                  <a:lnTo>
                    <a:pt x="133577" y="53473"/>
                  </a:lnTo>
                  <a:lnTo>
                    <a:pt x="127006" y="45809"/>
                  </a:lnTo>
                  <a:lnTo>
                    <a:pt x="120932" y="39853"/>
                  </a:lnTo>
                  <a:lnTo>
                    <a:pt x="115189" y="35035"/>
                  </a:lnTo>
                  <a:lnTo>
                    <a:pt x="109667" y="30977"/>
                  </a:lnTo>
                  <a:lnTo>
                    <a:pt x="102599" y="26578"/>
                  </a:lnTo>
                  <a:lnTo>
                    <a:pt x="94501" y="21952"/>
                  </a:lnTo>
                  <a:lnTo>
                    <a:pt x="85714" y="17175"/>
                  </a:lnTo>
                  <a:lnTo>
                    <a:pt x="77317" y="13990"/>
                  </a:lnTo>
                  <a:lnTo>
                    <a:pt x="69179" y="11866"/>
                  </a:lnTo>
                  <a:lnTo>
                    <a:pt x="61214" y="10451"/>
                  </a:lnTo>
                  <a:lnTo>
                    <a:pt x="54210" y="8661"/>
                  </a:lnTo>
                  <a:lnTo>
                    <a:pt x="47848" y="6620"/>
                  </a:lnTo>
                  <a:lnTo>
                    <a:pt x="41913" y="4414"/>
                  </a:lnTo>
                  <a:lnTo>
                    <a:pt x="37109" y="2942"/>
                  </a:lnTo>
                  <a:lnTo>
                    <a:pt x="33060" y="1962"/>
                  </a:lnTo>
                  <a:lnTo>
                    <a:pt x="224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SMARTInkAnnotation47"/>
            <p:cNvSpPr/>
            <p:nvPr/>
          </p:nvSpPr>
          <p:spPr>
            <a:xfrm>
              <a:off x="2941560" y="345204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1" h="15241">
                  <a:moveTo>
                    <a:pt x="0" y="0"/>
                  </a:moveTo>
                  <a:lnTo>
                    <a:pt x="21212" y="0"/>
                  </a:lnTo>
                  <a:lnTo>
                    <a:pt x="26841" y="847"/>
                  </a:lnTo>
                  <a:lnTo>
                    <a:pt x="33134" y="2258"/>
                  </a:lnTo>
                  <a:lnTo>
                    <a:pt x="39870" y="4045"/>
                  </a:lnTo>
                  <a:lnTo>
                    <a:pt x="47747" y="5237"/>
                  </a:lnTo>
                  <a:lnTo>
                    <a:pt x="56384" y="6031"/>
                  </a:lnTo>
                  <a:lnTo>
                    <a:pt x="65530" y="6561"/>
                  </a:lnTo>
                  <a:lnTo>
                    <a:pt x="86980" y="7149"/>
                  </a:lnTo>
                  <a:lnTo>
                    <a:pt x="98627" y="7306"/>
                  </a:lnTo>
                  <a:lnTo>
                    <a:pt x="109778" y="8257"/>
                  </a:lnTo>
                  <a:lnTo>
                    <a:pt x="120598" y="9738"/>
                  </a:lnTo>
                  <a:lnTo>
                    <a:pt x="131199" y="11572"/>
                  </a:lnTo>
                  <a:lnTo>
                    <a:pt x="142499" y="12795"/>
                  </a:lnTo>
                  <a:lnTo>
                    <a:pt x="154266" y="13610"/>
                  </a:lnTo>
                  <a:lnTo>
                    <a:pt x="176936" y="14516"/>
                  </a:lnTo>
                  <a:lnTo>
                    <a:pt x="213360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SMARTInkAnnotation48"/>
            <p:cNvSpPr/>
            <p:nvPr/>
          </p:nvSpPr>
          <p:spPr>
            <a:xfrm>
              <a:off x="3254760" y="3345120"/>
              <a:ext cx="151560" cy="986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51843" h="98613">
                  <a:moveTo>
                    <a:pt x="83262" y="7619"/>
                  </a:moveTo>
                  <a:lnTo>
                    <a:pt x="90568" y="312"/>
                  </a:lnTo>
                  <a:lnTo>
                    <a:pt x="94834" y="92"/>
                  </a:lnTo>
                  <a:lnTo>
                    <a:pt x="98407" y="1"/>
                  </a:lnTo>
                  <a:lnTo>
                    <a:pt x="94428" y="0"/>
                  </a:lnTo>
                  <a:lnTo>
                    <a:pt x="91553" y="846"/>
                  </a:lnTo>
                  <a:lnTo>
                    <a:pt x="87943" y="2257"/>
                  </a:lnTo>
                  <a:lnTo>
                    <a:pt x="83842" y="4044"/>
                  </a:lnTo>
                  <a:lnTo>
                    <a:pt x="80262" y="6083"/>
                  </a:lnTo>
                  <a:lnTo>
                    <a:pt x="77029" y="8288"/>
                  </a:lnTo>
                  <a:lnTo>
                    <a:pt x="74027" y="10605"/>
                  </a:lnTo>
                  <a:lnTo>
                    <a:pt x="70332" y="12996"/>
                  </a:lnTo>
                  <a:lnTo>
                    <a:pt x="66175" y="15437"/>
                  </a:lnTo>
                  <a:lnTo>
                    <a:pt x="61711" y="17911"/>
                  </a:lnTo>
                  <a:lnTo>
                    <a:pt x="56195" y="20407"/>
                  </a:lnTo>
                  <a:lnTo>
                    <a:pt x="49977" y="22918"/>
                  </a:lnTo>
                  <a:lnTo>
                    <a:pt x="43292" y="25438"/>
                  </a:lnTo>
                  <a:lnTo>
                    <a:pt x="37989" y="27965"/>
                  </a:lnTo>
                  <a:lnTo>
                    <a:pt x="33607" y="30496"/>
                  </a:lnTo>
                  <a:lnTo>
                    <a:pt x="29838" y="33031"/>
                  </a:lnTo>
                  <a:lnTo>
                    <a:pt x="25633" y="35567"/>
                  </a:lnTo>
                  <a:lnTo>
                    <a:pt x="21136" y="38104"/>
                  </a:lnTo>
                  <a:lnTo>
                    <a:pt x="16445" y="40642"/>
                  </a:lnTo>
                  <a:lnTo>
                    <a:pt x="12471" y="44028"/>
                  </a:lnTo>
                  <a:lnTo>
                    <a:pt x="8974" y="47979"/>
                  </a:lnTo>
                  <a:lnTo>
                    <a:pt x="5797" y="52305"/>
                  </a:lnTo>
                  <a:lnTo>
                    <a:pt x="3679" y="56037"/>
                  </a:lnTo>
                  <a:lnTo>
                    <a:pt x="2267" y="59371"/>
                  </a:lnTo>
                  <a:lnTo>
                    <a:pt x="1325" y="62440"/>
                  </a:lnTo>
                  <a:lnTo>
                    <a:pt x="698" y="65333"/>
                  </a:lnTo>
                  <a:lnTo>
                    <a:pt x="279" y="68108"/>
                  </a:lnTo>
                  <a:lnTo>
                    <a:pt x="0" y="70805"/>
                  </a:lnTo>
                  <a:lnTo>
                    <a:pt x="661" y="73449"/>
                  </a:lnTo>
                  <a:lnTo>
                    <a:pt x="1948" y="76059"/>
                  </a:lnTo>
                  <a:lnTo>
                    <a:pt x="3653" y="78646"/>
                  </a:lnTo>
                  <a:lnTo>
                    <a:pt x="6483" y="81217"/>
                  </a:lnTo>
                  <a:lnTo>
                    <a:pt x="10062" y="83778"/>
                  </a:lnTo>
                  <a:lnTo>
                    <a:pt x="14142" y="86331"/>
                  </a:lnTo>
                  <a:lnTo>
                    <a:pt x="19402" y="88881"/>
                  </a:lnTo>
                  <a:lnTo>
                    <a:pt x="25449" y="91427"/>
                  </a:lnTo>
                  <a:lnTo>
                    <a:pt x="32020" y="93971"/>
                  </a:lnTo>
                  <a:lnTo>
                    <a:pt x="38941" y="95667"/>
                  </a:lnTo>
                  <a:lnTo>
                    <a:pt x="46094" y="96798"/>
                  </a:lnTo>
                  <a:lnTo>
                    <a:pt x="53404" y="97551"/>
                  </a:lnTo>
                  <a:lnTo>
                    <a:pt x="61663" y="98054"/>
                  </a:lnTo>
                  <a:lnTo>
                    <a:pt x="79871" y="98612"/>
                  </a:lnTo>
                  <a:lnTo>
                    <a:pt x="87775" y="97915"/>
                  </a:lnTo>
                  <a:lnTo>
                    <a:pt x="94737" y="96603"/>
                  </a:lnTo>
                  <a:lnTo>
                    <a:pt x="101072" y="94882"/>
                  </a:lnTo>
                  <a:lnTo>
                    <a:pt x="107836" y="93734"/>
                  </a:lnTo>
                  <a:lnTo>
                    <a:pt x="114884" y="92969"/>
                  </a:lnTo>
                  <a:lnTo>
                    <a:pt x="122123" y="92459"/>
                  </a:lnTo>
                  <a:lnTo>
                    <a:pt x="128643" y="92119"/>
                  </a:lnTo>
                  <a:lnTo>
                    <a:pt x="151842" y="914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SMARTInkAnnotation49"/>
            <p:cNvSpPr/>
            <p:nvPr/>
          </p:nvSpPr>
          <p:spPr>
            <a:xfrm>
              <a:off x="3360960" y="3330000"/>
              <a:ext cx="99000" cy="2131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99061" h="213361">
                  <a:moveTo>
                    <a:pt x="99060" y="0"/>
                  </a:moveTo>
                  <a:lnTo>
                    <a:pt x="95015" y="4045"/>
                  </a:lnTo>
                  <a:lnTo>
                    <a:pt x="93823" y="6084"/>
                  </a:lnTo>
                  <a:lnTo>
                    <a:pt x="92499" y="10606"/>
                  </a:lnTo>
                  <a:lnTo>
                    <a:pt x="90453" y="13844"/>
                  </a:lnTo>
                  <a:lnTo>
                    <a:pt x="87395" y="17696"/>
                  </a:lnTo>
                  <a:lnTo>
                    <a:pt x="83663" y="21957"/>
                  </a:lnTo>
                  <a:lnTo>
                    <a:pt x="77259" y="28950"/>
                  </a:lnTo>
                  <a:lnTo>
                    <a:pt x="74366" y="32000"/>
                  </a:lnTo>
                  <a:lnTo>
                    <a:pt x="71591" y="36574"/>
                  </a:lnTo>
                  <a:lnTo>
                    <a:pt x="68894" y="42162"/>
                  </a:lnTo>
                  <a:lnTo>
                    <a:pt x="66249" y="48428"/>
                  </a:lnTo>
                  <a:lnTo>
                    <a:pt x="63640" y="55146"/>
                  </a:lnTo>
                  <a:lnTo>
                    <a:pt x="58482" y="69382"/>
                  </a:lnTo>
                  <a:lnTo>
                    <a:pt x="55075" y="75889"/>
                  </a:lnTo>
                  <a:lnTo>
                    <a:pt x="51110" y="81919"/>
                  </a:lnTo>
                  <a:lnTo>
                    <a:pt x="46773" y="87632"/>
                  </a:lnTo>
                  <a:lnTo>
                    <a:pt x="37439" y="100755"/>
                  </a:lnTo>
                  <a:lnTo>
                    <a:pt x="32579" y="107810"/>
                  </a:lnTo>
                  <a:lnTo>
                    <a:pt x="28493" y="115053"/>
                  </a:lnTo>
                  <a:lnTo>
                    <a:pt x="24922" y="122422"/>
                  </a:lnTo>
                  <a:lnTo>
                    <a:pt x="21695" y="129875"/>
                  </a:lnTo>
                  <a:lnTo>
                    <a:pt x="18697" y="137383"/>
                  </a:lnTo>
                  <a:lnTo>
                    <a:pt x="13108" y="152499"/>
                  </a:lnTo>
                  <a:lnTo>
                    <a:pt x="5201" y="175290"/>
                  </a:lnTo>
                  <a:lnTo>
                    <a:pt x="3467" y="182053"/>
                  </a:lnTo>
                  <a:lnTo>
                    <a:pt x="2312" y="188255"/>
                  </a:lnTo>
                  <a:lnTo>
                    <a:pt x="1541" y="194084"/>
                  </a:lnTo>
                  <a:lnTo>
                    <a:pt x="1028" y="198816"/>
                  </a:lnTo>
                  <a:lnTo>
                    <a:pt x="685" y="202817"/>
                  </a:lnTo>
                  <a:lnTo>
                    <a:pt x="0" y="213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SMARTInkAnnotation50"/>
            <p:cNvSpPr/>
            <p:nvPr/>
          </p:nvSpPr>
          <p:spPr>
            <a:xfrm>
              <a:off x="4450320" y="2773440"/>
              <a:ext cx="1874160" cy="541080"/>
            </a:xfrm>
            <a:custGeom>
              <a:avLst/>
              <a:gdLst>
                <a:gd name="textAreaLeft" fmla="*/ 0 w 1874160"/>
                <a:gd name="textAreaRight" fmla="*/ 1874520 w 187416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874451" h="540993">
                  <a:moveTo>
                    <a:pt x="53340" y="99060"/>
                  </a:moveTo>
                  <a:lnTo>
                    <a:pt x="49295" y="103105"/>
                  </a:lnTo>
                  <a:lnTo>
                    <a:pt x="48104" y="105144"/>
                  </a:lnTo>
                  <a:lnTo>
                    <a:pt x="45579" y="112058"/>
                  </a:lnTo>
                  <a:lnTo>
                    <a:pt x="41989" y="116972"/>
                  </a:lnTo>
                  <a:lnTo>
                    <a:pt x="40692" y="120315"/>
                  </a:lnTo>
                  <a:lnTo>
                    <a:pt x="38022" y="132263"/>
                  </a:lnTo>
                  <a:lnTo>
                    <a:pt x="29963" y="146572"/>
                  </a:lnTo>
                  <a:lnTo>
                    <a:pt x="22706" y="158293"/>
                  </a:lnTo>
                  <a:lnTo>
                    <a:pt x="20218" y="161409"/>
                  </a:lnTo>
                  <a:lnTo>
                    <a:pt x="18558" y="165179"/>
                  </a:lnTo>
                  <a:lnTo>
                    <a:pt x="16715" y="173884"/>
                  </a:lnTo>
                  <a:lnTo>
                    <a:pt x="15677" y="188305"/>
                  </a:lnTo>
                  <a:lnTo>
                    <a:pt x="15327" y="203112"/>
                  </a:lnTo>
                  <a:lnTo>
                    <a:pt x="15240" y="284378"/>
                  </a:lnTo>
                  <a:lnTo>
                    <a:pt x="16087" y="286952"/>
                  </a:lnTo>
                  <a:lnTo>
                    <a:pt x="19285" y="292070"/>
                  </a:lnTo>
                  <a:lnTo>
                    <a:pt x="33152" y="307337"/>
                  </a:lnTo>
                  <a:lnTo>
                    <a:pt x="55883" y="330200"/>
                  </a:lnTo>
                  <a:lnTo>
                    <a:pt x="58422" y="331893"/>
                  </a:lnTo>
                  <a:lnTo>
                    <a:pt x="66040" y="335123"/>
                  </a:lnTo>
                  <a:lnTo>
                    <a:pt x="82785" y="345754"/>
                  </a:lnTo>
                  <a:lnTo>
                    <a:pt x="89851" y="348402"/>
                  </a:lnTo>
                  <a:lnTo>
                    <a:pt x="96661" y="350425"/>
                  </a:lnTo>
                  <a:lnTo>
                    <a:pt x="109168" y="356325"/>
                  </a:lnTo>
                  <a:lnTo>
                    <a:pt x="115688" y="361002"/>
                  </a:lnTo>
                  <a:lnTo>
                    <a:pt x="119459" y="362588"/>
                  </a:lnTo>
                  <a:lnTo>
                    <a:pt x="132009" y="365667"/>
                  </a:lnTo>
                  <a:lnTo>
                    <a:pt x="138540" y="369387"/>
                  </a:lnTo>
                  <a:lnTo>
                    <a:pt x="148780" y="371606"/>
                  </a:lnTo>
                  <a:lnTo>
                    <a:pt x="160951" y="373438"/>
                  </a:lnTo>
                  <a:lnTo>
                    <a:pt x="200283" y="388772"/>
                  </a:lnTo>
                  <a:lnTo>
                    <a:pt x="213475" y="392921"/>
                  </a:lnTo>
                  <a:lnTo>
                    <a:pt x="251405" y="402032"/>
                  </a:lnTo>
                  <a:lnTo>
                    <a:pt x="269318" y="408305"/>
                  </a:lnTo>
                  <a:lnTo>
                    <a:pt x="320194" y="419583"/>
                  </a:lnTo>
                  <a:lnTo>
                    <a:pt x="340688" y="424606"/>
                  </a:lnTo>
                  <a:lnTo>
                    <a:pt x="398975" y="434398"/>
                  </a:lnTo>
                  <a:lnTo>
                    <a:pt x="449887" y="442031"/>
                  </a:lnTo>
                  <a:lnTo>
                    <a:pt x="502167" y="449653"/>
                  </a:lnTo>
                  <a:lnTo>
                    <a:pt x="535509" y="455458"/>
                  </a:lnTo>
                  <a:lnTo>
                    <a:pt x="588514" y="459305"/>
                  </a:lnTo>
                  <a:lnTo>
                    <a:pt x="651404" y="468542"/>
                  </a:lnTo>
                  <a:lnTo>
                    <a:pt x="701193" y="471927"/>
                  </a:lnTo>
                  <a:lnTo>
                    <a:pt x="731566" y="474546"/>
                  </a:lnTo>
                  <a:lnTo>
                    <a:pt x="782326" y="484571"/>
                  </a:lnTo>
                  <a:lnTo>
                    <a:pt x="843281" y="488254"/>
                  </a:lnTo>
                  <a:lnTo>
                    <a:pt x="894080" y="494205"/>
                  </a:lnTo>
                  <a:lnTo>
                    <a:pt x="944881" y="501187"/>
                  </a:lnTo>
                  <a:lnTo>
                    <a:pt x="995681" y="507929"/>
                  </a:lnTo>
                  <a:lnTo>
                    <a:pt x="1050526" y="514241"/>
                  </a:lnTo>
                  <a:lnTo>
                    <a:pt x="1099271" y="518233"/>
                  </a:lnTo>
                  <a:lnTo>
                    <a:pt x="1152754" y="524619"/>
                  </a:lnTo>
                  <a:lnTo>
                    <a:pt x="1199804" y="530788"/>
                  </a:lnTo>
                  <a:lnTo>
                    <a:pt x="1247606" y="532884"/>
                  </a:lnTo>
                  <a:lnTo>
                    <a:pt x="1305444" y="534179"/>
                  </a:lnTo>
                  <a:lnTo>
                    <a:pt x="1362596" y="539952"/>
                  </a:lnTo>
                  <a:lnTo>
                    <a:pt x="1412469" y="540809"/>
                  </a:lnTo>
                  <a:lnTo>
                    <a:pt x="1471726" y="540992"/>
                  </a:lnTo>
                  <a:lnTo>
                    <a:pt x="1529838" y="534985"/>
                  </a:lnTo>
                  <a:lnTo>
                    <a:pt x="1587423" y="527525"/>
                  </a:lnTo>
                  <a:lnTo>
                    <a:pt x="1640497" y="515516"/>
                  </a:lnTo>
                  <a:lnTo>
                    <a:pt x="1695369" y="502906"/>
                  </a:lnTo>
                  <a:lnTo>
                    <a:pt x="1733017" y="488712"/>
                  </a:lnTo>
                  <a:lnTo>
                    <a:pt x="1766983" y="474839"/>
                  </a:lnTo>
                  <a:lnTo>
                    <a:pt x="1789600" y="461486"/>
                  </a:lnTo>
                  <a:lnTo>
                    <a:pt x="1808248" y="446805"/>
                  </a:lnTo>
                  <a:lnTo>
                    <a:pt x="1828638" y="431730"/>
                  </a:lnTo>
                  <a:lnTo>
                    <a:pt x="1840300" y="421609"/>
                  </a:lnTo>
                  <a:lnTo>
                    <a:pt x="1848869" y="409208"/>
                  </a:lnTo>
                  <a:lnTo>
                    <a:pt x="1856347" y="396077"/>
                  </a:lnTo>
                  <a:lnTo>
                    <a:pt x="1865314" y="384597"/>
                  </a:lnTo>
                  <a:lnTo>
                    <a:pt x="1870429" y="373850"/>
                  </a:lnTo>
                  <a:lnTo>
                    <a:pt x="1873309" y="358279"/>
                  </a:lnTo>
                  <a:lnTo>
                    <a:pt x="1873982" y="347195"/>
                  </a:lnTo>
                  <a:lnTo>
                    <a:pt x="1874282" y="333803"/>
                  </a:lnTo>
                  <a:lnTo>
                    <a:pt x="1874450" y="316027"/>
                  </a:lnTo>
                  <a:lnTo>
                    <a:pt x="1872231" y="305274"/>
                  </a:lnTo>
                  <a:lnTo>
                    <a:pt x="1866223" y="289701"/>
                  </a:lnTo>
                  <a:lnTo>
                    <a:pt x="1860672" y="278616"/>
                  </a:lnTo>
                  <a:lnTo>
                    <a:pt x="1852561" y="265223"/>
                  </a:lnTo>
                  <a:lnTo>
                    <a:pt x="1843313" y="253061"/>
                  </a:lnTo>
                  <a:lnTo>
                    <a:pt x="1828586" y="236695"/>
                  </a:lnTo>
                  <a:lnTo>
                    <a:pt x="1813497" y="221121"/>
                  </a:lnTo>
                  <a:lnTo>
                    <a:pt x="1796045" y="205782"/>
                  </a:lnTo>
                  <a:lnTo>
                    <a:pt x="1774786" y="190513"/>
                  </a:lnTo>
                  <a:lnTo>
                    <a:pt x="1744847" y="170183"/>
                  </a:lnTo>
                  <a:lnTo>
                    <a:pt x="1703154" y="155097"/>
                  </a:lnTo>
                  <a:lnTo>
                    <a:pt x="1661428" y="138947"/>
                  </a:lnTo>
                  <a:lnTo>
                    <a:pt x="1616528" y="123308"/>
                  </a:lnTo>
                  <a:lnTo>
                    <a:pt x="1579450" y="108879"/>
                  </a:lnTo>
                  <a:lnTo>
                    <a:pt x="1528996" y="94916"/>
                  </a:lnTo>
                  <a:lnTo>
                    <a:pt x="1478264" y="84005"/>
                  </a:lnTo>
                  <a:lnTo>
                    <a:pt x="1427478" y="73696"/>
                  </a:lnTo>
                  <a:lnTo>
                    <a:pt x="1370597" y="59117"/>
                  </a:lnTo>
                  <a:lnTo>
                    <a:pt x="1312700" y="52223"/>
                  </a:lnTo>
                  <a:lnTo>
                    <a:pt x="1165764" y="27921"/>
                  </a:lnTo>
                  <a:lnTo>
                    <a:pt x="1120112" y="24360"/>
                  </a:lnTo>
                  <a:lnTo>
                    <a:pt x="1053938" y="17919"/>
                  </a:lnTo>
                  <a:lnTo>
                    <a:pt x="1007392" y="15187"/>
                  </a:lnTo>
                  <a:lnTo>
                    <a:pt x="951051" y="9366"/>
                  </a:lnTo>
                  <a:lnTo>
                    <a:pt x="906351" y="8137"/>
                  </a:lnTo>
                  <a:lnTo>
                    <a:pt x="860933" y="5515"/>
                  </a:lnTo>
                  <a:lnTo>
                    <a:pt x="815302" y="1634"/>
                  </a:lnTo>
                  <a:lnTo>
                    <a:pt x="769610" y="484"/>
                  </a:lnTo>
                  <a:lnTo>
                    <a:pt x="429356" y="0"/>
                  </a:lnTo>
                  <a:lnTo>
                    <a:pt x="368031" y="6031"/>
                  </a:lnTo>
                  <a:lnTo>
                    <a:pt x="321523" y="7306"/>
                  </a:lnTo>
                  <a:lnTo>
                    <a:pt x="261199" y="13610"/>
                  </a:lnTo>
                  <a:lnTo>
                    <a:pt x="209406" y="20262"/>
                  </a:lnTo>
                  <a:lnTo>
                    <a:pt x="146583" y="28739"/>
                  </a:lnTo>
                  <a:lnTo>
                    <a:pt x="110611" y="34181"/>
                  </a:lnTo>
                  <a:lnTo>
                    <a:pt x="61331" y="50868"/>
                  </a:lnTo>
                  <a:lnTo>
                    <a:pt x="22959" y="66893"/>
                  </a:lnTo>
                  <a:lnTo>
                    <a:pt x="11333" y="75168"/>
                  </a:lnTo>
                  <a:lnTo>
                    <a:pt x="5036" y="82232"/>
                  </a:lnTo>
                  <a:lnTo>
                    <a:pt x="0" y="914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SMARTInkAnnotation51"/>
            <p:cNvSpPr/>
            <p:nvPr/>
          </p:nvSpPr>
          <p:spPr>
            <a:xfrm>
              <a:off x="3673080" y="3330000"/>
              <a:ext cx="7560" cy="213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7613" h="213361">
                  <a:moveTo>
                    <a:pt x="7612" y="0"/>
                  </a:moveTo>
                  <a:lnTo>
                    <a:pt x="3567" y="0"/>
                  </a:lnTo>
                  <a:lnTo>
                    <a:pt x="2375" y="1693"/>
                  </a:lnTo>
                  <a:lnTo>
                    <a:pt x="1581" y="4516"/>
                  </a:lnTo>
                  <a:lnTo>
                    <a:pt x="306" y="13121"/>
                  </a:lnTo>
                  <a:lnTo>
                    <a:pt x="131" y="18814"/>
                  </a:lnTo>
                  <a:lnTo>
                    <a:pt x="0" y="55055"/>
                  </a:lnTo>
                  <a:lnTo>
                    <a:pt x="844" y="62103"/>
                  </a:lnTo>
                  <a:lnTo>
                    <a:pt x="2253" y="69342"/>
                  </a:lnTo>
                  <a:lnTo>
                    <a:pt x="4040" y="76708"/>
                  </a:lnTo>
                  <a:lnTo>
                    <a:pt x="5231" y="84159"/>
                  </a:lnTo>
                  <a:lnTo>
                    <a:pt x="6024" y="91666"/>
                  </a:lnTo>
                  <a:lnTo>
                    <a:pt x="6553" y="99211"/>
                  </a:lnTo>
                  <a:lnTo>
                    <a:pt x="6906" y="106780"/>
                  </a:lnTo>
                  <a:lnTo>
                    <a:pt x="7298" y="121965"/>
                  </a:lnTo>
                  <a:lnTo>
                    <a:pt x="7593" y="167502"/>
                  </a:lnTo>
                  <a:lnTo>
                    <a:pt x="7612" y="213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MARTInkAnnotation52"/>
            <p:cNvSpPr/>
            <p:nvPr/>
          </p:nvSpPr>
          <p:spPr>
            <a:xfrm>
              <a:off x="3612240" y="346716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MARTInkAnnotation53"/>
            <p:cNvSpPr/>
            <p:nvPr/>
          </p:nvSpPr>
          <p:spPr>
            <a:xfrm>
              <a:off x="3863880" y="3390840"/>
              <a:ext cx="60840" cy="75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60960" h="7621">
                  <a:moveTo>
                    <a:pt x="0" y="7620"/>
                  </a:moveTo>
                  <a:lnTo>
                    <a:pt x="11351" y="7620"/>
                  </a:lnTo>
                  <a:lnTo>
                    <a:pt x="14340" y="6773"/>
                  </a:lnTo>
                  <a:lnTo>
                    <a:pt x="18027" y="5362"/>
                  </a:lnTo>
                  <a:lnTo>
                    <a:pt x="22177" y="3574"/>
                  </a:lnTo>
                  <a:lnTo>
                    <a:pt x="25791" y="2383"/>
                  </a:lnTo>
                  <a:lnTo>
                    <a:pt x="29047" y="1588"/>
                  </a:lnTo>
                  <a:lnTo>
                    <a:pt x="32065" y="1059"/>
                  </a:lnTo>
                  <a:lnTo>
                    <a:pt x="-29767" y="706"/>
                  </a:lnTo>
                  <a:lnTo>
                    <a:pt x="-25604" y="471"/>
                  </a:lnTo>
                  <a:lnTo>
                    <a:pt x="-17308" y="209"/>
                  </a:lnTo>
                  <a:lnTo>
                    <a:pt x="-45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SMARTInkAnnotation54"/>
            <p:cNvSpPr/>
            <p:nvPr/>
          </p:nvSpPr>
          <p:spPr>
            <a:xfrm>
              <a:off x="3986280" y="3345120"/>
              <a:ext cx="225720" cy="1980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26050" h="198121">
                  <a:moveTo>
                    <a:pt x="83363" y="0"/>
                  </a:moveTo>
                  <a:lnTo>
                    <a:pt x="76057" y="0"/>
                  </a:lnTo>
                  <a:lnTo>
                    <a:pt x="75837" y="4045"/>
                  </a:lnTo>
                  <a:lnTo>
                    <a:pt x="74112" y="5237"/>
                  </a:lnTo>
                  <a:lnTo>
                    <a:pt x="67680" y="6561"/>
                  </a:lnTo>
                  <a:lnTo>
                    <a:pt x="64441" y="8607"/>
                  </a:lnTo>
                  <a:lnTo>
                    <a:pt x="61436" y="11665"/>
                  </a:lnTo>
                  <a:lnTo>
                    <a:pt x="58585" y="15396"/>
                  </a:lnTo>
                  <a:lnTo>
                    <a:pt x="54991" y="18731"/>
                  </a:lnTo>
                  <a:lnTo>
                    <a:pt x="50902" y="21801"/>
                  </a:lnTo>
                  <a:lnTo>
                    <a:pt x="46482" y="24694"/>
                  </a:lnTo>
                  <a:lnTo>
                    <a:pt x="41843" y="27470"/>
                  </a:lnTo>
                  <a:lnTo>
                    <a:pt x="37056" y="30166"/>
                  </a:lnTo>
                  <a:lnTo>
                    <a:pt x="32172" y="32811"/>
                  </a:lnTo>
                  <a:lnTo>
                    <a:pt x="28069" y="35420"/>
                  </a:lnTo>
                  <a:lnTo>
                    <a:pt x="21252" y="40578"/>
                  </a:lnTo>
                  <a:lnTo>
                    <a:pt x="15401" y="45692"/>
                  </a:lnTo>
                  <a:lnTo>
                    <a:pt x="9978" y="50788"/>
                  </a:lnTo>
                  <a:lnTo>
                    <a:pt x="1084" y="59454"/>
                  </a:lnTo>
                  <a:lnTo>
                    <a:pt x="571" y="60802"/>
                  </a:lnTo>
                  <a:lnTo>
                    <a:pt x="0" y="64559"/>
                  </a:lnTo>
                  <a:lnTo>
                    <a:pt x="694" y="65899"/>
                  </a:lnTo>
                  <a:lnTo>
                    <a:pt x="2004" y="66793"/>
                  </a:lnTo>
                  <a:lnTo>
                    <a:pt x="3723" y="67388"/>
                  </a:lnTo>
                  <a:lnTo>
                    <a:pt x="10150" y="68051"/>
                  </a:lnTo>
                  <a:lnTo>
                    <a:pt x="14234" y="68227"/>
                  </a:lnTo>
                  <a:lnTo>
                    <a:pt x="23288" y="68423"/>
                  </a:lnTo>
                  <a:lnTo>
                    <a:pt x="79227" y="68571"/>
                  </a:lnTo>
                  <a:lnTo>
                    <a:pt x="89072" y="69420"/>
                  </a:lnTo>
                  <a:lnTo>
                    <a:pt x="99022" y="70834"/>
                  </a:lnTo>
                  <a:lnTo>
                    <a:pt x="109043" y="72623"/>
                  </a:lnTo>
                  <a:lnTo>
                    <a:pt x="119110" y="74662"/>
                  </a:lnTo>
                  <a:lnTo>
                    <a:pt x="139327" y="79185"/>
                  </a:lnTo>
                  <a:lnTo>
                    <a:pt x="148612" y="81577"/>
                  </a:lnTo>
                  <a:lnTo>
                    <a:pt x="157343" y="84018"/>
                  </a:lnTo>
                  <a:lnTo>
                    <a:pt x="165703" y="86492"/>
                  </a:lnTo>
                  <a:lnTo>
                    <a:pt x="173817" y="88141"/>
                  </a:lnTo>
                  <a:lnTo>
                    <a:pt x="181765" y="89241"/>
                  </a:lnTo>
                  <a:lnTo>
                    <a:pt x="189605" y="89974"/>
                  </a:lnTo>
                  <a:lnTo>
                    <a:pt x="196524" y="92156"/>
                  </a:lnTo>
                  <a:lnTo>
                    <a:pt x="202831" y="95304"/>
                  </a:lnTo>
                  <a:lnTo>
                    <a:pt x="208728" y="99096"/>
                  </a:lnTo>
                  <a:lnTo>
                    <a:pt x="213507" y="102471"/>
                  </a:lnTo>
                  <a:lnTo>
                    <a:pt x="217539" y="105567"/>
                  </a:lnTo>
                  <a:lnTo>
                    <a:pt x="221074" y="108478"/>
                  </a:lnTo>
                  <a:lnTo>
                    <a:pt x="223430" y="112112"/>
                  </a:lnTo>
                  <a:lnTo>
                    <a:pt x="225002" y="116228"/>
                  </a:lnTo>
                  <a:lnTo>
                    <a:pt x="226049" y="120665"/>
                  </a:lnTo>
                  <a:lnTo>
                    <a:pt x="225900" y="124471"/>
                  </a:lnTo>
                  <a:lnTo>
                    <a:pt x="224955" y="127853"/>
                  </a:lnTo>
                  <a:lnTo>
                    <a:pt x="223477" y="130955"/>
                  </a:lnTo>
                  <a:lnTo>
                    <a:pt x="220800" y="134717"/>
                  </a:lnTo>
                  <a:lnTo>
                    <a:pt x="217321" y="138918"/>
                  </a:lnTo>
                  <a:lnTo>
                    <a:pt x="209787" y="147255"/>
                  </a:lnTo>
                  <a:lnTo>
                    <a:pt x="203616" y="153782"/>
                  </a:lnTo>
                  <a:lnTo>
                    <a:pt x="199092" y="157555"/>
                  </a:lnTo>
                  <a:lnTo>
                    <a:pt x="193535" y="161764"/>
                  </a:lnTo>
                  <a:lnTo>
                    <a:pt x="187291" y="166262"/>
                  </a:lnTo>
                  <a:lnTo>
                    <a:pt x="181436" y="170108"/>
                  </a:lnTo>
                  <a:lnTo>
                    <a:pt x="175838" y="173519"/>
                  </a:lnTo>
                  <a:lnTo>
                    <a:pt x="170413" y="176640"/>
                  </a:lnTo>
                  <a:lnTo>
                    <a:pt x="164256" y="179566"/>
                  </a:lnTo>
                  <a:lnTo>
                    <a:pt x="157611" y="182364"/>
                  </a:lnTo>
                  <a:lnTo>
                    <a:pt x="150643" y="185076"/>
                  </a:lnTo>
                  <a:lnTo>
                    <a:pt x="144303" y="186884"/>
                  </a:lnTo>
                  <a:lnTo>
                    <a:pt x="138384" y="188090"/>
                  </a:lnTo>
                  <a:lnTo>
                    <a:pt x="132743" y="188893"/>
                  </a:lnTo>
                  <a:lnTo>
                    <a:pt x="126443" y="190276"/>
                  </a:lnTo>
                  <a:lnTo>
                    <a:pt x="119704" y="192044"/>
                  </a:lnTo>
                  <a:lnTo>
                    <a:pt x="112670" y="194069"/>
                  </a:lnTo>
                  <a:lnTo>
                    <a:pt x="106288" y="195420"/>
                  </a:lnTo>
                  <a:lnTo>
                    <a:pt x="100339" y="196320"/>
                  </a:lnTo>
                  <a:lnTo>
                    <a:pt x="94680" y="196920"/>
                  </a:lnTo>
                  <a:lnTo>
                    <a:pt x="89215" y="197320"/>
                  </a:lnTo>
                  <a:lnTo>
                    <a:pt x="83878" y="197587"/>
                  </a:lnTo>
                  <a:lnTo>
                    <a:pt x="70533" y="197962"/>
                  </a:lnTo>
                  <a:lnTo>
                    <a:pt x="60503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SMARTInkAnnotation55"/>
            <p:cNvSpPr/>
            <p:nvPr/>
          </p:nvSpPr>
          <p:spPr>
            <a:xfrm>
              <a:off x="4077000" y="3315600"/>
              <a:ext cx="159840" cy="14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0021" h="14180">
                  <a:moveTo>
                    <a:pt x="0" y="14179"/>
                  </a:moveTo>
                  <a:lnTo>
                    <a:pt x="0" y="6872"/>
                  </a:lnTo>
                  <a:lnTo>
                    <a:pt x="4045" y="6651"/>
                  </a:lnTo>
                  <a:lnTo>
                    <a:pt x="10606" y="6586"/>
                  </a:lnTo>
                  <a:lnTo>
                    <a:pt x="13844" y="5730"/>
                  </a:lnTo>
                  <a:lnTo>
                    <a:pt x="17696" y="4313"/>
                  </a:lnTo>
                  <a:lnTo>
                    <a:pt x="21958" y="2521"/>
                  </a:lnTo>
                  <a:lnTo>
                    <a:pt x="26491" y="1327"/>
                  </a:lnTo>
                  <a:lnTo>
                    <a:pt x="31207" y="531"/>
                  </a:lnTo>
                  <a:lnTo>
                    <a:pt x="36045" y="0"/>
                  </a:lnTo>
                  <a:lnTo>
                    <a:pt x="41810" y="493"/>
                  </a:lnTo>
                  <a:lnTo>
                    <a:pt x="48193" y="1668"/>
                  </a:lnTo>
                  <a:lnTo>
                    <a:pt x="54989" y="3298"/>
                  </a:lnTo>
                  <a:lnTo>
                    <a:pt x="62059" y="4385"/>
                  </a:lnTo>
                  <a:lnTo>
                    <a:pt x="69313" y="5109"/>
                  </a:lnTo>
                  <a:lnTo>
                    <a:pt x="76689" y="5592"/>
                  </a:lnTo>
                  <a:lnTo>
                    <a:pt x="84993" y="5914"/>
                  </a:lnTo>
                  <a:lnTo>
                    <a:pt x="112013" y="6367"/>
                  </a:lnTo>
                  <a:lnTo>
                    <a:pt x="128524" y="6474"/>
                  </a:lnTo>
                  <a:lnTo>
                    <a:pt x="135636" y="7349"/>
                  </a:lnTo>
                  <a:lnTo>
                    <a:pt x="142070" y="8778"/>
                  </a:lnTo>
                  <a:lnTo>
                    <a:pt x="160020" y="14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SMARTInkAnnotation56"/>
            <p:cNvSpPr/>
            <p:nvPr/>
          </p:nvSpPr>
          <p:spPr>
            <a:xfrm>
              <a:off x="3901680" y="3505320"/>
              <a:ext cx="52920" cy="453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53217" h="45691">
                  <a:moveTo>
                    <a:pt x="30469" y="30450"/>
                  </a:moveTo>
                  <a:lnTo>
                    <a:pt x="1463" y="30450"/>
                  </a:lnTo>
                  <a:lnTo>
                    <a:pt x="971" y="29603"/>
                  </a:lnTo>
                  <a:lnTo>
                    <a:pt x="644" y="28192"/>
                  </a:lnTo>
                  <a:lnTo>
                    <a:pt x="426" y="26405"/>
                  </a:lnTo>
                  <a:lnTo>
                    <a:pt x="279" y="24367"/>
                  </a:lnTo>
                  <a:lnTo>
                    <a:pt x="183" y="22161"/>
                  </a:lnTo>
                  <a:lnTo>
                    <a:pt x="27" y="16583"/>
                  </a:lnTo>
                  <a:lnTo>
                    <a:pt x="0" y="11571"/>
                  </a:lnTo>
                  <a:lnTo>
                    <a:pt x="1689" y="10244"/>
                  </a:lnTo>
                  <a:lnTo>
                    <a:pt x="4509" y="9360"/>
                  </a:lnTo>
                  <a:lnTo>
                    <a:pt x="8082" y="8769"/>
                  </a:lnTo>
                  <a:lnTo>
                    <a:pt x="11311" y="7530"/>
                  </a:lnTo>
                  <a:lnTo>
                    <a:pt x="14311" y="5856"/>
                  </a:lnTo>
                  <a:lnTo>
                    <a:pt x="17156" y="3894"/>
                  </a:lnTo>
                  <a:lnTo>
                    <a:pt x="19901" y="2586"/>
                  </a:lnTo>
                  <a:lnTo>
                    <a:pt x="22576" y="1714"/>
                  </a:lnTo>
                  <a:lnTo>
                    <a:pt x="25208" y="1132"/>
                  </a:lnTo>
                  <a:lnTo>
                    <a:pt x="28654" y="745"/>
                  </a:lnTo>
                  <a:lnTo>
                    <a:pt x="32645" y="486"/>
                  </a:lnTo>
                  <a:lnTo>
                    <a:pt x="-22407" y="72"/>
                  </a:lnTo>
                  <a:lnTo>
                    <a:pt x="-16547" y="0"/>
                  </a:lnTo>
                  <a:lnTo>
                    <a:pt x="-15100" y="837"/>
                  </a:lnTo>
                  <a:lnTo>
                    <a:pt x="-14136" y="2241"/>
                  </a:lnTo>
                  <a:lnTo>
                    <a:pt x="-13492" y="4024"/>
                  </a:lnTo>
                  <a:lnTo>
                    <a:pt x="-13065" y="6059"/>
                  </a:lnTo>
                  <a:lnTo>
                    <a:pt x="-12778" y="8263"/>
                  </a:lnTo>
                  <a:lnTo>
                    <a:pt x="-12320" y="13838"/>
                  </a:lnTo>
                  <a:lnTo>
                    <a:pt x="-13129" y="15142"/>
                  </a:lnTo>
                  <a:lnTo>
                    <a:pt x="-14516" y="16858"/>
                  </a:lnTo>
                  <a:lnTo>
                    <a:pt x="-16286" y="18848"/>
                  </a:lnTo>
                  <a:lnTo>
                    <a:pt x="-19160" y="21022"/>
                  </a:lnTo>
                  <a:lnTo>
                    <a:pt x="-22769" y="23318"/>
                  </a:lnTo>
                  <a:lnTo>
                    <a:pt x="-26869" y="25695"/>
                  </a:lnTo>
                  <a:lnTo>
                    <a:pt x="-30448" y="28127"/>
                  </a:lnTo>
                  <a:lnTo>
                    <a:pt x="31855" y="30594"/>
                  </a:lnTo>
                  <a:lnTo>
                    <a:pt x="28853" y="-32450"/>
                  </a:lnTo>
                  <a:lnTo>
                    <a:pt x="26005" y="-30789"/>
                  </a:lnTo>
                  <a:lnTo>
                    <a:pt x="23259" y="-29681"/>
                  </a:lnTo>
                  <a:lnTo>
                    <a:pt x="20583" y="-28943"/>
                  </a:lnTo>
                  <a:lnTo>
                    <a:pt x="17951" y="-27604"/>
                  </a:lnTo>
                  <a:lnTo>
                    <a:pt x="15350" y="-25865"/>
                  </a:lnTo>
                  <a:lnTo>
                    <a:pt x="12770" y="-23858"/>
                  </a:lnTo>
                  <a:lnTo>
                    <a:pt x="10202" y="-22521"/>
                  </a:lnTo>
                  <a:lnTo>
                    <a:pt x="7644" y="-21630"/>
                  </a:lnTo>
                  <a:lnTo>
                    <a:pt x="437" y="-19951"/>
                  </a:lnTo>
                  <a:lnTo>
                    <a:pt x="287" y="-20762"/>
                  </a:lnTo>
                  <a:lnTo>
                    <a:pt x="188" y="-22150"/>
                  </a:lnTo>
                  <a:lnTo>
                    <a:pt x="28" y="-26416"/>
                  </a:lnTo>
                  <a:lnTo>
                    <a:pt x="0" y="-31200"/>
                  </a:lnTo>
                  <a:lnTo>
                    <a:pt x="843" y="-32496"/>
                  </a:lnTo>
                  <a:lnTo>
                    <a:pt x="2251" y="32177"/>
                  </a:lnTo>
                  <a:lnTo>
                    <a:pt x="4037" y="31601"/>
                  </a:lnTo>
                  <a:lnTo>
                    <a:pt x="6074" y="30371"/>
                  </a:lnTo>
                  <a:lnTo>
                    <a:pt x="8279" y="28704"/>
                  </a:lnTo>
                  <a:lnTo>
                    <a:pt x="10596" y="26746"/>
                  </a:lnTo>
                  <a:lnTo>
                    <a:pt x="12986" y="25441"/>
                  </a:lnTo>
                  <a:lnTo>
                    <a:pt x="15428" y="24570"/>
                  </a:lnTo>
                  <a:lnTo>
                    <a:pt x="17901" y="23990"/>
                  </a:lnTo>
                  <a:lnTo>
                    <a:pt x="21243" y="22757"/>
                  </a:lnTo>
                  <a:lnTo>
                    <a:pt x="25166" y="21088"/>
                  </a:lnTo>
                  <a:lnTo>
                    <a:pt x="-30000" y="16371"/>
                  </a:lnTo>
                  <a:lnTo>
                    <a:pt x="-28303" y="15984"/>
                  </a:lnTo>
                  <a:lnTo>
                    <a:pt x="-26324" y="15726"/>
                  </a:lnTo>
                  <a:lnTo>
                    <a:pt x="-24159" y="15554"/>
                  </a:lnTo>
                  <a:lnTo>
                    <a:pt x="-22714" y="16286"/>
                  </a:lnTo>
                  <a:lnTo>
                    <a:pt x="-21752" y="17620"/>
                  </a:lnTo>
                  <a:lnTo>
                    <a:pt x="-20208" y="21801"/>
                  </a:lnTo>
                  <a:lnTo>
                    <a:pt x="-20928" y="22991"/>
                  </a:lnTo>
                  <a:lnTo>
                    <a:pt x="-22254" y="24630"/>
                  </a:lnTo>
                  <a:lnTo>
                    <a:pt x="-23985" y="26570"/>
                  </a:lnTo>
                  <a:lnTo>
                    <a:pt x="-25986" y="27863"/>
                  </a:lnTo>
                  <a:lnTo>
                    <a:pt x="-28166" y="28726"/>
                  </a:lnTo>
                  <a:lnTo>
                    <a:pt x="-30467" y="29300"/>
                  </a:lnTo>
                  <a:lnTo>
                    <a:pt x="32689" y="30530"/>
                  </a:lnTo>
                  <a:lnTo>
                    <a:pt x="30256" y="32196"/>
                  </a:lnTo>
                  <a:lnTo>
                    <a:pt x="27787" y="-31382"/>
                  </a:lnTo>
                  <a:lnTo>
                    <a:pt x="25294" y="-30076"/>
                  </a:lnTo>
                  <a:lnTo>
                    <a:pt x="22786" y="-29206"/>
                  </a:lnTo>
                  <a:lnTo>
                    <a:pt x="20266" y="-28626"/>
                  </a:lnTo>
                  <a:lnTo>
                    <a:pt x="18587" y="-27393"/>
                  </a:lnTo>
                  <a:lnTo>
                    <a:pt x="17468" y="-25724"/>
                  </a:lnTo>
                  <a:lnTo>
                    <a:pt x="16721" y="-23765"/>
                  </a:lnTo>
                  <a:lnTo>
                    <a:pt x="15377" y="-22459"/>
                  </a:lnTo>
                  <a:lnTo>
                    <a:pt x="13634" y="-21588"/>
                  </a:lnTo>
                  <a:lnTo>
                    <a:pt x="7609" y="-198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SMARTInkAnnotation57"/>
            <p:cNvSpPr/>
            <p:nvPr/>
          </p:nvSpPr>
          <p:spPr>
            <a:xfrm>
              <a:off x="3726720" y="3375720"/>
              <a:ext cx="159840" cy="7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9953" h="7621">
                  <a:moveTo>
                    <a:pt x="159952" y="0"/>
                  </a:moveTo>
                  <a:lnTo>
                    <a:pt x="101076" y="0"/>
                  </a:lnTo>
                  <a:lnTo>
                    <a:pt x="96148" y="847"/>
                  </a:lnTo>
                  <a:lnTo>
                    <a:pt x="91170" y="2258"/>
                  </a:lnTo>
                  <a:lnTo>
                    <a:pt x="86157" y="4045"/>
                  </a:lnTo>
                  <a:lnTo>
                    <a:pt x="81122" y="5237"/>
                  </a:lnTo>
                  <a:lnTo>
                    <a:pt x="76072" y="6031"/>
                  </a:lnTo>
                  <a:lnTo>
                    <a:pt x="71012" y="6561"/>
                  </a:lnTo>
                  <a:lnTo>
                    <a:pt x="65098" y="6914"/>
                  </a:lnTo>
                  <a:lnTo>
                    <a:pt x="51755" y="7306"/>
                  </a:lnTo>
                  <a:lnTo>
                    <a:pt x="31550" y="7578"/>
                  </a:lnTo>
                  <a:lnTo>
                    <a:pt x="0" y="7620"/>
                  </a:lnTo>
                  <a:lnTo>
                    <a:pt x="159494" y="7620"/>
                  </a:lnTo>
                  <a:lnTo>
                    <a:pt x="114232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SMARTInkAnnotation58"/>
            <p:cNvSpPr/>
            <p:nvPr/>
          </p:nvSpPr>
          <p:spPr>
            <a:xfrm>
              <a:off x="4488480" y="345960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2" h="7621">
                  <a:moveTo>
                    <a:pt x="0" y="0"/>
                  </a:moveTo>
                  <a:lnTo>
                    <a:pt x="84253" y="0"/>
                  </a:lnTo>
                  <a:lnTo>
                    <a:pt x="95115" y="847"/>
                  </a:lnTo>
                  <a:lnTo>
                    <a:pt x="105744" y="2258"/>
                  </a:lnTo>
                  <a:lnTo>
                    <a:pt x="116216" y="4045"/>
                  </a:lnTo>
                  <a:lnTo>
                    <a:pt x="125737" y="5237"/>
                  </a:lnTo>
                  <a:lnTo>
                    <a:pt x="134624" y="6031"/>
                  </a:lnTo>
                  <a:lnTo>
                    <a:pt x="143090" y="6561"/>
                  </a:lnTo>
                  <a:lnTo>
                    <a:pt x="157011" y="7149"/>
                  </a:lnTo>
                  <a:lnTo>
                    <a:pt x="175261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SMARTInkAnnotation59"/>
            <p:cNvSpPr/>
            <p:nvPr/>
          </p:nvSpPr>
          <p:spPr>
            <a:xfrm>
              <a:off x="4480920" y="352044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0"/>
                  </a:moveTo>
                  <a:lnTo>
                    <a:pt x="14651" y="0"/>
                  </a:lnTo>
                  <a:lnTo>
                    <a:pt x="19080" y="847"/>
                  </a:lnTo>
                  <a:lnTo>
                    <a:pt x="23726" y="2258"/>
                  </a:lnTo>
                  <a:lnTo>
                    <a:pt x="28517" y="4045"/>
                  </a:lnTo>
                  <a:lnTo>
                    <a:pt x="34251" y="4390"/>
                  </a:lnTo>
                  <a:lnTo>
                    <a:pt x="40614" y="3773"/>
                  </a:lnTo>
                  <a:lnTo>
                    <a:pt x="47397" y="2516"/>
                  </a:lnTo>
                  <a:lnTo>
                    <a:pt x="54458" y="2524"/>
                  </a:lnTo>
                  <a:lnTo>
                    <a:pt x="61705" y="3376"/>
                  </a:lnTo>
                  <a:lnTo>
                    <a:pt x="69076" y="4791"/>
                  </a:lnTo>
                  <a:lnTo>
                    <a:pt x="75684" y="5734"/>
                  </a:lnTo>
                  <a:lnTo>
                    <a:pt x="81783" y="6363"/>
                  </a:lnTo>
                  <a:lnTo>
                    <a:pt x="9906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SMARTInkAnnotation60"/>
            <p:cNvSpPr/>
            <p:nvPr/>
          </p:nvSpPr>
          <p:spPr>
            <a:xfrm>
              <a:off x="4824000" y="3429000"/>
              <a:ext cx="129240" cy="72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29541" h="7307">
                  <a:moveTo>
                    <a:pt x="0" y="0"/>
                  </a:moveTo>
                  <a:lnTo>
                    <a:pt x="4044" y="0"/>
                  </a:lnTo>
                  <a:lnTo>
                    <a:pt x="6930" y="846"/>
                  </a:lnTo>
                  <a:lnTo>
                    <a:pt x="10546" y="2258"/>
                  </a:lnTo>
                  <a:lnTo>
                    <a:pt x="14651" y="4045"/>
                  </a:lnTo>
                  <a:lnTo>
                    <a:pt x="19927" y="5237"/>
                  </a:lnTo>
                  <a:lnTo>
                    <a:pt x="25985" y="6031"/>
                  </a:lnTo>
                  <a:lnTo>
                    <a:pt x="32563" y="6560"/>
                  </a:lnTo>
                  <a:lnTo>
                    <a:pt x="38642" y="6914"/>
                  </a:lnTo>
                  <a:lnTo>
                    <a:pt x="49911" y="7306"/>
                  </a:lnTo>
                  <a:lnTo>
                    <a:pt x="56134" y="6564"/>
                  </a:lnTo>
                  <a:lnTo>
                    <a:pt x="62823" y="5223"/>
                  </a:lnTo>
                  <a:lnTo>
                    <a:pt x="69822" y="3482"/>
                  </a:lnTo>
                  <a:lnTo>
                    <a:pt x="77028" y="2321"/>
                  </a:lnTo>
                  <a:lnTo>
                    <a:pt x="84372" y="1548"/>
                  </a:lnTo>
                  <a:lnTo>
                    <a:pt x="97612" y="688"/>
                  </a:lnTo>
                  <a:lnTo>
                    <a:pt x="106319" y="305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SMARTInkAnnotation61"/>
            <p:cNvSpPr/>
            <p:nvPr/>
          </p:nvSpPr>
          <p:spPr>
            <a:xfrm>
              <a:off x="4962600" y="3330000"/>
              <a:ext cx="112320" cy="1216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12639" h="121893">
                  <a:moveTo>
                    <a:pt x="74538" y="7592"/>
                  </a:moveTo>
                  <a:lnTo>
                    <a:pt x="88405" y="7592"/>
                  </a:lnTo>
                  <a:lnTo>
                    <a:pt x="91426" y="5334"/>
                  </a:lnTo>
                  <a:lnTo>
                    <a:pt x="93417" y="3547"/>
                  </a:lnTo>
                  <a:lnTo>
                    <a:pt x="95590" y="2355"/>
                  </a:lnTo>
                  <a:lnTo>
                    <a:pt x="97886" y="1561"/>
                  </a:lnTo>
                  <a:lnTo>
                    <a:pt x="100264" y="1031"/>
                  </a:lnTo>
                  <a:lnTo>
                    <a:pt x="102695" y="678"/>
                  </a:lnTo>
                  <a:lnTo>
                    <a:pt x="105163" y="443"/>
                  </a:lnTo>
                  <a:lnTo>
                    <a:pt x="111161" y="65"/>
                  </a:lnTo>
                  <a:lnTo>
                    <a:pt x="108155" y="0"/>
                  </a:lnTo>
                  <a:lnTo>
                    <a:pt x="107110" y="837"/>
                  </a:lnTo>
                  <a:lnTo>
                    <a:pt x="106413" y="2242"/>
                  </a:lnTo>
                  <a:lnTo>
                    <a:pt x="105948" y="4025"/>
                  </a:lnTo>
                  <a:lnTo>
                    <a:pt x="103945" y="6061"/>
                  </a:lnTo>
                  <a:lnTo>
                    <a:pt x="100916" y="8265"/>
                  </a:lnTo>
                  <a:lnTo>
                    <a:pt x="97203" y="10580"/>
                  </a:lnTo>
                  <a:lnTo>
                    <a:pt x="93035" y="12971"/>
                  </a:lnTo>
                  <a:lnTo>
                    <a:pt x="83888" y="17885"/>
                  </a:lnTo>
                  <a:lnTo>
                    <a:pt x="79925" y="20381"/>
                  </a:lnTo>
                  <a:lnTo>
                    <a:pt x="76436" y="22891"/>
                  </a:lnTo>
                  <a:lnTo>
                    <a:pt x="73263" y="25411"/>
                  </a:lnTo>
                  <a:lnTo>
                    <a:pt x="69455" y="27938"/>
                  </a:lnTo>
                  <a:lnTo>
                    <a:pt x="65223" y="30470"/>
                  </a:lnTo>
                  <a:lnTo>
                    <a:pt x="60708" y="33003"/>
                  </a:lnTo>
                  <a:lnTo>
                    <a:pt x="55158" y="36387"/>
                  </a:lnTo>
                  <a:lnTo>
                    <a:pt x="42218" y="44661"/>
                  </a:lnTo>
                  <a:lnTo>
                    <a:pt x="36058" y="49238"/>
                  </a:lnTo>
                  <a:lnTo>
                    <a:pt x="30258" y="53983"/>
                  </a:lnTo>
                  <a:lnTo>
                    <a:pt x="20144" y="62923"/>
                  </a:lnTo>
                  <a:lnTo>
                    <a:pt x="12827" y="69719"/>
                  </a:lnTo>
                  <a:lnTo>
                    <a:pt x="9690" y="73563"/>
                  </a:lnTo>
                  <a:lnTo>
                    <a:pt x="6753" y="77820"/>
                  </a:lnTo>
                  <a:lnTo>
                    <a:pt x="3948" y="82350"/>
                  </a:lnTo>
                  <a:lnTo>
                    <a:pt x="2078" y="86218"/>
                  </a:lnTo>
                  <a:lnTo>
                    <a:pt x="831" y="89642"/>
                  </a:lnTo>
                  <a:lnTo>
                    <a:pt x="0" y="92772"/>
                  </a:lnTo>
                  <a:lnTo>
                    <a:pt x="292" y="95706"/>
                  </a:lnTo>
                  <a:lnTo>
                    <a:pt x="1334" y="98508"/>
                  </a:lnTo>
                  <a:lnTo>
                    <a:pt x="2875" y="101222"/>
                  </a:lnTo>
                  <a:lnTo>
                    <a:pt x="4749" y="103879"/>
                  </a:lnTo>
                  <a:lnTo>
                    <a:pt x="6845" y="106497"/>
                  </a:lnTo>
                  <a:lnTo>
                    <a:pt x="9090" y="109089"/>
                  </a:lnTo>
                  <a:lnTo>
                    <a:pt x="12279" y="111663"/>
                  </a:lnTo>
                  <a:lnTo>
                    <a:pt x="16099" y="114226"/>
                  </a:lnTo>
                  <a:lnTo>
                    <a:pt x="20338" y="116782"/>
                  </a:lnTo>
                  <a:lnTo>
                    <a:pt x="26551" y="118485"/>
                  </a:lnTo>
                  <a:lnTo>
                    <a:pt x="34080" y="119621"/>
                  </a:lnTo>
                  <a:lnTo>
                    <a:pt x="42486" y="120378"/>
                  </a:lnTo>
                  <a:lnTo>
                    <a:pt x="51477" y="120883"/>
                  </a:lnTo>
                  <a:lnTo>
                    <a:pt x="70498" y="121444"/>
                  </a:lnTo>
                  <a:lnTo>
                    <a:pt x="92900" y="121803"/>
                  </a:lnTo>
                  <a:lnTo>
                    <a:pt x="112638" y="1218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SMARTInkAnnotation62"/>
            <p:cNvSpPr/>
            <p:nvPr/>
          </p:nvSpPr>
          <p:spPr>
            <a:xfrm>
              <a:off x="5105880" y="3337560"/>
              <a:ext cx="60840" cy="258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0961" h="259081">
                  <a:moveTo>
                    <a:pt x="60960" y="0"/>
                  </a:moveTo>
                  <a:lnTo>
                    <a:pt x="60960" y="43657"/>
                  </a:lnTo>
                  <a:lnTo>
                    <a:pt x="60113" y="49425"/>
                  </a:lnTo>
                  <a:lnTo>
                    <a:pt x="58702" y="55810"/>
                  </a:lnTo>
                  <a:lnTo>
                    <a:pt x="56915" y="62606"/>
                  </a:lnTo>
                  <a:lnTo>
                    <a:pt x="54876" y="68831"/>
                  </a:lnTo>
                  <a:lnTo>
                    <a:pt x="52671" y="74674"/>
                  </a:lnTo>
                  <a:lnTo>
                    <a:pt x="50354" y="80263"/>
                  </a:lnTo>
                  <a:lnTo>
                    <a:pt x="47963" y="86528"/>
                  </a:lnTo>
                  <a:lnTo>
                    <a:pt x="43048" y="100264"/>
                  </a:lnTo>
                  <a:lnTo>
                    <a:pt x="40552" y="108329"/>
                  </a:lnTo>
                  <a:lnTo>
                    <a:pt x="35521" y="126322"/>
                  </a:lnTo>
                  <a:lnTo>
                    <a:pt x="32148" y="135014"/>
                  </a:lnTo>
                  <a:lnTo>
                    <a:pt x="28205" y="143350"/>
                  </a:lnTo>
                  <a:lnTo>
                    <a:pt x="23883" y="151446"/>
                  </a:lnTo>
                  <a:lnTo>
                    <a:pt x="21003" y="160231"/>
                  </a:lnTo>
                  <a:lnTo>
                    <a:pt x="19082" y="169474"/>
                  </a:lnTo>
                  <a:lnTo>
                    <a:pt x="17801" y="179023"/>
                  </a:lnTo>
                  <a:lnTo>
                    <a:pt x="16101" y="187082"/>
                  </a:lnTo>
                  <a:lnTo>
                    <a:pt x="14121" y="194148"/>
                  </a:lnTo>
                  <a:lnTo>
                    <a:pt x="4859" y="221701"/>
                  </a:lnTo>
                  <a:lnTo>
                    <a:pt x="3239" y="228234"/>
                  </a:lnTo>
                  <a:lnTo>
                    <a:pt x="2160" y="234282"/>
                  </a:lnTo>
                  <a:lnTo>
                    <a:pt x="1440" y="240008"/>
                  </a:lnTo>
                  <a:lnTo>
                    <a:pt x="960" y="244672"/>
                  </a:lnTo>
                  <a:lnTo>
                    <a:pt x="640" y="248628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SMARTInkAnnotation63"/>
            <p:cNvSpPr/>
            <p:nvPr/>
          </p:nvSpPr>
          <p:spPr>
            <a:xfrm>
              <a:off x="5235480" y="3528000"/>
              <a:ext cx="7560" cy="2268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7621" h="22861">
                  <a:moveTo>
                    <a:pt x="7620" y="0"/>
                  </a:moveTo>
                  <a:lnTo>
                    <a:pt x="7620" y="4045"/>
                  </a:lnTo>
                  <a:lnTo>
                    <a:pt x="6774" y="5237"/>
                  </a:lnTo>
                  <a:lnTo>
                    <a:pt x="5362" y="6031"/>
                  </a:lnTo>
                  <a:lnTo>
                    <a:pt x="3575" y="6561"/>
                  </a:lnTo>
                  <a:lnTo>
                    <a:pt x="2384" y="7761"/>
                  </a:lnTo>
                  <a:lnTo>
                    <a:pt x="1589" y="9407"/>
                  </a:lnTo>
                  <a:lnTo>
                    <a:pt x="314" y="14089"/>
                  </a:lnTo>
                  <a:lnTo>
                    <a:pt x="209" y="15319"/>
                  </a:lnTo>
                  <a:lnTo>
                    <a:pt x="139" y="16986"/>
                  </a:lnTo>
                  <a:lnTo>
                    <a:pt x="0" y="228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SMARTInkAnnotation64"/>
            <p:cNvSpPr/>
            <p:nvPr/>
          </p:nvSpPr>
          <p:spPr>
            <a:xfrm>
              <a:off x="5296320" y="3368160"/>
              <a:ext cx="219960" cy="2055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0244" h="205608">
                  <a:moveTo>
                    <a:pt x="91297" y="0"/>
                  </a:moveTo>
                  <a:lnTo>
                    <a:pt x="79946" y="11351"/>
                  </a:lnTo>
                  <a:lnTo>
                    <a:pt x="77802" y="12648"/>
                  </a:lnTo>
                  <a:lnTo>
                    <a:pt x="69895" y="15319"/>
                  </a:lnTo>
                  <a:lnTo>
                    <a:pt x="66022" y="16986"/>
                  </a:lnTo>
                  <a:lnTo>
                    <a:pt x="61747" y="18944"/>
                  </a:lnTo>
                  <a:lnTo>
                    <a:pt x="58051" y="21096"/>
                  </a:lnTo>
                  <a:lnTo>
                    <a:pt x="51685" y="25745"/>
                  </a:lnTo>
                  <a:lnTo>
                    <a:pt x="47955" y="28170"/>
                  </a:lnTo>
                  <a:lnTo>
                    <a:pt x="43777" y="30634"/>
                  </a:lnTo>
                  <a:lnTo>
                    <a:pt x="39296" y="33122"/>
                  </a:lnTo>
                  <a:lnTo>
                    <a:pt x="34617" y="34781"/>
                  </a:lnTo>
                  <a:lnTo>
                    <a:pt x="29803" y="35887"/>
                  </a:lnTo>
                  <a:lnTo>
                    <a:pt x="24901" y="36625"/>
                  </a:lnTo>
                  <a:lnTo>
                    <a:pt x="20787" y="37963"/>
                  </a:lnTo>
                  <a:lnTo>
                    <a:pt x="13957" y="41708"/>
                  </a:lnTo>
                  <a:lnTo>
                    <a:pt x="8100" y="43937"/>
                  </a:lnTo>
                  <a:lnTo>
                    <a:pt x="5352" y="44531"/>
                  </a:lnTo>
                  <a:lnTo>
                    <a:pt x="3521" y="45774"/>
                  </a:lnTo>
                  <a:lnTo>
                    <a:pt x="2299" y="47450"/>
                  </a:lnTo>
                  <a:lnTo>
                    <a:pt x="0" y="52995"/>
                  </a:lnTo>
                  <a:lnTo>
                    <a:pt x="3945" y="57283"/>
                  </a:lnTo>
                  <a:lnTo>
                    <a:pt x="5969" y="58509"/>
                  </a:lnTo>
                  <a:lnTo>
                    <a:pt x="10476" y="59871"/>
                  </a:lnTo>
                  <a:lnTo>
                    <a:pt x="13709" y="60234"/>
                  </a:lnTo>
                  <a:lnTo>
                    <a:pt x="17558" y="60476"/>
                  </a:lnTo>
                  <a:lnTo>
                    <a:pt x="21818" y="60637"/>
                  </a:lnTo>
                  <a:lnTo>
                    <a:pt x="35903" y="60864"/>
                  </a:lnTo>
                  <a:lnTo>
                    <a:pt x="42514" y="61743"/>
                  </a:lnTo>
                  <a:lnTo>
                    <a:pt x="50308" y="63175"/>
                  </a:lnTo>
                  <a:lnTo>
                    <a:pt x="58892" y="64977"/>
                  </a:lnTo>
                  <a:lnTo>
                    <a:pt x="67153" y="66178"/>
                  </a:lnTo>
                  <a:lnTo>
                    <a:pt x="75201" y="66979"/>
                  </a:lnTo>
                  <a:lnTo>
                    <a:pt x="83106" y="67513"/>
                  </a:lnTo>
                  <a:lnTo>
                    <a:pt x="91764" y="69561"/>
                  </a:lnTo>
                  <a:lnTo>
                    <a:pt x="100921" y="72621"/>
                  </a:lnTo>
                  <a:lnTo>
                    <a:pt x="110413" y="76354"/>
                  </a:lnTo>
                  <a:lnTo>
                    <a:pt x="120127" y="79689"/>
                  </a:lnTo>
                  <a:lnTo>
                    <a:pt x="129990" y="82760"/>
                  </a:lnTo>
                  <a:lnTo>
                    <a:pt x="149134" y="88429"/>
                  </a:lnTo>
                  <a:lnTo>
                    <a:pt x="166109" y="93771"/>
                  </a:lnTo>
                  <a:lnTo>
                    <a:pt x="173345" y="97227"/>
                  </a:lnTo>
                  <a:lnTo>
                    <a:pt x="179862" y="101225"/>
                  </a:lnTo>
                  <a:lnTo>
                    <a:pt x="185900" y="105583"/>
                  </a:lnTo>
                  <a:lnTo>
                    <a:pt x="191619" y="110182"/>
                  </a:lnTo>
                  <a:lnTo>
                    <a:pt x="197125" y="114941"/>
                  </a:lnTo>
                  <a:lnTo>
                    <a:pt x="206911" y="123898"/>
                  </a:lnTo>
                  <a:lnTo>
                    <a:pt x="214083" y="130701"/>
                  </a:lnTo>
                  <a:lnTo>
                    <a:pt x="216334" y="133701"/>
                  </a:lnTo>
                  <a:lnTo>
                    <a:pt x="218836" y="139292"/>
                  </a:lnTo>
                  <a:lnTo>
                    <a:pt x="219503" y="142814"/>
                  </a:lnTo>
                  <a:lnTo>
                    <a:pt x="219947" y="146856"/>
                  </a:lnTo>
                  <a:lnTo>
                    <a:pt x="220243" y="151244"/>
                  </a:lnTo>
                  <a:lnTo>
                    <a:pt x="219594" y="155863"/>
                  </a:lnTo>
                  <a:lnTo>
                    <a:pt x="218315" y="160635"/>
                  </a:lnTo>
                  <a:lnTo>
                    <a:pt x="216615" y="165510"/>
                  </a:lnTo>
                  <a:lnTo>
                    <a:pt x="213789" y="169606"/>
                  </a:lnTo>
                  <a:lnTo>
                    <a:pt x="210212" y="173185"/>
                  </a:lnTo>
                  <a:lnTo>
                    <a:pt x="206133" y="176417"/>
                  </a:lnTo>
                  <a:lnTo>
                    <a:pt x="201721" y="179417"/>
                  </a:lnTo>
                  <a:lnTo>
                    <a:pt x="197086" y="182265"/>
                  </a:lnTo>
                  <a:lnTo>
                    <a:pt x="192303" y="185010"/>
                  </a:lnTo>
                  <a:lnTo>
                    <a:pt x="182473" y="190318"/>
                  </a:lnTo>
                  <a:lnTo>
                    <a:pt x="177480" y="192919"/>
                  </a:lnTo>
                  <a:lnTo>
                    <a:pt x="171613" y="195499"/>
                  </a:lnTo>
                  <a:lnTo>
                    <a:pt x="165161" y="198066"/>
                  </a:lnTo>
                  <a:lnTo>
                    <a:pt x="158320" y="200624"/>
                  </a:lnTo>
                  <a:lnTo>
                    <a:pt x="152065" y="202330"/>
                  </a:lnTo>
                  <a:lnTo>
                    <a:pt x="146202" y="203466"/>
                  </a:lnTo>
                  <a:lnTo>
                    <a:pt x="140601" y="204224"/>
                  </a:lnTo>
                  <a:lnTo>
                    <a:pt x="134326" y="204730"/>
                  </a:lnTo>
                  <a:lnTo>
                    <a:pt x="127602" y="205066"/>
                  </a:lnTo>
                  <a:lnTo>
                    <a:pt x="113360" y="205441"/>
                  </a:lnTo>
                  <a:lnTo>
                    <a:pt x="98562" y="205607"/>
                  </a:lnTo>
                  <a:lnTo>
                    <a:pt x="92754" y="204804"/>
                  </a:lnTo>
                  <a:lnTo>
                    <a:pt x="88035" y="203423"/>
                  </a:lnTo>
                  <a:lnTo>
                    <a:pt x="84042" y="201656"/>
                  </a:lnTo>
                  <a:lnTo>
                    <a:pt x="79687" y="200477"/>
                  </a:lnTo>
                  <a:lnTo>
                    <a:pt x="75090" y="199691"/>
                  </a:lnTo>
                  <a:lnTo>
                    <a:pt x="60817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SMARTInkAnnotation65"/>
            <p:cNvSpPr/>
            <p:nvPr/>
          </p:nvSpPr>
          <p:spPr>
            <a:xfrm>
              <a:off x="5410440" y="338328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2" h="7621">
                  <a:moveTo>
                    <a:pt x="0" y="0"/>
                  </a:moveTo>
                  <a:lnTo>
                    <a:pt x="148552" y="0"/>
                  </a:lnTo>
                  <a:lnTo>
                    <a:pt x="157455" y="847"/>
                  </a:lnTo>
                  <a:lnTo>
                    <a:pt x="165930" y="2258"/>
                  </a:lnTo>
                  <a:lnTo>
                    <a:pt x="174120" y="4045"/>
                  </a:lnTo>
                  <a:lnTo>
                    <a:pt x="181273" y="5237"/>
                  </a:lnTo>
                  <a:lnTo>
                    <a:pt x="187736" y="6031"/>
                  </a:lnTo>
                  <a:lnTo>
                    <a:pt x="205741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SMARTInkAnnotation66"/>
            <p:cNvSpPr/>
            <p:nvPr/>
          </p:nvSpPr>
          <p:spPr>
            <a:xfrm>
              <a:off x="327960" y="3167640"/>
              <a:ext cx="1193760" cy="6951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695160"/>
                <a:gd name="textAreaBottom" fmla="*/ 695520 h 695160"/>
              </a:gdLst>
              <a:ahLst/>
              <a:rect l="textAreaLeft" t="textAreaTop" r="textAreaRight" b="textAreaBottom"/>
              <a:pathLst>
                <a:path w="1193795" h="695147">
                  <a:moveTo>
                    <a:pt x="213474" y="657577"/>
                  </a:moveTo>
                  <a:lnTo>
                    <a:pt x="245114" y="659834"/>
                  </a:lnTo>
                  <a:lnTo>
                    <a:pt x="275624" y="665865"/>
                  </a:lnTo>
                  <a:lnTo>
                    <a:pt x="308936" y="673014"/>
                  </a:lnTo>
                  <a:lnTo>
                    <a:pt x="343955" y="677138"/>
                  </a:lnTo>
                  <a:lnTo>
                    <a:pt x="363961" y="678237"/>
                  </a:lnTo>
                  <a:lnTo>
                    <a:pt x="384919" y="678971"/>
                  </a:lnTo>
                  <a:lnTo>
                    <a:pt x="407357" y="680305"/>
                  </a:lnTo>
                  <a:lnTo>
                    <a:pt x="454867" y="684047"/>
                  </a:lnTo>
                  <a:lnTo>
                    <a:pt x="479389" y="685383"/>
                  </a:lnTo>
                  <a:lnTo>
                    <a:pt x="529214" y="686868"/>
                  </a:lnTo>
                  <a:lnTo>
                    <a:pt x="554354" y="686418"/>
                  </a:lnTo>
                  <a:lnTo>
                    <a:pt x="579581" y="685271"/>
                  </a:lnTo>
                  <a:lnTo>
                    <a:pt x="631035" y="681738"/>
                  </a:lnTo>
                  <a:lnTo>
                    <a:pt x="767660" y="670113"/>
                  </a:lnTo>
                  <a:lnTo>
                    <a:pt x="793752" y="666781"/>
                  </a:lnTo>
                  <a:lnTo>
                    <a:pt x="818766" y="662866"/>
                  </a:lnTo>
                  <a:lnTo>
                    <a:pt x="866879" y="654000"/>
                  </a:lnTo>
                  <a:lnTo>
                    <a:pt x="913663" y="644416"/>
                  </a:lnTo>
                  <a:lnTo>
                    <a:pt x="936807" y="638643"/>
                  </a:lnTo>
                  <a:lnTo>
                    <a:pt x="959856" y="632254"/>
                  </a:lnTo>
                  <a:lnTo>
                    <a:pt x="982842" y="625455"/>
                  </a:lnTo>
                  <a:lnTo>
                    <a:pt x="1004092" y="617535"/>
                  </a:lnTo>
                  <a:lnTo>
                    <a:pt x="1024187" y="608869"/>
                  </a:lnTo>
                  <a:lnTo>
                    <a:pt x="1061471" y="589362"/>
                  </a:lnTo>
                  <a:lnTo>
                    <a:pt x="1078525" y="578233"/>
                  </a:lnTo>
                  <a:lnTo>
                    <a:pt x="1094975" y="566581"/>
                  </a:lnTo>
                  <a:lnTo>
                    <a:pt x="1110174" y="554579"/>
                  </a:lnTo>
                  <a:lnTo>
                    <a:pt x="1124541" y="542345"/>
                  </a:lnTo>
                  <a:lnTo>
                    <a:pt x="1138352" y="529956"/>
                  </a:lnTo>
                  <a:lnTo>
                    <a:pt x="1150099" y="516616"/>
                  </a:lnTo>
                  <a:lnTo>
                    <a:pt x="1160471" y="502642"/>
                  </a:lnTo>
                  <a:lnTo>
                    <a:pt x="1169925" y="488247"/>
                  </a:lnTo>
                  <a:lnTo>
                    <a:pt x="1177075" y="472723"/>
                  </a:lnTo>
                  <a:lnTo>
                    <a:pt x="1182688" y="456448"/>
                  </a:lnTo>
                  <a:lnTo>
                    <a:pt x="1187277" y="439671"/>
                  </a:lnTo>
                  <a:lnTo>
                    <a:pt x="1190336" y="422559"/>
                  </a:lnTo>
                  <a:lnTo>
                    <a:pt x="1192375" y="405225"/>
                  </a:lnTo>
                  <a:lnTo>
                    <a:pt x="1193735" y="387742"/>
                  </a:lnTo>
                  <a:lnTo>
                    <a:pt x="1193794" y="370160"/>
                  </a:lnTo>
                  <a:lnTo>
                    <a:pt x="1192988" y="352512"/>
                  </a:lnTo>
                  <a:lnTo>
                    <a:pt x="1191603" y="334820"/>
                  </a:lnTo>
                  <a:lnTo>
                    <a:pt x="1188140" y="317099"/>
                  </a:lnTo>
                  <a:lnTo>
                    <a:pt x="1183291" y="299358"/>
                  </a:lnTo>
                  <a:lnTo>
                    <a:pt x="1177519" y="281604"/>
                  </a:lnTo>
                  <a:lnTo>
                    <a:pt x="1170284" y="264688"/>
                  </a:lnTo>
                  <a:lnTo>
                    <a:pt x="1162074" y="248331"/>
                  </a:lnTo>
                  <a:lnTo>
                    <a:pt x="1153214" y="232346"/>
                  </a:lnTo>
                  <a:lnTo>
                    <a:pt x="1141381" y="215763"/>
                  </a:lnTo>
                  <a:lnTo>
                    <a:pt x="1127565" y="198781"/>
                  </a:lnTo>
                  <a:lnTo>
                    <a:pt x="1112428" y="181532"/>
                  </a:lnTo>
                  <a:lnTo>
                    <a:pt x="1096410" y="165800"/>
                  </a:lnTo>
                  <a:lnTo>
                    <a:pt x="1079805" y="151079"/>
                  </a:lnTo>
                  <a:lnTo>
                    <a:pt x="1062808" y="137032"/>
                  </a:lnTo>
                  <a:lnTo>
                    <a:pt x="1044703" y="123433"/>
                  </a:lnTo>
                  <a:lnTo>
                    <a:pt x="1025860" y="110134"/>
                  </a:lnTo>
                  <a:lnTo>
                    <a:pt x="1006525" y="97035"/>
                  </a:lnTo>
                  <a:lnTo>
                    <a:pt x="985168" y="84069"/>
                  </a:lnTo>
                  <a:lnTo>
                    <a:pt x="962463" y="71191"/>
                  </a:lnTo>
                  <a:lnTo>
                    <a:pt x="938860" y="58373"/>
                  </a:lnTo>
                  <a:lnTo>
                    <a:pt x="914658" y="48134"/>
                  </a:lnTo>
                  <a:lnTo>
                    <a:pt x="890057" y="39615"/>
                  </a:lnTo>
                  <a:lnTo>
                    <a:pt x="865189" y="32242"/>
                  </a:lnTo>
                  <a:lnTo>
                    <a:pt x="840144" y="25633"/>
                  </a:lnTo>
                  <a:lnTo>
                    <a:pt x="789739" y="13775"/>
                  </a:lnTo>
                  <a:lnTo>
                    <a:pt x="762751" y="9089"/>
                  </a:lnTo>
                  <a:lnTo>
                    <a:pt x="734598" y="5118"/>
                  </a:lnTo>
                  <a:lnTo>
                    <a:pt x="705670" y="1624"/>
                  </a:lnTo>
                  <a:lnTo>
                    <a:pt x="676225" y="141"/>
                  </a:lnTo>
                  <a:lnTo>
                    <a:pt x="646434" y="0"/>
                  </a:lnTo>
                  <a:lnTo>
                    <a:pt x="616414" y="752"/>
                  </a:lnTo>
                  <a:lnTo>
                    <a:pt x="587088" y="2947"/>
                  </a:lnTo>
                  <a:lnTo>
                    <a:pt x="558223" y="6103"/>
                  </a:lnTo>
                  <a:lnTo>
                    <a:pt x="529667" y="9901"/>
                  </a:lnTo>
                  <a:lnTo>
                    <a:pt x="500469" y="15819"/>
                  </a:lnTo>
                  <a:lnTo>
                    <a:pt x="470844" y="23152"/>
                  </a:lnTo>
                  <a:lnTo>
                    <a:pt x="440934" y="31427"/>
                  </a:lnTo>
                  <a:lnTo>
                    <a:pt x="411681" y="40330"/>
                  </a:lnTo>
                  <a:lnTo>
                    <a:pt x="354341" y="59253"/>
                  </a:lnTo>
                  <a:lnTo>
                    <a:pt x="326012" y="70734"/>
                  </a:lnTo>
                  <a:lnTo>
                    <a:pt x="297813" y="83468"/>
                  </a:lnTo>
                  <a:lnTo>
                    <a:pt x="269700" y="97038"/>
                  </a:lnTo>
                  <a:lnTo>
                    <a:pt x="242491" y="111164"/>
                  </a:lnTo>
                  <a:lnTo>
                    <a:pt x="189682" y="140406"/>
                  </a:lnTo>
                  <a:lnTo>
                    <a:pt x="166286" y="157009"/>
                  </a:lnTo>
                  <a:lnTo>
                    <a:pt x="144762" y="174852"/>
                  </a:lnTo>
                  <a:lnTo>
                    <a:pt x="124486" y="193520"/>
                  </a:lnTo>
                  <a:lnTo>
                    <a:pt x="105889" y="212739"/>
                  </a:lnTo>
                  <a:lnTo>
                    <a:pt x="88411" y="232325"/>
                  </a:lnTo>
                  <a:lnTo>
                    <a:pt x="71678" y="252155"/>
                  </a:lnTo>
                  <a:lnTo>
                    <a:pt x="56290" y="272149"/>
                  </a:lnTo>
                  <a:lnTo>
                    <a:pt x="41798" y="292251"/>
                  </a:lnTo>
                  <a:lnTo>
                    <a:pt x="27904" y="312426"/>
                  </a:lnTo>
                  <a:lnTo>
                    <a:pt x="17794" y="332649"/>
                  </a:lnTo>
                  <a:lnTo>
                    <a:pt x="10207" y="352905"/>
                  </a:lnTo>
                  <a:lnTo>
                    <a:pt x="4303" y="373182"/>
                  </a:lnTo>
                  <a:lnTo>
                    <a:pt x="1213" y="392627"/>
                  </a:lnTo>
                  <a:lnTo>
                    <a:pt x="0" y="411517"/>
                  </a:lnTo>
                  <a:lnTo>
                    <a:pt x="38" y="430037"/>
                  </a:lnTo>
                  <a:lnTo>
                    <a:pt x="3450" y="448310"/>
                  </a:lnTo>
                  <a:lnTo>
                    <a:pt x="9111" y="466418"/>
                  </a:lnTo>
                  <a:lnTo>
                    <a:pt x="16272" y="484418"/>
                  </a:lnTo>
                  <a:lnTo>
                    <a:pt x="25280" y="500650"/>
                  </a:lnTo>
                  <a:lnTo>
                    <a:pt x="35518" y="515706"/>
                  </a:lnTo>
                  <a:lnTo>
                    <a:pt x="46577" y="529976"/>
                  </a:lnTo>
                  <a:lnTo>
                    <a:pt x="59876" y="544569"/>
                  </a:lnTo>
                  <a:lnTo>
                    <a:pt x="74668" y="559378"/>
                  </a:lnTo>
                  <a:lnTo>
                    <a:pt x="90457" y="574331"/>
                  </a:lnTo>
                  <a:lnTo>
                    <a:pt x="108603" y="587686"/>
                  </a:lnTo>
                  <a:lnTo>
                    <a:pt x="128320" y="599976"/>
                  </a:lnTo>
                  <a:lnTo>
                    <a:pt x="149085" y="611556"/>
                  </a:lnTo>
                  <a:lnTo>
                    <a:pt x="170548" y="621816"/>
                  </a:lnTo>
                  <a:lnTo>
                    <a:pt x="192476" y="631196"/>
                  </a:lnTo>
                  <a:lnTo>
                    <a:pt x="214716" y="639989"/>
                  </a:lnTo>
                  <a:lnTo>
                    <a:pt x="238855" y="648391"/>
                  </a:lnTo>
                  <a:lnTo>
                    <a:pt x="264261" y="656533"/>
                  </a:lnTo>
                  <a:lnTo>
                    <a:pt x="290512" y="664501"/>
                  </a:lnTo>
                  <a:lnTo>
                    <a:pt x="318173" y="670659"/>
                  </a:lnTo>
                  <a:lnTo>
                    <a:pt x="346773" y="675612"/>
                  </a:lnTo>
                  <a:lnTo>
                    <a:pt x="376000" y="679760"/>
                  </a:lnTo>
                  <a:lnTo>
                    <a:pt x="435568" y="686626"/>
                  </a:lnTo>
                  <a:lnTo>
                    <a:pt x="465677" y="689643"/>
                  </a:lnTo>
                  <a:lnTo>
                    <a:pt x="495062" y="691654"/>
                  </a:lnTo>
                  <a:lnTo>
                    <a:pt x="523966" y="692995"/>
                  </a:lnTo>
                  <a:lnTo>
                    <a:pt x="579224" y="694484"/>
                  </a:lnTo>
                  <a:lnTo>
                    <a:pt x="629183" y="695146"/>
                  </a:lnTo>
                  <a:lnTo>
                    <a:pt x="652326" y="693630"/>
                  </a:lnTo>
                  <a:lnTo>
                    <a:pt x="674529" y="690926"/>
                  </a:lnTo>
                  <a:lnTo>
                    <a:pt x="754785" y="678463"/>
                  </a:lnTo>
                  <a:lnTo>
                    <a:pt x="782564" y="673068"/>
                  </a:lnTo>
                  <a:lnTo>
                    <a:pt x="815454" y="6651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SMARTInkAnnotation67"/>
            <p:cNvSpPr/>
            <p:nvPr/>
          </p:nvSpPr>
          <p:spPr>
            <a:xfrm>
              <a:off x="381600" y="4560480"/>
              <a:ext cx="1167120" cy="948600"/>
            </a:xfrm>
            <a:custGeom>
              <a:avLst/>
              <a:gdLst>
                <a:gd name="textAreaLeft" fmla="*/ 0 w 1167120"/>
                <a:gd name="textAreaRight" fmla="*/ 1167480 w 1167120"/>
                <a:gd name="textAreaTop" fmla="*/ 0 h 948600"/>
                <a:gd name="textAreaBottom" fmla="*/ 948960 h 948600"/>
              </a:gdLst>
              <a:ahLst/>
              <a:rect l="textAreaLeft" t="textAreaTop" r="textAreaRight" b="textAreaBottom"/>
              <a:pathLst>
                <a:path w="1167197" h="948432">
                  <a:moveTo>
                    <a:pt x="106332" y="796742"/>
                  </a:moveTo>
                  <a:lnTo>
                    <a:pt x="225760" y="856456"/>
                  </a:lnTo>
                  <a:lnTo>
                    <a:pt x="245217" y="864492"/>
                  </a:lnTo>
                  <a:lnTo>
                    <a:pt x="266655" y="872388"/>
                  </a:lnTo>
                  <a:lnTo>
                    <a:pt x="289414" y="880193"/>
                  </a:lnTo>
                  <a:lnTo>
                    <a:pt x="313900" y="887936"/>
                  </a:lnTo>
                  <a:lnTo>
                    <a:pt x="415601" y="918613"/>
                  </a:lnTo>
                  <a:lnTo>
                    <a:pt x="439511" y="926249"/>
                  </a:lnTo>
                  <a:lnTo>
                    <a:pt x="463918" y="932187"/>
                  </a:lnTo>
                  <a:lnTo>
                    <a:pt x="488656" y="936992"/>
                  </a:lnTo>
                  <a:lnTo>
                    <a:pt x="513615" y="941042"/>
                  </a:lnTo>
                  <a:lnTo>
                    <a:pt x="537874" y="943742"/>
                  </a:lnTo>
                  <a:lnTo>
                    <a:pt x="561667" y="945542"/>
                  </a:lnTo>
                  <a:lnTo>
                    <a:pt x="585148" y="946742"/>
                  </a:lnTo>
                  <a:lnTo>
                    <a:pt x="633817" y="948076"/>
                  </a:lnTo>
                  <a:lnTo>
                    <a:pt x="658649" y="948431"/>
                  </a:lnTo>
                  <a:lnTo>
                    <a:pt x="682823" y="947821"/>
                  </a:lnTo>
                  <a:lnTo>
                    <a:pt x="706559" y="946568"/>
                  </a:lnTo>
                  <a:lnTo>
                    <a:pt x="730003" y="944886"/>
                  </a:lnTo>
                  <a:lnTo>
                    <a:pt x="753253" y="942071"/>
                  </a:lnTo>
                  <a:lnTo>
                    <a:pt x="776373" y="938502"/>
                  </a:lnTo>
                  <a:lnTo>
                    <a:pt x="799406" y="934428"/>
                  </a:lnTo>
                  <a:lnTo>
                    <a:pt x="820688" y="928326"/>
                  </a:lnTo>
                  <a:lnTo>
                    <a:pt x="840803" y="920872"/>
                  </a:lnTo>
                  <a:lnTo>
                    <a:pt x="860139" y="912515"/>
                  </a:lnTo>
                  <a:lnTo>
                    <a:pt x="879803" y="902711"/>
                  </a:lnTo>
                  <a:lnTo>
                    <a:pt x="899686" y="891941"/>
                  </a:lnTo>
                  <a:lnTo>
                    <a:pt x="919715" y="880528"/>
                  </a:lnTo>
                  <a:lnTo>
                    <a:pt x="955516" y="856558"/>
                  </a:lnTo>
                  <a:lnTo>
                    <a:pt x="988360" y="830947"/>
                  </a:lnTo>
                  <a:lnTo>
                    <a:pt x="1019891" y="802631"/>
                  </a:lnTo>
                  <a:lnTo>
                    <a:pt x="1034565" y="787121"/>
                  </a:lnTo>
                  <a:lnTo>
                    <a:pt x="1048581" y="770855"/>
                  </a:lnTo>
                  <a:lnTo>
                    <a:pt x="1062158" y="754084"/>
                  </a:lnTo>
                  <a:lnTo>
                    <a:pt x="1074596" y="736130"/>
                  </a:lnTo>
                  <a:lnTo>
                    <a:pt x="1086275" y="717387"/>
                  </a:lnTo>
                  <a:lnTo>
                    <a:pt x="1097447" y="698119"/>
                  </a:lnTo>
                  <a:lnTo>
                    <a:pt x="1107435" y="679346"/>
                  </a:lnTo>
                  <a:lnTo>
                    <a:pt x="1116634" y="660905"/>
                  </a:lnTo>
                  <a:lnTo>
                    <a:pt x="1125307" y="642684"/>
                  </a:lnTo>
                  <a:lnTo>
                    <a:pt x="1133629" y="622917"/>
                  </a:lnTo>
                  <a:lnTo>
                    <a:pt x="1141716" y="602118"/>
                  </a:lnTo>
                  <a:lnTo>
                    <a:pt x="1149648" y="580633"/>
                  </a:lnTo>
                  <a:lnTo>
                    <a:pt x="1155783" y="559536"/>
                  </a:lnTo>
                  <a:lnTo>
                    <a:pt x="1160719" y="538699"/>
                  </a:lnTo>
                  <a:lnTo>
                    <a:pt x="1164857" y="518033"/>
                  </a:lnTo>
                  <a:lnTo>
                    <a:pt x="1166769" y="497483"/>
                  </a:lnTo>
                  <a:lnTo>
                    <a:pt x="1167196" y="477009"/>
                  </a:lnTo>
                  <a:lnTo>
                    <a:pt x="1166635" y="456587"/>
                  </a:lnTo>
                  <a:lnTo>
                    <a:pt x="1165414" y="435352"/>
                  </a:lnTo>
                  <a:lnTo>
                    <a:pt x="1161800" y="391438"/>
                  </a:lnTo>
                  <a:lnTo>
                    <a:pt x="1157110" y="369906"/>
                  </a:lnTo>
                  <a:lnTo>
                    <a:pt x="1150598" y="348778"/>
                  </a:lnTo>
                  <a:lnTo>
                    <a:pt x="1142869" y="327919"/>
                  </a:lnTo>
                  <a:lnTo>
                    <a:pt x="1133483" y="307241"/>
                  </a:lnTo>
                  <a:lnTo>
                    <a:pt x="1122993" y="286681"/>
                  </a:lnTo>
                  <a:lnTo>
                    <a:pt x="1111766" y="266201"/>
                  </a:lnTo>
                  <a:lnTo>
                    <a:pt x="1098355" y="245775"/>
                  </a:lnTo>
                  <a:lnTo>
                    <a:pt x="1083487" y="225384"/>
                  </a:lnTo>
                  <a:lnTo>
                    <a:pt x="1067649" y="205017"/>
                  </a:lnTo>
                  <a:lnTo>
                    <a:pt x="1050316" y="186359"/>
                  </a:lnTo>
                  <a:lnTo>
                    <a:pt x="1031988" y="168840"/>
                  </a:lnTo>
                  <a:lnTo>
                    <a:pt x="1012996" y="152080"/>
                  </a:lnTo>
                  <a:lnTo>
                    <a:pt x="991868" y="135828"/>
                  </a:lnTo>
                  <a:lnTo>
                    <a:pt x="969316" y="119913"/>
                  </a:lnTo>
                  <a:lnTo>
                    <a:pt x="945815" y="104222"/>
                  </a:lnTo>
                  <a:lnTo>
                    <a:pt x="921681" y="89529"/>
                  </a:lnTo>
                  <a:lnTo>
                    <a:pt x="897124" y="75500"/>
                  </a:lnTo>
                  <a:lnTo>
                    <a:pt x="872287" y="61914"/>
                  </a:lnTo>
                  <a:lnTo>
                    <a:pt x="845568" y="50317"/>
                  </a:lnTo>
                  <a:lnTo>
                    <a:pt x="817596" y="40045"/>
                  </a:lnTo>
                  <a:lnTo>
                    <a:pt x="788788" y="30658"/>
                  </a:lnTo>
                  <a:lnTo>
                    <a:pt x="760269" y="22706"/>
                  </a:lnTo>
                  <a:lnTo>
                    <a:pt x="731944" y="15711"/>
                  </a:lnTo>
                  <a:lnTo>
                    <a:pt x="703747" y="9355"/>
                  </a:lnTo>
                  <a:lnTo>
                    <a:pt x="674788" y="5117"/>
                  </a:lnTo>
                  <a:lnTo>
                    <a:pt x="645323" y="2292"/>
                  </a:lnTo>
                  <a:lnTo>
                    <a:pt x="615519" y="409"/>
                  </a:lnTo>
                  <a:lnTo>
                    <a:pt x="584644" y="0"/>
                  </a:lnTo>
                  <a:lnTo>
                    <a:pt x="553053" y="574"/>
                  </a:lnTo>
                  <a:lnTo>
                    <a:pt x="520986" y="1804"/>
                  </a:lnTo>
                  <a:lnTo>
                    <a:pt x="490295" y="4317"/>
                  </a:lnTo>
                  <a:lnTo>
                    <a:pt x="460520" y="7685"/>
                  </a:lnTo>
                  <a:lnTo>
                    <a:pt x="431358" y="11624"/>
                  </a:lnTo>
                  <a:lnTo>
                    <a:pt x="401756" y="17637"/>
                  </a:lnTo>
                  <a:lnTo>
                    <a:pt x="371861" y="25032"/>
                  </a:lnTo>
                  <a:lnTo>
                    <a:pt x="341771" y="33349"/>
                  </a:lnTo>
                  <a:lnTo>
                    <a:pt x="312398" y="43127"/>
                  </a:lnTo>
                  <a:lnTo>
                    <a:pt x="283503" y="53879"/>
                  </a:lnTo>
                  <a:lnTo>
                    <a:pt x="254926" y="65280"/>
                  </a:lnTo>
                  <a:lnTo>
                    <a:pt x="228255" y="77961"/>
                  </a:lnTo>
                  <a:lnTo>
                    <a:pt x="202854" y="91495"/>
                  </a:lnTo>
                  <a:lnTo>
                    <a:pt x="178300" y="105597"/>
                  </a:lnTo>
                  <a:lnTo>
                    <a:pt x="156004" y="121772"/>
                  </a:lnTo>
                  <a:lnTo>
                    <a:pt x="135213" y="139329"/>
                  </a:lnTo>
                  <a:lnTo>
                    <a:pt x="115426" y="157806"/>
                  </a:lnTo>
                  <a:lnTo>
                    <a:pt x="97155" y="176899"/>
                  </a:lnTo>
                  <a:lnTo>
                    <a:pt x="79894" y="196400"/>
                  </a:lnTo>
                  <a:lnTo>
                    <a:pt x="63306" y="216174"/>
                  </a:lnTo>
                  <a:lnTo>
                    <a:pt x="49708" y="236130"/>
                  </a:lnTo>
                  <a:lnTo>
                    <a:pt x="38103" y="256208"/>
                  </a:lnTo>
                  <a:lnTo>
                    <a:pt x="27826" y="276366"/>
                  </a:lnTo>
                  <a:lnTo>
                    <a:pt x="19281" y="297425"/>
                  </a:lnTo>
                  <a:lnTo>
                    <a:pt x="11891" y="319084"/>
                  </a:lnTo>
                  <a:lnTo>
                    <a:pt x="5271" y="341143"/>
                  </a:lnTo>
                  <a:lnTo>
                    <a:pt x="1705" y="363470"/>
                  </a:lnTo>
                  <a:lnTo>
                    <a:pt x="174" y="385974"/>
                  </a:lnTo>
                  <a:lnTo>
                    <a:pt x="0" y="408597"/>
                  </a:lnTo>
                  <a:lnTo>
                    <a:pt x="2424" y="430452"/>
                  </a:lnTo>
                  <a:lnTo>
                    <a:pt x="6580" y="451795"/>
                  </a:lnTo>
                  <a:lnTo>
                    <a:pt x="11890" y="472798"/>
                  </a:lnTo>
                  <a:lnTo>
                    <a:pt x="19664" y="494419"/>
                  </a:lnTo>
                  <a:lnTo>
                    <a:pt x="29080" y="516454"/>
                  </a:lnTo>
                  <a:lnTo>
                    <a:pt x="39591" y="538763"/>
                  </a:lnTo>
                  <a:lnTo>
                    <a:pt x="52524" y="559563"/>
                  </a:lnTo>
                  <a:lnTo>
                    <a:pt x="67073" y="579356"/>
                  </a:lnTo>
                  <a:lnTo>
                    <a:pt x="82700" y="598478"/>
                  </a:lnTo>
                  <a:lnTo>
                    <a:pt x="100737" y="616306"/>
                  </a:lnTo>
                  <a:lnTo>
                    <a:pt x="120382" y="633271"/>
                  </a:lnTo>
                  <a:lnTo>
                    <a:pt x="141099" y="649662"/>
                  </a:lnTo>
                  <a:lnTo>
                    <a:pt x="162530" y="665668"/>
                  </a:lnTo>
                  <a:lnTo>
                    <a:pt x="206662" y="697001"/>
                  </a:lnTo>
                  <a:lnTo>
                    <a:pt x="230792" y="711621"/>
                  </a:lnTo>
                  <a:lnTo>
                    <a:pt x="256192" y="725601"/>
                  </a:lnTo>
                  <a:lnTo>
                    <a:pt x="282438" y="739155"/>
                  </a:lnTo>
                  <a:lnTo>
                    <a:pt x="309250" y="750730"/>
                  </a:lnTo>
                  <a:lnTo>
                    <a:pt x="336437" y="760988"/>
                  </a:lnTo>
                  <a:lnTo>
                    <a:pt x="363875" y="770366"/>
                  </a:lnTo>
                  <a:lnTo>
                    <a:pt x="392328" y="779158"/>
                  </a:lnTo>
                  <a:lnTo>
                    <a:pt x="451034" y="795700"/>
                  </a:lnTo>
                  <a:lnTo>
                    <a:pt x="480914" y="802821"/>
                  </a:lnTo>
                  <a:lnTo>
                    <a:pt x="510993" y="809261"/>
                  </a:lnTo>
                  <a:lnTo>
                    <a:pt x="541206" y="815248"/>
                  </a:lnTo>
                  <a:lnTo>
                    <a:pt x="571508" y="819240"/>
                  </a:lnTo>
                  <a:lnTo>
                    <a:pt x="601869" y="821900"/>
                  </a:lnTo>
                  <a:lnTo>
                    <a:pt x="632270" y="823674"/>
                  </a:lnTo>
                  <a:lnTo>
                    <a:pt x="690884" y="825646"/>
                  </a:lnTo>
                  <a:lnTo>
                    <a:pt x="719554" y="826171"/>
                  </a:lnTo>
                  <a:lnTo>
                    <a:pt x="746286" y="824828"/>
                  </a:lnTo>
                  <a:lnTo>
                    <a:pt x="771729" y="822240"/>
                  </a:lnTo>
                  <a:lnTo>
                    <a:pt x="796309" y="818820"/>
                  </a:lnTo>
                  <a:lnTo>
                    <a:pt x="817777" y="814001"/>
                  </a:lnTo>
                  <a:lnTo>
                    <a:pt x="837168" y="808248"/>
                  </a:lnTo>
                  <a:lnTo>
                    <a:pt x="872262" y="794236"/>
                  </a:lnTo>
                  <a:lnTo>
                    <a:pt x="904792" y="776719"/>
                  </a:lnTo>
                  <a:lnTo>
                    <a:pt x="931668" y="757645"/>
                  </a:lnTo>
                  <a:lnTo>
                    <a:pt x="961323" y="732382"/>
                  </a:lnTo>
                  <a:lnTo>
                    <a:pt x="980834" y="711915"/>
                  </a:lnTo>
                  <a:lnTo>
                    <a:pt x="997872" y="6900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SMARTInkAnnotation68"/>
            <p:cNvSpPr/>
            <p:nvPr/>
          </p:nvSpPr>
          <p:spPr>
            <a:xfrm>
              <a:off x="1608120" y="4221720"/>
              <a:ext cx="144720" cy="2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44773" h="22861">
                  <a:moveTo>
                    <a:pt x="7612" y="22860"/>
                  </a:moveTo>
                  <a:lnTo>
                    <a:pt x="0" y="22860"/>
                  </a:lnTo>
                  <a:lnTo>
                    <a:pt x="7519" y="22860"/>
                  </a:lnTo>
                  <a:lnTo>
                    <a:pt x="9829" y="20603"/>
                  </a:lnTo>
                  <a:lnTo>
                    <a:pt x="11630" y="18815"/>
                  </a:lnTo>
                  <a:lnTo>
                    <a:pt x="14524" y="17623"/>
                  </a:lnTo>
                  <a:lnTo>
                    <a:pt x="18147" y="16829"/>
                  </a:lnTo>
                  <a:lnTo>
                    <a:pt x="22255" y="16299"/>
                  </a:lnTo>
                  <a:lnTo>
                    <a:pt x="25841" y="15100"/>
                  </a:lnTo>
                  <a:lnTo>
                    <a:pt x="29078" y="13453"/>
                  </a:lnTo>
                  <a:lnTo>
                    <a:pt x="32083" y="11509"/>
                  </a:lnTo>
                  <a:lnTo>
                    <a:pt x="35779" y="10212"/>
                  </a:lnTo>
                  <a:lnTo>
                    <a:pt x="39937" y="9348"/>
                  </a:lnTo>
                  <a:lnTo>
                    <a:pt x="44402" y="8772"/>
                  </a:lnTo>
                  <a:lnTo>
                    <a:pt x="49072" y="7541"/>
                  </a:lnTo>
                  <a:lnTo>
                    <a:pt x="53879" y="5874"/>
                  </a:lnTo>
                  <a:lnTo>
                    <a:pt x="58776" y="3916"/>
                  </a:lnTo>
                  <a:lnTo>
                    <a:pt x="63735" y="2611"/>
                  </a:lnTo>
                  <a:lnTo>
                    <a:pt x="68734" y="1741"/>
                  </a:lnTo>
                  <a:lnTo>
                    <a:pt x="73760" y="1160"/>
                  </a:lnTo>
                  <a:lnTo>
                    <a:pt x="77957" y="774"/>
                  </a:lnTo>
                  <a:lnTo>
                    <a:pt x="81602" y="515"/>
                  </a:lnTo>
                  <a:lnTo>
                    <a:pt x="84879" y="344"/>
                  </a:lnTo>
                  <a:lnTo>
                    <a:pt x="93035" y="153"/>
                  </a:lnTo>
                  <a:lnTo>
                    <a:pt x="14477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SMARTInkAnnotation69"/>
            <p:cNvSpPr/>
            <p:nvPr/>
          </p:nvSpPr>
          <p:spPr>
            <a:xfrm>
              <a:off x="1897560" y="4046400"/>
              <a:ext cx="15120" cy="1216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5238" h="121921">
                  <a:moveTo>
                    <a:pt x="7617" y="0"/>
                  </a:moveTo>
                  <a:lnTo>
                    <a:pt x="7617" y="10606"/>
                  </a:lnTo>
                  <a:lnTo>
                    <a:pt x="6771" y="13844"/>
                  </a:lnTo>
                  <a:lnTo>
                    <a:pt x="5359" y="17697"/>
                  </a:lnTo>
                  <a:lnTo>
                    <a:pt x="3572" y="21957"/>
                  </a:lnTo>
                  <a:lnTo>
                    <a:pt x="2380" y="25645"/>
                  </a:lnTo>
                  <a:lnTo>
                    <a:pt x="1586" y="28950"/>
                  </a:lnTo>
                  <a:lnTo>
                    <a:pt x="1056" y="32000"/>
                  </a:lnTo>
                  <a:lnTo>
                    <a:pt x="703" y="34881"/>
                  </a:lnTo>
                  <a:lnTo>
                    <a:pt x="468" y="37647"/>
                  </a:lnTo>
                  <a:lnTo>
                    <a:pt x="311" y="40338"/>
                  </a:lnTo>
                  <a:lnTo>
                    <a:pt x="137" y="47843"/>
                  </a:lnTo>
                  <a:lnTo>
                    <a:pt x="0" y="78645"/>
                  </a:lnTo>
                  <a:lnTo>
                    <a:pt x="846" y="82063"/>
                  </a:lnTo>
                  <a:lnTo>
                    <a:pt x="2256" y="86036"/>
                  </a:lnTo>
                  <a:lnTo>
                    <a:pt x="6558" y="96488"/>
                  </a:lnTo>
                  <a:lnTo>
                    <a:pt x="6911" y="99038"/>
                  </a:lnTo>
                  <a:lnTo>
                    <a:pt x="7147" y="102433"/>
                  </a:lnTo>
                  <a:lnTo>
                    <a:pt x="7589" y="113606"/>
                  </a:lnTo>
                  <a:lnTo>
                    <a:pt x="8446" y="114684"/>
                  </a:lnTo>
                  <a:lnTo>
                    <a:pt x="9863" y="116249"/>
                  </a:lnTo>
                  <a:lnTo>
                    <a:pt x="11654" y="118139"/>
                  </a:lnTo>
                  <a:lnTo>
                    <a:pt x="12002" y="119400"/>
                  </a:lnTo>
                  <a:lnTo>
                    <a:pt x="11387" y="120240"/>
                  </a:lnTo>
                  <a:lnTo>
                    <a:pt x="10130" y="120800"/>
                  </a:lnTo>
                  <a:lnTo>
                    <a:pt x="9293" y="120327"/>
                  </a:lnTo>
                  <a:lnTo>
                    <a:pt x="8734" y="119165"/>
                  </a:lnTo>
                  <a:lnTo>
                    <a:pt x="8362" y="117543"/>
                  </a:lnTo>
                  <a:lnTo>
                    <a:pt x="8114" y="117309"/>
                  </a:lnTo>
                  <a:lnTo>
                    <a:pt x="7948" y="117999"/>
                  </a:lnTo>
                  <a:lnTo>
                    <a:pt x="7838" y="119306"/>
                  </a:lnTo>
                  <a:lnTo>
                    <a:pt x="8611" y="120177"/>
                  </a:lnTo>
                  <a:lnTo>
                    <a:pt x="9973" y="120758"/>
                  </a:lnTo>
                  <a:lnTo>
                    <a:pt x="15237" y="1219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SMARTInkAnnotation70"/>
            <p:cNvSpPr/>
            <p:nvPr/>
          </p:nvSpPr>
          <p:spPr>
            <a:xfrm>
              <a:off x="1867320" y="4061880"/>
              <a:ext cx="251280" cy="2818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51461" h="281941">
                  <a:moveTo>
                    <a:pt x="251460" y="0"/>
                  </a:moveTo>
                  <a:lnTo>
                    <a:pt x="251460" y="4045"/>
                  </a:lnTo>
                  <a:lnTo>
                    <a:pt x="250613" y="6084"/>
                  </a:lnTo>
                  <a:lnTo>
                    <a:pt x="245376" y="12998"/>
                  </a:lnTo>
                  <a:lnTo>
                    <a:pt x="238463" y="21255"/>
                  </a:lnTo>
                  <a:lnTo>
                    <a:pt x="233548" y="29484"/>
                  </a:lnTo>
                  <a:lnTo>
                    <a:pt x="228541" y="36529"/>
                  </a:lnTo>
                  <a:lnTo>
                    <a:pt x="223494" y="43328"/>
                  </a:lnTo>
                  <a:lnTo>
                    <a:pt x="218429" y="51995"/>
                  </a:lnTo>
                  <a:lnTo>
                    <a:pt x="214199" y="56677"/>
                  </a:lnTo>
                  <a:lnTo>
                    <a:pt x="208839" y="61491"/>
                  </a:lnTo>
                  <a:lnTo>
                    <a:pt x="202726" y="66394"/>
                  </a:lnTo>
                  <a:lnTo>
                    <a:pt x="196958" y="71356"/>
                  </a:lnTo>
                  <a:lnTo>
                    <a:pt x="191418" y="76357"/>
                  </a:lnTo>
                  <a:lnTo>
                    <a:pt x="180748" y="86430"/>
                  </a:lnTo>
                  <a:lnTo>
                    <a:pt x="149896" y="116846"/>
                  </a:lnTo>
                  <a:lnTo>
                    <a:pt x="139716" y="127003"/>
                  </a:lnTo>
                  <a:lnTo>
                    <a:pt x="134631" y="132929"/>
                  </a:lnTo>
                  <a:lnTo>
                    <a:pt x="129547" y="139419"/>
                  </a:lnTo>
                  <a:lnTo>
                    <a:pt x="124465" y="146286"/>
                  </a:lnTo>
                  <a:lnTo>
                    <a:pt x="118536" y="152557"/>
                  </a:lnTo>
                  <a:lnTo>
                    <a:pt x="112044" y="158432"/>
                  </a:lnTo>
                  <a:lnTo>
                    <a:pt x="105176" y="164041"/>
                  </a:lnTo>
                  <a:lnTo>
                    <a:pt x="98904" y="169475"/>
                  </a:lnTo>
                  <a:lnTo>
                    <a:pt x="93030" y="174790"/>
                  </a:lnTo>
                  <a:lnTo>
                    <a:pt x="81986" y="185211"/>
                  </a:lnTo>
                  <a:lnTo>
                    <a:pt x="71434" y="195487"/>
                  </a:lnTo>
                  <a:lnTo>
                    <a:pt x="65403" y="200598"/>
                  </a:lnTo>
                  <a:lnTo>
                    <a:pt x="58842" y="205699"/>
                  </a:lnTo>
                  <a:lnTo>
                    <a:pt x="51928" y="210792"/>
                  </a:lnTo>
                  <a:lnTo>
                    <a:pt x="46472" y="215882"/>
                  </a:lnTo>
                  <a:lnTo>
                    <a:pt x="41988" y="220967"/>
                  </a:lnTo>
                  <a:lnTo>
                    <a:pt x="38152" y="226052"/>
                  </a:lnTo>
                  <a:lnTo>
                    <a:pt x="34748" y="231134"/>
                  </a:lnTo>
                  <a:lnTo>
                    <a:pt x="31632" y="236216"/>
                  </a:lnTo>
                  <a:lnTo>
                    <a:pt x="28708" y="241298"/>
                  </a:lnTo>
                  <a:lnTo>
                    <a:pt x="23201" y="249201"/>
                  </a:lnTo>
                  <a:lnTo>
                    <a:pt x="17932" y="255536"/>
                  </a:lnTo>
                  <a:lnTo>
                    <a:pt x="10205" y="263862"/>
                  </a:lnTo>
                  <a:lnTo>
                    <a:pt x="5100" y="269108"/>
                  </a:lnTo>
                  <a:lnTo>
                    <a:pt x="3400" y="271692"/>
                  </a:lnTo>
                  <a:lnTo>
                    <a:pt x="2267" y="274261"/>
                  </a:lnTo>
                  <a:lnTo>
                    <a:pt x="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SMARTInkAnnotation71"/>
            <p:cNvSpPr/>
            <p:nvPr/>
          </p:nvSpPr>
          <p:spPr>
            <a:xfrm>
              <a:off x="1973880" y="4221720"/>
              <a:ext cx="189000" cy="24264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89204" h="242619">
                  <a:moveTo>
                    <a:pt x="53331" y="0"/>
                  </a:moveTo>
                  <a:lnTo>
                    <a:pt x="46025" y="0"/>
                  </a:lnTo>
                  <a:lnTo>
                    <a:pt x="45739" y="6561"/>
                  </a:lnTo>
                  <a:lnTo>
                    <a:pt x="45713" y="14088"/>
                  </a:lnTo>
                  <a:lnTo>
                    <a:pt x="40475" y="21096"/>
                  </a:lnTo>
                  <a:lnTo>
                    <a:pt x="37951" y="28170"/>
                  </a:lnTo>
                  <a:lnTo>
                    <a:pt x="32217" y="35628"/>
                  </a:lnTo>
                  <a:lnTo>
                    <a:pt x="27578" y="40671"/>
                  </a:lnTo>
                  <a:lnTo>
                    <a:pt x="26003" y="43200"/>
                  </a:lnTo>
                  <a:lnTo>
                    <a:pt x="24252" y="48269"/>
                  </a:lnTo>
                  <a:lnTo>
                    <a:pt x="21216" y="53344"/>
                  </a:lnTo>
                  <a:lnTo>
                    <a:pt x="17044" y="58422"/>
                  </a:lnTo>
                  <a:lnTo>
                    <a:pt x="12368" y="63501"/>
                  </a:lnTo>
                  <a:lnTo>
                    <a:pt x="10783" y="66041"/>
                  </a:lnTo>
                  <a:lnTo>
                    <a:pt x="9021" y="71120"/>
                  </a:lnTo>
                  <a:lnTo>
                    <a:pt x="7704" y="72814"/>
                  </a:lnTo>
                  <a:lnTo>
                    <a:pt x="5980" y="73943"/>
                  </a:lnTo>
                  <a:lnTo>
                    <a:pt x="3984" y="74695"/>
                  </a:lnTo>
                  <a:lnTo>
                    <a:pt x="2653" y="76043"/>
                  </a:lnTo>
                  <a:lnTo>
                    <a:pt x="1766" y="77789"/>
                  </a:lnTo>
                  <a:lnTo>
                    <a:pt x="0" y="83789"/>
                  </a:lnTo>
                  <a:lnTo>
                    <a:pt x="10598" y="73211"/>
                  </a:lnTo>
                  <a:lnTo>
                    <a:pt x="14682" y="71668"/>
                  </a:lnTo>
                  <a:lnTo>
                    <a:pt x="19945" y="70639"/>
                  </a:lnTo>
                  <a:lnTo>
                    <a:pt x="25994" y="69953"/>
                  </a:lnTo>
                  <a:lnTo>
                    <a:pt x="31720" y="68648"/>
                  </a:lnTo>
                  <a:lnTo>
                    <a:pt x="37230" y="66932"/>
                  </a:lnTo>
                  <a:lnTo>
                    <a:pt x="42597" y="64942"/>
                  </a:lnTo>
                  <a:lnTo>
                    <a:pt x="47868" y="62768"/>
                  </a:lnTo>
                  <a:lnTo>
                    <a:pt x="53076" y="60472"/>
                  </a:lnTo>
                  <a:lnTo>
                    <a:pt x="58241" y="58095"/>
                  </a:lnTo>
                  <a:lnTo>
                    <a:pt x="63378" y="56510"/>
                  </a:lnTo>
                  <a:lnTo>
                    <a:pt x="68496" y="55453"/>
                  </a:lnTo>
                  <a:lnTo>
                    <a:pt x="73601" y="54749"/>
                  </a:lnTo>
                  <a:lnTo>
                    <a:pt x="79544" y="54279"/>
                  </a:lnTo>
                  <a:lnTo>
                    <a:pt x="86047" y="53966"/>
                  </a:lnTo>
                  <a:lnTo>
                    <a:pt x="99198" y="53618"/>
                  </a:lnTo>
                  <a:lnTo>
                    <a:pt x="110687" y="53464"/>
                  </a:lnTo>
                  <a:lnTo>
                    <a:pt x="116122" y="54269"/>
                  </a:lnTo>
                  <a:lnTo>
                    <a:pt x="121438" y="55652"/>
                  </a:lnTo>
                  <a:lnTo>
                    <a:pt x="126676" y="57422"/>
                  </a:lnTo>
                  <a:lnTo>
                    <a:pt x="131861" y="58601"/>
                  </a:lnTo>
                  <a:lnTo>
                    <a:pt x="137011" y="59388"/>
                  </a:lnTo>
                  <a:lnTo>
                    <a:pt x="142138" y="59912"/>
                  </a:lnTo>
                  <a:lnTo>
                    <a:pt x="146402" y="61954"/>
                  </a:lnTo>
                  <a:lnTo>
                    <a:pt x="150092" y="65010"/>
                  </a:lnTo>
                  <a:lnTo>
                    <a:pt x="153398" y="68740"/>
                  </a:lnTo>
                  <a:lnTo>
                    <a:pt x="159330" y="75142"/>
                  </a:lnTo>
                  <a:lnTo>
                    <a:pt x="162097" y="78035"/>
                  </a:lnTo>
                  <a:lnTo>
                    <a:pt x="165635" y="80810"/>
                  </a:lnTo>
                  <a:lnTo>
                    <a:pt x="169687" y="83506"/>
                  </a:lnTo>
                  <a:lnTo>
                    <a:pt x="174082" y="86151"/>
                  </a:lnTo>
                  <a:lnTo>
                    <a:pt x="177011" y="89608"/>
                  </a:lnTo>
                  <a:lnTo>
                    <a:pt x="178965" y="93605"/>
                  </a:lnTo>
                  <a:lnTo>
                    <a:pt x="180267" y="97963"/>
                  </a:lnTo>
                  <a:lnTo>
                    <a:pt x="181982" y="102562"/>
                  </a:lnTo>
                  <a:lnTo>
                    <a:pt x="183971" y="107322"/>
                  </a:lnTo>
                  <a:lnTo>
                    <a:pt x="186145" y="112188"/>
                  </a:lnTo>
                  <a:lnTo>
                    <a:pt x="187593" y="117125"/>
                  </a:lnTo>
                  <a:lnTo>
                    <a:pt x="188559" y="122110"/>
                  </a:lnTo>
                  <a:lnTo>
                    <a:pt x="189203" y="127127"/>
                  </a:lnTo>
                  <a:lnTo>
                    <a:pt x="188786" y="132165"/>
                  </a:lnTo>
                  <a:lnTo>
                    <a:pt x="187661" y="137217"/>
                  </a:lnTo>
                  <a:lnTo>
                    <a:pt x="186064" y="142277"/>
                  </a:lnTo>
                  <a:lnTo>
                    <a:pt x="185000" y="147345"/>
                  </a:lnTo>
                  <a:lnTo>
                    <a:pt x="184290" y="152417"/>
                  </a:lnTo>
                  <a:lnTo>
                    <a:pt x="183817" y="157491"/>
                  </a:lnTo>
                  <a:lnTo>
                    <a:pt x="181809" y="162568"/>
                  </a:lnTo>
                  <a:lnTo>
                    <a:pt x="178776" y="167645"/>
                  </a:lnTo>
                  <a:lnTo>
                    <a:pt x="175061" y="172724"/>
                  </a:lnTo>
                  <a:lnTo>
                    <a:pt x="172584" y="176956"/>
                  </a:lnTo>
                  <a:lnTo>
                    <a:pt x="169833" y="183916"/>
                  </a:lnTo>
                  <a:lnTo>
                    <a:pt x="167405" y="187804"/>
                  </a:lnTo>
                  <a:lnTo>
                    <a:pt x="164094" y="192089"/>
                  </a:lnTo>
                  <a:lnTo>
                    <a:pt x="160193" y="196640"/>
                  </a:lnTo>
                  <a:lnTo>
                    <a:pt x="156746" y="200520"/>
                  </a:lnTo>
                  <a:lnTo>
                    <a:pt x="150658" y="207089"/>
                  </a:lnTo>
                  <a:lnTo>
                    <a:pt x="131226" y="226854"/>
                  </a:lnTo>
                  <a:lnTo>
                    <a:pt x="128121" y="229976"/>
                  </a:lnTo>
                  <a:lnTo>
                    <a:pt x="125205" y="232057"/>
                  </a:lnTo>
                  <a:lnTo>
                    <a:pt x="119706" y="234370"/>
                  </a:lnTo>
                  <a:lnTo>
                    <a:pt x="116208" y="235833"/>
                  </a:lnTo>
                  <a:lnTo>
                    <a:pt x="112182" y="237656"/>
                  </a:lnTo>
                  <a:lnTo>
                    <a:pt x="107805" y="239717"/>
                  </a:lnTo>
                  <a:lnTo>
                    <a:pt x="103194" y="241092"/>
                  </a:lnTo>
                  <a:lnTo>
                    <a:pt x="98426" y="242008"/>
                  </a:lnTo>
                  <a:lnTo>
                    <a:pt x="93555" y="242618"/>
                  </a:lnTo>
                  <a:lnTo>
                    <a:pt x="89460" y="242179"/>
                  </a:lnTo>
                  <a:lnTo>
                    <a:pt x="85884" y="241039"/>
                  </a:lnTo>
                  <a:lnTo>
                    <a:pt x="82653" y="239433"/>
                  </a:lnTo>
                  <a:lnTo>
                    <a:pt x="76805" y="237648"/>
                  </a:lnTo>
                  <a:lnTo>
                    <a:pt x="74060" y="237172"/>
                  </a:lnTo>
                  <a:lnTo>
                    <a:pt x="70537" y="236008"/>
                  </a:lnTo>
                  <a:lnTo>
                    <a:pt x="66496" y="234385"/>
                  </a:lnTo>
                  <a:lnTo>
                    <a:pt x="62107" y="232457"/>
                  </a:lnTo>
                  <a:lnTo>
                    <a:pt x="59182" y="230325"/>
                  </a:lnTo>
                  <a:lnTo>
                    <a:pt x="57232" y="228057"/>
                  </a:lnTo>
                  <a:lnTo>
                    <a:pt x="54218" y="223279"/>
                  </a:lnTo>
                  <a:lnTo>
                    <a:pt x="52229" y="220819"/>
                  </a:lnTo>
                  <a:lnTo>
                    <a:pt x="45711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SMARTInkAnnotation72"/>
            <p:cNvSpPr/>
            <p:nvPr/>
          </p:nvSpPr>
          <p:spPr>
            <a:xfrm>
              <a:off x="2019600" y="420660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1" h="1">
                  <a:moveTo>
                    <a:pt x="0" y="0"/>
                  </a:move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SMARTInkAnnotation73"/>
            <p:cNvSpPr/>
            <p:nvPr/>
          </p:nvSpPr>
          <p:spPr>
            <a:xfrm>
              <a:off x="1295640" y="2963880"/>
              <a:ext cx="159840" cy="1447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60021" h="144780">
                  <a:moveTo>
                    <a:pt x="0" y="7619"/>
                  </a:moveTo>
                  <a:lnTo>
                    <a:pt x="6561" y="7619"/>
                  </a:lnTo>
                  <a:lnTo>
                    <a:pt x="11352" y="3574"/>
                  </a:lnTo>
                  <a:lnTo>
                    <a:pt x="13494" y="2382"/>
                  </a:lnTo>
                  <a:lnTo>
                    <a:pt x="18133" y="1058"/>
                  </a:lnTo>
                  <a:lnTo>
                    <a:pt x="23017" y="470"/>
                  </a:lnTo>
                  <a:lnTo>
                    <a:pt x="25504" y="313"/>
                  </a:lnTo>
                  <a:lnTo>
                    <a:pt x="32784" y="138"/>
                  </a:lnTo>
                  <a:lnTo>
                    <a:pt x="82444" y="0"/>
                  </a:lnTo>
                  <a:lnTo>
                    <a:pt x="86290" y="846"/>
                  </a:lnTo>
                  <a:lnTo>
                    <a:pt x="89700" y="2257"/>
                  </a:lnTo>
                  <a:lnTo>
                    <a:pt x="92820" y="4044"/>
                  </a:lnTo>
                  <a:lnTo>
                    <a:pt x="95747" y="6083"/>
                  </a:lnTo>
                  <a:lnTo>
                    <a:pt x="98544" y="8288"/>
                  </a:lnTo>
                  <a:lnTo>
                    <a:pt x="101256" y="10605"/>
                  </a:lnTo>
                  <a:lnTo>
                    <a:pt x="103911" y="12996"/>
                  </a:lnTo>
                  <a:lnTo>
                    <a:pt x="109118" y="17911"/>
                  </a:lnTo>
                  <a:lnTo>
                    <a:pt x="110845" y="20407"/>
                  </a:lnTo>
                  <a:lnTo>
                    <a:pt x="111997" y="22917"/>
                  </a:lnTo>
                  <a:lnTo>
                    <a:pt x="112765" y="25438"/>
                  </a:lnTo>
                  <a:lnTo>
                    <a:pt x="113277" y="27965"/>
                  </a:lnTo>
                  <a:lnTo>
                    <a:pt x="113618" y="30496"/>
                  </a:lnTo>
                  <a:lnTo>
                    <a:pt x="113845" y="33030"/>
                  </a:lnTo>
                  <a:lnTo>
                    <a:pt x="114844" y="35567"/>
                  </a:lnTo>
                  <a:lnTo>
                    <a:pt x="116356" y="38104"/>
                  </a:lnTo>
                  <a:lnTo>
                    <a:pt x="118211" y="40642"/>
                  </a:lnTo>
                  <a:lnTo>
                    <a:pt x="118600" y="44028"/>
                  </a:lnTo>
                  <a:lnTo>
                    <a:pt x="118014" y="47978"/>
                  </a:lnTo>
                  <a:lnTo>
                    <a:pt x="116776" y="52305"/>
                  </a:lnTo>
                  <a:lnTo>
                    <a:pt x="115950" y="56036"/>
                  </a:lnTo>
                  <a:lnTo>
                    <a:pt x="115401" y="59371"/>
                  </a:lnTo>
                  <a:lnTo>
                    <a:pt x="115034" y="62440"/>
                  </a:lnTo>
                  <a:lnTo>
                    <a:pt x="113943" y="65333"/>
                  </a:lnTo>
                  <a:lnTo>
                    <a:pt x="112368" y="68109"/>
                  </a:lnTo>
                  <a:lnTo>
                    <a:pt x="110472" y="70805"/>
                  </a:lnTo>
                  <a:lnTo>
                    <a:pt x="108362" y="74297"/>
                  </a:lnTo>
                  <a:lnTo>
                    <a:pt x="106108" y="78317"/>
                  </a:lnTo>
                  <a:lnTo>
                    <a:pt x="103758" y="82691"/>
                  </a:lnTo>
                  <a:lnTo>
                    <a:pt x="101346" y="85607"/>
                  </a:lnTo>
                  <a:lnTo>
                    <a:pt x="98891" y="87551"/>
                  </a:lnTo>
                  <a:lnTo>
                    <a:pt x="89132" y="92545"/>
                  </a:lnTo>
                  <a:lnTo>
                    <a:pt x="84821" y="94716"/>
                  </a:lnTo>
                  <a:lnTo>
                    <a:pt x="81101" y="97011"/>
                  </a:lnTo>
                  <a:lnTo>
                    <a:pt x="77774" y="99387"/>
                  </a:lnTo>
                  <a:lnTo>
                    <a:pt x="74709" y="101818"/>
                  </a:lnTo>
                  <a:lnTo>
                    <a:pt x="70973" y="104285"/>
                  </a:lnTo>
                  <a:lnTo>
                    <a:pt x="66789" y="106776"/>
                  </a:lnTo>
                  <a:lnTo>
                    <a:pt x="62306" y="109284"/>
                  </a:lnTo>
                  <a:lnTo>
                    <a:pt x="58471" y="110956"/>
                  </a:lnTo>
                  <a:lnTo>
                    <a:pt x="55067" y="112070"/>
                  </a:lnTo>
                  <a:lnTo>
                    <a:pt x="51951" y="112813"/>
                  </a:lnTo>
                  <a:lnTo>
                    <a:pt x="49028" y="113308"/>
                  </a:lnTo>
                  <a:lnTo>
                    <a:pt x="46232" y="113638"/>
                  </a:lnTo>
                  <a:lnTo>
                    <a:pt x="43521" y="113859"/>
                  </a:lnTo>
                  <a:lnTo>
                    <a:pt x="40868" y="114006"/>
                  </a:lnTo>
                  <a:lnTo>
                    <a:pt x="35661" y="114169"/>
                  </a:lnTo>
                  <a:lnTo>
                    <a:pt x="33934" y="115059"/>
                  </a:lnTo>
                  <a:lnTo>
                    <a:pt x="32783" y="116499"/>
                  </a:lnTo>
                  <a:lnTo>
                    <a:pt x="30615" y="121602"/>
                  </a:lnTo>
                  <a:lnTo>
                    <a:pt x="30520" y="117780"/>
                  </a:lnTo>
                  <a:lnTo>
                    <a:pt x="31353" y="116620"/>
                  </a:lnTo>
                  <a:lnTo>
                    <a:pt x="32756" y="115846"/>
                  </a:lnTo>
                  <a:lnTo>
                    <a:pt x="36572" y="114987"/>
                  </a:lnTo>
                  <a:lnTo>
                    <a:pt x="41090" y="114605"/>
                  </a:lnTo>
                  <a:lnTo>
                    <a:pt x="45920" y="114435"/>
                  </a:lnTo>
                  <a:lnTo>
                    <a:pt x="48393" y="114390"/>
                  </a:lnTo>
                  <a:lnTo>
                    <a:pt x="50889" y="113513"/>
                  </a:lnTo>
                  <a:lnTo>
                    <a:pt x="53399" y="112081"/>
                  </a:lnTo>
                  <a:lnTo>
                    <a:pt x="55920" y="110281"/>
                  </a:lnTo>
                  <a:lnTo>
                    <a:pt x="58447" y="109080"/>
                  </a:lnTo>
                  <a:lnTo>
                    <a:pt x="60978" y="108280"/>
                  </a:lnTo>
                  <a:lnTo>
                    <a:pt x="63512" y="107746"/>
                  </a:lnTo>
                  <a:lnTo>
                    <a:pt x="66048" y="107390"/>
                  </a:lnTo>
                  <a:lnTo>
                    <a:pt x="68585" y="107154"/>
                  </a:lnTo>
                  <a:lnTo>
                    <a:pt x="71123" y="106995"/>
                  </a:lnTo>
                  <a:lnTo>
                    <a:pt x="74509" y="107737"/>
                  </a:lnTo>
                  <a:lnTo>
                    <a:pt x="78459" y="109078"/>
                  </a:lnTo>
                  <a:lnTo>
                    <a:pt x="82786" y="110818"/>
                  </a:lnTo>
                  <a:lnTo>
                    <a:pt x="86518" y="111978"/>
                  </a:lnTo>
                  <a:lnTo>
                    <a:pt x="89852" y="112752"/>
                  </a:lnTo>
                  <a:lnTo>
                    <a:pt x="92921" y="113267"/>
                  </a:lnTo>
                  <a:lnTo>
                    <a:pt x="96661" y="113612"/>
                  </a:lnTo>
                  <a:lnTo>
                    <a:pt x="100847" y="113841"/>
                  </a:lnTo>
                  <a:lnTo>
                    <a:pt x="105331" y="113994"/>
                  </a:lnTo>
                  <a:lnTo>
                    <a:pt x="109168" y="114942"/>
                  </a:lnTo>
                  <a:lnTo>
                    <a:pt x="112572" y="116421"/>
                  </a:lnTo>
                  <a:lnTo>
                    <a:pt x="115688" y="118254"/>
                  </a:lnTo>
                  <a:lnTo>
                    <a:pt x="118612" y="119475"/>
                  </a:lnTo>
                  <a:lnTo>
                    <a:pt x="121408" y="120290"/>
                  </a:lnTo>
                  <a:lnTo>
                    <a:pt x="124119" y="120833"/>
                  </a:lnTo>
                  <a:lnTo>
                    <a:pt x="127620" y="122042"/>
                  </a:lnTo>
                  <a:lnTo>
                    <a:pt x="131646" y="123694"/>
                  </a:lnTo>
                  <a:lnTo>
                    <a:pt x="136024" y="125642"/>
                  </a:lnTo>
                  <a:lnTo>
                    <a:pt x="138943" y="127788"/>
                  </a:lnTo>
                  <a:lnTo>
                    <a:pt x="140889" y="130065"/>
                  </a:lnTo>
                  <a:lnTo>
                    <a:pt x="142186" y="132430"/>
                  </a:lnTo>
                  <a:lnTo>
                    <a:pt x="143897" y="134853"/>
                  </a:lnTo>
                  <a:lnTo>
                    <a:pt x="145885" y="137315"/>
                  </a:lnTo>
                  <a:lnTo>
                    <a:pt x="148057" y="139803"/>
                  </a:lnTo>
                  <a:lnTo>
                    <a:pt x="150351" y="141462"/>
                  </a:lnTo>
                  <a:lnTo>
                    <a:pt x="155158" y="143305"/>
                  </a:lnTo>
                  <a:lnTo>
                    <a:pt x="160020" y="1447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MARTInkAnnotation74"/>
            <p:cNvSpPr/>
            <p:nvPr/>
          </p:nvSpPr>
          <p:spPr>
            <a:xfrm>
              <a:off x="122400" y="248364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41">
                  <a:moveTo>
                    <a:pt x="0" y="15240"/>
                  </a:moveTo>
                  <a:lnTo>
                    <a:pt x="29485" y="15240"/>
                  </a:lnTo>
                  <a:lnTo>
                    <a:pt x="34050" y="14394"/>
                  </a:lnTo>
                  <a:lnTo>
                    <a:pt x="38786" y="12982"/>
                  </a:lnTo>
                  <a:lnTo>
                    <a:pt x="43638" y="11195"/>
                  </a:lnTo>
                  <a:lnTo>
                    <a:pt x="48565" y="10003"/>
                  </a:lnTo>
                  <a:lnTo>
                    <a:pt x="53543" y="9209"/>
                  </a:lnTo>
                  <a:lnTo>
                    <a:pt x="58556" y="8679"/>
                  </a:lnTo>
                  <a:lnTo>
                    <a:pt x="64437" y="8326"/>
                  </a:lnTo>
                  <a:lnTo>
                    <a:pt x="77745" y="7934"/>
                  </a:lnTo>
                  <a:lnTo>
                    <a:pt x="84004" y="6983"/>
                  </a:lnTo>
                  <a:lnTo>
                    <a:pt x="89869" y="5502"/>
                  </a:lnTo>
                  <a:lnTo>
                    <a:pt x="95473" y="3668"/>
                  </a:lnTo>
                  <a:lnTo>
                    <a:pt x="101748" y="2445"/>
                  </a:lnTo>
                  <a:lnTo>
                    <a:pt x="108472" y="1630"/>
                  </a:lnTo>
                  <a:lnTo>
                    <a:pt x="121023" y="725"/>
                  </a:lnTo>
                  <a:lnTo>
                    <a:pt x="129424" y="322"/>
                  </a:lnTo>
                  <a:lnTo>
                    <a:pt x="135979" y="143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MARTInkAnnotation75"/>
            <p:cNvSpPr/>
            <p:nvPr/>
          </p:nvSpPr>
          <p:spPr>
            <a:xfrm>
              <a:off x="366120" y="2289240"/>
              <a:ext cx="174960" cy="186480"/>
            </a:xfrm>
            <a:custGeom>
              <a:avLst/>
              <a:gdLst>
                <a:gd name="textAreaLeft" fmla="*/ 0 w 174960"/>
                <a:gd name="textAreaRight" fmla="*/ 174960 w 17496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175015" h="186516">
                  <a:moveTo>
                    <a:pt x="0" y="65053"/>
                  </a:moveTo>
                  <a:lnTo>
                    <a:pt x="0" y="53481"/>
                  </a:lnTo>
                  <a:lnTo>
                    <a:pt x="847" y="51412"/>
                  </a:lnTo>
                  <a:lnTo>
                    <a:pt x="4045" y="46855"/>
                  </a:lnTo>
                  <a:lnTo>
                    <a:pt x="8289" y="42007"/>
                  </a:lnTo>
                  <a:lnTo>
                    <a:pt x="10606" y="39529"/>
                  </a:lnTo>
                  <a:lnTo>
                    <a:pt x="13844" y="37031"/>
                  </a:lnTo>
                  <a:lnTo>
                    <a:pt x="17696" y="34518"/>
                  </a:lnTo>
                  <a:lnTo>
                    <a:pt x="21957" y="31996"/>
                  </a:lnTo>
                  <a:lnTo>
                    <a:pt x="26492" y="29469"/>
                  </a:lnTo>
                  <a:lnTo>
                    <a:pt x="36045" y="24402"/>
                  </a:lnTo>
                  <a:lnTo>
                    <a:pt x="50944" y="16790"/>
                  </a:lnTo>
                  <a:lnTo>
                    <a:pt x="57669" y="14251"/>
                  </a:lnTo>
                  <a:lnTo>
                    <a:pt x="65540" y="11712"/>
                  </a:lnTo>
                  <a:lnTo>
                    <a:pt x="74173" y="9172"/>
                  </a:lnTo>
                  <a:lnTo>
                    <a:pt x="82469" y="7479"/>
                  </a:lnTo>
                  <a:lnTo>
                    <a:pt x="90539" y="6351"/>
                  </a:lnTo>
                  <a:lnTo>
                    <a:pt x="98459" y="5598"/>
                  </a:lnTo>
                  <a:lnTo>
                    <a:pt x="105433" y="4250"/>
                  </a:lnTo>
                  <a:lnTo>
                    <a:pt x="111775" y="2504"/>
                  </a:lnTo>
                  <a:lnTo>
                    <a:pt x="117697" y="494"/>
                  </a:lnTo>
                  <a:lnTo>
                    <a:pt x="124185" y="0"/>
                  </a:lnTo>
                  <a:lnTo>
                    <a:pt x="131050" y="518"/>
                  </a:lnTo>
                  <a:lnTo>
                    <a:pt x="138166" y="1710"/>
                  </a:lnTo>
                  <a:lnTo>
                    <a:pt x="143758" y="2504"/>
                  </a:lnTo>
                  <a:lnTo>
                    <a:pt x="148332" y="3034"/>
                  </a:lnTo>
                  <a:lnTo>
                    <a:pt x="152228" y="3387"/>
                  </a:lnTo>
                  <a:lnTo>
                    <a:pt x="156519" y="4469"/>
                  </a:lnTo>
                  <a:lnTo>
                    <a:pt x="161072" y="6037"/>
                  </a:lnTo>
                  <a:lnTo>
                    <a:pt x="165802" y="7929"/>
                  </a:lnTo>
                  <a:lnTo>
                    <a:pt x="168954" y="10037"/>
                  </a:lnTo>
                  <a:lnTo>
                    <a:pt x="171056" y="12289"/>
                  </a:lnTo>
                  <a:lnTo>
                    <a:pt x="172457" y="14637"/>
                  </a:lnTo>
                  <a:lnTo>
                    <a:pt x="174014" y="19504"/>
                  </a:lnTo>
                  <a:lnTo>
                    <a:pt x="174430" y="21987"/>
                  </a:lnTo>
                  <a:lnTo>
                    <a:pt x="174706" y="25336"/>
                  </a:lnTo>
                  <a:lnTo>
                    <a:pt x="174891" y="29262"/>
                  </a:lnTo>
                  <a:lnTo>
                    <a:pt x="175014" y="33572"/>
                  </a:lnTo>
                  <a:lnTo>
                    <a:pt x="174249" y="38139"/>
                  </a:lnTo>
                  <a:lnTo>
                    <a:pt x="172893" y="42877"/>
                  </a:lnTo>
                  <a:lnTo>
                    <a:pt x="171142" y="47729"/>
                  </a:lnTo>
                  <a:lnTo>
                    <a:pt x="168281" y="53504"/>
                  </a:lnTo>
                  <a:lnTo>
                    <a:pt x="164681" y="59894"/>
                  </a:lnTo>
                  <a:lnTo>
                    <a:pt x="160587" y="66694"/>
                  </a:lnTo>
                  <a:lnTo>
                    <a:pt x="156165" y="72920"/>
                  </a:lnTo>
                  <a:lnTo>
                    <a:pt x="151523" y="78764"/>
                  </a:lnTo>
                  <a:lnTo>
                    <a:pt x="146735" y="84354"/>
                  </a:lnTo>
                  <a:lnTo>
                    <a:pt x="141850" y="90621"/>
                  </a:lnTo>
                  <a:lnTo>
                    <a:pt x="136900" y="97338"/>
                  </a:lnTo>
                  <a:lnTo>
                    <a:pt x="131907" y="104356"/>
                  </a:lnTo>
                  <a:lnTo>
                    <a:pt x="126885" y="110729"/>
                  </a:lnTo>
                  <a:lnTo>
                    <a:pt x="121843" y="116670"/>
                  </a:lnTo>
                  <a:lnTo>
                    <a:pt x="116789" y="122324"/>
                  </a:lnTo>
                  <a:lnTo>
                    <a:pt x="112572" y="127787"/>
                  </a:lnTo>
                  <a:lnTo>
                    <a:pt x="108915" y="133123"/>
                  </a:lnTo>
                  <a:lnTo>
                    <a:pt x="105630" y="138373"/>
                  </a:lnTo>
                  <a:lnTo>
                    <a:pt x="102593" y="143566"/>
                  </a:lnTo>
                  <a:lnTo>
                    <a:pt x="99722" y="148722"/>
                  </a:lnTo>
                  <a:lnTo>
                    <a:pt x="96961" y="153852"/>
                  </a:lnTo>
                  <a:lnTo>
                    <a:pt x="93428" y="158119"/>
                  </a:lnTo>
                  <a:lnTo>
                    <a:pt x="89378" y="161811"/>
                  </a:lnTo>
                  <a:lnTo>
                    <a:pt x="84986" y="165118"/>
                  </a:lnTo>
                  <a:lnTo>
                    <a:pt x="82057" y="168170"/>
                  </a:lnTo>
                  <a:lnTo>
                    <a:pt x="80105" y="171051"/>
                  </a:lnTo>
                  <a:lnTo>
                    <a:pt x="77935" y="176510"/>
                  </a:lnTo>
                  <a:lnTo>
                    <a:pt x="76971" y="181758"/>
                  </a:lnTo>
                  <a:lnTo>
                    <a:pt x="78408" y="183497"/>
                  </a:lnTo>
                  <a:lnTo>
                    <a:pt x="81058" y="184656"/>
                  </a:lnTo>
                  <a:lnTo>
                    <a:pt x="84519" y="185428"/>
                  </a:lnTo>
                  <a:lnTo>
                    <a:pt x="87673" y="185943"/>
                  </a:lnTo>
                  <a:lnTo>
                    <a:pt x="90622" y="186286"/>
                  </a:lnTo>
                  <a:lnTo>
                    <a:pt x="93435" y="186515"/>
                  </a:lnTo>
                  <a:lnTo>
                    <a:pt x="97850" y="185821"/>
                  </a:lnTo>
                  <a:lnTo>
                    <a:pt x="103333" y="184512"/>
                  </a:lnTo>
                  <a:lnTo>
                    <a:pt x="109529" y="182792"/>
                  </a:lnTo>
                  <a:lnTo>
                    <a:pt x="114506" y="181646"/>
                  </a:lnTo>
                  <a:lnTo>
                    <a:pt x="118671" y="180882"/>
                  </a:lnTo>
                  <a:lnTo>
                    <a:pt x="122294" y="180372"/>
                  </a:lnTo>
                  <a:lnTo>
                    <a:pt x="125556" y="179186"/>
                  </a:lnTo>
                  <a:lnTo>
                    <a:pt x="128577" y="177548"/>
                  </a:lnTo>
                  <a:lnTo>
                    <a:pt x="137160" y="1717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MARTInkAnnotation76"/>
            <p:cNvSpPr/>
            <p:nvPr/>
          </p:nvSpPr>
          <p:spPr>
            <a:xfrm>
              <a:off x="388800" y="2354040"/>
              <a:ext cx="342720" cy="3276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42901" h="327661">
                  <a:moveTo>
                    <a:pt x="342900" y="0"/>
                  </a:moveTo>
                  <a:lnTo>
                    <a:pt x="336339" y="6561"/>
                  </a:lnTo>
                  <a:lnTo>
                    <a:pt x="331549" y="15397"/>
                  </a:lnTo>
                  <a:lnTo>
                    <a:pt x="324873" y="21801"/>
                  </a:lnTo>
                  <a:lnTo>
                    <a:pt x="316261" y="28316"/>
                  </a:lnTo>
                  <a:lnTo>
                    <a:pt x="306789" y="36856"/>
                  </a:lnTo>
                  <a:lnTo>
                    <a:pt x="296935" y="46296"/>
                  </a:lnTo>
                  <a:lnTo>
                    <a:pt x="276811" y="66154"/>
                  </a:lnTo>
                  <a:lnTo>
                    <a:pt x="271748" y="72042"/>
                  </a:lnTo>
                  <a:lnTo>
                    <a:pt x="266679" y="78508"/>
                  </a:lnTo>
                  <a:lnTo>
                    <a:pt x="261606" y="85359"/>
                  </a:lnTo>
                  <a:lnTo>
                    <a:pt x="255684" y="92466"/>
                  </a:lnTo>
                  <a:lnTo>
                    <a:pt x="249196" y="99744"/>
                  </a:lnTo>
                  <a:lnTo>
                    <a:pt x="235214" y="114604"/>
                  </a:lnTo>
                  <a:lnTo>
                    <a:pt x="197987" y="152440"/>
                  </a:lnTo>
                  <a:lnTo>
                    <a:pt x="191258" y="160047"/>
                  </a:lnTo>
                  <a:lnTo>
                    <a:pt x="185079" y="167658"/>
                  </a:lnTo>
                  <a:lnTo>
                    <a:pt x="179266" y="175272"/>
                  </a:lnTo>
                  <a:lnTo>
                    <a:pt x="172851" y="182888"/>
                  </a:lnTo>
                  <a:lnTo>
                    <a:pt x="166034" y="190505"/>
                  </a:lnTo>
                  <a:lnTo>
                    <a:pt x="151686" y="205742"/>
                  </a:lnTo>
                  <a:lnTo>
                    <a:pt x="106617" y="251460"/>
                  </a:lnTo>
                  <a:lnTo>
                    <a:pt x="91412" y="266700"/>
                  </a:lnTo>
                  <a:lnTo>
                    <a:pt x="83802" y="273474"/>
                  </a:lnTo>
                  <a:lnTo>
                    <a:pt x="76188" y="279682"/>
                  </a:lnTo>
                  <a:lnTo>
                    <a:pt x="68572" y="285515"/>
                  </a:lnTo>
                  <a:lnTo>
                    <a:pt x="60955" y="291097"/>
                  </a:lnTo>
                  <a:lnTo>
                    <a:pt x="45718" y="301814"/>
                  </a:lnTo>
                  <a:lnTo>
                    <a:pt x="38945" y="306196"/>
                  </a:lnTo>
                  <a:lnTo>
                    <a:pt x="32737" y="309964"/>
                  </a:lnTo>
                  <a:lnTo>
                    <a:pt x="22170" y="316409"/>
                  </a:lnTo>
                  <a:lnTo>
                    <a:pt x="11461" y="323950"/>
                  </a:lnTo>
                  <a:lnTo>
                    <a:pt x="8487" y="325187"/>
                  </a:lnTo>
                  <a:lnTo>
                    <a:pt x="0" y="3276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SMARTInkAnnotation77"/>
            <p:cNvSpPr/>
            <p:nvPr/>
          </p:nvSpPr>
          <p:spPr>
            <a:xfrm>
              <a:off x="549000" y="2514240"/>
              <a:ext cx="45720" cy="175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45721" h="175261">
                  <a:moveTo>
                    <a:pt x="45720" y="0"/>
                  </a:moveTo>
                  <a:lnTo>
                    <a:pt x="45720" y="25504"/>
                  </a:lnTo>
                  <a:lnTo>
                    <a:pt x="44873" y="28856"/>
                  </a:lnTo>
                  <a:lnTo>
                    <a:pt x="43462" y="32784"/>
                  </a:lnTo>
                  <a:lnTo>
                    <a:pt x="41675" y="37097"/>
                  </a:lnTo>
                  <a:lnTo>
                    <a:pt x="40483" y="41664"/>
                  </a:lnTo>
                  <a:lnTo>
                    <a:pt x="39689" y="46403"/>
                  </a:lnTo>
                  <a:lnTo>
                    <a:pt x="39159" y="51255"/>
                  </a:lnTo>
                  <a:lnTo>
                    <a:pt x="37960" y="56184"/>
                  </a:lnTo>
                  <a:lnTo>
                    <a:pt x="36313" y="61163"/>
                  </a:lnTo>
                  <a:lnTo>
                    <a:pt x="34369" y="66175"/>
                  </a:lnTo>
                  <a:lnTo>
                    <a:pt x="32226" y="71210"/>
                  </a:lnTo>
                  <a:lnTo>
                    <a:pt x="27587" y="81320"/>
                  </a:lnTo>
                  <a:lnTo>
                    <a:pt x="17710" y="101608"/>
                  </a:lnTo>
                  <a:lnTo>
                    <a:pt x="12669" y="111764"/>
                  </a:lnTo>
                  <a:lnTo>
                    <a:pt x="10986" y="116842"/>
                  </a:lnTo>
                  <a:lnTo>
                    <a:pt x="9864" y="121922"/>
                  </a:lnTo>
                  <a:lnTo>
                    <a:pt x="9116" y="127001"/>
                  </a:lnTo>
                  <a:lnTo>
                    <a:pt x="7771" y="132081"/>
                  </a:lnTo>
                  <a:lnTo>
                    <a:pt x="6027" y="137161"/>
                  </a:lnTo>
                  <a:lnTo>
                    <a:pt x="4018" y="142241"/>
                  </a:lnTo>
                  <a:lnTo>
                    <a:pt x="2679" y="146474"/>
                  </a:lnTo>
                  <a:lnTo>
                    <a:pt x="1786" y="150143"/>
                  </a:lnTo>
                  <a:lnTo>
                    <a:pt x="1190" y="153435"/>
                  </a:lnTo>
                  <a:lnTo>
                    <a:pt x="794" y="157323"/>
                  </a:lnTo>
                  <a:lnTo>
                    <a:pt x="529" y="161609"/>
                  </a:lnTo>
                  <a:lnTo>
                    <a:pt x="0" y="1752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SMARTInkAnnotation78"/>
            <p:cNvSpPr/>
            <p:nvPr/>
          </p:nvSpPr>
          <p:spPr>
            <a:xfrm>
              <a:off x="671040" y="2514240"/>
              <a:ext cx="120960" cy="15948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21300" h="159561">
                  <a:moveTo>
                    <a:pt x="53205" y="0"/>
                  </a:moveTo>
                  <a:lnTo>
                    <a:pt x="53205" y="4045"/>
                  </a:lnTo>
                  <a:lnTo>
                    <a:pt x="52358" y="6084"/>
                  </a:lnTo>
                  <a:lnTo>
                    <a:pt x="49160" y="10606"/>
                  </a:lnTo>
                  <a:lnTo>
                    <a:pt x="45445" y="15171"/>
                  </a:lnTo>
                  <a:lnTo>
                    <a:pt x="41854" y="18878"/>
                  </a:lnTo>
                  <a:lnTo>
                    <a:pt x="31027" y="29770"/>
                  </a:lnTo>
                  <a:lnTo>
                    <a:pt x="27413" y="35087"/>
                  </a:lnTo>
                  <a:lnTo>
                    <a:pt x="24157" y="41172"/>
                  </a:lnTo>
                  <a:lnTo>
                    <a:pt x="21140" y="47768"/>
                  </a:lnTo>
                  <a:lnTo>
                    <a:pt x="18282" y="54705"/>
                  </a:lnTo>
                  <a:lnTo>
                    <a:pt x="15529" y="61870"/>
                  </a:lnTo>
                  <a:lnTo>
                    <a:pt x="12848" y="69187"/>
                  </a:lnTo>
                  <a:lnTo>
                    <a:pt x="10214" y="75758"/>
                  </a:lnTo>
                  <a:lnTo>
                    <a:pt x="7611" y="81832"/>
                  </a:lnTo>
                  <a:lnTo>
                    <a:pt x="5029" y="87575"/>
                  </a:lnTo>
                  <a:lnTo>
                    <a:pt x="3308" y="93943"/>
                  </a:lnTo>
                  <a:lnTo>
                    <a:pt x="2160" y="100729"/>
                  </a:lnTo>
                  <a:lnTo>
                    <a:pt x="1395" y="107792"/>
                  </a:lnTo>
                  <a:lnTo>
                    <a:pt x="885" y="114195"/>
                  </a:lnTo>
                  <a:lnTo>
                    <a:pt x="545" y="120157"/>
                  </a:lnTo>
                  <a:lnTo>
                    <a:pt x="168" y="130450"/>
                  </a:lnTo>
                  <a:lnTo>
                    <a:pt x="0" y="137846"/>
                  </a:lnTo>
                  <a:lnTo>
                    <a:pt x="801" y="141004"/>
                  </a:lnTo>
                  <a:lnTo>
                    <a:pt x="2183" y="143956"/>
                  </a:lnTo>
                  <a:lnTo>
                    <a:pt x="3950" y="146771"/>
                  </a:lnTo>
                  <a:lnTo>
                    <a:pt x="6822" y="149494"/>
                  </a:lnTo>
                  <a:lnTo>
                    <a:pt x="10430" y="152156"/>
                  </a:lnTo>
                  <a:lnTo>
                    <a:pt x="14528" y="154777"/>
                  </a:lnTo>
                  <a:lnTo>
                    <a:pt x="18954" y="156525"/>
                  </a:lnTo>
                  <a:lnTo>
                    <a:pt x="23598" y="157690"/>
                  </a:lnTo>
                  <a:lnTo>
                    <a:pt x="28387" y="158467"/>
                  </a:lnTo>
                  <a:lnTo>
                    <a:pt x="34120" y="158984"/>
                  </a:lnTo>
                  <a:lnTo>
                    <a:pt x="40481" y="159330"/>
                  </a:lnTo>
                  <a:lnTo>
                    <a:pt x="47263" y="159560"/>
                  </a:lnTo>
                  <a:lnTo>
                    <a:pt x="53477" y="158867"/>
                  </a:lnTo>
                  <a:lnTo>
                    <a:pt x="59313" y="157558"/>
                  </a:lnTo>
                  <a:lnTo>
                    <a:pt x="64897" y="155838"/>
                  </a:lnTo>
                  <a:lnTo>
                    <a:pt x="70313" y="153846"/>
                  </a:lnTo>
                  <a:lnTo>
                    <a:pt x="75617" y="151671"/>
                  </a:lnTo>
                  <a:lnTo>
                    <a:pt x="80846" y="149374"/>
                  </a:lnTo>
                  <a:lnTo>
                    <a:pt x="86026" y="146149"/>
                  </a:lnTo>
                  <a:lnTo>
                    <a:pt x="91172" y="142306"/>
                  </a:lnTo>
                  <a:lnTo>
                    <a:pt x="96297" y="138051"/>
                  </a:lnTo>
                  <a:lnTo>
                    <a:pt x="100559" y="132674"/>
                  </a:lnTo>
                  <a:lnTo>
                    <a:pt x="104248" y="126549"/>
                  </a:lnTo>
                  <a:lnTo>
                    <a:pt x="116251" y="102514"/>
                  </a:lnTo>
                  <a:lnTo>
                    <a:pt x="118096" y="97130"/>
                  </a:lnTo>
                  <a:lnTo>
                    <a:pt x="119326" y="91847"/>
                  </a:lnTo>
                  <a:lnTo>
                    <a:pt x="120145" y="86631"/>
                  </a:lnTo>
                  <a:lnTo>
                    <a:pt x="120692" y="81461"/>
                  </a:lnTo>
                  <a:lnTo>
                    <a:pt x="121056" y="76321"/>
                  </a:lnTo>
                  <a:lnTo>
                    <a:pt x="121299" y="71200"/>
                  </a:lnTo>
                  <a:lnTo>
                    <a:pt x="120615" y="66094"/>
                  </a:lnTo>
                  <a:lnTo>
                    <a:pt x="119311" y="60996"/>
                  </a:lnTo>
                  <a:lnTo>
                    <a:pt x="117596" y="55904"/>
                  </a:lnTo>
                  <a:lnTo>
                    <a:pt x="115606" y="51663"/>
                  </a:lnTo>
                  <a:lnTo>
                    <a:pt x="113432" y="47989"/>
                  </a:lnTo>
                  <a:lnTo>
                    <a:pt x="111136" y="44692"/>
                  </a:lnTo>
                  <a:lnTo>
                    <a:pt x="108759" y="40802"/>
                  </a:lnTo>
                  <a:lnTo>
                    <a:pt x="106328" y="36514"/>
                  </a:lnTo>
                  <a:lnTo>
                    <a:pt x="103860" y="31963"/>
                  </a:lnTo>
                  <a:lnTo>
                    <a:pt x="100522" y="28929"/>
                  </a:lnTo>
                  <a:lnTo>
                    <a:pt x="96603" y="26906"/>
                  </a:lnTo>
                  <a:lnTo>
                    <a:pt x="92297" y="25557"/>
                  </a:lnTo>
                  <a:lnTo>
                    <a:pt x="87733" y="23811"/>
                  </a:lnTo>
                  <a:lnTo>
                    <a:pt x="82997" y="21801"/>
                  </a:lnTo>
                  <a:lnTo>
                    <a:pt x="78146" y="19614"/>
                  </a:lnTo>
                  <a:lnTo>
                    <a:pt x="74066" y="18156"/>
                  </a:lnTo>
                  <a:lnTo>
                    <a:pt x="70499" y="17184"/>
                  </a:lnTo>
                  <a:lnTo>
                    <a:pt x="67274" y="16536"/>
                  </a:lnTo>
                  <a:lnTo>
                    <a:pt x="63431" y="16104"/>
                  </a:lnTo>
                  <a:lnTo>
                    <a:pt x="59176" y="15816"/>
                  </a:lnTo>
                  <a:lnTo>
                    <a:pt x="45585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SMARTInkAnnotation79"/>
            <p:cNvSpPr/>
            <p:nvPr/>
          </p:nvSpPr>
          <p:spPr>
            <a:xfrm>
              <a:off x="450000" y="2437920"/>
              <a:ext cx="68400" cy="30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8581" h="30481">
                  <a:moveTo>
                    <a:pt x="0" y="30480"/>
                  </a:moveTo>
                  <a:lnTo>
                    <a:pt x="4045" y="30480"/>
                  </a:lnTo>
                  <a:lnTo>
                    <a:pt x="6084" y="29633"/>
                  </a:lnTo>
                  <a:lnTo>
                    <a:pt x="8289" y="28222"/>
                  </a:lnTo>
                  <a:lnTo>
                    <a:pt x="13867" y="23919"/>
                  </a:lnTo>
                  <a:lnTo>
                    <a:pt x="16018" y="22720"/>
                  </a:lnTo>
                  <a:lnTo>
                    <a:pt x="22924" y="19129"/>
                  </a:lnTo>
                  <a:lnTo>
                    <a:pt x="26289" y="16986"/>
                  </a:lnTo>
                  <a:lnTo>
                    <a:pt x="29379" y="14711"/>
                  </a:lnTo>
                  <a:lnTo>
                    <a:pt x="32286" y="12347"/>
                  </a:lnTo>
                  <a:lnTo>
                    <a:pt x="35918" y="10771"/>
                  </a:lnTo>
                  <a:lnTo>
                    <a:pt x="40032" y="9721"/>
                  </a:lnTo>
                  <a:lnTo>
                    <a:pt x="44468" y="9021"/>
                  </a:lnTo>
                  <a:lnTo>
                    <a:pt x="49119" y="7707"/>
                  </a:lnTo>
                  <a:lnTo>
                    <a:pt x="53913" y="5985"/>
                  </a:lnTo>
                  <a:lnTo>
                    <a:pt x="685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SMARTInkAnnotation80"/>
            <p:cNvSpPr/>
            <p:nvPr/>
          </p:nvSpPr>
          <p:spPr>
            <a:xfrm>
              <a:off x="1371960" y="3886560"/>
              <a:ext cx="936720" cy="762120"/>
            </a:xfrm>
            <a:custGeom>
              <a:avLst/>
              <a:gdLst>
                <a:gd name="textAreaLeft" fmla="*/ 0 w 936720"/>
                <a:gd name="textAreaRight" fmla="*/ 937080 w 936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937056" h="761961">
                  <a:moveTo>
                    <a:pt x="350348" y="617180"/>
                  </a:moveTo>
                  <a:lnTo>
                    <a:pt x="354393" y="621225"/>
                  </a:lnTo>
                  <a:lnTo>
                    <a:pt x="357278" y="622417"/>
                  </a:lnTo>
                  <a:lnTo>
                    <a:pt x="365000" y="623741"/>
                  </a:lnTo>
                  <a:lnTo>
                    <a:pt x="367736" y="624940"/>
                  </a:lnTo>
                  <a:lnTo>
                    <a:pt x="369560" y="626587"/>
                  </a:lnTo>
                  <a:lnTo>
                    <a:pt x="370776" y="628531"/>
                  </a:lnTo>
                  <a:lnTo>
                    <a:pt x="373280" y="629828"/>
                  </a:lnTo>
                  <a:lnTo>
                    <a:pt x="398252" y="636124"/>
                  </a:lnTo>
                  <a:lnTo>
                    <a:pt x="421743" y="644503"/>
                  </a:lnTo>
                  <a:lnTo>
                    <a:pt x="447706" y="649295"/>
                  </a:lnTo>
                  <a:lnTo>
                    <a:pt x="459658" y="652620"/>
                  </a:lnTo>
                  <a:lnTo>
                    <a:pt x="485770" y="657012"/>
                  </a:lnTo>
                  <a:lnTo>
                    <a:pt x="497742" y="660284"/>
                  </a:lnTo>
                  <a:lnTo>
                    <a:pt x="523867" y="662384"/>
                  </a:lnTo>
                  <a:lnTo>
                    <a:pt x="549629" y="662799"/>
                  </a:lnTo>
                  <a:lnTo>
                    <a:pt x="571672" y="666915"/>
                  </a:lnTo>
                  <a:lnTo>
                    <a:pt x="586721" y="666660"/>
                  </a:lnTo>
                  <a:lnTo>
                    <a:pt x="609474" y="664015"/>
                  </a:lnTo>
                  <a:lnTo>
                    <a:pt x="624689" y="662549"/>
                  </a:lnTo>
                  <a:lnTo>
                    <a:pt x="647534" y="657811"/>
                  </a:lnTo>
                  <a:lnTo>
                    <a:pt x="671237" y="655183"/>
                  </a:lnTo>
                  <a:lnTo>
                    <a:pt x="697639" y="649419"/>
                  </a:lnTo>
                  <a:lnTo>
                    <a:pt x="724846" y="639886"/>
                  </a:lnTo>
                  <a:lnTo>
                    <a:pt x="754429" y="629849"/>
                  </a:lnTo>
                  <a:lnTo>
                    <a:pt x="779495" y="618868"/>
                  </a:lnTo>
                  <a:lnTo>
                    <a:pt x="808028" y="601270"/>
                  </a:lnTo>
                  <a:lnTo>
                    <a:pt x="830551" y="588759"/>
                  </a:lnTo>
                  <a:lnTo>
                    <a:pt x="838123" y="585533"/>
                  </a:lnTo>
                  <a:lnTo>
                    <a:pt x="844018" y="581689"/>
                  </a:lnTo>
                  <a:lnTo>
                    <a:pt x="870635" y="558434"/>
                  </a:lnTo>
                  <a:lnTo>
                    <a:pt x="880178" y="546198"/>
                  </a:lnTo>
                  <a:lnTo>
                    <a:pt x="888088" y="533139"/>
                  </a:lnTo>
                  <a:lnTo>
                    <a:pt x="901215" y="515421"/>
                  </a:lnTo>
                  <a:lnTo>
                    <a:pt x="911689" y="494460"/>
                  </a:lnTo>
                  <a:lnTo>
                    <a:pt x="923448" y="473010"/>
                  </a:lnTo>
                  <a:lnTo>
                    <a:pt x="928531" y="454707"/>
                  </a:lnTo>
                  <a:lnTo>
                    <a:pt x="934177" y="432727"/>
                  </a:lnTo>
                  <a:lnTo>
                    <a:pt x="935794" y="414692"/>
                  </a:lnTo>
                  <a:lnTo>
                    <a:pt x="936513" y="397645"/>
                  </a:lnTo>
                  <a:lnTo>
                    <a:pt x="936918" y="373769"/>
                  </a:lnTo>
                  <a:lnTo>
                    <a:pt x="937055" y="342945"/>
                  </a:lnTo>
                  <a:lnTo>
                    <a:pt x="934816" y="325401"/>
                  </a:lnTo>
                  <a:lnTo>
                    <a:pt x="930998" y="307160"/>
                  </a:lnTo>
                  <a:lnTo>
                    <a:pt x="919175" y="262931"/>
                  </a:lnTo>
                  <a:lnTo>
                    <a:pt x="911911" y="245529"/>
                  </a:lnTo>
                  <a:lnTo>
                    <a:pt x="903039" y="229329"/>
                  </a:lnTo>
                  <a:lnTo>
                    <a:pt x="893451" y="213661"/>
                  </a:lnTo>
                  <a:lnTo>
                    <a:pt x="883545" y="195974"/>
                  </a:lnTo>
                  <a:lnTo>
                    <a:pt x="873498" y="177670"/>
                  </a:lnTo>
                  <a:lnTo>
                    <a:pt x="863388" y="161069"/>
                  </a:lnTo>
                  <a:lnTo>
                    <a:pt x="844131" y="137443"/>
                  </a:lnTo>
                  <a:lnTo>
                    <a:pt x="822339" y="118401"/>
                  </a:lnTo>
                  <a:lnTo>
                    <a:pt x="792220" y="91559"/>
                  </a:lnTo>
                  <a:lnTo>
                    <a:pt x="768575" y="74420"/>
                  </a:lnTo>
                  <a:lnTo>
                    <a:pt x="740497" y="58617"/>
                  </a:lnTo>
                  <a:lnTo>
                    <a:pt x="700668" y="38107"/>
                  </a:lnTo>
                  <a:lnTo>
                    <a:pt x="680460" y="28768"/>
                  </a:lnTo>
                  <a:lnTo>
                    <a:pt x="660189" y="21795"/>
                  </a:lnTo>
                  <a:lnTo>
                    <a:pt x="639891" y="15873"/>
                  </a:lnTo>
                  <a:lnTo>
                    <a:pt x="609423" y="7779"/>
                  </a:lnTo>
                  <a:lnTo>
                    <a:pt x="588259" y="3435"/>
                  </a:lnTo>
                  <a:lnTo>
                    <a:pt x="564742" y="1504"/>
                  </a:lnTo>
                  <a:lnTo>
                    <a:pt x="540179" y="646"/>
                  </a:lnTo>
                  <a:lnTo>
                    <a:pt x="493961" y="96"/>
                  </a:lnTo>
                  <a:lnTo>
                    <a:pt x="458470" y="0"/>
                  </a:lnTo>
                  <a:lnTo>
                    <a:pt x="431422" y="2236"/>
                  </a:lnTo>
                  <a:lnTo>
                    <a:pt x="404161" y="6051"/>
                  </a:lnTo>
                  <a:lnTo>
                    <a:pt x="380756" y="10570"/>
                  </a:lnTo>
                  <a:lnTo>
                    <a:pt x="344494" y="17873"/>
                  </a:lnTo>
                  <a:lnTo>
                    <a:pt x="319524" y="25137"/>
                  </a:lnTo>
                  <a:lnTo>
                    <a:pt x="294315" y="34009"/>
                  </a:lnTo>
                  <a:lnTo>
                    <a:pt x="269000" y="43597"/>
                  </a:lnTo>
                  <a:lnTo>
                    <a:pt x="245896" y="55761"/>
                  </a:lnTo>
                  <a:lnTo>
                    <a:pt x="224338" y="68787"/>
                  </a:lnTo>
                  <a:lnTo>
                    <a:pt x="203468" y="80221"/>
                  </a:lnTo>
                  <a:lnTo>
                    <a:pt x="180646" y="95463"/>
                  </a:lnTo>
                  <a:lnTo>
                    <a:pt x="158085" y="112679"/>
                  </a:lnTo>
                  <a:lnTo>
                    <a:pt x="139591" y="128797"/>
                  </a:lnTo>
                  <a:lnTo>
                    <a:pt x="114899" y="152152"/>
                  </a:lnTo>
                  <a:lnTo>
                    <a:pt x="99231" y="169765"/>
                  </a:lnTo>
                  <a:lnTo>
                    <a:pt x="83800" y="188883"/>
                  </a:lnTo>
                  <a:lnTo>
                    <a:pt x="68476" y="208668"/>
                  </a:lnTo>
                  <a:lnTo>
                    <a:pt x="55456" y="228750"/>
                  </a:lnTo>
                  <a:lnTo>
                    <a:pt x="44025" y="249811"/>
                  </a:lnTo>
                  <a:lnTo>
                    <a:pt x="17742" y="306252"/>
                  </a:lnTo>
                  <a:lnTo>
                    <a:pt x="9765" y="329412"/>
                  </a:lnTo>
                  <a:lnTo>
                    <a:pt x="4245" y="352970"/>
                  </a:lnTo>
                  <a:lnTo>
                    <a:pt x="1791" y="374729"/>
                  </a:lnTo>
                  <a:lnTo>
                    <a:pt x="700" y="397947"/>
                  </a:lnTo>
                  <a:lnTo>
                    <a:pt x="87" y="432560"/>
                  </a:lnTo>
                  <a:lnTo>
                    <a:pt x="0" y="443300"/>
                  </a:lnTo>
                  <a:lnTo>
                    <a:pt x="4420" y="464265"/>
                  </a:lnTo>
                  <a:lnTo>
                    <a:pt x="11183" y="485718"/>
                  </a:lnTo>
                  <a:lnTo>
                    <a:pt x="17010" y="509364"/>
                  </a:lnTo>
                  <a:lnTo>
                    <a:pt x="24680" y="531726"/>
                  </a:lnTo>
                  <a:lnTo>
                    <a:pt x="33734" y="552954"/>
                  </a:lnTo>
                  <a:lnTo>
                    <a:pt x="43402" y="573677"/>
                  </a:lnTo>
                  <a:lnTo>
                    <a:pt x="55601" y="591919"/>
                  </a:lnTo>
                  <a:lnTo>
                    <a:pt x="69489" y="609339"/>
                  </a:lnTo>
                  <a:lnTo>
                    <a:pt x="84129" y="628371"/>
                  </a:lnTo>
                  <a:lnTo>
                    <a:pt x="101360" y="645860"/>
                  </a:lnTo>
                  <a:lnTo>
                    <a:pt x="120307" y="662100"/>
                  </a:lnTo>
                  <a:lnTo>
                    <a:pt x="140017" y="677785"/>
                  </a:lnTo>
                  <a:lnTo>
                    <a:pt x="160065" y="690964"/>
                  </a:lnTo>
                  <a:lnTo>
                    <a:pt x="180265" y="702467"/>
                  </a:lnTo>
                  <a:lnTo>
                    <a:pt x="200531" y="713223"/>
                  </a:lnTo>
                  <a:lnTo>
                    <a:pt x="226936" y="728799"/>
                  </a:lnTo>
                  <a:lnTo>
                    <a:pt x="254891" y="740093"/>
                  </a:lnTo>
                  <a:lnTo>
                    <a:pt x="276878" y="746033"/>
                  </a:lnTo>
                  <a:lnTo>
                    <a:pt x="299068" y="750648"/>
                  </a:lnTo>
                  <a:lnTo>
                    <a:pt x="326688" y="753247"/>
                  </a:lnTo>
                  <a:lnTo>
                    <a:pt x="355097" y="754863"/>
                  </a:lnTo>
                  <a:lnTo>
                    <a:pt x="379130" y="759481"/>
                  </a:lnTo>
                  <a:lnTo>
                    <a:pt x="403688" y="761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SMARTInkAnnotation81"/>
            <p:cNvSpPr/>
            <p:nvPr/>
          </p:nvSpPr>
          <p:spPr>
            <a:xfrm>
              <a:off x="1569960" y="5319720"/>
              <a:ext cx="297000" cy="3200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297181" h="320038">
                  <a:moveTo>
                    <a:pt x="0" y="76197"/>
                  </a:moveTo>
                  <a:lnTo>
                    <a:pt x="0" y="72152"/>
                  </a:lnTo>
                  <a:lnTo>
                    <a:pt x="847" y="70960"/>
                  </a:lnTo>
                  <a:lnTo>
                    <a:pt x="2258" y="70166"/>
                  </a:lnTo>
                  <a:lnTo>
                    <a:pt x="4045" y="69636"/>
                  </a:lnTo>
                  <a:lnTo>
                    <a:pt x="6084" y="67590"/>
                  </a:lnTo>
                  <a:lnTo>
                    <a:pt x="12997" y="57466"/>
                  </a:lnTo>
                  <a:lnTo>
                    <a:pt x="17912" y="51503"/>
                  </a:lnTo>
                  <a:lnTo>
                    <a:pt x="25177" y="46031"/>
                  </a:lnTo>
                  <a:lnTo>
                    <a:pt x="34050" y="40777"/>
                  </a:lnTo>
                  <a:lnTo>
                    <a:pt x="43638" y="35619"/>
                  </a:lnTo>
                  <a:lnTo>
                    <a:pt x="49412" y="32212"/>
                  </a:lnTo>
                  <a:lnTo>
                    <a:pt x="62601" y="23910"/>
                  </a:lnTo>
                  <a:lnTo>
                    <a:pt x="69674" y="21019"/>
                  </a:lnTo>
                  <a:lnTo>
                    <a:pt x="76929" y="19092"/>
                  </a:lnTo>
                  <a:lnTo>
                    <a:pt x="84306" y="17807"/>
                  </a:lnTo>
                  <a:lnTo>
                    <a:pt x="91764" y="16104"/>
                  </a:lnTo>
                  <a:lnTo>
                    <a:pt x="99276" y="14121"/>
                  </a:lnTo>
                  <a:lnTo>
                    <a:pt x="106824" y="11953"/>
                  </a:lnTo>
                  <a:lnTo>
                    <a:pt x="113549" y="9661"/>
                  </a:lnTo>
                  <a:lnTo>
                    <a:pt x="119726" y="7286"/>
                  </a:lnTo>
                  <a:lnTo>
                    <a:pt x="125538" y="4857"/>
                  </a:lnTo>
                  <a:lnTo>
                    <a:pt x="131105" y="3237"/>
                  </a:lnTo>
                  <a:lnTo>
                    <a:pt x="136510" y="2157"/>
                  </a:lnTo>
                  <a:lnTo>
                    <a:pt x="141807" y="1437"/>
                  </a:lnTo>
                  <a:lnTo>
                    <a:pt x="149949" y="637"/>
                  </a:lnTo>
                  <a:lnTo>
                    <a:pt x="156391" y="282"/>
                  </a:lnTo>
                  <a:lnTo>
                    <a:pt x="164777" y="81"/>
                  </a:lnTo>
                  <a:lnTo>
                    <a:pt x="178847" y="0"/>
                  </a:lnTo>
                  <a:lnTo>
                    <a:pt x="180191" y="846"/>
                  </a:lnTo>
                  <a:lnTo>
                    <a:pt x="181088" y="2256"/>
                  </a:lnTo>
                  <a:lnTo>
                    <a:pt x="181685" y="4043"/>
                  </a:lnTo>
                  <a:lnTo>
                    <a:pt x="184607" y="8286"/>
                  </a:lnTo>
                  <a:lnTo>
                    <a:pt x="186571" y="10603"/>
                  </a:lnTo>
                  <a:lnTo>
                    <a:pt x="187881" y="13841"/>
                  </a:lnTo>
                  <a:lnTo>
                    <a:pt x="189336" y="21954"/>
                  </a:lnTo>
                  <a:lnTo>
                    <a:pt x="189983" y="28947"/>
                  </a:lnTo>
                  <a:lnTo>
                    <a:pt x="190270" y="35724"/>
                  </a:lnTo>
                  <a:lnTo>
                    <a:pt x="190398" y="44380"/>
                  </a:lnTo>
                  <a:lnTo>
                    <a:pt x="188197" y="53871"/>
                  </a:lnTo>
                  <a:lnTo>
                    <a:pt x="186425" y="58773"/>
                  </a:lnTo>
                  <a:lnTo>
                    <a:pt x="185243" y="64581"/>
                  </a:lnTo>
                  <a:lnTo>
                    <a:pt x="184455" y="70993"/>
                  </a:lnTo>
                  <a:lnTo>
                    <a:pt x="183930" y="77808"/>
                  </a:lnTo>
                  <a:lnTo>
                    <a:pt x="182733" y="84044"/>
                  </a:lnTo>
                  <a:lnTo>
                    <a:pt x="181089" y="89895"/>
                  </a:lnTo>
                  <a:lnTo>
                    <a:pt x="179146" y="95489"/>
                  </a:lnTo>
                  <a:lnTo>
                    <a:pt x="177004" y="100912"/>
                  </a:lnTo>
                  <a:lnTo>
                    <a:pt x="174729" y="106220"/>
                  </a:lnTo>
                  <a:lnTo>
                    <a:pt x="172366" y="111452"/>
                  </a:lnTo>
                  <a:lnTo>
                    <a:pt x="169098" y="117480"/>
                  </a:lnTo>
                  <a:lnTo>
                    <a:pt x="165225" y="124040"/>
                  </a:lnTo>
                  <a:lnTo>
                    <a:pt x="160950" y="130952"/>
                  </a:lnTo>
                  <a:lnTo>
                    <a:pt x="157254" y="137254"/>
                  </a:lnTo>
                  <a:lnTo>
                    <a:pt x="153942" y="143148"/>
                  </a:lnTo>
                  <a:lnTo>
                    <a:pt x="148005" y="154213"/>
                  </a:lnTo>
                  <a:lnTo>
                    <a:pt x="132140" y="185354"/>
                  </a:lnTo>
                  <a:lnTo>
                    <a:pt x="127027" y="195549"/>
                  </a:lnTo>
                  <a:lnTo>
                    <a:pt x="121932" y="203467"/>
                  </a:lnTo>
                  <a:lnTo>
                    <a:pt x="115999" y="210655"/>
                  </a:lnTo>
                  <a:lnTo>
                    <a:pt x="107717" y="219494"/>
                  </a:lnTo>
                  <a:lnTo>
                    <a:pt x="93259" y="234359"/>
                  </a:lnTo>
                  <a:lnTo>
                    <a:pt x="83841" y="243816"/>
                  </a:lnTo>
                  <a:lnTo>
                    <a:pt x="83821" y="243836"/>
                  </a:lnTo>
                  <a:lnTo>
                    <a:pt x="94426" y="243837"/>
                  </a:lnTo>
                  <a:lnTo>
                    <a:pt x="98511" y="244683"/>
                  </a:lnTo>
                  <a:lnTo>
                    <a:pt x="103774" y="246095"/>
                  </a:lnTo>
                  <a:lnTo>
                    <a:pt x="109822" y="247882"/>
                  </a:lnTo>
                  <a:lnTo>
                    <a:pt x="115548" y="249074"/>
                  </a:lnTo>
                  <a:lnTo>
                    <a:pt x="121059" y="249868"/>
                  </a:lnTo>
                  <a:lnTo>
                    <a:pt x="126426" y="250398"/>
                  </a:lnTo>
                  <a:lnTo>
                    <a:pt x="132544" y="252445"/>
                  </a:lnTo>
                  <a:lnTo>
                    <a:pt x="139163" y="255502"/>
                  </a:lnTo>
                  <a:lnTo>
                    <a:pt x="146115" y="259234"/>
                  </a:lnTo>
                  <a:lnTo>
                    <a:pt x="153290" y="261722"/>
                  </a:lnTo>
                  <a:lnTo>
                    <a:pt x="160614" y="263380"/>
                  </a:lnTo>
                  <a:lnTo>
                    <a:pt x="168036" y="264486"/>
                  </a:lnTo>
                  <a:lnTo>
                    <a:pt x="175524" y="266069"/>
                  </a:lnTo>
                  <a:lnTo>
                    <a:pt x="183056" y="267972"/>
                  </a:lnTo>
                  <a:lnTo>
                    <a:pt x="190618" y="270087"/>
                  </a:lnTo>
                  <a:lnTo>
                    <a:pt x="198198" y="273190"/>
                  </a:lnTo>
                  <a:lnTo>
                    <a:pt x="205792" y="276953"/>
                  </a:lnTo>
                  <a:lnTo>
                    <a:pt x="220157" y="284802"/>
                  </a:lnTo>
                  <a:lnTo>
                    <a:pt x="232185" y="291113"/>
                  </a:lnTo>
                  <a:lnTo>
                    <a:pt x="238610" y="293981"/>
                  </a:lnTo>
                  <a:lnTo>
                    <a:pt x="245433" y="296740"/>
                  </a:lnTo>
                  <a:lnTo>
                    <a:pt x="252522" y="299425"/>
                  </a:lnTo>
                  <a:lnTo>
                    <a:pt x="258095" y="302063"/>
                  </a:lnTo>
                  <a:lnTo>
                    <a:pt x="266544" y="307251"/>
                  </a:lnTo>
                  <a:lnTo>
                    <a:pt x="273122" y="312379"/>
                  </a:lnTo>
                  <a:lnTo>
                    <a:pt x="276061" y="314931"/>
                  </a:lnTo>
                  <a:lnTo>
                    <a:pt x="278868" y="316633"/>
                  </a:lnTo>
                  <a:lnTo>
                    <a:pt x="287985" y="319589"/>
                  </a:lnTo>
                  <a:lnTo>
                    <a:pt x="297180" y="3200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SMARTInkAnnotation82"/>
            <p:cNvSpPr/>
            <p:nvPr/>
          </p:nvSpPr>
          <p:spPr>
            <a:xfrm>
              <a:off x="1837080" y="5373000"/>
              <a:ext cx="250560" cy="2786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50868" h="278604">
                  <a:moveTo>
                    <a:pt x="235722" y="68571"/>
                  </a:moveTo>
                  <a:lnTo>
                    <a:pt x="242283" y="62010"/>
                  </a:lnTo>
                  <a:lnTo>
                    <a:pt x="242872" y="59164"/>
                  </a:lnTo>
                  <a:lnTo>
                    <a:pt x="243028" y="57220"/>
                  </a:lnTo>
                  <a:lnTo>
                    <a:pt x="243980" y="55076"/>
                  </a:lnTo>
                  <a:lnTo>
                    <a:pt x="248517" y="48016"/>
                  </a:lnTo>
                  <a:lnTo>
                    <a:pt x="249876" y="43066"/>
                  </a:lnTo>
                  <a:lnTo>
                    <a:pt x="250640" y="35520"/>
                  </a:lnTo>
                  <a:lnTo>
                    <a:pt x="250819" y="28200"/>
                  </a:lnTo>
                  <a:lnTo>
                    <a:pt x="250867" y="23877"/>
                  </a:lnTo>
                  <a:lnTo>
                    <a:pt x="250052" y="20148"/>
                  </a:lnTo>
                  <a:lnTo>
                    <a:pt x="246889" y="13748"/>
                  </a:lnTo>
                  <a:lnTo>
                    <a:pt x="244860" y="11702"/>
                  </a:lnTo>
                  <a:lnTo>
                    <a:pt x="242661" y="10338"/>
                  </a:lnTo>
                  <a:lnTo>
                    <a:pt x="237113" y="7977"/>
                  </a:lnTo>
                  <a:lnTo>
                    <a:pt x="229002" y="4105"/>
                  </a:lnTo>
                  <a:lnTo>
                    <a:pt x="224469" y="2733"/>
                  </a:lnTo>
                  <a:lnTo>
                    <a:pt x="219754" y="1819"/>
                  </a:lnTo>
                  <a:lnTo>
                    <a:pt x="214916" y="1210"/>
                  </a:lnTo>
                  <a:lnTo>
                    <a:pt x="209151" y="804"/>
                  </a:lnTo>
                  <a:lnTo>
                    <a:pt x="202769" y="533"/>
                  </a:lnTo>
                  <a:lnTo>
                    <a:pt x="188903" y="232"/>
                  </a:lnTo>
                  <a:lnTo>
                    <a:pt x="124954" y="0"/>
                  </a:lnTo>
                  <a:lnTo>
                    <a:pt x="115310" y="844"/>
                  </a:lnTo>
                  <a:lnTo>
                    <a:pt x="105494" y="2253"/>
                  </a:lnTo>
                  <a:lnTo>
                    <a:pt x="95563" y="4039"/>
                  </a:lnTo>
                  <a:lnTo>
                    <a:pt x="86403" y="6077"/>
                  </a:lnTo>
                  <a:lnTo>
                    <a:pt x="77756" y="8281"/>
                  </a:lnTo>
                  <a:lnTo>
                    <a:pt x="69451" y="10598"/>
                  </a:lnTo>
                  <a:lnTo>
                    <a:pt x="61375" y="13836"/>
                  </a:lnTo>
                  <a:lnTo>
                    <a:pt x="53451" y="17688"/>
                  </a:lnTo>
                  <a:lnTo>
                    <a:pt x="45628" y="21949"/>
                  </a:lnTo>
                  <a:lnTo>
                    <a:pt x="38719" y="26483"/>
                  </a:lnTo>
                  <a:lnTo>
                    <a:pt x="32420" y="31199"/>
                  </a:lnTo>
                  <a:lnTo>
                    <a:pt x="26527" y="36036"/>
                  </a:lnTo>
                  <a:lnTo>
                    <a:pt x="21752" y="40108"/>
                  </a:lnTo>
                  <a:lnTo>
                    <a:pt x="14189" y="46890"/>
                  </a:lnTo>
                  <a:lnTo>
                    <a:pt x="8005" y="54984"/>
                  </a:lnTo>
                  <a:lnTo>
                    <a:pt x="5171" y="59513"/>
                  </a:lnTo>
                  <a:lnTo>
                    <a:pt x="3281" y="64226"/>
                  </a:lnTo>
                  <a:lnTo>
                    <a:pt x="2022" y="69061"/>
                  </a:lnTo>
                  <a:lnTo>
                    <a:pt x="1182" y="73978"/>
                  </a:lnTo>
                  <a:lnTo>
                    <a:pt x="249" y="81699"/>
                  </a:lnTo>
                  <a:lnTo>
                    <a:pt x="0" y="84943"/>
                  </a:lnTo>
                  <a:lnTo>
                    <a:pt x="680" y="87952"/>
                  </a:lnTo>
                  <a:lnTo>
                    <a:pt x="3695" y="93554"/>
                  </a:lnTo>
                  <a:lnTo>
                    <a:pt x="6531" y="95386"/>
                  </a:lnTo>
                  <a:lnTo>
                    <a:pt x="14197" y="97422"/>
                  </a:lnTo>
                  <a:lnTo>
                    <a:pt x="18612" y="97965"/>
                  </a:lnTo>
                  <a:lnTo>
                    <a:pt x="23248" y="98327"/>
                  </a:lnTo>
                  <a:lnTo>
                    <a:pt x="28033" y="98569"/>
                  </a:lnTo>
                  <a:lnTo>
                    <a:pt x="40123" y="98837"/>
                  </a:lnTo>
                  <a:lnTo>
                    <a:pt x="46902" y="98908"/>
                  </a:lnTo>
                  <a:lnTo>
                    <a:pt x="53962" y="97262"/>
                  </a:lnTo>
                  <a:lnTo>
                    <a:pt x="61209" y="94472"/>
                  </a:lnTo>
                  <a:lnTo>
                    <a:pt x="68580" y="90918"/>
                  </a:lnTo>
                  <a:lnTo>
                    <a:pt x="76034" y="87702"/>
                  </a:lnTo>
                  <a:lnTo>
                    <a:pt x="83544" y="84713"/>
                  </a:lnTo>
                  <a:lnTo>
                    <a:pt x="91090" y="81872"/>
                  </a:lnTo>
                  <a:lnTo>
                    <a:pt x="98661" y="78285"/>
                  </a:lnTo>
                  <a:lnTo>
                    <a:pt x="106248" y="74200"/>
                  </a:lnTo>
                  <a:lnTo>
                    <a:pt x="113846" y="69784"/>
                  </a:lnTo>
                  <a:lnTo>
                    <a:pt x="120604" y="65146"/>
                  </a:lnTo>
                  <a:lnTo>
                    <a:pt x="126804" y="60362"/>
                  </a:lnTo>
                  <a:lnTo>
                    <a:pt x="132630" y="55478"/>
                  </a:lnTo>
                  <a:lnTo>
                    <a:pt x="138207" y="50529"/>
                  </a:lnTo>
                  <a:lnTo>
                    <a:pt x="148920" y="40514"/>
                  </a:lnTo>
                  <a:lnTo>
                    <a:pt x="160426" y="29402"/>
                  </a:lnTo>
                  <a:lnTo>
                    <a:pt x="166415" y="21247"/>
                  </a:lnTo>
                  <a:lnTo>
                    <a:pt x="171899" y="12825"/>
                  </a:lnTo>
                  <a:lnTo>
                    <a:pt x="178900" y="4170"/>
                  </a:lnTo>
                  <a:lnTo>
                    <a:pt x="182342" y="40"/>
                  </a:lnTo>
                  <a:lnTo>
                    <a:pt x="178325" y="4050"/>
                  </a:lnTo>
                  <a:lnTo>
                    <a:pt x="177138" y="6084"/>
                  </a:lnTo>
                  <a:lnTo>
                    <a:pt x="174619" y="13838"/>
                  </a:lnTo>
                  <a:lnTo>
                    <a:pt x="171030" y="21950"/>
                  </a:lnTo>
                  <a:lnTo>
                    <a:pt x="169734" y="27330"/>
                  </a:lnTo>
                  <a:lnTo>
                    <a:pt x="168870" y="33457"/>
                  </a:lnTo>
                  <a:lnTo>
                    <a:pt x="168294" y="40082"/>
                  </a:lnTo>
                  <a:lnTo>
                    <a:pt x="167063" y="46192"/>
                  </a:lnTo>
                  <a:lnTo>
                    <a:pt x="165396" y="51958"/>
                  </a:lnTo>
                  <a:lnTo>
                    <a:pt x="156637" y="77425"/>
                  </a:lnTo>
                  <a:lnTo>
                    <a:pt x="155059" y="84634"/>
                  </a:lnTo>
                  <a:lnTo>
                    <a:pt x="154007" y="91980"/>
                  </a:lnTo>
                  <a:lnTo>
                    <a:pt x="153305" y="99417"/>
                  </a:lnTo>
                  <a:lnTo>
                    <a:pt x="152838" y="106915"/>
                  </a:lnTo>
                  <a:lnTo>
                    <a:pt x="152318" y="122020"/>
                  </a:lnTo>
                  <a:lnTo>
                    <a:pt x="151984" y="152412"/>
                  </a:lnTo>
                  <a:lnTo>
                    <a:pt x="151913" y="190494"/>
                  </a:lnTo>
                  <a:lnTo>
                    <a:pt x="152756" y="197267"/>
                  </a:lnTo>
                  <a:lnTo>
                    <a:pt x="154165" y="203474"/>
                  </a:lnTo>
                  <a:lnTo>
                    <a:pt x="157988" y="215736"/>
                  </a:lnTo>
                  <a:lnTo>
                    <a:pt x="162509" y="229651"/>
                  </a:lnTo>
                  <a:lnTo>
                    <a:pt x="164900" y="236070"/>
                  </a:lnTo>
                  <a:lnTo>
                    <a:pt x="167341" y="242044"/>
                  </a:lnTo>
                  <a:lnTo>
                    <a:pt x="169815" y="247720"/>
                  </a:lnTo>
                  <a:lnTo>
                    <a:pt x="174821" y="256284"/>
                  </a:lnTo>
                  <a:lnTo>
                    <a:pt x="179869" y="262912"/>
                  </a:lnTo>
                  <a:lnTo>
                    <a:pt x="184934" y="268680"/>
                  </a:lnTo>
                  <a:lnTo>
                    <a:pt x="187470" y="270557"/>
                  </a:lnTo>
                  <a:lnTo>
                    <a:pt x="194238" y="273199"/>
                  </a:lnTo>
                  <a:lnTo>
                    <a:pt x="196118" y="273817"/>
                  </a:lnTo>
                  <a:lnTo>
                    <a:pt x="201222" y="278210"/>
                  </a:lnTo>
                  <a:lnTo>
                    <a:pt x="202562" y="278603"/>
                  </a:lnTo>
                  <a:lnTo>
                    <a:pt x="203456" y="278019"/>
                  </a:lnTo>
                  <a:lnTo>
                    <a:pt x="205242" y="2743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MARTInkAnnotation83"/>
            <p:cNvSpPr/>
            <p:nvPr/>
          </p:nvSpPr>
          <p:spPr>
            <a:xfrm>
              <a:off x="2057760" y="5616720"/>
              <a:ext cx="15120" cy="608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5241" h="60960">
                  <a:moveTo>
                    <a:pt x="15240" y="0"/>
                  </a:moveTo>
                  <a:lnTo>
                    <a:pt x="15240" y="-32485"/>
                  </a:lnTo>
                  <a:lnTo>
                    <a:pt x="14394" y="-29956"/>
                  </a:lnTo>
                  <a:lnTo>
                    <a:pt x="12982" y="-27423"/>
                  </a:lnTo>
                  <a:lnTo>
                    <a:pt x="11195" y="-24888"/>
                  </a:lnTo>
                  <a:lnTo>
                    <a:pt x="9157" y="-21504"/>
                  </a:lnTo>
                  <a:lnTo>
                    <a:pt x="6951" y="-17555"/>
                  </a:lnTo>
                  <a:lnTo>
                    <a:pt x="0" y="-45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SMARTInkAnnotation84"/>
            <p:cNvSpPr/>
            <p:nvPr/>
          </p:nvSpPr>
          <p:spPr>
            <a:xfrm>
              <a:off x="2149200" y="5403600"/>
              <a:ext cx="180720" cy="3178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317880"/>
                <a:gd name="textAreaBottom" fmla="*/ 317880 h 317880"/>
              </a:gdLst>
              <a:ahLst/>
              <a:rect l="textAreaLeft" t="textAreaTop" r="textAreaRight" b="textAreaBottom"/>
              <a:pathLst>
                <a:path w="181051" h="318079">
                  <a:moveTo>
                    <a:pt x="38100" y="0"/>
                  </a:moveTo>
                  <a:lnTo>
                    <a:pt x="38100" y="13867"/>
                  </a:lnTo>
                  <a:lnTo>
                    <a:pt x="35843" y="16887"/>
                  </a:lnTo>
                  <a:lnTo>
                    <a:pt x="34055" y="18878"/>
                  </a:lnTo>
                  <a:lnTo>
                    <a:pt x="32863" y="21052"/>
                  </a:lnTo>
                  <a:lnTo>
                    <a:pt x="31540" y="25725"/>
                  </a:lnTo>
                  <a:lnTo>
                    <a:pt x="30690" y="34777"/>
                  </a:lnTo>
                  <a:lnTo>
                    <a:pt x="30573" y="36623"/>
                  </a:lnTo>
                  <a:lnTo>
                    <a:pt x="26462" y="45753"/>
                  </a:lnTo>
                  <a:lnTo>
                    <a:pt x="24461" y="52226"/>
                  </a:lnTo>
                  <a:lnTo>
                    <a:pt x="23071" y="60656"/>
                  </a:lnTo>
                  <a:lnTo>
                    <a:pt x="22869" y="68221"/>
                  </a:lnTo>
                  <a:lnTo>
                    <a:pt x="28099" y="73746"/>
                  </a:lnTo>
                  <a:lnTo>
                    <a:pt x="30167" y="75877"/>
                  </a:lnTo>
                  <a:lnTo>
                    <a:pt x="34433" y="76104"/>
                  </a:lnTo>
                  <a:lnTo>
                    <a:pt x="73829" y="76198"/>
                  </a:lnTo>
                  <a:lnTo>
                    <a:pt x="78853" y="77045"/>
                  </a:lnTo>
                  <a:lnTo>
                    <a:pt x="83896" y="78457"/>
                  </a:lnTo>
                  <a:lnTo>
                    <a:pt x="88950" y="80245"/>
                  </a:lnTo>
                  <a:lnTo>
                    <a:pt x="94014" y="82283"/>
                  </a:lnTo>
                  <a:lnTo>
                    <a:pt x="99083" y="84489"/>
                  </a:lnTo>
                  <a:lnTo>
                    <a:pt x="109230" y="89197"/>
                  </a:lnTo>
                  <a:lnTo>
                    <a:pt x="134622" y="101639"/>
                  </a:lnTo>
                  <a:lnTo>
                    <a:pt x="138854" y="105013"/>
                  </a:lnTo>
                  <a:lnTo>
                    <a:pt x="142523" y="108955"/>
                  </a:lnTo>
                  <a:lnTo>
                    <a:pt x="145816" y="113277"/>
                  </a:lnTo>
                  <a:lnTo>
                    <a:pt x="148857" y="117851"/>
                  </a:lnTo>
                  <a:lnTo>
                    <a:pt x="158030" y="133226"/>
                  </a:lnTo>
                  <a:lnTo>
                    <a:pt x="166474" y="146419"/>
                  </a:lnTo>
                  <a:lnTo>
                    <a:pt x="170249" y="152646"/>
                  </a:lnTo>
                  <a:lnTo>
                    <a:pt x="173613" y="158490"/>
                  </a:lnTo>
                  <a:lnTo>
                    <a:pt x="176702" y="164080"/>
                  </a:lnTo>
                  <a:lnTo>
                    <a:pt x="178762" y="170347"/>
                  </a:lnTo>
                  <a:lnTo>
                    <a:pt x="180135" y="177065"/>
                  </a:lnTo>
                  <a:lnTo>
                    <a:pt x="181050" y="184083"/>
                  </a:lnTo>
                  <a:lnTo>
                    <a:pt x="180813" y="191302"/>
                  </a:lnTo>
                  <a:lnTo>
                    <a:pt x="179809" y="198654"/>
                  </a:lnTo>
                  <a:lnTo>
                    <a:pt x="178293" y="206096"/>
                  </a:lnTo>
                  <a:lnTo>
                    <a:pt x="175589" y="213598"/>
                  </a:lnTo>
                  <a:lnTo>
                    <a:pt x="172093" y="221138"/>
                  </a:lnTo>
                  <a:lnTo>
                    <a:pt x="168069" y="228706"/>
                  </a:lnTo>
                  <a:lnTo>
                    <a:pt x="164539" y="236291"/>
                  </a:lnTo>
                  <a:lnTo>
                    <a:pt x="161340" y="243887"/>
                  </a:lnTo>
                  <a:lnTo>
                    <a:pt x="158360" y="251492"/>
                  </a:lnTo>
                  <a:lnTo>
                    <a:pt x="154680" y="258254"/>
                  </a:lnTo>
                  <a:lnTo>
                    <a:pt x="150533" y="264456"/>
                  </a:lnTo>
                  <a:lnTo>
                    <a:pt x="146076" y="270285"/>
                  </a:lnTo>
                  <a:lnTo>
                    <a:pt x="141411" y="275863"/>
                  </a:lnTo>
                  <a:lnTo>
                    <a:pt x="136607" y="281276"/>
                  </a:lnTo>
                  <a:lnTo>
                    <a:pt x="126754" y="291805"/>
                  </a:lnTo>
                  <a:lnTo>
                    <a:pt x="116731" y="302129"/>
                  </a:lnTo>
                  <a:lnTo>
                    <a:pt x="111688" y="306406"/>
                  </a:lnTo>
                  <a:lnTo>
                    <a:pt x="106632" y="310104"/>
                  </a:lnTo>
                  <a:lnTo>
                    <a:pt x="101568" y="313417"/>
                  </a:lnTo>
                  <a:lnTo>
                    <a:pt x="95652" y="315624"/>
                  </a:lnTo>
                  <a:lnTo>
                    <a:pt x="89168" y="317096"/>
                  </a:lnTo>
                  <a:lnTo>
                    <a:pt x="82306" y="318078"/>
                  </a:lnTo>
                  <a:lnTo>
                    <a:pt x="76037" y="317885"/>
                  </a:lnTo>
                  <a:lnTo>
                    <a:pt x="70165" y="316910"/>
                  </a:lnTo>
                  <a:lnTo>
                    <a:pt x="64556" y="315413"/>
                  </a:lnTo>
                  <a:lnTo>
                    <a:pt x="51552" y="311493"/>
                  </a:lnTo>
                  <a:lnTo>
                    <a:pt x="44528" y="309262"/>
                  </a:lnTo>
                  <a:lnTo>
                    <a:pt x="37305" y="306082"/>
                  </a:lnTo>
                  <a:lnTo>
                    <a:pt x="29951" y="302268"/>
                  </a:lnTo>
                  <a:lnTo>
                    <a:pt x="22507" y="298032"/>
                  </a:lnTo>
                  <a:lnTo>
                    <a:pt x="16698" y="293515"/>
                  </a:lnTo>
                  <a:lnTo>
                    <a:pt x="11979" y="288810"/>
                  </a:lnTo>
                  <a:lnTo>
                    <a:pt x="7986" y="283980"/>
                  </a:lnTo>
                  <a:lnTo>
                    <a:pt x="3549" y="276356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MARTInkAnnotation85"/>
            <p:cNvSpPr/>
            <p:nvPr/>
          </p:nvSpPr>
          <p:spPr>
            <a:xfrm>
              <a:off x="2149200" y="5349960"/>
              <a:ext cx="360" cy="75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" h="7621">
                  <a:moveTo>
                    <a:pt x="0" y="762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MARTInkAnnotation86"/>
            <p:cNvSpPr/>
            <p:nvPr/>
          </p:nvSpPr>
          <p:spPr>
            <a:xfrm>
              <a:off x="2149200" y="5349960"/>
              <a:ext cx="327600" cy="756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27661" h="7621">
                  <a:moveTo>
                    <a:pt x="0" y="7620"/>
                  </a:moveTo>
                  <a:lnTo>
                    <a:pt x="14652" y="7620"/>
                  </a:lnTo>
                  <a:lnTo>
                    <a:pt x="19081" y="6774"/>
                  </a:lnTo>
                  <a:lnTo>
                    <a:pt x="23727" y="5363"/>
                  </a:lnTo>
                  <a:lnTo>
                    <a:pt x="28518" y="3575"/>
                  </a:lnTo>
                  <a:lnTo>
                    <a:pt x="33406" y="2383"/>
                  </a:lnTo>
                  <a:lnTo>
                    <a:pt x="38357" y="1589"/>
                  </a:lnTo>
                  <a:lnTo>
                    <a:pt x="43352" y="1059"/>
                  </a:lnTo>
                  <a:lnTo>
                    <a:pt x="50068" y="706"/>
                  </a:lnTo>
                  <a:lnTo>
                    <a:pt x="66562" y="314"/>
                  </a:lnTo>
                  <a:lnTo>
                    <a:pt x="122213" y="28"/>
                  </a:lnTo>
                  <a:lnTo>
                    <a:pt x="133969" y="865"/>
                  </a:lnTo>
                  <a:lnTo>
                    <a:pt x="146040" y="2270"/>
                  </a:lnTo>
                  <a:lnTo>
                    <a:pt x="158320" y="4053"/>
                  </a:lnTo>
                  <a:lnTo>
                    <a:pt x="170740" y="5242"/>
                  </a:lnTo>
                  <a:lnTo>
                    <a:pt x="183253" y="6035"/>
                  </a:lnTo>
                  <a:lnTo>
                    <a:pt x="207599" y="6916"/>
                  </a:lnTo>
                  <a:lnTo>
                    <a:pt x="229709" y="7307"/>
                  </a:lnTo>
                  <a:lnTo>
                    <a:pt x="240346" y="6565"/>
                  </a:lnTo>
                  <a:lnTo>
                    <a:pt x="250824" y="5223"/>
                  </a:lnTo>
                  <a:lnTo>
                    <a:pt x="261196" y="3482"/>
                  </a:lnTo>
                  <a:lnTo>
                    <a:pt x="272344" y="2321"/>
                  </a:lnTo>
                  <a:lnTo>
                    <a:pt x="284010" y="1547"/>
                  </a:lnTo>
                  <a:lnTo>
                    <a:pt x="311622" y="459"/>
                  </a:lnTo>
                  <a:lnTo>
                    <a:pt x="3276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SMARTInkAnnotation87"/>
            <p:cNvSpPr/>
            <p:nvPr/>
          </p:nvSpPr>
          <p:spPr>
            <a:xfrm>
              <a:off x="4024080" y="4360320"/>
              <a:ext cx="281520" cy="24552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281627" h="245641">
                  <a:moveTo>
                    <a:pt x="7306" y="44438"/>
                  </a:moveTo>
                  <a:lnTo>
                    <a:pt x="0" y="44438"/>
                  </a:lnTo>
                  <a:lnTo>
                    <a:pt x="3824" y="44438"/>
                  </a:lnTo>
                  <a:lnTo>
                    <a:pt x="5832" y="43592"/>
                  </a:lnTo>
                  <a:lnTo>
                    <a:pt x="10320" y="40393"/>
                  </a:lnTo>
                  <a:lnTo>
                    <a:pt x="14395" y="39201"/>
                  </a:lnTo>
                  <a:lnTo>
                    <a:pt x="19652" y="38407"/>
                  </a:lnTo>
                  <a:lnTo>
                    <a:pt x="25697" y="37877"/>
                  </a:lnTo>
                  <a:lnTo>
                    <a:pt x="33114" y="36678"/>
                  </a:lnTo>
                  <a:lnTo>
                    <a:pt x="41445" y="35031"/>
                  </a:lnTo>
                  <a:lnTo>
                    <a:pt x="50385" y="33087"/>
                  </a:lnTo>
                  <a:lnTo>
                    <a:pt x="58886" y="30944"/>
                  </a:lnTo>
                  <a:lnTo>
                    <a:pt x="67093" y="28668"/>
                  </a:lnTo>
                  <a:lnTo>
                    <a:pt x="75104" y="26306"/>
                  </a:lnTo>
                  <a:lnTo>
                    <a:pt x="84678" y="23036"/>
                  </a:lnTo>
                  <a:lnTo>
                    <a:pt x="106605" y="14888"/>
                  </a:lnTo>
                  <a:lnTo>
                    <a:pt x="118378" y="12039"/>
                  </a:lnTo>
                  <a:lnTo>
                    <a:pt x="130461" y="10139"/>
                  </a:lnTo>
                  <a:lnTo>
                    <a:pt x="142750" y="8872"/>
                  </a:lnTo>
                  <a:lnTo>
                    <a:pt x="155175" y="7181"/>
                  </a:lnTo>
                  <a:lnTo>
                    <a:pt x="180270" y="3044"/>
                  </a:lnTo>
                  <a:lnTo>
                    <a:pt x="191195" y="1602"/>
                  </a:lnTo>
                  <a:lnTo>
                    <a:pt x="201019" y="641"/>
                  </a:lnTo>
                  <a:lnTo>
                    <a:pt x="210108" y="0"/>
                  </a:lnTo>
                  <a:lnTo>
                    <a:pt x="217861" y="419"/>
                  </a:lnTo>
                  <a:lnTo>
                    <a:pt x="224722" y="1546"/>
                  </a:lnTo>
                  <a:lnTo>
                    <a:pt x="230991" y="3143"/>
                  </a:lnTo>
                  <a:lnTo>
                    <a:pt x="236016" y="4208"/>
                  </a:lnTo>
                  <a:lnTo>
                    <a:pt x="243857" y="5391"/>
                  </a:lnTo>
                  <a:lnTo>
                    <a:pt x="247133" y="6553"/>
                  </a:lnTo>
                  <a:lnTo>
                    <a:pt x="253032" y="10103"/>
                  </a:lnTo>
                  <a:lnTo>
                    <a:pt x="254097" y="12234"/>
                  </a:lnTo>
                  <a:lnTo>
                    <a:pt x="253960" y="14503"/>
                  </a:lnTo>
                  <a:lnTo>
                    <a:pt x="253022" y="16862"/>
                  </a:lnTo>
                  <a:lnTo>
                    <a:pt x="247465" y="23998"/>
                  </a:lnTo>
                  <a:lnTo>
                    <a:pt x="243612" y="28271"/>
                  </a:lnTo>
                  <a:lnTo>
                    <a:pt x="234815" y="35277"/>
                  </a:lnTo>
                  <a:lnTo>
                    <a:pt x="230099" y="38331"/>
                  </a:lnTo>
                  <a:lnTo>
                    <a:pt x="223568" y="42060"/>
                  </a:lnTo>
                  <a:lnTo>
                    <a:pt x="207280" y="50719"/>
                  </a:lnTo>
                  <a:lnTo>
                    <a:pt x="198195" y="56246"/>
                  </a:lnTo>
                  <a:lnTo>
                    <a:pt x="188752" y="62470"/>
                  </a:lnTo>
                  <a:lnTo>
                    <a:pt x="169229" y="76158"/>
                  </a:lnTo>
                  <a:lnTo>
                    <a:pt x="100967" y="126073"/>
                  </a:lnTo>
                  <a:lnTo>
                    <a:pt x="92607" y="131881"/>
                  </a:lnTo>
                  <a:lnTo>
                    <a:pt x="86186" y="138293"/>
                  </a:lnTo>
                  <a:lnTo>
                    <a:pt x="81060" y="145108"/>
                  </a:lnTo>
                  <a:lnTo>
                    <a:pt x="76795" y="152191"/>
                  </a:lnTo>
                  <a:lnTo>
                    <a:pt x="73105" y="159454"/>
                  </a:lnTo>
                  <a:lnTo>
                    <a:pt x="69799" y="166835"/>
                  </a:lnTo>
                  <a:lnTo>
                    <a:pt x="66748" y="174297"/>
                  </a:lnTo>
                  <a:lnTo>
                    <a:pt x="64714" y="180964"/>
                  </a:lnTo>
                  <a:lnTo>
                    <a:pt x="63358" y="187102"/>
                  </a:lnTo>
                  <a:lnTo>
                    <a:pt x="62454" y="192887"/>
                  </a:lnTo>
                  <a:lnTo>
                    <a:pt x="63544" y="198437"/>
                  </a:lnTo>
                  <a:lnTo>
                    <a:pt x="65965" y="203831"/>
                  </a:lnTo>
                  <a:lnTo>
                    <a:pt x="69272" y="209120"/>
                  </a:lnTo>
                  <a:lnTo>
                    <a:pt x="72323" y="214339"/>
                  </a:lnTo>
                  <a:lnTo>
                    <a:pt x="75204" y="219512"/>
                  </a:lnTo>
                  <a:lnTo>
                    <a:pt x="77971" y="224654"/>
                  </a:lnTo>
                  <a:lnTo>
                    <a:pt x="83204" y="228929"/>
                  </a:lnTo>
                  <a:lnTo>
                    <a:pt x="90078" y="232626"/>
                  </a:lnTo>
                  <a:lnTo>
                    <a:pt x="98047" y="235936"/>
                  </a:lnTo>
                  <a:lnTo>
                    <a:pt x="105900" y="238990"/>
                  </a:lnTo>
                  <a:lnTo>
                    <a:pt x="121399" y="244641"/>
                  </a:lnTo>
                  <a:lnTo>
                    <a:pt x="129934" y="245640"/>
                  </a:lnTo>
                  <a:lnTo>
                    <a:pt x="139012" y="245459"/>
                  </a:lnTo>
                  <a:lnTo>
                    <a:pt x="148450" y="244492"/>
                  </a:lnTo>
                  <a:lnTo>
                    <a:pt x="158976" y="243001"/>
                  </a:lnTo>
                  <a:lnTo>
                    <a:pt x="181959" y="239086"/>
                  </a:lnTo>
                  <a:lnTo>
                    <a:pt x="193169" y="236010"/>
                  </a:lnTo>
                  <a:lnTo>
                    <a:pt x="204028" y="232266"/>
                  </a:lnTo>
                  <a:lnTo>
                    <a:pt x="249835" y="214091"/>
                  </a:lnTo>
                  <a:lnTo>
                    <a:pt x="258739" y="210033"/>
                  </a:lnTo>
                  <a:lnTo>
                    <a:pt x="265521" y="206481"/>
                  </a:lnTo>
                  <a:lnTo>
                    <a:pt x="281626" y="1968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SMARTInkAnnotation88"/>
            <p:cNvSpPr/>
            <p:nvPr/>
          </p:nvSpPr>
          <p:spPr>
            <a:xfrm>
              <a:off x="4351320" y="4313520"/>
              <a:ext cx="241920" cy="25884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42096" h="259050">
                  <a:moveTo>
                    <a:pt x="0" y="53309"/>
                  </a:moveTo>
                  <a:lnTo>
                    <a:pt x="0" y="46748"/>
                  </a:lnTo>
                  <a:lnTo>
                    <a:pt x="847" y="46395"/>
                  </a:lnTo>
                  <a:lnTo>
                    <a:pt x="4045" y="46003"/>
                  </a:lnTo>
                  <a:lnTo>
                    <a:pt x="6084" y="45052"/>
                  </a:lnTo>
                  <a:lnTo>
                    <a:pt x="10606" y="41737"/>
                  </a:lnTo>
                  <a:lnTo>
                    <a:pt x="13844" y="40514"/>
                  </a:lnTo>
                  <a:lnTo>
                    <a:pt x="17696" y="39700"/>
                  </a:lnTo>
                  <a:lnTo>
                    <a:pt x="21958" y="39156"/>
                  </a:lnTo>
                  <a:lnTo>
                    <a:pt x="28950" y="38552"/>
                  </a:lnTo>
                  <a:lnTo>
                    <a:pt x="32000" y="38391"/>
                  </a:lnTo>
                  <a:lnTo>
                    <a:pt x="36573" y="37437"/>
                  </a:lnTo>
                  <a:lnTo>
                    <a:pt x="42163" y="35954"/>
                  </a:lnTo>
                  <a:lnTo>
                    <a:pt x="48429" y="34120"/>
                  </a:lnTo>
                  <a:lnTo>
                    <a:pt x="55146" y="32896"/>
                  </a:lnTo>
                  <a:lnTo>
                    <a:pt x="62164" y="32081"/>
                  </a:lnTo>
                  <a:lnTo>
                    <a:pt x="69383" y="31537"/>
                  </a:lnTo>
                  <a:lnTo>
                    <a:pt x="76735" y="30327"/>
                  </a:lnTo>
                  <a:lnTo>
                    <a:pt x="84177" y="28675"/>
                  </a:lnTo>
                  <a:lnTo>
                    <a:pt x="91678" y="26726"/>
                  </a:lnTo>
                  <a:lnTo>
                    <a:pt x="100065" y="25427"/>
                  </a:lnTo>
                  <a:lnTo>
                    <a:pt x="109044" y="24561"/>
                  </a:lnTo>
                  <a:lnTo>
                    <a:pt x="118416" y="23984"/>
                  </a:lnTo>
                  <a:lnTo>
                    <a:pt x="128050" y="22752"/>
                  </a:lnTo>
                  <a:lnTo>
                    <a:pt x="137860" y="21084"/>
                  </a:lnTo>
                  <a:lnTo>
                    <a:pt x="147787" y="19126"/>
                  </a:lnTo>
                  <a:lnTo>
                    <a:pt x="156945" y="16973"/>
                  </a:lnTo>
                  <a:lnTo>
                    <a:pt x="165590" y="14692"/>
                  </a:lnTo>
                  <a:lnTo>
                    <a:pt x="173893" y="12325"/>
                  </a:lnTo>
                  <a:lnTo>
                    <a:pt x="181122" y="10746"/>
                  </a:lnTo>
                  <a:lnTo>
                    <a:pt x="187635" y="9694"/>
                  </a:lnTo>
                  <a:lnTo>
                    <a:pt x="193670" y="8992"/>
                  </a:lnTo>
                  <a:lnTo>
                    <a:pt x="200233" y="7678"/>
                  </a:lnTo>
                  <a:lnTo>
                    <a:pt x="207149" y="5955"/>
                  </a:lnTo>
                  <a:lnTo>
                    <a:pt x="214299" y="3960"/>
                  </a:lnTo>
                  <a:lnTo>
                    <a:pt x="219913" y="2630"/>
                  </a:lnTo>
                  <a:lnTo>
                    <a:pt x="224501" y="1743"/>
                  </a:lnTo>
                  <a:lnTo>
                    <a:pt x="231858" y="758"/>
                  </a:lnTo>
                  <a:lnTo>
                    <a:pt x="237951" y="319"/>
                  </a:lnTo>
                  <a:lnTo>
                    <a:pt x="242095" y="73"/>
                  </a:lnTo>
                  <a:lnTo>
                    <a:pt x="239278" y="0"/>
                  </a:lnTo>
                  <a:lnTo>
                    <a:pt x="237412" y="837"/>
                  </a:lnTo>
                  <a:lnTo>
                    <a:pt x="230740" y="6059"/>
                  </a:lnTo>
                  <a:lnTo>
                    <a:pt x="225883" y="10578"/>
                  </a:lnTo>
                  <a:lnTo>
                    <a:pt x="221708" y="13815"/>
                  </a:lnTo>
                  <a:lnTo>
                    <a:pt x="216386" y="17666"/>
                  </a:lnTo>
                  <a:lnTo>
                    <a:pt x="210298" y="21927"/>
                  </a:lnTo>
                  <a:lnTo>
                    <a:pt x="204545" y="26461"/>
                  </a:lnTo>
                  <a:lnTo>
                    <a:pt x="199017" y="31177"/>
                  </a:lnTo>
                  <a:lnTo>
                    <a:pt x="193638" y="36014"/>
                  </a:lnTo>
                  <a:lnTo>
                    <a:pt x="187512" y="40932"/>
                  </a:lnTo>
                  <a:lnTo>
                    <a:pt x="180887" y="45905"/>
                  </a:lnTo>
                  <a:lnTo>
                    <a:pt x="173932" y="50913"/>
                  </a:lnTo>
                  <a:lnTo>
                    <a:pt x="167601" y="56792"/>
                  </a:lnTo>
                  <a:lnTo>
                    <a:pt x="161687" y="63251"/>
                  </a:lnTo>
                  <a:lnTo>
                    <a:pt x="156052" y="70097"/>
                  </a:lnTo>
                  <a:lnTo>
                    <a:pt x="148908" y="77201"/>
                  </a:lnTo>
                  <a:lnTo>
                    <a:pt x="140759" y="84477"/>
                  </a:lnTo>
                  <a:lnTo>
                    <a:pt x="131939" y="91868"/>
                  </a:lnTo>
                  <a:lnTo>
                    <a:pt x="124366" y="99335"/>
                  </a:lnTo>
                  <a:lnTo>
                    <a:pt x="117624" y="106853"/>
                  </a:lnTo>
                  <a:lnTo>
                    <a:pt x="111436" y="114405"/>
                  </a:lnTo>
                  <a:lnTo>
                    <a:pt x="105618" y="121980"/>
                  </a:lnTo>
                  <a:lnTo>
                    <a:pt x="100045" y="129570"/>
                  </a:lnTo>
                  <a:lnTo>
                    <a:pt x="94637" y="137170"/>
                  </a:lnTo>
                  <a:lnTo>
                    <a:pt x="90185" y="144776"/>
                  </a:lnTo>
                  <a:lnTo>
                    <a:pt x="86370" y="152387"/>
                  </a:lnTo>
                  <a:lnTo>
                    <a:pt x="82980" y="160001"/>
                  </a:lnTo>
                  <a:lnTo>
                    <a:pt x="79874" y="167617"/>
                  </a:lnTo>
                  <a:lnTo>
                    <a:pt x="76956" y="175235"/>
                  </a:lnTo>
                  <a:lnTo>
                    <a:pt x="71456" y="190472"/>
                  </a:lnTo>
                  <a:lnTo>
                    <a:pt x="66189" y="205710"/>
                  </a:lnTo>
                  <a:lnTo>
                    <a:pt x="63600" y="211637"/>
                  </a:lnTo>
                  <a:lnTo>
                    <a:pt x="61027" y="216434"/>
                  </a:lnTo>
                  <a:lnTo>
                    <a:pt x="58464" y="220479"/>
                  </a:lnTo>
                  <a:lnTo>
                    <a:pt x="56756" y="225716"/>
                  </a:lnTo>
                  <a:lnTo>
                    <a:pt x="55618" y="231747"/>
                  </a:lnTo>
                  <a:lnTo>
                    <a:pt x="54859" y="238308"/>
                  </a:lnTo>
                  <a:lnTo>
                    <a:pt x="54353" y="243528"/>
                  </a:lnTo>
                  <a:lnTo>
                    <a:pt x="53790" y="251587"/>
                  </a:lnTo>
                  <a:lnTo>
                    <a:pt x="53341" y="2590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SMARTInkAnnotation89"/>
            <p:cNvSpPr/>
            <p:nvPr/>
          </p:nvSpPr>
          <p:spPr>
            <a:xfrm>
              <a:off x="4358880" y="4465800"/>
              <a:ext cx="251280" cy="72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1460" h="7529">
                  <a:moveTo>
                    <a:pt x="0" y="7528"/>
                  </a:moveTo>
                  <a:lnTo>
                    <a:pt x="17911" y="7528"/>
                  </a:lnTo>
                  <a:lnTo>
                    <a:pt x="21254" y="6681"/>
                  </a:lnTo>
                  <a:lnTo>
                    <a:pt x="25175" y="5270"/>
                  </a:lnTo>
                  <a:lnTo>
                    <a:pt x="29483" y="3482"/>
                  </a:lnTo>
                  <a:lnTo>
                    <a:pt x="34895" y="2291"/>
                  </a:lnTo>
                  <a:lnTo>
                    <a:pt x="41044" y="1496"/>
                  </a:lnTo>
                  <a:lnTo>
                    <a:pt x="47682" y="966"/>
                  </a:lnTo>
                  <a:lnTo>
                    <a:pt x="55494" y="613"/>
                  </a:lnTo>
                  <a:lnTo>
                    <a:pt x="73206" y="221"/>
                  </a:lnTo>
                  <a:lnTo>
                    <a:pt x="98172" y="0"/>
                  </a:lnTo>
                  <a:lnTo>
                    <a:pt x="106934" y="816"/>
                  </a:lnTo>
                  <a:lnTo>
                    <a:pt x="116163" y="2206"/>
                  </a:lnTo>
                  <a:lnTo>
                    <a:pt x="125702" y="3980"/>
                  </a:lnTo>
                  <a:lnTo>
                    <a:pt x="134601" y="5163"/>
                  </a:lnTo>
                  <a:lnTo>
                    <a:pt x="143073" y="5951"/>
                  </a:lnTo>
                  <a:lnTo>
                    <a:pt x="151262" y="6476"/>
                  </a:lnTo>
                  <a:lnTo>
                    <a:pt x="167134" y="7061"/>
                  </a:lnTo>
                  <a:lnTo>
                    <a:pt x="198019" y="7435"/>
                  </a:lnTo>
                  <a:lnTo>
                    <a:pt x="251459" y="75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SMARTInkAnnotation90"/>
            <p:cNvSpPr/>
            <p:nvPr/>
          </p:nvSpPr>
          <p:spPr>
            <a:xfrm>
              <a:off x="4686840" y="445824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1" h="7594">
                  <a:moveTo>
                    <a:pt x="0" y="0"/>
                  </a:moveTo>
                  <a:lnTo>
                    <a:pt x="4045" y="0"/>
                  </a:lnTo>
                  <a:lnTo>
                    <a:pt x="5237" y="846"/>
                  </a:lnTo>
                  <a:lnTo>
                    <a:pt x="6032" y="2258"/>
                  </a:lnTo>
                  <a:lnTo>
                    <a:pt x="6561" y="4045"/>
                  </a:lnTo>
                  <a:lnTo>
                    <a:pt x="8608" y="5237"/>
                  </a:lnTo>
                  <a:lnTo>
                    <a:pt x="11665" y="6032"/>
                  </a:lnTo>
                  <a:lnTo>
                    <a:pt x="15397" y="6561"/>
                  </a:lnTo>
                  <a:lnTo>
                    <a:pt x="20424" y="6914"/>
                  </a:lnTo>
                  <a:lnTo>
                    <a:pt x="26316" y="7150"/>
                  </a:lnTo>
                  <a:lnTo>
                    <a:pt x="39636" y="7411"/>
                  </a:lnTo>
                  <a:lnTo>
                    <a:pt x="76402" y="7593"/>
                  </a:lnTo>
                  <a:lnTo>
                    <a:pt x="83955" y="6755"/>
                  </a:lnTo>
                  <a:lnTo>
                    <a:pt x="91529" y="5350"/>
                  </a:lnTo>
                  <a:lnTo>
                    <a:pt x="99120" y="3567"/>
                  </a:lnTo>
                  <a:lnTo>
                    <a:pt x="106720" y="2378"/>
                  </a:lnTo>
                  <a:lnTo>
                    <a:pt x="114327" y="1585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SMARTInkAnnotation91"/>
            <p:cNvSpPr/>
            <p:nvPr/>
          </p:nvSpPr>
          <p:spPr>
            <a:xfrm>
              <a:off x="4968720" y="4199040"/>
              <a:ext cx="201240" cy="198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01345" h="198121">
                  <a:moveTo>
                    <a:pt x="60918" y="0"/>
                  </a:moveTo>
                  <a:lnTo>
                    <a:pt x="35413" y="25505"/>
                  </a:lnTo>
                  <a:lnTo>
                    <a:pt x="32062" y="28010"/>
                  </a:lnTo>
                  <a:lnTo>
                    <a:pt x="28134" y="30527"/>
                  </a:lnTo>
                  <a:lnTo>
                    <a:pt x="23822" y="33052"/>
                  </a:lnTo>
                  <a:lnTo>
                    <a:pt x="20101" y="35581"/>
                  </a:lnTo>
                  <a:lnTo>
                    <a:pt x="16773" y="38114"/>
                  </a:lnTo>
                  <a:lnTo>
                    <a:pt x="13708" y="40649"/>
                  </a:lnTo>
                  <a:lnTo>
                    <a:pt x="8045" y="43466"/>
                  </a:lnTo>
                  <a:lnTo>
                    <a:pt x="5349" y="44218"/>
                  </a:lnTo>
                  <a:lnTo>
                    <a:pt x="3552" y="45565"/>
                  </a:lnTo>
                  <a:lnTo>
                    <a:pt x="2354" y="47310"/>
                  </a:lnTo>
                  <a:lnTo>
                    <a:pt x="0" y="53236"/>
                  </a:lnTo>
                  <a:lnTo>
                    <a:pt x="4015" y="53309"/>
                  </a:lnTo>
                  <a:lnTo>
                    <a:pt x="6050" y="52473"/>
                  </a:lnTo>
                  <a:lnTo>
                    <a:pt x="10568" y="49286"/>
                  </a:lnTo>
                  <a:lnTo>
                    <a:pt x="14651" y="48098"/>
                  </a:lnTo>
                  <a:lnTo>
                    <a:pt x="19914" y="47305"/>
                  </a:lnTo>
                  <a:lnTo>
                    <a:pt x="25962" y="46777"/>
                  </a:lnTo>
                  <a:lnTo>
                    <a:pt x="32534" y="45578"/>
                  </a:lnTo>
                  <a:lnTo>
                    <a:pt x="39455" y="43932"/>
                  </a:lnTo>
                  <a:lnTo>
                    <a:pt x="46610" y="41988"/>
                  </a:lnTo>
                  <a:lnTo>
                    <a:pt x="54766" y="40692"/>
                  </a:lnTo>
                  <a:lnTo>
                    <a:pt x="63590" y="39828"/>
                  </a:lnTo>
                  <a:lnTo>
                    <a:pt x="72859" y="39252"/>
                  </a:lnTo>
                  <a:lnTo>
                    <a:pt x="89933" y="38612"/>
                  </a:lnTo>
                  <a:lnTo>
                    <a:pt x="116082" y="38252"/>
                  </a:lnTo>
                  <a:lnTo>
                    <a:pt x="125634" y="38201"/>
                  </a:lnTo>
                  <a:lnTo>
                    <a:pt x="134541" y="39014"/>
                  </a:lnTo>
                  <a:lnTo>
                    <a:pt x="143021" y="40403"/>
                  </a:lnTo>
                  <a:lnTo>
                    <a:pt x="151213" y="42175"/>
                  </a:lnTo>
                  <a:lnTo>
                    <a:pt x="158368" y="44204"/>
                  </a:lnTo>
                  <a:lnTo>
                    <a:pt x="164831" y="46402"/>
                  </a:lnTo>
                  <a:lnTo>
                    <a:pt x="170834" y="48715"/>
                  </a:lnTo>
                  <a:lnTo>
                    <a:pt x="175681" y="51104"/>
                  </a:lnTo>
                  <a:lnTo>
                    <a:pt x="179760" y="53543"/>
                  </a:lnTo>
                  <a:lnTo>
                    <a:pt x="183326" y="56015"/>
                  </a:lnTo>
                  <a:lnTo>
                    <a:pt x="186550" y="59357"/>
                  </a:lnTo>
                  <a:lnTo>
                    <a:pt x="189545" y="63278"/>
                  </a:lnTo>
                  <a:lnTo>
                    <a:pt x="192390" y="67585"/>
                  </a:lnTo>
                  <a:lnTo>
                    <a:pt x="195133" y="72150"/>
                  </a:lnTo>
                  <a:lnTo>
                    <a:pt x="197807" y="76886"/>
                  </a:lnTo>
                  <a:lnTo>
                    <a:pt x="200438" y="81738"/>
                  </a:lnTo>
                  <a:lnTo>
                    <a:pt x="201344" y="85818"/>
                  </a:lnTo>
                  <a:lnTo>
                    <a:pt x="201102" y="89386"/>
                  </a:lnTo>
                  <a:lnTo>
                    <a:pt x="200094" y="92611"/>
                  </a:lnTo>
                  <a:lnTo>
                    <a:pt x="198575" y="96454"/>
                  </a:lnTo>
                  <a:lnTo>
                    <a:pt x="196716" y="100709"/>
                  </a:lnTo>
                  <a:lnTo>
                    <a:pt x="194630" y="105240"/>
                  </a:lnTo>
                  <a:lnTo>
                    <a:pt x="191546" y="110800"/>
                  </a:lnTo>
                  <a:lnTo>
                    <a:pt x="187797" y="117047"/>
                  </a:lnTo>
                  <a:lnTo>
                    <a:pt x="183604" y="123751"/>
                  </a:lnTo>
                  <a:lnTo>
                    <a:pt x="179115" y="129914"/>
                  </a:lnTo>
                  <a:lnTo>
                    <a:pt x="174430" y="135716"/>
                  </a:lnTo>
                  <a:lnTo>
                    <a:pt x="169612" y="141278"/>
                  </a:lnTo>
                  <a:lnTo>
                    <a:pt x="163861" y="146678"/>
                  </a:lnTo>
                  <a:lnTo>
                    <a:pt x="157487" y="151973"/>
                  </a:lnTo>
                  <a:lnTo>
                    <a:pt x="150697" y="157195"/>
                  </a:lnTo>
                  <a:lnTo>
                    <a:pt x="144477" y="161523"/>
                  </a:lnTo>
                  <a:lnTo>
                    <a:pt x="138638" y="165255"/>
                  </a:lnTo>
                  <a:lnTo>
                    <a:pt x="133051" y="168590"/>
                  </a:lnTo>
                  <a:lnTo>
                    <a:pt x="128480" y="172507"/>
                  </a:lnTo>
                  <a:lnTo>
                    <a:pt x="124586" y="176811"/>
                  </a:lnTo>
                  <a:lnTo>
                    <a:pt x="121144" y="181374"/>
                  </a:lnTo>
                  <a:lnTo>
                    <a:pt x="117155" y="185263"/>
                  </a:lnTo>
                  <a:lnTo>
                    <a:pt x="112803" y="188702"/>
                  </a:lnTo>
                  <a:lnTo>
                    <a:pt x="108208" y="191841"/>
                  </a:lnTo>
                  <a:lnTo>
                    <a:pt x="103451" y="193934"/>
                  </a:lnTo>
                  <a:lnTo>
                    <a:pt x="98587" y="195330"/>
                  </a:lnTo>
                  <a:lnTo>
                    <a:pt x="93650" y="196260"/>
                  </a:lnTo>
                  <a:lnTo>
                    <a:pt x="89513" y="196880"/>
                  </a:lnTo>
                  <a:lnTo>
                    <a:pt x="85908" y="197293"/>
                  </a:lnTo>
                  <a:lnTo>
                    <a:pt x="79645" y="197753"/>
                  </a:lnTo>
                  <a:lnTo>
                    <a:pt x="68538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SMARTInkAnnotation92"/>
            <p:cNvSpPr/>
            <p:nvPr/>
          </p:nvSpPr>
          <p:spPr>
            <a:xfrm>
              <a:off x="5029560" y="4183560"/>
              <a:ext cx="182880" cy="151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82881" h="15241">
                  <a:moveTo>
                    <a:pt x="0" y="0"/>
                  </a:moveTo>
                  <a:lnTo>
                    <a:pt x="54244" y="0"/>
                  </a:lnTo>
                  <a:lnTo>
                    <a:pt x="62410" y="846"/>
                  </a:lnTo>
                  <a:lnTo>
                    <a:pt x="71240" y="2258"/>
                  </a:lnTo>
                  <a:lnTo>
                    <a:pt x="80513" y="4045"/>
                  </a:lnTo>
                  <a:lnTo>
                    <a:pt x="90929" y="5237"/>
                  </a:lnTo>
                  <a:lnTo>
                    <a:pt x="102105" y="6032"/>
                  </a:lnTo>
                  <a:lnTo>
                    <a:pt x="113791" y="6561"/>
                  </a:lnTo>
                  <a:lnTo>
                    <a:pt x="124967" y="7761"/>
                  </a:lnTo>
                  <a:lnTo>
                    <a:pt x="135805" y="9407"/>
                  </a:lnTo>
                  <a:lnTo>
                    <a:pt x="146417" y="11352"/>
                  </a:lnTo>
                  <a:lnTo>
                    <a:pt x="155184" y="12648"/>
                  </a:lnTo>
                  <a:lnTo>
                    <a:pt x="162723" y="13512"/>
                  </a:lnTo>
                  <a:lnTo>
                    <a:pt x="18288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SMARTInkAnnotation93"/>
            <p:cNvSpPr/>
            <p:nvPr/>
          </p:nvSpPr>
          <p:spPr>
            <a:xfrm>
              <a:off x="4998960" y="4267440"/>
              <a:ext cx="396000" cy="388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396241" h="388621">
                  <a:moveTo>
                    <a:pt x="396240" y="0"/>
                  </a:moveTo>
                  <a:lnTo>
                    <a:pt x="396240" y="4045"/>
                  </a:lnTo>
                  <a:lnTo>
                    <a:pt x="395393" y="6083"/>
                  </a:lnTo>
                  <a:lnTo>
                    <a:pt x="390156" y="12997"/>
                  </a:lnTo>
                  <a:lnTo>
                    <a:pt x="382396" y="21255"/>
                  </a:lnTo>
                  <a:lnTo>
                    <a:pt x="360195" y="43637"/>
                  </a:lnTo>
                  <a:lnTo>
                    <a:pt x="348047" y="53543"/>
                  </a:lnTo>
                  <a:lnTo>
                    <a:pt x="341251" y="58556"/>
                  </a:lnTo>
                  <a:lnTo>
                    <a:pt x="335028" y="64437"/>
                  </a:lnTo>
                  <a:lnTo>
                    <a:pt x="329185" y="70898"/>
                  </a:lnTo>
                  <a:lnTo>
                    <a:pt x="323597" y="77746"/>
                  </a:lnTo>
                  <a:lnTo>
                    <a:pt x="316485" y="84851"/>
                  </a:lnTo>
                  <a:lnTo>
                    <a:pt x="308356" y="92127"/>
                  </a:lnTo>
                  <a:lnTo>
                    <a:pt x="299551" y="99518"/>
                  </a:lnTo>
                  <a:lnTo>
                    <a:pt x="280736" y="114503"/>
                  </a:lnTo>
                  <a:lnTo>
                    <a:pt x="237017" y="148865"/>
                  </a:lnTo>
                  <a:lnTo>
                    <a:pt x="225745" y="158510"/>
                  </a:lnTo>
                  <a:lnTo>
                    <a:pt x="214844" y="168327"/>
                  </a:lnTo>
                  <a:lnTo>
                    <a:pt x="204189" y="178258"/>
                  </a:lnTo>
                  <a:lnTo>
                    <a:pt x="193699" y="187419"/>
                  </a:lnTo>
                  <a:lnTo>
                    <a:pt x="183320" y="196066"/>
                  </a:lnTo>
                  <a:lnTo>
                    <a:pt x="173014" y="204370"/>
                  </a:lnTo>
                  <a:lnTo>
                    <a:pt x="162755" y="213294"/>
                  </a:lnTo>
                  <a:lnTo>
                    <a:pt x="152531" y="222629"/>
                  </a:lnTo>
                  <a:lnTo>
                    <a:pt x="132139" y="242033"/>
                  </a:lnTo>
                  <a:lnTo>
                    <a:pt x="111786" y="261946"/>
                  </a:lnTo>
                  <a:lnTo>
                    <a:pt x="101618" y="271151"/>
                  </a:lnTo>
                  <a:lnTo>
                    <a:pt x="91452" y="279827"/>
                  </a:lnTo>
                  <a:lnTo>
                    <a:pt x="81288" y="288151"/>
                  </a:lnTo>
                  <a:lnTo>
                    <a:pt x="72819" y="296241"/>
                  </a:lnTo>
                  <a:lnTo>
                    <a:pt x="65479" y="304174"/>
                  </a:lnTo>
                  <a:lnTo>
                    <a:pt x="58893" y="312003"/>
                  </a:lnTo>
                  <a:lnTo>
                    <a:pt x="51962" y="319762"/>
                  </a:lnTo>
                  <a:lnTo>
                    <a:pt x="37488" y="335156"/>
                  </a:lnTo>
                  <a:lnTo>
                    <a:pt x="31765" y="341971"/>
                  </a:lnTo>
                  <a:lnTo>
                    <a:pt x="23149" y="354059"/>
                  </a:lnTo>
                  <a:lnTo>
                    <a:pt x="14240" y="365075"/>
                  </a:lnTo>
                  <a:lnTo>
                    <a:pt x="6330" y="374769"/>
                  </a:lnTo>
                  <a:lnTo>
                    <a:pt x="4219" y="378540"/>
                  </a:lnTo>
                  <a:lnTo>
                    <a:pt x="0" y="388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SMARTInkAnnotation94"/>
            <p:cNvSpPr/>
            <p:nvPr/>
          </p:nvSpPr>
          <p:spPr>
            <a:xfrm>
              <a:off x="5191560" y="4527000"/>
              <a:ext cx="233280" cy="2055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33591" h="205639">
                  <a:moveTo>
                    <a:pt x="74179" y="22758"/>
                  </a:moveTo>
                  <a:lnTo>
                    <a:pt x="74179" y="18713"/>
                  </a:lnTo>
                  <a:lnTo>
                    <a:pt x="75872" y="17521"/>
                  </a:lnTo>
                  <a:lnTo>
                    <a:pt x="82270" y="16197"/>
                  </a:lnTo>
                  <a:lnTo>
                    <a:pt x="84653" y="14998"/>
                  </a:lnTo>
                  <a:lnTo>
                    <a:pt x="86242" y="13351"/>
                  </a:lnTo>
                  <a:lnTo>
                    <a:pt x="87301" y="11407"/>
                  </a:lnTo>
                  <a:lnTo>
                    <a:pt x="89700" y="10111"/>
                  </a:lnTo>
                  <a:lnTo>
                    <a:pt x="96882" y="8670"/>
                  </a:lnTo>
                  <a:lnTo>
                    <a:pt x="102014" y="7439"/>
                  </a:lnTo>
                  <a:lnTo>
                    <a:pt x="107976" y="5772"/>
                  </a:lnTo>
                  <a:lnTo>
                    <a:pt x="114490" y="3814"/>
                  </a:lnTo>
                  <a:lnTo>
                    <a:pt x="121373" y="2509"/>
                  </a:lnTo>
                  <a:lnTo>
                    <a:pt x="128502" y="1639"/>
                  </a:lnTo>
                  <a:lnTo>
                    <a:pt x="135794" y="1058"/>
                  </a:lnTo>
                  <a:lnTo>
                    <a:pt x="143196" y="672"/>
                  </a:lnTo>
                  <a:lnTo>
                    <a:pt x="158193" y="242"/>
                  </a:lnTo>
                  <a:lnTo>
                    <a:pt x="176871" y="0"/>
                  </a:lnTo>
                  <a:lnTo>
                    <a:pt x="183281" y="813"/>
                  </a:lnTo>
                  <a:lnTo>
                    <a:pt x="190093" y="2201"/>
                  </a:lnTo>
                  <a:lnTo>
                    <a:pt x="197175" y="3974"/>
                  </a:lnTo>
                  <a:lnTo>
                    <a:pt x="203590" y="6002"/>
                  </a:lnTo>
                  <a:lnTo>
                    <a:pt x="209560" y="8201"/>
                  </a:lnTo>
                  <a:lnTo>
                    <a:pt x="215232" y="10513"/>
                  </a:lnTo>
                  <a:lnTo>
                    <a:pt x="219861" y="12901"/>
                  </a:lnTo>
                  <a:lnTo>
                    <a:pt x="223794" y="15341"/>
                  </a:lnTo>
                  <a:lnTo>
                    <a:pt x="227262" y="17813"/>
                  </a:lnTo>
                  <a:lnTo>
                    <a:pt x="229575" y="20308"/>
                  </a:lnTo>
                  <a:lnTo>
                    <a:pt x="231116" y="22818"/>
                  </a:lnTo>
                  <a:lnTo>
                    <a:pt x="233590" y="28885"/>
                  </a:lnTo>
                  <a:lnTo>
                    <a:pt x="231671" y="34230"/>
                  </a:lnTo>
                  <a:lnTo>
                    <a:pt x="229973" y="38026"/>
                  </a:lnTo>
                  <a:lnTo>
                    <a:pt x="226302" y="41404"/>
                  </a:lnTo>
                  <a:lnTo>
                    <a:pt x="221315" y="44502"/>
                  </a:lnTo>
                  <a:lnTo>
                    <a:pt x="215449" y="47414"/>
                  </a:lnTo>
                  <a:lnTo>
                    <a:pt x="208999" y="50202"/>
                  </a:lnTo>
                  <a:lnTo>
                    <a:pt x="202159" y="52907"/>
                  </a:lnTo>
                  <a:lnTo>
                    <a:pt x="195059" y="55558"/>
                  </a:lnTo>
                  <a:lnTo>
                    <a:pt x="186939" y="58171"/>
                  </a:lnTo>
                  <a:lnTo>
                    <a:pt x="178139" y="60760"/>
                  </a:lnTo>
                  <a:lnTo>
                    <a:pt x="159330" y="65895"/>
                  </a:lnTo>
                  <a:lnTo>
                    <a:pt x="109580" y="78632"/>
                  </a:lnTo>
                  <a:lnTo>
                    <a:pt x="100320" y="82021"/>
                  </a:lnTo>
                  <a:lnTo>
                    <a:pt x="91606" y="85974"/>
                  </a:lnTo>
                  <a:lnTo>
                    <a:pt x="83257" y="90301"/>
                  </a:lnTo>
                  <a:lnTo>
                    <a:pt x="74304" y="94034"/>
                  </a:lnTo>
                  <a:lnTo>
                    <a:pt x="64949" y="97368"/>
                  </a:lnTo>
                  <a:lnTo>
                    <a:pt x="55326" y="100439"/>
                  </a:lnTo>
                  <a:lnTo>
                    <a:pt x="47217" y="103332"/>
                  </a:lnTo>
                  <a:lnTo>
                    <a:pt x="40118" y="106107"/>
                  </a:lnTo>
                  <a:lnTo>
                    <a:pt x="33691" y="108804"/>
                  </a:lnTo>
                  <a:lnTo>
                    <a:pt x="27714" y="111449"/>
                  </a:lnTo>
                  <a:lnTo>
                    <a:pt x="16557" y="116645"/>
                  </a:lnTo>
                  <a:lnTo>
                    <a:pt x="12058" y="119217"/>
                  </a:lnTo>
                  <a:lnTo>
                    <a:pt x="4801" y="124331"/>
                  </a:lnTo>
                  <a:lnTo>
                    <a:pt x="2526" y="126880"/>
                  </a:lnTo>
                  <a:lnTo>
                    <a:pt x="1011" y="129426"/>
                  </a:lnTo>
                  <a:lnTo>
                    <a:pt x="0" y="131970"/>
                  </a:lnTo>
                  <a:lnTo>
                    <a:pt x="173" y="135359"/>
                  </a:lnTo>
                  <a:lnTo>
                    <a:pt x="1135" y="139312"/>
                  </a:lnTo>
                  <a:lnTo>
                    <a:pt x="2623" y="143641"/>
                  </a:lnTo>
                  <a:lnTo>
                    <a:pt x="5308" y="147373"/>
                  </a:lnTo>
                  <a:lnTo>
                    <a:pt x="8792" y="150708"/>
                  </a:lnTo>
                  <a:lnTo>
                    <a:pt x="12808" y="153778"/>
                  </a:lnTo>
                  <a:lnTo>
                    <a:pt x="17178" y="156672"/>
                  </a:lnTo>
                  <a:lnTo>
                    <a:pt x="21785" y="159447"/>
                  </a:lnTo>
                  <a:lnTo>
                    <a:pt x="26550" y="162144"/>
                  </a:lnTo>
                  <a:lnTo>
                    <a:pt x="36360" y="167399"/>
                  </a:lnTo>
                  <a:lnTo>
                    <a:pt x="41346" y="169985"/>
                  </a:lnTo>
                  <a:lnTo>
                    <a:pt x="47211" y="172556"/>
                  </a:lnTo>
                  <a:lnTo>
                    <a:pt x="53660" y="175117"/>
                  </a:lnTo>
                  <a:lnTo>
                    <a:pt x="60500" y="177670"/>
                  </a:lnTo>
                  <a:lnTo>
                    <a:pt x="67600" y="179373"/>
                  </a:lnTo>
                  <a:lnTo>
                    <a:pt x="74873" y="180508"/>
                  </a:lnTo>
                  <a:lnTo>
                    <a:pt x="82261" y="181265"/>
                  </a:lnTo>
                  <a:lnTo>
                    <a:pt x="89727" y="182616"/>
                  </a:lnTo>
                  <a:lnTo>
                    <a:pt x="97244" y="184363"/>
                  </a:lnTo>
                  <a:lnTo>
                    <a:pt x="104796" y="186375"/>
                  </a:lnTo>
                  <a:lnTo>
                    <a:pt x="119960" y="190868"/>
                  </a:lnTo>
                  <a:lnTo>
                    <a:pt x="127560" y="193252"/>
                  </a:lnTo>
                  <a:lnTo>
                    <a:pt x="135166" y="194840"/>
                  </a:lnTo>
                  <a:lnTo>
                    <a:pt x="142777" y="195900"/>
                  </a:lnTo>
                  <a:lnTo>
                    <a:pt x="150391" y="196606"/>
                  </a:lnTo>
                  <a:lnTo>
                    <a:pt x="158007" y="197923"/>
                  </a:lnTo>
                  <a:lnTo>
                    <a:pt x="165625" y="199648"/>
                  </a:lnTo>
                  <a:lnTo>
                    <a:pt x="173243" y="201645"/>
                  </a:lnTo>
                  <a:lnTo>
                    <a:pt x="179168" y="202976"/>
                  </a:lnTo>
                  <a:lnTo>
                    <a:pt x="183965" y="203864"/>
                  </a:lnTo>
                  <a:lnTo>
                    <a:pt x="188010" y="204455"/>
                  </a:lnTo>
                  <a:lnTo>
                    <a:pt x="192399" y="204850"/>
                  </a:lnTo>
                  <a:lnTo>
                    <a:pt x="197020" y="205113"/>
                  </a:lnTo>
                  <a:lnTo>
                    <a:pt x="205821" y="205404"/>
                  </a:lnTo>
                  <a:lnTo>
                    <a:pt x="218959" y="2056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SMARTInkAnnotation95"/>
            <p:cNvSpPr/>
            <p:nvPr/>
          </p:nvSpPr>
          <p:spPr>
            <a:xfrm>
              <a:off x="2415960" y="4740120"/>
              <a:ext cx="251280" cy="54864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251452" h="548641">
                  <a:moveTo>
                    <a:pt x="60951" y="0"/>
                  </a:moveTo>
                  <a:lnTo>
                    <a:pt x="60951" y="10606"/>
                  </a:lnTo>
                  <a:lnTo>
                    <a:pt x="60104" y="12151"/>
                  </a:lnTo>
                  <a:lnTo>
                    <a:pt x="58693" y="13181"/>
                  </a:lnTo>
                  <a:lnTo>
                    <a:pt x="56906" y="13867"/>
                  </a:lnTo>
                  <a:lnTo>
                    <a:pt x="55714" y="15171"/>
                  </a:lnTo>
                  <a:lnTo>
                    <a:pt x="54920" y="16887"/>
                  </a:lnTo>
                  <a:lnTo>
                    <a:pt x="54037" y="21899"/>
                  </a:lnTo>
                  <a:lnTo>
                    <a:pt x="53644" y="29771"/>
                  </a:lnTo>
                  <a:lnTo>
                    <a:pt x="52693" y="33394"/>
                  </a:lnTo>
                  <a:lnTo>
                    <a:pt x="49379" y="39677"/>
                  </a:lnTo>
                  <a:lnTo>
                    <a:pt x="42752" y="47975"/>
                  </a:lnTo>
                  <a:lnTo>
                    <a:pt x="35427" y="59841"/>
                  </a:lnTo>
                  <a:lnTo>
                    <a:pt x="32674" y="69211"/>
                  </a:lnTo>
                  <a:lnTo>
                    <a:pt x="30603" y="79021"/>
                  </a:lnTo>
                  <a:lnTo>
                    <a:pt x="24678" y="93216"/>
                  </a:lnTo>
                  <a:lnTo>
                    <a:pt x="19994" y="100132"/>
                  </a:lnTo>
                  <a:lnTo>
                    <a:pt x="17348" y="110543"/>
                  </a:lnTo>
                  <a:lnTo>
                    <a:pt x="15325" y="122790"/>
                  </a:lnTo>
                  <a:lnTo>
                    <a:pt x="10273" y="139205"/>
                  </a:lnTo>
                  <a:lnTo>
                    <a:pt x="7553" y="154793"/>
                  </a:lnTo>
                  <a:lnTo>
                    <a:pt x="2608" y="170137"/>
                  </a:lnTo>
                  <a:lnTo>
                    <a:pt x="766" y="185407"/>
                  </a:lnTo>
                  <a:lnTo>
                    <a:pt x="221" y="200656"/>
                  </a:lnTo>
                  <a:lnTo>
                    <a:pt x="4" y="242251"/>
                  </a:lnTo>
                  <a:lnTo>
                    <a:pt x="0" y="247861"/>
                  </a:lnTo>
                  <a:lnTo>
                    <a:pt x="2253" y="258609"/>
                  </a:lnTo>
                  <a:lnTo>
                    <a:pt x="5230" y="269031"/>
                  </a:lnTo>
                  <a:lnTo>
                    <a:pt x="7752" y="284418"/>
                  </a:lnTo>
                  <a:lnTo>
                    <a:pt x="12639" y="299702"/>
                  </a:lnTo>
                  <a:lnTo>
                    <a:pt x="15310" y="314954"/>
                  </a:lnTo>
                  <a:lnTo>
                    <a:pt x="18935" y="325118"/>
                  </a:lnTo>
                  <a:lnTo>
                    <a:pt x="25626" y="337537"/>
                  </a:lnTo>
                  <a:lnTo>
                    <a:pt x="33398" y="350676"/>
                  </a:lnTo>
                  <a:lnTo>
                    <a:pt x="39674" y="362161"/>
                  </a:lnTo>
                  <a:lnTo>
                    <a:pt x="43380" y="367594"/>
                  </a:lnTo>
                  <a:lnTo>
                    <a:pt x="47543" y="372909"/>
                  </a:lnTo>
                  <a:lnTo>
                    <a:pt x="52013" y="378146"/>
                  </a:lnTo>
                  <a:lnTo>
                    <a:pt x="56686" y="382484"/>
                  </a:lnTo>
                  <a:lnTo>
                    <a:pt x="61494" y="386223"/>
                  </a:lnTo>
                  <a:lnTo>
                    <a:pt x="66393" y="389562"/>
                  </a:lnTo>
                  <a:lnTo>
                    <a:pt x="71352" y="394328"/>
                  </a:lnTo>
                  <a:lnTo>
                    <a:pt x="76352" y="400045"/>
                  </a:lnTo>
                  <a:lnTo>
                    <a:pt x="81378" y="406397"/>
                  </a:lnTo>
                  <a:lnTo>
                    <a:pt x="86422" y="411478"/>
                  </a:lnTo>
                  <a:lnTo>
                    <a:pt x="91479" y="415712"/>
                  </a:lnTo>
                  <a:lnTo>
                    <a:pt x="96543" y="419381"/>
                  </a:lnTo>
                  <a:lnTo>
                    <a:pt x="101612" y="423521"/>
                  </a:lnTo>
                  <a:lnTo>
                    <a:pt x="106685" y="427974"/>
                  </a:lnTo>
                  <a:lnTo>
                    <a:pt x="111761" y="432636"/>
                  </a:lnTo>
                  <a:lnTo>
                    <a:pt x="121915" y="442332"/>
                  </a:lnTo>
                  <a:lnTo>
                    <a:pt x="157471" y="477542"/>
                  </a:lnTo>
                  <a:lnTo>
                    <a:pt x="163398" y="481768"/>
                  </a:lnTo>
                  <a:lnTo>
                    <a:pt x="169889" y="485432"/>
                  </a:lnTo>
                  <a:lnTo>
                    <a:pt x="176756" y="488721"/>
                  </a:lnTo>
                  <a:lnTo>
                    <a:pt x="183028" y="492608"/>
                  </a:lnTo>
                  <a:lnTo>
                    <a:pt x="188902" y="496892"/>
                  </a:lnTo>
                  <a:lnTo>
                    <a:pt x="194512" y="501441"/>
                  </a:lnTo>
                  <a:lnTo>
                    <a:pt x="200792" y="506167"/>
                  </a:lnTo>
                  <a:lnTo>
                    <a:pt x="214543" y="515935"/>
                  </a:lnTo>
                  <a:lnTo>
                    <a:pt x="236564" y="530953"/>
                  </a:lnTo>
                  <a:lnTo>
                    <a:pt x="241526" y="535155"/>
                  </a:lnTo>
                  <a:lnTo>
                    <a:pt x="244835" y="538804"/>
                  </a:lnTo>
                  <a:lnTo>
                    <a:pt x="251451" y="5486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SMARTInkAnnotation96"/>
            <p:cNvSpPr/>
            <p:nvPr/>
          </p:nvSpPr>
          <p:spPr>
            <a:xfrm>
              <a:off x="3581640" y="4900320"/>
              <a:ext cx="121680" cy="38088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21921" h="381001">
                  <a:moveTo>
                    <a:pt x="121920" y="0"/>
                  </a:moveTo>
                  <a:lnTo>
                    <a:pt x="121920" y="63759"/>
                  </a:lnTo>
                  <a:lnTo>
                    <a:pt x="121074" y="73833"/>
                  </a:lnTo>
                  <a:lnTo>
                    <a:pt x="119662" y="83935"/>
                  </a:lnTo>
                  <a:lnTo>
                    <a:pt x="117875" y="94057"/>
                  </a:lnTo>
                  <a:lnTo>
                    <a:pt x="116683" y="105038"/>
                  </a:lnTo>
                  <a:lnTo>
                    <a:pt x="115889" y="116592"/>
                  </a:lnTo>
                  <a:lnTo>
                    <a:pt x="115359" y="128528"/>
                  </a:lnTo>
                  <a:lnTo>
                    <a:pt x="114160" y="139872"/>
                  </a:lnTo>
                  <a:lnTo>
                    <a:pt x="112513" y="150821"/>
                  </a:lnTo>
                  <a:lnTo>
                    <a:pt x="110569" y="161507"/>
                  </a:lnTo>
                  <a:lnTo>
                    <a:pt x="108426" y="172018"/>
                  </a:lnTo>
                  <a:lnTo>
                    <a:pt x="103788" y="192728"/>
                  </a:lnTo>
                  <a:lnTo>
                    <a:pt x="100518" y="202992"/>
                  </a:lnTo>
                  <a:lnTo>
                    <a:pt x="96645" y="213221"/>
                  </a:lnTo>
                  <a:lnTo>
                    <a:pt x="92371" y="223428"/>
                  </a:lnTo>
                  <a:lnTo>
                    <a:pt x="88674" y="232772"/>
                  </a:lnTo>
                  <a:lnTo>
                    <a:pt x="82309" y="249928"/>
                  </a:lnTo>
                  <a:lnTo>
                    <a:pt x="79426" y="258905"/>
                  </a:lnTo>
                  <a:lnTo>
                    <a:pt x="76657" y="268276"/>
                  </a:lnTo>
                  <a:lnTo>
                    <a:pt x="73964" y="277911"/>
                  </a:lnTo>
                  <a:lnTo>
                    <a:pt x="70476" y="286028"/>
                  </a:lnTo>
                  <a:lnTo>
                    <a:pt x="66458" y="293131"/>
                  </a:lnTo>
                  <a:lnTo>
                    <a:pt x="47841" y="320745"/>
                  </a:lnTo>
                  <a:lnTo>
                    <a:pt x="43747" y="327284"/>
                  </a:lnTo>
                  <a:lnTo>
                    <a:pt x="40172" y="333336"/>
                  </a:lnTo>
                  <a:lnTo>
                    <a:pt x="36941" y="339064"/>
                  </a:lnTo>
                  <a:lnTo>
                    <a:pt x="31094" y="349944"/>
                  </a:lnTo>
                  <a:lnTo>
                    <a:pt x="28349" y="355216"/>
                  </a:lnTo>
                  <a:lnTo>
                    <a:pt x="24826" y="360424"/>
                  </a:lnTo>
                  <a:lnTo>
                    <a:pt x="20784" y="365589"/>
                  </a:lnTo>
                  <a:lnTo>
                    <a:pt x="16396" y="370726"/>
                  </a:lnTo>
                  <a:lnTo>
                    <a:pt x="12624" y="374151"/>
                  </a:lnTo>
                  <a:lnTo>
                    <a:pt x="9263" y="376434"/>
                  </a:lnTo>
                  <a:lnTo>
                    <a:pt x="0" y="3810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SMARTInkAnnotation97"/>
            <p:cNvSpPr/>
            <p:nvPr/>
          </p:nvSpPr>
          <p:spPr>
            <a:xfrm>
              <a:off x="4778280" y="4206600"/>
              <a:ext cx="99000" cy="720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99060" h="7528">
                  <a:moveTo>
                    <a:pt x="0" y="7527"/>
                  </a:moveTo>
                  <a:lnTo>
                    <a:pt x="17911" y="7527"/>
                  </a:lnTo>
                  <a:lnTo>
                    <a:pt x="20408" y="6681"/>
                  </a:lnTo>
                  <a:lnTo>
                    <a:pt x="22918" y="5270"/>
                  </a:lnTo>
                  <a:lnTo>
                    <a:pt x="25438" y="3482"/>
                  </a:lnTo>
                  <a:lnTo>
                    <a:pt x="28812" y="2290"/>
                  </a:lnTo>
                  <a:lnTo>
                    <a:pt x="32754" y="1496"/>
                  </a:lnTo>
                  <a:lnTo>
                    <a:pt x="37076" y="966"/>
                  </a:lnTo>
                  <a:lnTo>
                    <a:pt x="41650" y="613"/>
                  </a:lnTo>
                  <a:lnTo>
                    <a:pt x="46394" y="378"/>
                  </a:lnTo>
                  <a:lnTo>
                    <a:pt x="56179" y="116"/>
                  </a:lnTo>
                  <a:lnTo>
                    <a:pt x="66172" y="0"/>
                  </a:lnTo>
                  <a:lnTo>
                    <a:pt x="71208" y="816"/>
                  </a:lnTo>
                  <a:lnTo>
                    <a:pt x="76258" y="2206"/>
                  </a:lnTo>
                  <a:lnTo>
                    <a:pt x="81319" y="3980"/>
                  </a:lnTo>
                  <a:lnTo>
                    <a:pt x="85539" y="5162"/>
                  </a:lnTo>
                  <a:lnTo>
                    <a:pt x="89199" y="5951"/>
                  </a:lnTo>
                  <a:lnTo>
                    <a:pt x="99059" y="75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7200" y="1143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2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6"/>
              <p:cNvSpPr txBox="1"/>
              <p:nvPr/>
            </p:nvSpPr>
            <p:spPr>
              <a:xfrm>
                <a:off x="1523880" y="990720"/>
                <a:ext cx="48769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32" name="Group 10"/>
          <p:cNvGrpSpPr/>
          <p:nvPr/>
        </p:nvGrpSpPr>
        <p:grpSpPr>
          <a:xfrm>
            <a:off x="457200" y="3622680"/>
            <a:ext cx="6324480" cy="949320"/>
            <a:chOff x="457200" y="3622680"/>
            <a:chExt cx="6324480" cy="949320"/>
          </a:xfrm>
        </p:grpSpPr>
        <p:sp>
          <p:nvSpPr>
            <p:cNvPr id="733" name="Text Box 7"/>
            <p:cNvSpPr/>
            <p:nvPr/>
          </p:nvSpPr>
          <p:spPr>
            <a:xfrm>
              <a:off x="457200" y="3854520"/>
              <a:ext cx="121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21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4" name="Object 13"/>
                <p:cNvSpPr txBox="1"/>
                <p:nvPr/>
              </p:nvSpPr>
              <p:spPr>
                <a:xfrm>
                  <a:off x="1506600" y="3622680"/>
                  <a:ext cx="527508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valuate 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and 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5" name="Line 14"/>
          <p:cNvSpPr/>
          <p:nvPr/>
        </p:nvSpPr>
        <p:spPr>
          <a:xfrm>
            <a:off x="228600" y="3657600"/>
            <a:ext cx="853452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http://www.forestwander.com/wp-content/original/2009_08/Elakala_Waterfalls_pub6.JPG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737" name="TextBox 2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2.3: Multiplying and Dividing Rational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7"/>
          <p:cNvSpPr/>
          <p:nvPr/>
        </p:nvSpPr>
        <p:spPr>
          <a:xfrm>
            <a:off x="228600" y="5906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o divinely is the world organized that every one of us, in our place and time, is in balance with everything el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5181480" y="2819520"/>
            <a:ext cx="3657600" cy="18288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4876920" y="3048120"/>
            <a:ext cx="426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MEWOR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.73 #10-18, 25-27, 31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4-37, 42-44, 50-51, 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10:19Z</dcterms:created>
  <dc:creator>Stephanie Ruth Rentel</dc:creator>
  <dc:description/>
  <dc:language>en-US</dc:language>
  <cp:lastModifiedBy>m</cp:lastModifiedBy>
  <dcterms:modified xsi:type="dcterms:W3CDTF">2012-01-12T21:47:50Z</dcterms:modified>
  <cp:revision>93</cp:revision>
  <dc:subject/>
  <dc:title>Slide 1</dc:title>
</cp:coreProperties>
</file>